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DA5-8EB4-462E-A1B1-F0811726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C6E-C852-4335-931B-27C6F405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434-472E-41F6-8B3B-3108AF82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337-D066-4B52-9C6E-A0D21E94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F3FD-9869-465A-BDBF-2AAFD495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3BB8-D8F2-4B75-A820-41BE1F9F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A0AF-D189-43B9-B24B-A3597F9A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2B28-D412-444E-867F-13C23EF9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8F02-776A-4693-A6D6-5F7E78C0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B134-A1D2-40CD-B5DC-5B29D2B8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4B9A-A0F8-4542-827D-AE05692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F23-7121-4994-88E4-4FF23AF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1E3D-29D2-4231-AA76-C5906C4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34CC-926D-4D3E-BF13-6844DCDD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60DB-0291-4746-86BF-EE541457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744-0897-4812-AF7B-51B8488F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7A7F-AFBC-4A5B-BC39-C02D936B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CA1-B62E-4A8B-A230-BC523C83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EA8-7152-4C76-A5F8-0965A3CB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1D7-CB43-4714-A4E2-EE7D444E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1B7-F1C6-4D74-8232-2E2A5677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695-9B0C-4974-ABCF-247CF2AF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4B4-FDBC-49FD-9A8A-E9E7E0DB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F5A-64F7-40E3-B623-F6C43FC5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A189-4B66-40FA-B3CF-87349F13D6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91C1-FB5E-4FC5-9D78-B1C3134581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Arial"/>
                <a:ea typeface="Arial"/>
              </a:rPr>
              <a:t>ЧТО ТАКОЕ ПОЧВА?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244188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999800"/>
            <a:ext cx="590076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  <a:ea typeface="Arial"/>
              </a:rPr>
              <a:t>Что такое почва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3635280" y="3068640"/>
            <a:ext cx="2232000" cy="1216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ЕРХНИЙ ПЛОДОРОДНЫЙ СЛОЙ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684360" y="4149720"/>
            <a:ext cx="2273040" cy="1279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ЛОЙ ЗЕМЛИ НА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6516720" y="4149720"/>
            <a:ext cx="2232000" cy="1214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ЛОЙ ЗЕМЛИ, В КОТОРОМ ОБИТАЮТ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Что не входит в состав почвы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651672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Arial"/>
              </a:rPr>
              <a:t>Если сухой комочек почвы бросить в воду, пойдут пузырьки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Arial"/>
              </a:rPr>
              <a:t>Наличие чего в почве это доказывае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644364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РЕГ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Что растения не могут получить из почвы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3635280" y="3141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ОЛНЕЧНЫЙ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"/>
          <p:cNvSpPr/>
          <p:nvPr/>
        </p:nvSpPr>
        <p:spPr>
          <a:xfrm>
            <a:off x="68436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651672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70028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  <a:ea typeface="Arial"/>
              </a:rPr>
              <a:t>Чем богата плодородная почва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Скругленный прямоугольник 3"/>
          <p:cNvSpPr/>
          <p:nvPr/>
        </p:nvSpPr>
        <p:spPr>
          <a:xfrm>
            <a:off x="3635280" y="3141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РЕГН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5"/>
          <p:cNvSpPr/>
          <p:nvPr/>
        </p:nvSpPr>
        <p:spPr>
          <a:xfrm>
            <a:off x="6443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ГЛ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Почему почву трудно восстанавливат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ОНА МЕДЛЕННО ОБРАЗ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ЕЁ РАЗРУШАЮТ ЖИВО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6084720" y="4286160"/>
            <a:ext cx="2416320" cy="1303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КАМНИ ДОЛГО РАЗРУШ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Какие действия человека наносят вред почве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Скругленный прямоугольник 3"/>
          <p:cNvSpPr/>
          <p:nvPr/>
        </p:nvSpPr>
        <p:spPr>
          <a:xfrm>
            <a:off x="1258920" y="1916280"/>
            <a:ext cx="2374920" cy="1430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РАСПАХИВАНИЕ ПОЧВЫ НА БОЛЬШИХ УЧАСТ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2"/>
          <p:cNvSpPr/>
          <p:nvPr/>
        </p:nvSpPr>
        <p:spPr>
          <a:xfrm>
            <a:off x="971640" y="3933720"/>
            <a:ext cx="2305080" cy="1366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ЗДЕЛЫВАНИЕ ОДНИХ И ТЕХ ЖЕ РАСТЕНИЙ НА ОДНОМ УЧАС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3"/>
          <p:cNvSpPr/>
          <p:nvPr/>
        </p:nvSpPr>
        <p:spPr>
          <a:xfrm>
            <a:off x="5292720" y="2060640"/>
            <a:ext cx="2160720" cy="1214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ХИЩНИЧЕСКАЯ ВЫРУБК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4"/>
          <p:cNvSpPr/>
          <p:nvPr/>
        </p:nvSpPr>
        <p:spPr>
          <a:xfrm>
            <a:off x="5867280" y="4076640"/>
            <a:ext cx="2305080" cy="1152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НЕГОЗА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3-03-27T15:10:32Z</dcterms:modified>
  <cp:revision>711</cp:revision>
  <dc:subject/>
  <dc:title>Слайд 1</dc:title>
</cp:coreProperties>
</file>