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7CE3-1F9D-416C-8596-0366E53F9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EE57-CE03-4DE8-A9AB-1BC91F6B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2E13-561A-4A3E-8CF6-D1CBABD13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5ACF-0BC6-45ED-AA16-FABE05EA5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FEF3-5D35-46ED-A73A-65BFB131E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B1D7-FF19-4070-A9CC-7CCE325E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0321-C044-4B8A-AD68-123EFED0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FE402-92B1-4F8A-A462-F83FE13D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5AD7-8DD9-4F72-81A7-978B57EC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7D703-5437-422E-96EC-F0B86BF0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B6CA-77F7-4B4F-97CD-11F4920E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54D4-DA00-49E3-AC51-6E3F8B36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B399-A028-4E48-AC22-F7FECC3E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CC8EC-3B0E-411C-8576-36327064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4DDF-9CE2-440D-AF09-2C80764C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30B2-A8A0-4312-8ADA-CD83AC212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A828-72C4-4589-BEEF-49E29415B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C254-656E-479F-9A1E-341A5C25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EBDA-5BBB-4F8A-9A47-D6D39D1A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A737-680A-4512-87B2-BF4071AE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78BE-B00A-4B55-BEA9-B3E5AF1A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99EE-8EEA-45C1-AFD7-44326F58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18A0-428C-4DEA-9A45-4B1BD091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9FD3-EC46-4D0D-B4E9-C7FAC1E0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B03B-E208-45CA-AAB3-03BCFA63B3A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022F-4B8C-4749-89BA-927EF3705D9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achalka.com/test_shablon" TargetMode="External"/><Relationship Id="rId2" Type="http://schemas.openxmlformats.org/officeDocument/2006/relationships/hyperlink" Target="http://www.nachalka.com/test_shablon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Arial"/>
                <a:ea typeface="Arial"/>
              </a:rPr>
              <a:t>ЧТО ТАКОЕ ПОЧВА?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0" name="Скругленный прямоугольник 7"/>
          <p:cNvSpPr/>
          <p:nvPr/>
        </p:nvSpPr>
        <p:spPr>
          <a:xfrm>
            <a:off x="3071880" y="50133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одзаголовок 2"/>
          <p:cNvSpPr/>
          <p:nvPr/>
        </p:nvSpPr>
        <p:spPr>
          <a:xfrm>
            <a:off x="250920" y="6453360"/>
            <a:ext cx="85723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Использован 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"/>
              </a:rPr>
              <a:t>шаблон создания тестов в </a:t>
            </a:r>
            <a:r>
              <a:rPr b="0" lang="en-US" sz="10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"/>
              </a:rPr>
              <a:t>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724360" y="1628640"/>
            <a:ext cx="2441880" cy="219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1999800"/>
            <a:ext cx="5900760" cy="32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Верно: 4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Ошибки: 3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2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11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5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Arial"/>
                <a:ea typeface="Arial"/>
              </a:rPr>
              <a:t>Что такое почва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Скругленный прямоугольник 3"/>
          <p:cNvSpPr/>
          <p:nvPr/>
        </p:nvSpPr>
        <p:spPr>
          <a:xfrm>
            <a:off x="3635280" y="3068640"/>
            <a:ext cx="2232000" cy="12160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ВЕРХНИЙ ПЛОДОРОДНЫЙ СЛОЙ ЗЕМ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4"/>
          <p:cNvSpPr/>
          <p:nvPr/>
        </p:nvSpPr>
        <p:spPr>
          <a:xfrm>
            <a:off x="684360" y="4149720"/>
            <a:ext cx="2273040" cy="127944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СЛОЙ ЗЕМЛИ НА ПОВЕРХ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5"/>
          <p:cNvSpPr/>
          <p:nvPr/>
        </p:nvSpPr>
        <p:spPr>
          <a:xfrm>
            <a:off x="6516720" y="4149720"/>
            <a:ext cx="2232000" cy="12142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СЛОЙ ЗЕМЛИ, В КОТОРОМ ОБИТАЮТ ЖИВ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Arial"/>
              </a:rPr>
              <a:t>Что не входит в состав почвы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ДОЖДЕВОЙ ЧЕР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ПЕС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ый прямоугольник 5"/>
          <p:cNvSpPr/>
          <p:nvPr/>
        </p:nvSpPr>
        <p:spPr>
          <a:xfrm>
            <a:off x="6516720" y="42926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ВОЗДУ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00"/>
                </a:solidFill>
                <a:latin typeface="Arial"/>
              </a:rPr>
              <a:t>Если сухой комочек почвы бросить в воду, пойдут пузырьки</a:t>
            </a:r>
            <a:r>
              <a:rPr b="0" lang="en-US" sz="4000" spc="-1" strike="noStrike">
                <a:solidFill>
                  <a:srgbClr val="9999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00"/>
                </a:solidFill>
                <a:latin typeface="Arial"/>
              </a:rPr>
              <a:t>Наличие чего в почве это доказывает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ВОЗД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СО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5"/>
          <p:cNvSpPr/>
          <p:nvPr/>
        </p:nvSpPr>
        <p:spPr>
          <a:xfrm>
            <a:off x="6443640" y="42926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ПЕРЕГНО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Arial"/>
              </a:rPr>
              <a:t>Что растения не могут получить из почвы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Скругленный прямоугольник 3"/>
          <p:cNvSpPr/>
          <p:nvPr/>
        </p:nvSpPr>
        <p:spPr>
          <a:xfrm>
            <a:off x="3635280" y="314172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СОЛНЕЧНЫЙ С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ый прямоугольник 4"/>
          <p:cNvSpPr/>
          <p:nvPr/>
        </p:nvSpPr>
        <p:spPr>
          <a:xfrm>
            <a:off x="684360" y="42210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КИСЛ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кругленный прямоугольник 5"/>
          <p:cNvSpPr/>
          <p:nvPr/>
        </p:nvSpPr>
        <p:spPr>
          <a:xfrm>
            <a:off x="6516720" y="42926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В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300720" y="1700280"/>
            <a:ext cx="2200320" cy="164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Arial"/>
                <a:ea typeface="Arial"/>
              </a:rPr>
              <a:t>Чем богата плодородная почва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Скругленный прямоугольник 3"/>
          <p:cNvSpPr/>
          <p:nvPr/>
        </p:nvSpPr>
        <p:spPr>
          <a:xfrm>
            <a:off x="3635280" y="314172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ПЕРЕГНО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ПЕС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кругленный прямоугольник 5"/>
          <p:cNvSpPr/>
          <p:nvPr/>
        </p:nvSpPr>
        <p:spPr>
          <a:xfrm>
            <a:off x="6443640" y="42210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ГЛИ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Arial"/>
              </a:rPr>
              <a:t>Почему почву трудно восстанавливать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ОНА МЕДЛЕННО ОБРАЗУ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ЕЁ РАЗРУШАЮТ ЖИВО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5"/>
          <p:cNvSpPr/>
          <p:nvPr/>
        </p:nvSpPr>
        <p:spPr>
          <a:xfrm>
            <a:off x="6084720" y="4286160"/>
            <a:ext cx="2416320" cy="13035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КАМНИ ДОЛГО РАЗРУШ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Arial"/>
              </a:rPr>
              <a:t>Какие действия человека наносят вред почве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Скругленный прямоугольник 3"/>
          <p:cNvSpPr/>
          <p:nvPr/>
        </p:nvSpPr>
        <p:spPr>
          <a:xfrm>
            <a:off x="1258920" y="1916280"/>
            <a:ext cx="2374920" cy="14302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РАСПАХИВАНИЕ ПОЧВЫ НА БОЛЬШИХ УЧАСТ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кругленный прямоугольник 12"/>
          <p:cNvSpPr/>
          <p:nvPr/>
        </p:nvSpPr>
        <p:spPr>
          <a:xfrm>
            <a:off x="971640" y="3933720"/>
            <a:ext cx="2305080" cy="13669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ВОЗДЕЛЫВАНИЕ ОДНИХ И ТЕХ ЖЕ РАСТЕНИЙ НА ОДНОМ УЧАСТ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кругленный прямоугольник 13"/>
          <p:cNvSpPr/>
          <p:nvPr/>
        </p:nvSpPr>
        <p:spPr>
          <a:xfrm>
            <a:off x="5292720" y="2060640"/>
            <a:ext cx="2160720" cy="12142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ХИЩНИЧЕСКАЯ ВЫРУБКА ЛЕ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14"/>
          <p:cNvSpPr/>
          <p:nvPr/>
        </p:nvSpPr>
        <p:spPr>
          <a:xfrm>
            <a:off x="5867280" y="4076640"/>
            <a:ext cx="2305080" cy="1152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СНЕГОЗА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66"/>
                                      </p:to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66"/>
                                      </p:to>
                                    </p:animClr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66"/>
                                      </p:to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66"/>
                                      </p:to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Admin</cp:lastModifiedBy>
  <dcterms:modified xsi:type="dcterms:W3CDTF">2013-03-27T15:10:32Z</dcterms:modified>
  <cp:revision>711</cp:revision>
  <dc:subject/>
  <dc:title>Слайд 1</dc:title>
</cp:coreProperties>
</file>