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04F3-EA72-406D-871E-EFE0EAB1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47F99-CBCE-4360-ABA5-F2D4DD75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85DA-9A55-4FD6-8FD6-873A6EE9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9A37-6273-4827-8777-E011F39C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3CC7-899F-4A0D-9783-B29CA7E3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2047-58E4-4B51-B257-FFC045D9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1089-C432-403B-A936-D5EAF8D6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ED2A-6F70-4ED4-BEBB-4B1BD716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727C-C091-46F8-997A-5FEAA3CF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338F-EEE3-4340-8DD2-8F1A7029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0608-5C92-4569-9522-7AB6A09A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93E2-10A3-4725-81FC-65CFA952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2794-B946-4FA5-B980-356304FE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DB8B-D144-47E0-BB1E-05638207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4502-BC0C-46DC-9177-1D645500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C5A7-9F70-4E56-8313-EDC7FCAC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340D-B61B-425F-ACA3-4B574C31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8724-1761-44F4-8D23-01C49F3E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4A21B-D726-4D11-9736-1AE2BACF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2AFA-550E-47D1-9007-8DD30D68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0C26-A517-418F-B809-11C8D591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96405-06C2-4F67-A73C-668787A6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6BDE6-6AE6-493D-8479-817BBD06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E73F-0E26-4CFE-9434-B846B0E6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AF35-08ED-4BB2-9459-5E36FA0205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40DD-E66C-4A87-9933-7EF17F0E90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70112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f4603"/>
                </a:solidFill>
                <a:latin typeface="Garamond"/>
              </a:rPr>
              <a:t>Тема:</a:t>
            </a:r>
            <a:r>
              <a:rPr b="1" i="1" lang="ru-RU" sz="4800" spc="-1" strike="noStrike">
                <a:solidFill>
                  <a:srgbClr val="ffffff"/>
                </a:solidFill>
                <a:latin typeface="Garamond"/>
              </a:rPr>
              <a:t> Проявление национального характера  в английских  пословицах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19280" y="5968800"/>
            <a:ext cx="640080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124000" y="-610200"/>
            <a:ext cx="51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Garamond"/>
              </a:rPr>
              <a:t>Исследовательская рабо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Garamond"/>
              </a:rPr>
              <a:t>по английскому язык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Актуальность  пробле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исание национального характера и отражение этих черт в языке представляют собой действительно актуальную проблему, которой в настоящее время активно занимаются многие ученые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нализ пословиц, поговорок и отражение в них национального характера занимает значительное место в исследованиях отечественных и зарубежных авторов (П.Л. Коробка, Л.В. Филиппова, О.В. Лошманова, В.А. Пономаренко, Р. Райдаут, К. Уиттинг), что дает  возможность анализировать не только отдельные стороны проявления национального характера англичан в языке, но и перейти к более глубокому изучению данной проблемы. Труды этих и многих других исследователей послужили методической основой нашего исследования. Интерес, проявляемый исследователями к данной теме, свидетельствует о её актуальност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Цель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зучение и анализ проявления английского национального характера в пословицах и поговорках английского языка и сравнение полученных данных с существующими  гетеростереотипами о национальном характере английского нар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Задачи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)   раскрытие роли и места пословиц и поговорок в системе язык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  выделение и анализ особенностей национального характера англичан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анализ существующих гетеростереотипов об английском национальном     характер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Методы исследова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тод деконструкци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спектный анализ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рменевтический анализ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тент-анализ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авнительно-сопоставительный метод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исательный метод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нкетирова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684360" y="298800"/>
            <a:ext cx="79200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Объект исследования</a:t>
            </a:r>
            <a:r>
              <a:rPr b="0" lang="ru-RU" sz="40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английские народные пословицы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Предмет исследования</a:t>
            </a:r>
            <a:r>
              <a:rPr b="0" lang="ru-RU" sz="4000" spc="-1" strike="noStrike">
                <a:solidFill>
                  <a:srgbClr val="ff0000"/>
                </a:solidFill>
                <a:latin typeface="Garamond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роявление английского национального характе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Примеры английских пословиц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ne Englishman can beat three Frenchmen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=Один англичанин может победить трёх франц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e way to a man’s heart is through his stomach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дифицируется  в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e way to an Englishman’s heart is through his stomach=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уть к сердцу англичанина лежит через его желуд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oliteness costs little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ut yields mush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=Вежливостью можно достичь многог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ловицы являются зеркалом национальной культуры,  отображают особенности народного характера, мировосприятия и миропонимания.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обенности национального характера англичан,  выраженные в  английских народных пословицах: уважительное отношение к труду и к человеку труда, добросовестное выполнение работы, целеустремлённость, рационализм, склонность к консерватизму,  вежливость, порядочность, снобизм, эмоциональная сдержанность.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асибо за вним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6:02:01Z</dcterms:created>
  <dc:creator>1</dc:creator>
  <dc:description/>
  <dc:language>en-US</dc:language>
  <cp:lastModifiedBy>12</cp:lastModifiedBy>
  <dcterms:modified xsi:type="dcterms:W3CDTF">2013-03-14T13:13:41Z</dcterms:modified>
  <cp:revision>12</cp:revision>
  <dc:subject/>
  <dc:title>Тема: Проявление национального характера  в английских  пословицах и поговорках</dc:title>
</cp:coreProperties>
</file>