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473A-35BE-4B28-9074-CC16CAB4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E650-5423-4F03-A7BD-EF754E2A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7B21-16B6-421C-84CA-646CAD90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5341-105B-45AC-9B7F-DA866D7F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1196-9A05-44F1-A5CA-1E1F19F1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820F-B4AA-440A-9E96-87514F52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797B-FD4F-4E2B-BCA0-B3FCE97C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58BF-6560-4B36-A694-F87D201E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95BB-A93B-4968-808D-82051ED8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E8A2-716D-4EFD-BEC2-FB8D1DB8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A955-4A69-4F68-9DEF-96C011C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FB47-6886-4089-91FD-F2F81662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EDCD-6FE2-485D-A88B-2BBCDE8D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605A-0914-48DE-ACBF-E7911452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E60E-182E-4E20-9F70-4316F42E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E507-63B6-4AFA-A22B-AD021B77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2195-F648-4F72-8823-3C3590F9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346D-B1CC-4454-846F-C0323876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FB45-C14D-4D37-B3EA-2A4B6930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F081-7D7B-475E-8760-3B4E9363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8ACB-5031-43E2-A74C-8C2B3BBF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4B21-3BD4-4970-9C90-E842EB18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756A-5726-47E0-BA51-D77E160C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9C0E-60B7-44B9-89AF-391A1E5A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B929-829D-4FD4-8195-5743624E22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C0AA-94F1-4078-81F2-5670D3695B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7011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f4603"/>
                </a:solidFill>
                <a:latin typeface="Garamond"/>
              </a:rPr>
              <a:t>Тема:</a:t>
            </a:r>
            <a:r>
              <a:rPr b="1" i="1" lang="ru-RU" sz="4800" spc="-1" strike="noStrike">
                <a:solidFill>
                  <a:srgbClr val="ffffff"/>
                </a:solidFill>
                <a:latin typeface="Garamond"/>
              </a:rPr>
              <a:t> Проявление национального характера  в английских  пословицах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19280" y="5968800"/>
            <a:ext cx="64008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124000" y="-610200"/>
            <a:ext cx="51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Исследовательская рабо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по английскому язык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Актуальность  пробле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исание национального характера и отражение этих черт в языке представляют собой действительно актуальную проблему, которой в настоящее время активно занимаются многие ученые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ализ пословиц, поговорок и отражение в них национального характера занимает значительное место в исследованиях отечественных и зарубежных авторов (П.Л. Коробка, Л.В. Филиппова, О.В. Лошманова, В.А. Пономаренко, Р. Райдаут, К. Уиттинг), что дает  возможность анализировать не только отдельные стороны проявления национального характера англичан в языке, но и перейти к более глубокому изучению данной проблемы. Труды этих и многих других исследователей послужили методической основой нашего исследования. Интерес, проявляемый исследователями к данной теме, свидетельствует о её актуальност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Цель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зучение и анализ проявления английского национального характера в пословицах и поговорках английского языка и сравнение полученных данных с существующими  гетеростереотипами о национальном характере английского нар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Задачи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)   раскрытие роли и места пословиц и поговорок в системе язык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)   выделение и анализ особенностей национального характера англичан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) анализ существующих гетеростереотипов об английском национальном     характер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Методы исследов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тод деконструкци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спектный анализ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рменевтический анализ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тент-анализ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ительно-сопоставительный метод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исательный метод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кетиров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684360" y="298800"/>
            <a:ext cx="79200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Объект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Garamond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английские народные пословицы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Предмет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Garamond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роявление английского национального характе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Примеры английских послови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ne Englishman can beat three Frenchme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=Один англичанин может победить трёх франц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 way to a man’s heart is through his stomach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дифицируется  в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he way to an Englishman’s heart is through his stomach=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уть к сердцу англичанина лежит через его желуд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oliteness costs little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ut yields mush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=Вежливостью можно достичь многог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ловицы являются зеркалом национальной культуры,  отображают особенности народного характера, мировосприятия и миропонимания.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обенности национального характера англичан,  выраженные в  английских народных пословицах: уважительное отношение к труду и к человеку труда, добросовестное выполнение работы, целеустремлённость, рационализм, склонность к консерватизму,  вежливость, порядочность, снобизм, эмоциональная сдержанность.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6:02:01Z</dcterms:created>
  <dc:creator>1</dc:creator>
  <dc:description/>
  <dc:language>en-US</dc:language>
  <cp:lastModifiedBy>12</cp:lastModifiedBy>
  <dcterms:modified xsi:type="dcterms:W3CDTF">2013-03-14T13:13:41Z</dcterms:modified>
  <cp:revision>12</cp:revision>
  <dc:subject/>
  <dc:title>Тема: Проявление национального характера  в английских  пословицах и поговорках</dc:title>
</cp:coreProperties>
</file>