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BFFE-9542-42D9-9858-5F87D23F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BECC-6910-485D-8120-24590E8C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76EA-57FC-4EED-9D10-C0CE8F3A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35B1-02E5-43B3-B5CD-36B71F79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7389-9032-4283-B245-BE7958CC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B9D-E897-4BC5-B05D-CCAD306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539-3DB5-4486-8D5F-1F682EC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00E8-E5A4-4FC5-892C-E55E7AE9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63A6-B75A-41DF-AD45-A2D5184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F376-05C2-4D16-B057-7EA9F908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2011-E8A5-4E42-B08D-69A247F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7B52-FE34-4A7F-9D50-1E45F2C2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D70-2FD1-4561-9880-03D8C7D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0E65-8642-4611-A321-43866FA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E42-AD88-4F6C-919F-ED2737D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DDA2-4104-4DC0-9955-D828474D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655-E81A-4E89-9A5A-567E0C41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4FFF-B4A0-4963-B3DA-15D4AF31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662B-494D-447F-87C9-E65EC2C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B3CD-B88B-494C-8639-256D09C4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DBB8-7E97-48E0-AFE0-BF8D713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2F07-61E9-43B6-9A7B-43F4724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23EE-69B7-4721-A632-6021ABF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66FA-BC1C-4BF7-BF75-1FB5C544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B10-117C-4210-9242-EFC725A62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D17-FFE1-4C24-9C7C-66DB74E15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neytalksabout.files.wordpress.com/2008/07/000459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19280" y="260280"/>
            <a:ext cx="554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ВНУТРИШКОЛЬНЫЙ КОНТРОЛЬ </a:t>
            </a:r>
            <a:br>
              <a:rPr sz="4000"/>
            </a:b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КАК ИНСТРУМЕНТ УПРАВЛЕНИЯ КАЧЕСТВОМ ОБРАЗОВАНИЯ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Лисова Т.А.</a:t>
            </a:r>
            <a:br>
              <a:rPr sz="4000"/>
            </a:b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Директор МОУ СОШ №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Картинка 68 из 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37000"/>
            <a:ext cx="3671640" cy="243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73BCB-4E94-41DE-A4EC-D70BA75B99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147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Существующая практика внутришкольного контроля имеет следующие недостатки: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системы контроля: нет распределения объектов контроля среди руководителей школ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лизм в организации контроля: нет четко поставленной цели, отсутствуют или не используются объективные критерии оценки; контроль организуется для отчета и набора количества посещенных уроков или занят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осторонность внутришкольного контроля: контроль какой-либо одной стороны, одного направления педагогического процес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контролируются только уроки русского языка и математики и др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частие в контроле только должностных лиц, без привлечения опытных учителей, методистов или, наоборот, недостаточное участие представителей администраци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избежать этих и других недостатков, важно соблюдать основные принципы внутришкольного контрол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B74F-E0C4-471C-88D2-18B618C9E7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Основные принципы внутришкольного контроля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ланомер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проект плана внутришкольного контроля нарабатывается в течение всего текущего года, темы контроля намечаются на основании предшествующих инспектирований и решений (выводов) по ним. Планомерность внутришкольного контроля обеспечивает создание комфортных психологических условий для развития всех объектов ОУ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основан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четкое представление, понимание о том, что контролировать, когда и во имя чего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лно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охват всех компонентов, направлений системы жизнедеятельности школы, а также результативность их взаимодействия в достижении поставленных целей и задач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мпетентность проверяюще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достаточный уровень компетентности тех людей, кто готовится к предстоящему инспектированию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ткрытост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это один из самых важных принципов ВШК. Каждый непосредственный участник УВП должен знать, в каком «состоянии» он находится, с целью дальнейшего планирования своего будущего развития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преры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 особенно важен этот принцип при отслеживании результатов труда учителя, что делает процесс формирования его профессиональной компетентности непрерывным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истематичность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регулярное проведение контроля; создание в школе системы контроля, позволяющей управлять всем ходом педагогического процесс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роверка деятельности учителя или педагогического коллектива в соответствии с требованиями государственных стандартов и образовательных программ на основе выработанных и согласованных критериев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езультатив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(принятое решение (вывод) должно быть выполнимым, конкретным, направленным на положительные изменения, рост)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F822-1203-4115-8410-306E4257C6D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НАПРАВЛЕНИЯ </a:t>
            </a: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НУТРИШКОЛЬНОГО 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ь выполнения Закона РФ «Об образовании» (посещаемость занятий, питание, обучение на дому, комплектование классов, продолжение образования и трудоустройство 9-11 кл, работа Совета профилактики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ение организационно-педагогических вопро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о и ход выполнения образовательных программ и государственных стандар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дение докум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рабо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воспитанност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преподавания учебных дисциплин,реализующих образовательные,воспитательные и развивающие функци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и качество организации внеурочной воспитате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физического развития и здоровье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а с педагогическими кад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-педагогическая деятельность педагогических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рана труда и техника без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нение нормативных документов и приняты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40C9-70AD-4605-9626-A440FC9268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Виды  ВШ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 Портно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едвари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ек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тог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C8D3-0B1C-4100-9648-B0C4F4F2A97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Виды ВШК по  Шамовой</a:t>
            </a: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с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тически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но-обобщаю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BAE8-958F-4458-9E71-B1C341DA67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14716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</a:rPr>
              <a:t>Метод контрол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это способ практического осуществления контроля для достижения поставленной цел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иболее эффективными методами контроля для изучения состояния образовательной деятельности являются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внимательно следя за чем-либо, изучать, исследовать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ализ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збор с выявлением причин, определение тенденции развития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се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ловой разговор на какую-либо тему с участием слушателей в обмене мнениями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учение документ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щательное обследование с целью ознакомления, выяснения чего-либо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нке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пособ исследования путем опроса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ронометраж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змерение затрат рабочего времени на выполнение повторяющихся операций);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стная или письменная проверка знан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спытание для выявления уровня обученности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F8E4-2F68-4FE1-A9DD-381AB172EB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а) по признаку исполнителя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907920"/>
          <a:ext cx="9144000" cy="5616720"/>
        </p:xfrm>
        <a:graphic>
          <a:graphicData uri="http://schemas.openxmlformats.org/drawingml/2006/table">
            <a:tbl>
              <a:tblPr/>
              <a:tblGrid>
                <a:gridCol w="2556000"/>
                <a:gridCol w="658800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ллек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нтролю привлекаются все ступени управления: администрация, руководители комиссий, кафедр, опытные учителя, учащиеся, родители, члены попечительского совета при четком делегировании объектов и самок контро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заимо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онтролю привлекаются опытные учителя и классные руководители через наставничество, взаимопосещение уроков, воспитательные мероприятия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амо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егируется наиболее опытным учителям и классным руководителям с обязательной периодической самоотчетностью по предлагаемым схемам, алгоритмам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дминистративный плановый 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директором, его заместителями, руководителями кафедр в соответствии с планом ВШ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Административный регулирующий (внеплановый) 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директором и его заместителями при появлении непредвиденных планом пробл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CFC5-1983-4FE8-BB47-D149C188C7C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б) по обхвату объектов контр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620640"/>
          <a:ext cx="9144000" cy="6207120"/>
        </p:xfrm>
        <a:graphic>
          <a:graphicData uri="http://schemas.openxmlformats.org/drawingml/2006/table">
            <a:tbl>
              <a:tblPr/>
              <a:tblGrid>
                <a:gridCol w="2538360"/>
                <a:gridCol w="660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лассно- обобщающ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знаний и воспитанности учащихся какого-либо класса. Качество и методы преподавания в классе. Качество работы классного руководителя класса. Выполнение родительских обязанностей в воспитании дет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Фронт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преподавания отдельных предметов во всех или в части классов. Состояние работы классных руководителей во всех классах или в какой-либо параллели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Тема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сего коллектива над какой-либо проблемой, темой. Уровень знаний и умений учащихся по какой-либо теме какого-либо предмета. Состояние работы классных руководителей в каком-либо направлении (например, работа с дневниками учащихся)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ерс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 преподавательской деятельности, методический уровень учителя в целом или какой-либо стороны его деятельности (например, его уровня требований к знаниям учащихся)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бзо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школьной документации. Состояние трудовой дисциплины учителей. Состояние информационного оборудования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717-6616-428E-9DAB-1541056EF7B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) по используемым мето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052640"/>
          <a:ext cx="9144000" cy="5649840"/>
        </p:xfrm>
        <a:graphic>
          <a:graphicData uri="http://schemas.openxmlformats.org/drawingml/2006/table">
            <a:tbl>
              <a:tblPr/>
              <a:tblGrid>
                <a:gridCol w="2987640"/>
                <a:gridCol w="615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блюд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уроков, внеклассных мероприятий и т п- с последующим анализ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рка документ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классными журналами, дневниками учащихся, планами урока, личными делами учащихся, журналами по технике безопасности и т.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рос а) уст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исьменный контрольная работа (срез) анкетирование открытое анкетирование закрыт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ая беседа или целенаправленное собеседование по специально подготовленной программе. Проверяется уровень знаний, навыков, умений учащихся. Не ограничиваются варианты ответов на запрограммированные вопросы. Варианты ответов огранич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Тес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сихологической диагностики для измерения индивидуальных различи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перативный раз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только что проведенного урока или мероприятия с его организаторами или участниками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етроспективный разб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деятельности школы выпускниками прошлых лет, преподавателями ВУЗов на основании анализа вступительных экзаменов и т п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B893-2B99-4236-92A4-92C4D410DB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12548" t="35438" r="46144" b="44879"/>
          <a:stretch/>
        </p:blipFill>
        <p:spPr>
          <a:xfrm>
            <a:off x="250920" y="1916280"/>
            <a:ext cx="8713800" cy="31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39EB-29FD-49BE-843B-7A022B34ED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002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440"/>
                <a:tab algn="l" pos="985680"/>
                <a:tab algn="l" pos="1521000"/>
                <a:tab algn="l" pos="4216320"/>
                <a:tab algn="l" pos="4305240"/>
                <a:tab algn="l" pos="5022720"/>
                <a:tab algn="l" pos="5295960"/>
                <a:tab algn="l" pos="7802640"/>
                <a:tab algn="l" pos="89280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Внутришкольный контроль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казание методической помощи педагогам с целью совершенствования и развития мастерства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заимодействие администрации и педагогического коллектива, ориентированное на повышение эффективности образовательного процесса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ид деятельности руководителей совместно с педагогическим коллективом и общественностью по установлению соответствия качества образования общегосударственным требованиям 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агностической основе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ШК направлен на оценивание состояния всех систем, компонентов, ступеней УВП, выявление причин достижений и недостатков в работе, т.е. выявление проблем, изменение условий (коррекция) деятельности того или иного объект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D4F5-3FA5-4444-A993-B413886E5E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720" y="485640"/>
            <a:ext cx="79232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ПОСЛЕДОВАТЕЛЬНОСТЬ ПРОВЕДЕНИЯ ВНУТРИШКОЛЬНОГО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29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анализ учебно-воспитательного процесс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боснование контроля(почему тот или иной участок школы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оставление плана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пределение цели контроля (ставим узкую цель0,необходимо конкретизировать целевую установку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каз о проведении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зработка программы, включающей в себя цели контроля, объект контроля, задачи, методы контроля, исполнителей, где слушается, какие мероприятия необходимо провест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азработка схем контроля по разным направлениям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оведение совещания с проверяющими и проверяемым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существление контроля (посещение занятий, проведение контрольных срезов, проверка документации и др.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лучение и обработка информац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делаются выводы, раскрываются причины успехов и недостатков, определяются рекомендации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методические, по исполнению служебных обязанностей и др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самое сложное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дварительная беседа с проверяемыми по результатам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ка итогового документа по результатам контроля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нятие управленческого решения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ерестановка кадров, обобщение опыта и т.д.)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ка приказа по результатам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пределение сроков повторного контроля или снятие вопроса с контрол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бсуждение результатов внутришкольного контроля на педагогическом совете, на заседании методического объединения, методическом совете и др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оверка исполнения указа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9DD1-E4B9-4B35-BA14-EE607C6C3D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47160" cy="62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Правила ВШК: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 ВШК осуществляет директор школы или по его поручению заместители директора , руководители МО, другие специалисты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 В качестве экспертов к участию во ВШК могут привлекаться компетентные организации и отдельные специалисты из других учреждений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. Директор ОУ издает приказ о сроках  и теме предстоящей проверки, программе контроля, устанавливает срок предоставления итоговых материалов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. План-задание определяет вопросы конкретной проверки; оно должно обеспечить достаточную информированность и сравнимость результатов ВШК для подготовки итогового документа по отдельным разделам деятельности школы или должностного лица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. Продолжительность тематических или комплексных проверок не должна превышать  5 уроков, занятий или других мероприятий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. Эксперты имеют право запрашивать необходимую информацию, изучать документацию, относящуюся к предмету ВШК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. При обнаружении в ходе ВШК нарушений законодательства РФ в области образования, о них сообщается директору школы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. Анкетирование обучающихся проводится по согласованию с психологической и методической службой учреждения и только в необходимых случаях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. При проведении планового контроля не требуется предупреждение учителя, если в месячном плане указаны сроки контроля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. В экстренных случаях директор и его заместители могут посещать уроки учителя без предварительного предупреждения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. При проведении оперативных проверок педагогический работник предупреждается не менее чем за 1 день до посещения уроков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. В экстренных случаях (письменная жалоба или нарушение прав ребенка, законодательства), педагогический работник предупреждается не менее чем за 1 день до посещения уро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2162-62E7-4A8B-BE95-A6505D3E44D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62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Только партнёрство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и только помощь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 преодолении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негативных явлений – </a:t>
            </a:r>
            <a:br>
              <a:rPr sz="4800"/>
            </a:b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вот позиция проверяющ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8722-B9C9-44B6-B3A6-1284B13F968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9092-A82C-4563-A6C5-C0D9E11FA5B5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9152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Основания для организации внутришкольного контроля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Закон РФ "Об образовании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Типовое положение об общеобразовательном учреждени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исьмо Министерства образования РФ от 10.09.1999 г. № 22-06-874 "Об       обеспечении инспекционно-контрольной деятельности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Устав О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равила внутреннего распорядка для работников школ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Положение о ВШК (локальный акт ОУ)</a:t>
            </a:r>
            <a:br>
              <a:rPr sz="2400"/>
            </a:b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8D9C-0120-4363-BCAF-4E362CFBC1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18440" cy="59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Задачи ВШК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существление контроля над исполнением законодательства в области образования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ыявление случаев нарушений и неисполнения законодательных и нормативно-правовых актов, принятию мер по их пресечению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анализ причин, лежащих в основе нарушения, принятие мер по их предупреждению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нализ и экспертная оценка эффективности результатов деятельности педагогических работников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изучение результатов педагогической деятельности, выявление положительных и отрицательных тенденций в организации образовательного процесса и разработка на этой основе предложений по рассмотрению педагогического опыта и устранению негативных тенденций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анализ результатов реализации приказов и распоряжений по школ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оказание методической помощи педагогическим работникам в процессе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C9F4-D949-483B-905C-F6B304490C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79280" y="620640"/>
            <a:ext cx="8785440" cy="4824000"/>
            <a:chOff x="179280" y="620640"/>
            <a:chExt cx="8785440" cy="4824000"/>
          </a:xfrm>
        </p:grpSpPr>
        <p:sp>
          <p:nvSpPr>
            <p:cNvPr id="111" name=""/>
            <p:cNvSpPr/>
            <p:nvPr/>
          </p:nvSpPr>
          <p:spPr>
            <a:xfrm>
              <a:off x="4352400" y="3614760"/>
              <a:ext cx="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79280" y="620640"/>
              <a:ext cx="8785440" cy="4824000"/>
              <a:chOff x="179280" y="620640"/>
              <a:chExt cx="8785440" cy="4824000"/>
            </a:xfrm>
          </p:grpSpPr>
          <p:sp>
            <p:nvSpPr>
              <p:cNvPr id="113" name=""/>
              <p:cNvSpPr/>
              <p:nvPr/>
            </p:nvSpPr>
            <p:spPr>
              <a:xfrm>
                <a:off x="179280" y="2450520"/>
                <a:ext cx="24159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Анализ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29160" y="245052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Организация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44240" y="428040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Контроль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44240" y="2450520"/>
                <a:ext cx="2635560" cy="11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Регулиро-вани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44240" y="620640"/>
                <a:ext cx="2635560" cy="116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</a:rPr>
                  <a:t>Планирование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826640" y="1285560"/>
                <a:ext cx="1317600" cy="11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79800" y="2949480"/>
                <a:ext cx="54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4352400" y="1785240"/>
                <a:ext cx="0" cy="66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594880" y="2949480"/>
                <a:ext cx="54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155320" y="3614760"/>
                <a:ext cx="988200" cy="9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5779440" y="3614760"/>
                <a:ext cx="1207800" cy="99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79800" y="1285920"/>
                <a:ext cx="1098000" cy="11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2F69-341C-4C44-82D1-40A97E32305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1052640"/>
          <a:ext cx="9144000" cy="4938480"/>
        </p:xfrm>
        <a:graphic>
          <a:graphicData uri="http://schemas.openxmlformats.org/drawingml/2006/table">
            <a:tbl>
              <a:tblPr/>
              <a:tblGrid>
                <a:gridCol w="1370160"/>
                <a:gridCol w="249120"/>
                <a:gridCol w="1698480"/>
                <a:gridCol w="249480"/>
                <a:gridCol w="1311120"/>
                <a:gridCol w="249120"/>
                <a:gridCol w="2040120"/>
                <a:gridCol w="249120"/>
                <a:gridCol w="17272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-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-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о-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колько проведен-ный контроль достиг свой це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ы цели и содержание контроля, когда и как будем проводить контрол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, как и во взаимо-действии с кем осуществляется контрол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и как определяем соответствие исполнения контроля установленным требования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и как решаем вопросы корректирования действий по организации контрол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5928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410C-6CC2-48E0-BA9E-1B99994B34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функциональные задачи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бор и обработка информации о состоянии учебно-воспитательного проце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обратной связи о реализации всех управленчески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6BB8-24D4-4901-BB20-AB7CE18550E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цели контро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етентная проверка выполнения решений руководящих органов в области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ор и обработка информации о состоянии учебно-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обратной связи в реализации всех управленческих реш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лое, корректное и оперативное исправление недостатков в деятельности исполн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ршенствование управленческой деятельности руководителей образовательного учреждения в целом на основе развития их аналитических умений и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вление и обобщение передового педагогическ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6EE4-C1B2-4BCD-86EC-03AD4798AC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57D7-107F-4F0A-8CBE-6C12090982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2:55:49Z</dcterms:created>
  <dc:creator>Мы</dc:creator>
  <dc:description/>
  <dc:language>en-US</dc:language>
  <cp:lastModifiedBy>Лисова Т.А.</cp:lastModifiedBy>
  <dcterms:modified xsi:type="dcterms:W3CDTF">2010-03-18T15:52:40Z</dcterms:modified>
  <cp:revision>41</cp:revision>
  <dc:subject/>
  <dc:title>СОДЕРЖАНИЕ ВНУТРИШКОЛЬНОГО КОНТРОЛЯ</dc:title>
</cp:coreProperties>
</file>