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DA19E-599A-4EDD-8801-EED51B65B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4C4E7-D9FD-4D75-8E55-9DA8CF561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46928-2897-472C-9E97-A1BBB7626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04B40-E00F-4D9F-8ECF-4BED17F85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47288-9593-47E5-B85D-98E0542FD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CDE75-DD73-4964-87BA-CC704F548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2E6E6-21FD-4424-95E4-82990243E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58DF4-4EFB-4EBA-B8B4-B38A3C1FF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F8C04-E966-4442-B5FB-8C9C5F795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7163A-329A-4A3B-BF1F-8DDA2BC45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52B73-4278-4309-9675-F0ECA91F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D603E-7918-49B1-B63A-280E2A7B6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31C67-FBDA-4FC1-8921-BF737057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C6E74-AFA0-48F2-9AB1-7E3E16BC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430DD-2EC4-4589-B1D9-D3426912A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2A5A4-C08B-400C-8267-294E627F9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DBEB6-6EA2-4F6C-8E3F-3968C4825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DA75F-AE0F-43F2-A7CD-331056B10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478B3-5B58-4D5F-9390-E2F55492A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218A6-A966-4094-91F4-38D776755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4715D-BA87-4C5E-A9E2-8F5D7151E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011A9-D93E-4E2B-BCE9-559FAFD6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70BA9-2D4E-4A4C-B3F0-7468D6C1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589FF-A075-4BC7-A912-3B1AE8AD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C2115-B70A-4549-8BE3-A8499A7CD7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D857A-18EA-4739-977E-18ECD1E995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moneytalksabout.files.wordpress.com/2008/07/0004592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19280" y="260280"/>
            <a:ext cx="5545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Times New Roman"/>
              </a:rPr>
              <a:t>ВНУТРИШКОЛЬНЫЙ КОНТРОЛЬ </a:t>
            </a:r>
            <a:br>
              <a:rPr sz="4000"/>
            </a:br>
            <a:r>
              <a:rPr b="1" i="1" lang="en-US" sz="4000" spc="-1" strike="noStrike">
                <a:solidFill>
                  <a:srgbClr val="990000"/>
                </a:solidFill>
                <a:latin typeface="Times New Roman"/>
              </a:rPr>
              <a:t>КАК ИНСТРУМЕНТ УПРАВЛЕНИЯ КАЧЕСТВОМ ОБРАЗОВАНИЯ</a:t>
            </a: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990000"/>
                </a:solidFill>
                <a:latin typeface="Times New Roman"/>
              </a:rPr>
              <a:t>Лисова Т.А.</a:t>
            </a:r>
            <a:br>
              <a:rPr sz="4000"/>
            </a:b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 Директор МОУ СОШ №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Картинка 68 из 20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2637000"/>
            <a:ext cx="3671640" cy="243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CFDF9-0CEC-489B-AC5F-35FEB875E96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000" y="836280"/>
            <a:ext cx="814716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Times New Roman"/>
              </a:rPr>
              <a:t>Существующая практика внутришкольного контроля имеет следующие недостатки: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сутствие системы контроля: нет распределения объектов контроля среди руководителей школ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ализм в организации контроля: нет четко поставленной цели, отсутствуют или не используются объективные критерии оценки; контроль организуется для отчета и набора количества посещенных уроков или заняти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дносторонность внутришкольного контроля: контроль какой-либо одной стороны, одного направления педагогического процесс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пример, контролируются только уроки русского языка и математики и др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участие в контроле только должностных лиц, без привлечения опытных учителей, методистов или, наоборот, недостаточное участие представителей администрации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тобы избежать этих и других недостатков, важно соблюдать основные принципы внутришкольного контрол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0342E-1D9A-46B4-9FCE-46DBF6B5ED6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358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990000"/>
                </a:solidFill>
                <a:latin typeface="Times New Roman"/>
              </a:rPr>
              <a:t>Основные принципы внутришкольного контроля</a:t>
            </a: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:</a:t>
            </a:r>
            <a:r>
              <a:rPr b="1" i="1" lang="ru-RU" sz="3200" spc="-1" strike="noStrike">
                <a:solidFill>
                  <a:srgbClr val="99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ланомерност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(проект плана внутришкольного контроля нарабатывается в течение всего текущего года, темы контроля намечаются на основании предшествующих инспектирований и решений (выводов) по ним. Планомерность внутришкольного контроля обеспечивает создание комфортных психологических условий для развития всех объектов ОУ);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обоснованност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(четкое представление, понимание о том, что контролировать, когда и во имя чего);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олнот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(охват всех компонентов, направлений системы жизнедеятельности школы, а также результативность их взаимодействия в достижении поставленных целей и задач);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компетентность проверяющего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(достаточный уровень компетентности тех людей, кто готовится к предстоящему инспектированию);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открытость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это один из самых важных принципов ВШК. Каждый непосредственный участник УВП должен знать, в каком «состоянии» он находится, с целью дальнейшего планирования своего будущего развития)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непрерывност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( особенно важен этот принцип при отслеживании результатов труда учителя, что делает процесс формирования его профессиональной компетентности непрерывным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истематичность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– регулярное проведение контроля; создание в школе системы контроля, позволяющей управлять всем ходом педагогического процесса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объективност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– проверка деятельности учителя или педагогического коллектива в соответствии с требованиями государственных стандартов и образовательных программ на основе выработанных и согласованных критериев;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результативност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(принятое решение (вывод) должно быть выполнимым, конкретным, направленным на положительные изменения, рост)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E61F4-0BDE-469B-9531-38B964C737D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0643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НАПРАВЛЕНИЯ </a:t>
            </a:r>
            <a:br>
              <a:rPr sz="3200"/>
            </a:b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ВНУТРИШКОЛЬНОГО КОНТРО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2803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троль выполнения Закона РФ «Об образовании» (посещаемость занятий, питание, обучение на дому, комплектование классов, продолжение образования и трудоустройство 9-11 кл, работа Совета профилактики и др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полнение организационно-педагогических вопрос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чество и ход выполнения образовательных программ и государственных стандарт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едение документ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тодическая работ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ровень воспитанности обучающих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стояние преподавания учебных дисциплин,реализующих образовательные,воспитательные и развивающие функции обуч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стояние и качество организации внеурочной воспитательной рабо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ровень физического развития и здоровье обучающих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бота с педагогическими кадр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учно-педагогическая деятельность педагогических кадр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храна труда и техника безопас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сполнение нормативных документов и принятых реш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42E42-67C6-4C7B-A2AB-488AD14D4CB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US" sz="4400" spc="-1" strike="noStrike">
                <a:solidFill>
                  <a:srgbClr val="990000"/>
                </a:solidFill>
                <a:latin typeface="Arial"/>
              </a:rPr>
              <a:t>Виды  ВШ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 Портнов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предваритель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текущ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итогов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27E4E-DCD6-484C-AB27-6725488898B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4400" spc="-1" strike="noStrike">
                <a:solidFill>
                  <a:srgbClr val="990000"/>
                </a:solidFill>
                <a:latin typeface="Arial"/>
              </a:rPr>
              <a:t>Виды ВШК по  Шамовой</a:t>
            </a:r>
            <a:r>
              <a:rPr b="0" lang="ru-RU" sz="4400" spc="-1" strike="noStrike">
                <a:solidFill>
                  <a:srgbClr val="00007d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матиче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ронта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сона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лассно-обобщающ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метно-обобщающ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матически-обобщающ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мплексно-обобщающ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73CF7-ECB4-4D77-B856-FC301D32980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147160" cy="60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00"/>
                </a:solidFill>
                <a:latin typeface="Times New Roman"/>
              </a:rPr>
              <a:t>Метод контрол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– это способ практического осуществления контроля для достижения поставленной цел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Наиболее эффективными методами контроля для изучения состояния образовательной деятельности являются: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Наблюде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внимательно следя за чем-либо, изучать, исследовать);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Анализ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разбор с выявлением причин, определение тенденции развития);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Бесед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деловой разговор на какую-либо тему с участием слушателей в обмене мнениями);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Изучение документаци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тщательное обследование с целью ознакомления, выяснения чего-либо);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Анкетирование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способ исследования путем опроса);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Хронометраж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измерение затрат рабочего времени на выполнение повторяющихся операций);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Устная или письменная проверка знаний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испытание для выявления уровня обученности)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044DE-1EC2-49D7-9E5F-38176334A39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а) по признаку исполнителя контро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0" y="907920"/>
          <a:ext cx="9144000" cy="5616720"/>
        </p:xfrm>
        <a:graphic>
          <a:graphicData uri="http://schemas.openxmlformats.org/drawingml/2006/table">
            <a:tbl>
              <a:tblPr/>
              <a:tblGrid>
                <a:gridCol w="2556000"/>
                <a:gridCol w="658800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контрол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ясн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Коллектив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контролю привлекаются все ступени управления: администрация, руководители комиссий, кафедр, опытные учителя, учащиеся, родители, члены попечительского совета при четком делегировании объектов и самок контрол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Взаимоконтрол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контролю привлекаются опытные учителя и классные руководители через наставничество, взаимопосещение уроков, воспитательные мероприятия и т.п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Самоконтрол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егируется наиболее опытным учителям и классным руководителям с обязательной периодической самоотчетностью по предлагаемым схемам, алгоритмам и т п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Административный плановый контрол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ществляется директором, его заместителями, руководителями кафедр в соответствии с планом ВШК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Административный регулирующий (внеплановый) контрол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ществляется директором и его заместителями при появлении непредвиденных планом пробле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2774B-6BBB-49E5-8E1E-D37AFF4108AF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б) по обхвату объектов контро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0" y="620640"/>
          <a:ext cx="9144000" cy="6207120"/>
        </p:xfrm>
        <a:graphic>
          <a:graphicData uri="http://schemas.openxmlformats.org/drawingml/2006/table">
            <a:tbl>
              <a:tblPr/>
              <a:tblGrid>
                <a:gridCol w="2538360"/>
                <a:gridCol w="66056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контрол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кты контрол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6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Классно- обобщающи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 знаний и воспитанности учащихся какого-либо класса. Качество и методы преподавания в классе. Качество работы классного руководителя класса. Выполнение родительских обязанностей в воспитании детей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Фронтальн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ояние преподавания отдельных предметов во всех или в части классов. Состояние работы классных руководителей во всех классах или в какой-либо параллели и т п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Тематически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всего коллектива над какой-либо проблемой, темой. Уровень знаний и умений учащихся по какой-либо теме какого-либо предмета. Состояние работы классных руководителей в каком-либо направлении (например, работа с дневниками учащихся) и т п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Персональн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ивность преподавательской деятельности, методический уровень учителя в целом или какой-либо стороны его деятельности (например, его уровня требований к знаниям учащихся) и т п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Обзорн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ояние школьной документации. Состояние трудовой дисциплины учителей. Состояние информационного оборудования и т.п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002D1-1C71-4FD5-BD4C-4C2895D8BF57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в) по используемым метод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0" y="1052640"/>
          <a:ext cx="9144000" cy="5649840"/>
        </p:xfrm>
        <a:graphic>
          <a:graphicData uri="http://schemas.openxmlformats.org/drawingml/2006/table">
            <a:tbl>
              <a:tblPr/>
              <a:tblGrid>
                <a:gridCol w="2987640"/>
                <a:gridCol w="6156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контрол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ъясн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Наблюд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ещение уроков, внеклассных мероприятий и т п- с последующим анализом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Проверка документаци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с классными журналами, дневниками учащихся, планами урока, личными делами учащихся, журналами по технике безопасности и т.п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прос а) устн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письменный контрольная работа (срез) анкетирование открытое анкетирование закрыто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льная беседа или целенаправленное собеседование по специально подготовленной программе. Проверяется уровень знаний, навыков, умений учащихся. Не ограничиваются варианты ответов на запрограммированные вопросы. Варианты ответов ограничен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Тестиров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 психологической диагностики для измерения индивидуальных различий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Оперативный разбор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 только что проведенного урока или мероприятия с его организаторами или участниками и т п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Ретроспективный разбор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 деятельности школы выпускниками прошлых лет, преподавателями ВУЗов на основании анализа вступительных экзаменов и т п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0960C-0301-4524-B089-74B586C66E0A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rcRect l="12548" t="35438" r="46144" b="44879"/>
          <a:stretch/>
        </p:blipFill>
        <p:spPr>
          <a:xfrm>
            <a:off x="250920" y="1916280"/>
            <a:ext cx="8713800" cy="3114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DBCCF-4A9A-4D15-8140-99AE652F48F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002440" cy="55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2440"/>
                <a:tab algn="l" pos="985680"/>
                <a:tab algn="l" pos="1521000"/>
                <a:tab algn="l" pos="4216320"/>
                <a:tab algn="l" pos="4305240"/>
                <a:tab algn="l" pos="5022720"/>
                <a:tab algn="l" pos="5295960"/>
                <a:tab algn="l" pos="7802640"/>
                <a:tab algn="l" pos="8928000"/>
              </a:tabLst>
            </a:pPr>
            <a:br>
              <a:rPr sz="3200"/>
            </a:b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Внутришкольный контроль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 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это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казание методической помощи педагогам с целью совершенствования и развития мастерства;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взаимодействие администрации и педагогического коллектива, ориентированное на повышение эффективности образовательного процесса;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вид деятельности руководителей совместно с педагогическим коллективом и общественностью по установлению соответствия качества образования общегосударственным требованиям на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иагностической основе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ШК направлен на оценивание состояния всех систем, компонентов, ступеней УВП, выявление причин достижений и недостатков в работе, т.е. выявление проблем, изменение условий (коррекция) деятельности того или иного объекта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2BEF1-05BE-4269-81C8-7EE638587630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6720" y="485640"/>
            <a:ext cx="79232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ПОСЛЕДОВАТЕЛЬНОСТЬ ПРОВЕДЕНИЯ ВНУТРИШКОЛЬНОГО КОНТР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55280" y="1267920"/>
            <a:ext cx="79297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анализ учебно-воспитательного процесса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обоснование контроля(почему тот или иной участок школы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составление плана контроля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определение цели контроля (ставим узкую цель0,необходимо конкретизировать целевую установку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приказ о проведении контроля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разработка программы, включающей в себя цели контроля, объект контроля, задачи, методы контроля, исполнителей, где слушается, какие мероприятия необходимо провести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разработка схем контроля по разным направлениям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проведение совещания с проверяющими и проверяемыми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осуществление контроля (посещение занятий, проведение контрольных срезов, проверка документации и др.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получение и обработка информации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делаются выводы, раскрываются причины успехов и недостатков, определяются рекомендации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методические, по исполнению служебных обязанностей и др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1500"/>
            </a:b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(самое сложное)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предварительная беседа с проверяемыми по результатам контроля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подготовка итогового документа по результатам контроля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принятие управленческого решения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перестановка кадров, обобщение опыта и т.д.)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подготовка приказа по результатам контроля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определение сроков повторного контроля или снятие вопроса с контроля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обсуждение результатов внутришкольного контроля на педагогическом совете, на заседании методического объединения, методическом совете и др.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проверка исполнения указан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49155-6EA9-4CCD-ABD5-E8790B13F667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147160" cy="62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Правила ВШК:</a:t>
            </a:r>
            <a:br>
              <a:rPr sz="20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1. ВШК осуществляет директор школы или по его поручению заместители директора , руководители МО, другие специалисты.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2. В качестве экспертов к участию во ВШК могут привлекаться компетентные организации и отдельные специалисты из других учреждений.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3. Директор ОУ издает приказ о сроках  и теме предстоящей проверки, программе контроля, устанавливает срок предоставления итоговых материалов.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4. План-задание определяет вопросы конкретной проверки; оно должно обеспечить достаточную информированность и сравнимость результатов ВШК для подготовки итогового документа по отдельным разделам деятельности школы или должностного лица.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5. Продолжительность тематических или комплексных проверок не должна превышать  5 уроков, занятий или других мероприятий.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6. Эксперты имеют право запрашивать необходимую информацию, изучать документацию, относящуюся к предмету ВШК.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7. При обнаружении в ходе ВШК нарушений законодательства РФ в области образования, о них сообщается директору школы.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8. Анкетирование обучающихся проводится по согласованию с психологической и методической службой учреждения и только в необходимых случаях.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9. При проведении планового контроля не требуется предупреждение учителя, если в месячном плане указаны сроки контроля.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10. В экстренных случаях директор и его заместители могут посещать уроки учителя без предварительного предупреждения.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11. При проведении оперативных проверок педагогический работник предупреждается не менее чем за 1 день до посещения уроков.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12. В экстренных случаях (письменная жалоба или нарушение прав ребенка, законодательства), педагогический работник предупреждается не менее чем за 1 день до посещения уроков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DDEAE-E52D-461F-8191-4F514ED4926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497800" cy="62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0000"/>
                </a:solidFill>
                <a:latin typeface="Times New Roman"/>
              </a:rPr>
              <a:t>Только партнёрство </a:t>
            </a:r>
            <a:br>
              <a:rPr sz="4800"/>
            </a:br>
            <a:r>
              <a:rPr b="1" i="1" lang="en-US" sz="4800" spc="-1" strike="noStrike">
                <a:solidFill>
                  <a:srgbClr val="990000"/>
                </a:solidFill>
                <a:latin typeface="Times New Roman"/>
              </a:rPr>
              <a:t>и только помощь </a:t>
            </a:r>
            <a:br>
              <a:rPr sz="4800"/>
            </a:br>
            <a:r>
              <a:rPr b="1" i="1" lang="en-US" sz="4800" spc="-1" strike="noStrike">
                <a:solidFill>
                  <a:srgbClr val="990000"/>
                </a:solidFill>
                <a:latin typeface="Times New Roman"/>
              </a:rPr>
              <a:t>в преодолении </a:t>
            </a:r>
            <a:br>
              <a:rPr sz="4800"/>
            </a:br>
            <a:r>
              <a:rPr b="1" i="1" lang="en-US" sz="4800" spc="-1" strike="noStrike">
                <a:solidFill>
                  <a:srgbClr val="990000"/>
                </a:solidFill>
                <a:latin typeface="Times New Roman"/>
              </a:rPr>
              <a:t>негативных явлений – </a:t>
            </a:r>
            <a:br>
              <a:rPr sz="4800"/>
            </a:br>
            <a:r>
              <a:rPr b="1" i="1" lang="en-US" sz="4800" spc="-1" strike="noStrike">
                <a:solidFill>
                  <a:srgbClr val="990000"/>
                </a:solidFill>
                <a:latin typeface="Times New Roman"/>
              </a:rPr>
              <a:t>вот позиция проверяющи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2E1E4-146F-468E-9131-307F256E4BA4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218440" cy="52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3300"/>
                </a:solidFill>
                <a:latin typeface="Times New Roman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F4927-0CA5-4076-A025-6FCC6DD8834C}" type="slidenum">
              <a:t>23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91520" cy="55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Основания для организации внутришкольного контроля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Закон РФ "Об образовании"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Типовое положение об общеобразовательном учреждении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Письмо Министерства образования РФ от 10.09.1999 г. № 22-06-874 "Об       обеспечении инспекционно-контрольной деятельности"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Устав ОУ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Правила внутреннего распорядка для работников школы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Положение о ВШК (локальный акт ОУ)</a:t>
            </a:r>
            <a:br>
              <a:rPr sz="2400"/>
            </a:br>
            <a:br>
              <a:rPr sz="2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91ECD-033C-4B2C-91D8-470D254AE77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218440" cy="59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Задачи ВШК: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осуществление контроля над исполнением законодательства в области образования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выявление случаев нарушений и неисполнения законодательных и нормативно-правовых актов, принятию мер по их пресечению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анализ причин, лежащих в основе нарушения, принятие мер по их предупреждению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анализ и экспертная оценка эффективности результатов деятельности педагогических работников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изучение результатов педагогической деятельности, выявление положительных и отрицательных тенденций в организации образовательного процесса и разработка на этой основе предложений по рассмотрению педагогического опыта и устранению негативных тенденций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анализ результатов реализации приказов и распоряжений по школе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оказание методической помощи педагогическим работникам в процессе контро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AE84B-3BC4-47ED-BBA7-13A5647E18E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79280" y="620640"/>
            <a:ext cx="8785440" cy="4824000"/>
            <a:chOff x="179280" y="620640"/>
            <a:chExt cx="8785440" cy="4824000"/>
          </a:xfrm>
        </p:grpSpPr>
        <p:sp>
          <p:nvSpPr>
            <p:cNvPr id="111" name=""/>
            <p:cNvSpPr/>
            <p:nvPr/>
          </p:nvSpPr>
          <p:spPr>
            <a:xfrm>
              <a:off x="4352400" y="3614760"/>
              <a:ext cx="0" cy="66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179280" y="620640"/>
              <a:ext cx="8785440" cy="4824000"/>
              <a:chOff x="179280" y="620640"/>
              <a:chExt cx="8785440" cy="4824000"/>
            </a:xfrm>
          </p:grpSpPr>
          <p:sp>
            <p:nvSpPr>
              <p:cNvPr id="113" name=""/>
              <p:cNvSpPr/>
              <p:nvPr/>
            </p:nvSpPr>
            <p:spPr>
              <a:xfrm>
                <a:off x="179280" y="2450520"/>
                <a:ext cx="2415960" cy="1164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900" spc="-1" strike="noStrike">
                    <a:solidFill>
                      <a:srgbClr val="000000"/>
                    </a:solidFill>
                    <a:latin typeface="Arial"/>
                  </a:rPr>
                  <a:t>Анализ</a:t>
                </a: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329160" y="2450520"/>
                <a:ext cx="2635560" cy="1164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900" spc="-1" strike="noStrike">
                    <a:solidFill>
                      <a:srgbClr val="000000"/>
                    </a:solidFill>
                    <a:latin typeface="Arial"/>
                  </a:rPr>
                  <a:t>Организация</a:t>
                </a: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44240" y="4280400"/>
                <a:ext cx="2635560" cy="1164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300" spc="-1" strike="noStrike">
                    <a:solidFill>
                      <a:srgbClr val="000000"/>
                    </a:solidFill>
                    <a:latin typeface="Arial"/>
                  </a:rPr>
                  <a:t>Контроль</a:t>
                </a: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44240" y="2450520"/>
                <a:ext cx="2635560" cy="1164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Arial"/>
                  </a:rPr>
                  <a:t>Регулиро-вание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144240" y="620640"/>
                <a:ext cx="2635560" cy="1164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000000"/>
                    </a:solidFill>
                    <a:latin typeface="Arial"/>
                  </a:rPr>
                  <a:t>Планирование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V="1">
                <a:off x="1826640" y="1285560"/>
                <a:ext cx="1317600" cy="116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79800" y="2949480"/>
                <a:ext cx="549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V="1">
                <a:off x="4352400" y="1785240"/>
                <a:ext cx="0" cy="66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2594880" y="2949480"/>
                <a:ext cx="549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 flipV="1">
                <a:off x="2155320" y="3614760"/>
                <a:ext cx="988200" cy="99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5779440" y="3614760"/>
                <a:ext cx="1207800" cy="99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79800" y="1285920"/>
                <a:ext cx="1098000" cy="116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DC325-E529-4DCD-868B-F7D95B681AB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0" y="1052640"/>
          <a:ext cx="9144000" cy="4938480"/>
        </p:xfrm>
        <a:graphic>
          <a:graphicData uri="http://schemas.openxmlformats.org/drawingml/2006/table">
            <a:tbl>
              <a:tblPr/>
              <a:tblGrid>
                <a:gridCol w="1370160"/>
                <a:gridCol w="249120"/>
                <a:gridCol w="1698480"/>
                <a:gridCol w="249480"/>
                <a:gridCol w="1311120"/>
                <a:gridCol w="249120"/>
                <a:gridCol w="2040120"/>
                <a:gridCol w="249120"/>
                <a:gridCol w="172728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о-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-за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улиро-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колько проведен-ный контроль достиг свой цели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овы цели и содержание контроля, когда и как будем проводить контроль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о, как и во взаимо-действии с кем осуществляется контроль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гда и как определяем соответствие исполнения контроля установленным требованиям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гда и как решаем вопросы корректирования действий по организации контроля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1332000" y="3357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76720" y="3357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59280" y="3357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164360" y="3357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E89B0-82D7-4B14-B6B1-D5CAC985DE6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сновные функциональные задачи – эт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бор и обработка информации о состоянии учебно-воспитательного процесс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еспечение обратной связи о реализации всех управленческих реш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F81C2-A27D-459B-979A-B544F97CE63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сновные цели контрол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мпетентная проверка выполнения решений руководящих органов в области образо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бор и обработка информации о состоянии учебно-воспитательного процесс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еспечение обратной связи в реализации всех управленческих реш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мелое, корректное и оперативное исправление недостатков в деятельности исполнител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вершенствование управленческой деятельности руководителей образовательного учреждения в целом на основе развития их аналитических умений и навы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явление и обобщение передового педагогического опы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6766B-6AAD-4DD9-875F-3BB3AAECB6E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C36FD-EBDD-4694-BC18-DED0CEA72EA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2T12:55:49Z</dcterms:created>
  <dc:creator>Мы</dc:creator>
  <dc:description/>
  <dc:language>en-US</dc:language>
  <cp:lastModifiedBy>Лисова Т.А.</cp:lastModifiedBy>
  <dcterms:modified xsi:type="dcterms:W3CDTF">2010-03-18T15:52:40Z</dcterms:modified>
  <cp:revision>41</cp:revision>
  <dc:subject/>
  <dc:title>СОДЕРЖАНИЕ ВНУТРИШКОЛЬНОГО КОНТРОЛЯ</dc:title>
</cp:coreProperties>
</file>