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A40-08A7-48EB-B310-AC6328B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D0B-460C-4278-8CF3-4B313BF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074-F876-4944-8DEA-1FE85E55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EBC-4B91-4FCF-B8E8-352FFD7C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020-280E-4432-9E91-D9CE026E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F00-8741-4AEE-873A-348FBDEE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1643-DC5F-483F-9E54-2ED7FEC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2F5-115B-4464-8B45-1B132A49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378-065D-4A53-8E5E-353C5983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0E02-86E2-4FD9-B1EB-83990F8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00E0-6D99-4035-AA4F-3735BB1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FAC-A161-47BE-B3FD-74E5445D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4CB1-B5BA-4BE2-83B5-B2A2BA5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1532-5CCF-4CA9-80D7-46EC895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C4B1-9B66-4DF6-866E-A4249AB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CBE3-E616-43A0-8453-292FE6D5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DA55-D6AC-4149-824F-C73947D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3F1-2782-491B-93F3-45CB6B07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484-274E-4E41-AD4E-62FE8E5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747-F202-457E-896D-0F9529C8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28C-4F3B-461D-91D7-58B829BF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C02-982E-4C93-BDDB-2918B1B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E83-1CD4-4FDD-BD1D-01C3E85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59A-D650-4F0E-B45E-99C3508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068-3827-4560-AC3B-FEF21E0538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433B-1B7E-4CEB-BFD7-12B3F031D50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БОУ "Суворовская СОШ" Благовещенского района Алтайского к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час для учащихся начальных класс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руководитель Т.И.Шишк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.Суворов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3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343240" y="2276640"/>
            <a:ext cx="453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е работы хорош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на вкус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4360" y="474840"/>
            <a:ext cx="617364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ожит мостовая и воет мото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к нам едет папа-шофе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 синему небу летит самолет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м управляет папа-пило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ужно шагает с военными в ряд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серой шинели папа-солда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 многоборье у нас рекордсмен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ы отвечаем: «Папа-спортсмен!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голь рубить не устал в недрах г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рный от сажи папа-шахтер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кры летят, из котла валит па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о варит сталь наш отец-сталева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ылечит тысячи сломанных рук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детской больнице папа-хирур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ран установит, прочистит зас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апа-сантехник или монтер.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ыступает на сцене на бис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известный папа-артис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 мире ненужной профессии нет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!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чит нас с детства папа-поэт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932360" y="4581360"/>
            <a:ext cx="336060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948200" cy="2678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едсест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профессии 004"/>
          <p:cNvPicPr/>
          <p:nvPr/>
        </p:nvPicPr>
        <p:blipFill>
          <a:blip r:embed="rId1"/>
          <a:stretch/>
        </p:blipFill>
        <p:spPr>
          <a:xfrm>
            <a:off x="1655640" y="2023920"/>
            <a:ext cx="5929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ите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профессии 003"/>
          <p:cNvPicPr/>
          <p:nvPr/>
        </p:nvPicPr>
        <p:blipFill>
          <a:blip r:embed="rId1"/>
          <a:stretch/>
        </p:blipFill>
        <p:spPr>
          <a:xfrm>
            <a:off x="2916360" y="1557360"/>
            <a:ext cx="3157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ератор машинного до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9760" y="2095560"/>
            <a:ext cx="4605120" cy="416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7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втослес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профессии 001"/>
          <p:cNvPicPr/>
          <p:nvPr/>
        </p:nvPicPr>
        <p:blipFill>
          <a:blip r:embed="rId1"/>
          <a:stretch/>
        </p:blipFill>
        <p:spPr>
          <a:xfrm>
            <a:off x="900000" y="1563840"/>
            <a:ext cx="2826000" cy="5037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Виды деятельно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зборка, ремонт, сборка автомоби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гулировка, разборка, ремонт, замена, установка узлов и деталей автомоби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на расходных материалов (масло, тосо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иагностика агрега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ка тормозной, рулевой сист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держание автомобиля в исправном состоя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ар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456"/>
                </a:solidFill>
                <a:latin typeface="Verdana"/>
              </a:rPr>
              <a:t>Требования к особенностям специали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ческая с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строта зрения и цветовос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бкость и подвижность всего те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ороший вестибулярный аппар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7" descr="профессии 005"/>
          <p:cNvPicPr/>
          <p:nvPr/>
        </p:nvPicPr>
        <p:blipFill>
          <a:blip r:embed="rId1"/>
          <a:stretch/>
        </p:blipFill>
        <p:spPr>
          <a:xfrm>
            <a:off x="4716360" y="1268280"/>
            <a:ext cx="39592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Должен облада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трым зрением, точным линейным и объёмным глазомер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ей зрительно-моторной координаци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хническим мышл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ранственным воображ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ю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профессии 006"/>
          <p:cNvPicPr/>
          <p:nvPr/>
        </p:nvPicPr>
        <p:blipFill>
          <a:blip r:embed="rId1"/>
          <a:stretch/>
        </p:blipFill>
        <p:spPr>
          <a:xfrm>
            <a:off x="468360" y="1197000"/>
            <a:ext cx="30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лектромонтё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бесперебойной работы электрооборудования зависит эффективность любого производственного объе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навыки электромонтёра полезны в быт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7" descr="профессии 007"/>
          <p:cNvPicPr/>
          <p:nvPr/>
        </p:nvPicPr>
        <p:blipFill>
          <a:blip r:embed="rId1"/>
          <a:stretch/>
        </p:blipFill>
        <p:spPr>
          <a:xfrm>
            <a:off x="5384880" y="1600200"/>
            <a:ext cx="256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н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Каменщик должен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ладеть приёмами приготовления раствор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меть читать и воспроизводить чертеж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полнять кладочные раб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7" descr="профессии 001"/>
          <p:cNvPicPr/>
          <p:nvPr/>
        </p:nvPicPr>
        <p:blipFill>
          <a:blip r:embed="rId1"/>
          <a:stretch/>
        </p:blipFill>
        <p:spPr>
          <a:xfrm>
            <a:off x="803160" y="1600200"/>
            <a:ext cx="3345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Цели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знакомить с многообразием мира професси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точнить знания о профессиях родителе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спитывать уважение к труд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орудование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нтерактивная доска, компьютер, презентац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орма проведения: презентация – путешеств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зраст участников: 6-11 лет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давец магаз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Продавцу необходи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способ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зоме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ное пространственное восприятие величины и формы предм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ёткая дик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н должен бы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моционально устойчив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блюда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и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ст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15" descr="P1000751"/>
          <p:cNvPicPr/>
          <p:nvPr/>
        </p:nvPicPr>
        <p:blipFill>
          <a:blip r:embed="rId1"/>
          <a:stretch/>
        </p:blipFill>
        <p:spPr>
          <a:xfrm>
            <a:off x="5148360" y="436572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7" descr="профессии 003"/>
          <p:cNvPicPr/>
          <p:nvPr/>
        </p:nvPicPr>
        <p:blipFill>
          <a:blip r:embed="rId1"/>
          <a:stretch/>
        </p:blipFill>
        <p:spPr>
          <a:xfrm>
            <a:off x="1193760" y="1600200"/>
            <a:ext cx="2563920" cy="4530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Содержание профе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екает хлеб, хлебобулочные и мучнисто-кондитерские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шивает опару и тес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ледит за выдержкой те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ладывает тесто на листы, в формы и отправляет их в печ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яет контроль за процессом выпе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яет готовность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0 детских утренников для начальной школы (сценарии) / Авт.-сост. М.М. Давыдова. М., 2003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гры для девочек и мальчиков: ребусы, раскраски, кроссворды, головоломки, загадки / Сост. И.Г. Сухин. М.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урова С. Большая книга школьных праздников. Ярославль, 2008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аздники в начальной школе / Сост. Н.Г. Кувашова. Волгоград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ие народные пословицы, поговорки и загадки / Сост. Ю.Г. Круглов. М., 1986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енны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 мечтаю быть военны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ыть красивым, здоровенным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88920" y="162864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Инженер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здесь умнее вс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уплю я в полит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ыстро стану инженером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о всем я буду первы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надо не ленить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немного подуч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30081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ной, швея, закрой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4834080" cy="349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Я мечтаю стать портних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сшить пальто и шляп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мамочек и для ребя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704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Шеф-повар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мечтаю поваром ст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кусные плюшки для всех выпек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йте повару продукт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ясо, птицу, сухофрукты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ис, картофель... И тог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дет вас вкусная е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рукто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683240" cy="315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16000" y="1052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хочу стать конструктором важ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ом построить многоэтажн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далекие план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 Земли летят раке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х конструктор разработал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нь и ночь не спал, работ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асатели МЧ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040280" cy="28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Я буду спасателем, смелым, от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елом он занят, нужным и 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асатель там, где есть беда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дет на помощь он всегда.   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 сомневаться нет причин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пасать — работа для мужчин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0280" cy="257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400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плые вещи быстро и тих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Шьет для детишек мама-портних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ит корову с утра спозаранк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чистом загоне мама-дояр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убки больные без всяких ук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лечит мама — врач-стоматоло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етском саду очень много заня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 там няня и воспита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95280" y="3068640"/>
            <a:ext cx="82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школе не меньше занятий. Смотрит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вит оценки мама-учи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корешочка растить не устан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удо-растение мама-ботани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шет в газеты статьи и запи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-писатель и журналист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усной колбаски достала с витри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, она — продавец магаз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юшки и булочки кушать спешите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х испекла нам мама-кондит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самолета прыгает с риск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елая мама-парашютист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18:54Z</dcterms:created>
  <dc:creator>VIP</dc:creator>
  <dc:description/>
  <dc:language>en-US</dc:language>
  <cp:lastModifiedBy>VIP</cp:lastModifiedBy>
  <dcterms:modified xsi:type="dcterms:W3CDTF">2013-03-27T15:39:47Z</dcterms:modified>
  <cp:revision>27</cp:revision>
  <dc:subject/>
  <dc:title>Слайд 1</dc:title>
</cp:coreProperties>
</file>