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4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B1D-27D4-4BBF-80F1-33541665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ACD-8709-4F2C-9D2F-EA95BDC1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E0D-B46A-4F95-9CFD-FC3EC9D2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414-CF29-44FD-8485-944D658C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EDF5-9EA9-4D1A-9251-5758DC8F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7378-1403-4243-97D5-4F56E443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AF94-CFD7-4E7B-99EE-82DFEAA1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A379-87D9-489B-A166-F357765B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129C-D6FC-4AEC-9391-099501A6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6276-6529-4BB7-91D3-2C6D3055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20F2-C031-4D5D-8B1A-5F2CE3C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A34-812A-493C-978B-23D06710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07EE-5B18-4FC6-AB2A-2175AE5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8CD2-70D9-4BB0-941C-83161038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C1B9-9C34-4C02-8E0F-3F8D78BD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E0E5-3230-4747-86C3-D5BDEDDE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BE5D-59CE-4B69-B554-8B1CD57C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259-53EC-48B6-9D19-207A9EF6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291-51D8-4937-9E2F-CDA6155D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682-5E4D-46F9-875D-F3A80B9B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6E9-6766-492E-8FC0-CADD4348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D96-A0F0-40D0-8CAF-3F99B1D6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5F3-EDD6-48E3-93C6-F6B0E5AD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59C-1C1A-422F-BD4D-6433E0C5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DCF8-1612-4D49-9F96-9F4E9531D7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D13F-1C49-43CE-B493-FC01EB518DA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БОУ "Суворовская СОШ" Благовещенского района Алтайского кра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ассный час для учащихся начальных класс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лассный руководитель Т.И.Шишки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.Суворов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013 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343240" y="2276640"/>
            <a:ext cx="4533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се работы хороши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ирай на вкус!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684360" y="474840"/>
            <a:ext cx="6173640" cy="66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Дрожит мостовая и воет мотор —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Это к нам едет папа-шофер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о синему небу летит самолет,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м управляет папа-пило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Дружно шагает с военными в ряд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серой шинели папа-солда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то в многоборье у нас рекордсмен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Мы отвечаем: «Папа-спортсмен!»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голь рубить не устал в недрах гор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Черный от сажи папа-шахтер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скры летят, из котла валит пар —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То варит сталь наш отец-сталевар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ылечит тысячи сломанных рук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детской больнице папа-хирур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ран установит, прочистит засор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апа-сантехник или монтер.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Кто выступает на сцене на бис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Это известный папа-артист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В мире ненужной профессии нет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!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Учит нас с детства папа-поэт.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рач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3871800" cy="2097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4932360" y="4581360"/>
            <a:ext cx="3360600" cy="17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4"/>
          <a:stretch/>
        </p:blipFill>
        <p:spPr>
          <a:xfrm>
            <a:off x="4067280" y="1197000"/>
            <a:ext cx="4948200" cy="2678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едсестр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профессии 004"/>
          <p:cNvPicPr/>
          <p:nvPr/>
        </p:nvPicPr>
        <p:blipFill>
          <a:blip r:embed="rId1"/>
          <a:stretch/>
        </p:blipFill>
        <p:spPr>
          <a:xfrm>
            <a:off x="1655640" y="2023920"/>
            <a:ext cx="59295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ите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4" descr="профессии 003"/>
          <p:cNvPicPr/>
          <p:nvPr/>
        </p:nvPicPr>
        <p:blipFill>
          <a:blip r:embed="rId1"/>
          <a:stretch/>
        </p:blipFill>
        <p:spPr>
          <a:xfrm>
            <a:off x="2916360" y="1557360"/>
            <a:ext cx="31575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ператор машинного до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509760" y="2095560"/>
            <a:ext cx="4605120" cy="4160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31784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втослес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7" descr="профессии 001"/>
          <p:cNvPicPr/>
          <p:nvPr/>
        </p:nvPicPr>
        <p:blipFill>
          <a:blip r:embed="rId1"/>
          <a:stretch/>
        </p:blipFill>
        <p:spPr>
          <a:xfrm>
            <a:off x="900000" y="1563840"/>
            <a:ext cx="2826000" cy="50371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Виды деятельност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зборка, ремонт, сборка автомобил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гулировка, разборка, ремонт, замена, установка узлов и деталей автомобил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мена расходных материалов (масло, тосол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иагностика агрега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ка тормозной, рулевой сист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держание автомобиля в исправном состояни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варщ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a8456"/>
                </a:solidFill>
                <a:latin typeface="Verdana"/>
              </a:rPr>
              <a:t>Требования к особенностям специалис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изическая си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носливост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строта зрения и цветовосприят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бкость и подвижность всего те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ороший вестибулярный аппара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7" descr="профессии 005"/>
          <p:cNvPicPr/>
          <p:nvPr/>
        </p:nvPicPr>
        <p:blipFill>
          <a:blip r:embed="rId1"/>
          <a:stretch/>
        </p:blipFill>
        <p:spPr>
          <a:xfrm>
            <a:off x="4716360" y="1268280"/>
            <a:ext cx="395928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ок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Должен обладат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трым зрением, точным линейным и объёмным глазомер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орошей зрительно-моторной координаци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ехническим мышлен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странственным воображение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ю вним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профессии 006"/>
          <p:cNvPicPr/>
          <p:nvPr/>
        </p:nvPicPr>
        <p:blipFill>
          <a:blip r:embed="rId1"/>
          <a:stretch/>
        </p:blipFill>
        <p:spPr>
          <a:xfrm>
            <a:off x="468360" y="1197000"/>
            <a:ext cx="30812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лектромонтё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 бесперебойной работы электрооборудования зависит эффективность любого производственного объект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фессиональные навыки электромонтёра полезны в быт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Picture 7" descr="профессии 007"/>
          <p:cNvPicPr/>
          <p:nvPr/>
        </p:nvPicPr>
        <p:blipFill>
          <a:blip r:embed="rId1"/>
          <a:stretch/>
        </p:blipFill>
        <p:spPr>
          <a:xfrm>
            <a:off x="5384880" y="1600200"/>
            <a:ext cx="2563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енщ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8456"/>
                </a:solidFill>
                <a:latin typeface="Verdana"/>
              </a:rPr>
              <a:t>Каменщик должен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ладеть приёмами приготовления раствор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меть читать и воспроизводить чертеж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полнять кладочные работ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7" descr="профессии 001"/>
          <p:cNvPicPr/>
          <p:nvPr/>
        </p:nvPicPr>
        <p:blipFill>
          <a:blip r:embed="rId1"/>
          <a:stretch/>
        </p:blipFill>
        <p:spPr>
          <a:xfrm>
            <a:off x="803160" y="1600200"/>
            <a:ext cx="3345120" cy="4530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Цели занятия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ознакомить с многообразием мира профессий;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уточнить знания о профессиях родителей;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•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оспитывать уважение к труду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борудование занятия: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интерактивная доска, компьютер, презентац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Форма проведения: презентация – путешестви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Возраст участников: 6-11 лет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давец магази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Продавцу необходимы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стойчивость вним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хорошая памя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рифметические способ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лазоме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чное пространственное восприятие величины и формы предме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чёткая дикц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Он должен быть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эмоционально устойчив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блюдатель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бщитель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стны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15" descr="P1000751"/>
          <p:cNvPicPr/>
          <p:nvPr/>
        </p:nvPicPr>
        <p:blipFill>
          <a:blip r:embed="rId1"/>
          <a:stretch/>
        </p:blipFill>
        <p:spPr>
          <a:xfrm>
            <a:off x="5148360" y="436572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кар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7" descr="профессии 003"/>
          <p:cNvPicPr/>
          <p:nvPr/>
        </p:nvPicPr>
        <p:blipFill>
          <a:blip r:embed="rId1"/>
          <a:stretch/>
        </p:blipFill>
        <p:spPr>
          <a:xfrm>
            <a:off x="1193760" y="1600200"/>
            <a:ext cx="2563920" cy="4530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Содержание професс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ыпекает хлеб, хлебобулочные и мучнисто-кондитерские издел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мешивает опару и тест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ледит за выдержкой тес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кладывает тесто на листы, в формы и отправляет их в печ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существляет контроль за процессом выпеч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пределяет готовность издел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30 детских утренников для начальной школы (сценарии) / Авт.-сост. М.М. Давыдова. М., 2003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гры для девочек и мальчиков: ребусы, раскраски, кроссворды, головоломки, загадки / Сост. И.Г. Сухин. М., 2005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урова С. Большая книга школьных праздников. Ярославль, 2008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аздники в начальной школе / Сост. Н.Г. Кувашова. Волгоград, 2005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усские народные пословицы, поговорки и загадки / Сост. Ю.Г. Круглов. М., 1986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енны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Я мечтаю быть военным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ыть красивым, здоровенным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88920" y="1628640"/>
            <a:ext cx="4356000" cy="3811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Инженер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здесь умнее всех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уплю я в политех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ыстро стану инженером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во всем я буду первы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олько надо не ленитьс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немного подучитьс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57200" y="2652840"/>
            <a:ext cx="300816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ртной, швея, закройщ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4834080" cy="3492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Я мечтаю стать портних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ного сшить пальто и шляп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ля мамочек и для ребя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570480" cy="2665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Шеф-повар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мечтаю поваром ста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вкусные плюшки для всех выпекат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йте повару продукты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ясо, птицу, сухофрукты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ис, картофель... И тог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дет вас вкусная е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нструкто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3500280"/>
            <a:ext cx="4683240" cy="3159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16000" y="105228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А я хочу стать конструктором важны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дом построить многоэтажны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далекие планет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т Земли летят ракет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х конструктор разработал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ень и ночь не спал, работа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пасатели МЧ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4040280" cy="28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Я буду спасателем, смелым, отваж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Делом он занят, нужным и важным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пасатель там, где есть беда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дет на помощь он всегда.                                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 сомневаться нет причин: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пасать — работа для мужчин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4040280" cy="2573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24000" y="189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еплые вещи быстро и тих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Шьет для детишек мама-портних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Доит корову с утра спозаранк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чистом загоне мама-дояр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убки больные без всяких укол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ылечит мама — врач-стоматоло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детском саду очень много занят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 там няня и воспитател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395280" y="3068640"/>
            <a:ext cx="82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 школе не меньше занятий. Смотрит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тавит оценки мама-учитель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з корешочка растить не устане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Чудо-растение мама-ботани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ишет в газеты статьи и запис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-писатель и журналист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кусной колбаски достала с витрин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ама, она — продавец магази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люшки и булочки кушать спешите!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х испекла нам мама-кондите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з самолета прыгает с риском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мелая мама-парашютистка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4:18:54Z</dcterms:created>
  <dc:creator>VIP</dc:creator>
  <dc:description/>
  <dc:language>en-US</dc:language>
  <cp:lastModifiedBy>VIP</cp:lastModifiedBy>
  <dcterms:modified xsi:type="dcterms:W3CDTF">2013-03-27T15:39:47Z</dcterms:modified>
  <cp:revision>27</cp:revision>
  <dc:subject/>
  <dc:title>Слайд 1</dc:title>
</cp:coreProperties>
</file>