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9.png" ContentType="image/pn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7.jpeg" ContentType="image/jpeg"/>
  <Override PartName="/ppt/media/image3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11.jpeg" ContentType="image/jpeg"/>
  <Override PartName="/ppt/media/image34.jpeg" ContentType="image/jpeg"/>
  <Override PartName="/ppt/media/image37.jpeg" ContentType="image/jpeg"/>
  <Override PartName="/ppt/media/image12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56.png" ContentType="image/pn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47B6-9F73-43A4-AB83-DA909E72B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AB3C-E977-40C5-9BC7-3DCD9E709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15B4-6231-4021-9B60-992F50CC9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7FF4-51A1-4149-84D9-542715AFF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5AD8D-5F28-4B87-B09B-91BE53F36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4F767-DAE0-4CD7-BD2E-90625F758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55256-453A-4A8F-84BF-037A7DE22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D111F-292E-4BDA-8605-1EB7010CF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92464-B578-4206-9A4D-15E9BFCAB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157AF-D43E-4C81-A5A9-310B2E80B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1CD0B-8D77-470E-8DAD-3E1B29FF7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1901-FF22-42F2-9DF3-E470E8FCB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0B04E-969C-46C3-87B9-90FFA2098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8EED4-E9C6-49F7-95F9-A97803391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4AE8E-4712-4199-A2E2-35578A200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1E809-BDC2-46C6-B4E1-5324D8295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8F1CB-F717-445F-AC42-F51EC999A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140B-84C3-486D-9798-FF4F75E52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A352-22E2-412F-8B4A-D0B894ABD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A243-B7EC-4265-B151-3F1DFBB05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2553-0E48-4000-B60D-2BC782000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95BD-E459-47CB-817D-A380B7DFD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A3D8-8EC5-4AFF-B30A-F41B5A71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B10B-5BC6-44BD-850A-1E05027DE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BE894-3316-4A3E-9B6B-792816D0F62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1F538-E90A-496B-97B6-4641651A1B3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12.jpeg"/><Relationship Id="rId3" Type="http://schemas.openxmlformats.org/officeDocument/2006/relationships/image" Target="../media/image47.jpeg"/><Relationship Id="rId4" Type="http://schemas.openxmlformats.org/officeDocument/2006/relationships/image" Target="../media/image56.png"/><Relationship Id="rId5" Type="http://schemas.openxmlformats.org/officeDocument/2006/relationships/slideLayout" Target="../slideLayouts/slideLayout1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388360" cy="633744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708360" y="4221000"/>
            <a:ext cx="2327400" cy="22323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755640" y="620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31093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Arial Black"/>
              </a:rPr>
              <a:t>Цель урока 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Задачи урок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Вспомнить – узнать - научить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 Black"/>
              </a:rPr>
              <a:t>1. Особенности географического положения и экономико-географического положения Японии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364000" y="1844640"/>
            <a:ext cx="3456000" cy="453708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95280" y="1916280"/>
            <a:ext cx="4430880" cy="288108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324000" y="476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343472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 Black"/>
              </a:rPr>
              <a:t>Природные ресурсы Японии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3311640" cy="230328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55640" y="4292640"/>
            <a:ext cx="3745080" cy="223200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4859280" y="1628640"/>
            <a:ext cx="3745080" cy="223200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5076720" y="4249800"/>
            <a:ext cx="3403800" cy="235728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 Black"/>
              </a:rPr>
              <a:t>Природные ресурсы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4032360" cy="263844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5435640" y="907920"/>
            <a:ext cx="3384360" cy="272124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468360" y="4005360"/>
            <a:ext cx="4103640" cy="231624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5364000" y="4005360"/>
            <a:ext cx="3384720" cy="238896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 Black"/>
              </a:rPr>
              <a:t>Население Японии – 128 млн. чел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3745080" cy="259236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003640" y="1268280"/>
            <a:ext cx="3672000" cy="237672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5148360" y="4149720"/>
            <a:ext cx="3527280" cy="237492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755640" y="4149720"/>
            <a:ext cx="3887640" cy="237492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Arial Black"/>
              </a:rPr>
              <a:t>Япония – </a:t>
            </a:r>
            <a:br>
              <a:rPr sz="3200"/>
            </a:br>
            <a:r>
              <a:rPr b="1" lang="ru-RU" sz="3200" spc="-1" strike="noStrike">
                <a:solidFill>
                  <a:srgbClr val="ff00ff"/>
                </a:solidFill>
                <a:latin typeface="Arial Black"/>
              </a:rPr>
              <a:t>высокоурбанизированная страна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3311640" cy="219852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5292720" y="1700280"/>
            <a:ext cx="3095640" cy="214956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755640" y="4221000"/>
            <a:ext cx="3816360" cy="221796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5219640" y="4221000"/>
            <a:ext cx="3457800" cy="208764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3851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Хозяйство Японии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3973680" cy="30988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932360" y="1197000"/>
            <a:ext cx="3743280" cy="29527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6920" y="4581000"/>
            <a:ext cx="80186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ысокие темпы роста экономи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Главный мировой кредито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труктура экономики – постиндустриальн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рактически все сырье и топливо импортирует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Экспортируются готовые издел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риентация на новейшие наукоемкие отрасл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 Black"/>
              </a:rPr>
              <a:t>Хозяйство Японии. Промышленность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971640" y="1341360"/>
            <a:ext cx="3456000" cy="23036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826920" y="3933720"/>
            <a:ext cx="3600720" cy="24480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5076720" y="1484280"/>
            <a:ext cx="3382920" cy="20890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5076720" y="4005360"/>
            <a:ext cx="33116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 Black"/>
              </a:rPr>
              <a:t>Хозяйство Японии. Сельское хозяйство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4319280" cy="25923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324000" y="3933720"/>
            <a:ext cx="4176720" cy="25909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4932360" y="1268280"/>
            <a:ext cx="3887640" cy="25815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4932360" y="4005360"/>
            <a:ext cx="396072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 Black"/>
              </a:rPr>
              <a:t>Хозяйство Японии. Транспорт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11280" y="1197000"/>
            <a:ext cx="3889440" cy="26305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611280" y="4076640"/>
            <a:ext cx="3889440" cy="24480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148360" y="4149720"/>
            <a:ext cx="3600360" cy="21906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5076720" y="1268280"/>
            <a:ext cx="359892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c1508"/>
                </a:solidFill>
                <a:latin typeface="Arial Black"/>
              </a:rPr>
              <a:t>ЯПОНИЯ –</a:t>
            </a:r>
            <a:br>
              <a:rPr sz="4400"/>
            </a:br>
            <a:r>
              <a:rPr b="1" lang="en-US" sz="4400" spc="-1" strike="noStrike">
                <a:solidFill>
                  <a:srgbClr val="bc1508"/>
                </a:solidFill>
                <a:latin typeface="Arial Black"/>
              </a:rPr>
              <a:t>страна восходящего солнц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2633760" cy="266508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924360" y="1773360"/>
            <a:ext cx="1655640" cy="158904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3780000" y="3500280"/>
            <a:ext cx="2303280" cy="295308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227640" y="1844640"/>
            <a:ext cx="2400480" cy="280836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3851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 Black"/>
              </a:rPr>
              <a:t>«Японская модель развития»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7720" y="1700280"/>
            <a:ext cx="800748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c1508"/>
                </a:solidFill>
                <a:latin typeface="Arial"/>
              </a:rPr>
              <a:t>Разумная стратегия развития с учетом местных условий и национальных традиц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c1508"/>
                </a:solidFill>
                <a:latin typeface="Arial"/>
              </a:rPr>
              <a:t>Высоко развитой системой образования; сочетанием образования, науки и производ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c1508"/>
                </a:solidFill>
                <a:latin typeface="Arial"/>
              </a:rPr>
              <a:t>Большим капиталовложениями в науку    (1 место по доле расходов в мире, числу ученых и инженеров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c1508"/>
                </a:solidFill>
                <a:latin typeface="Arial"/>
              </a:rPr>
              <a:t>Заимствование и быстрое внедрение научных изобрете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c1508"/>
                </a:solidFill>
                <a:latin typeface="Arial"/>
              </a:rPr>
              <a:t>Сочетанием крупного производства и мелких предприят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280" y="244440"/>
            <a:ext cx="830268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 Black"/>
              </a:rPr>
              <a:t>Что нового вы узнали на уроке?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00ff"/>
                </a:solidFill>
                <a:latin typeface="Arial Black"/>
              </a:rPr>
              <a:t>Что вам понравилось?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771640" y="3141720"/>
            <a:ext cx="4176720" cy="33116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3905280" y="56664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Рефлекс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052280"/>
            <a:ext cx="838512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Arial Black"/>
              </a:rPr>
              <a:t>Домашнее задание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00ff"/>
                </a:solidFill>
                <a:latin typeface="Arial Black"/>
              </a:rPr>
              <a:t>1. Заполнить таблицу общая экономико-географическая характеристика Японии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00ff"/>
                </a:solidFill>
                <a:latin typeface="Arial Black"/>
              </a:rPr>
              <a:t>2. По желанию. Ответьте на вопрос: почему Японцы долго живут?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627280" y="4197240"/>
            <a:ext cx="4608720" cy="26607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2" dur="294503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3851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 Black"/>
              </a:rPr>
              <a:t>Дополнительно: Кухня Японии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826920" y="1413000"/>
            <a:ext cx="3816360" cy="22446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292720" y="4076640"/>
            <a:ext cx="3240000" cy="24480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5219640" y="1484280"/>
            <a:ext cx="3313080" cy="22320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826920" y="4076640"/>
            <a:ext cx="367380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Спасибо за внимание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c1508"/>
                </a:solidFill>
                <a:latin typeface="Arial Black"/>
              </a:rPr>
              <a:t>Традиции Япони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3743280" cy="350208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930920" y="1844640"/>
            <a:ext cx="3817800" cy="351144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899640" y="-387360"/>
            <a:ext cx="80074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c1508"/>
                </a:solidFill>
                <a:latin typeface="Arial Black"/>
              </a:rPr>
              <a:t>Восток  - дело тонко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39640" y="3284640"/>
            <a:ext cx="3456000" cy="331308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796000" y="3357720"/>
            <a:ext cx="3097080" cy="331308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3203640" y="1341360"/>
            <a:ext cx="2735280" cy="266400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c1508"/>
                </a:solidFill>
                <a:latin typeface="Arial Black"/>
              </a:rPr>
              <a:t>Традиции Япони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3600360" cy="446436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651640" y="1341360"/>
            <a:ext cx="3311280" cy="439272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348000" y="4767120"/>
            <a:ext cx="2952720" cy="209088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403280" y="836640"/>
            <a:ext cx="6337440" cy="518472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  <p:sp>
        <p:nvSpPr>
          <p:cNvPr id="118" name=""/>
          <p:cNvSpPr/>
          <p:nvPr/>
        </p:nvSpPr>
        <p:spPr>
          <a:xfrm>
            <a:off x="3906360" y="27936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ff"/>
                </a:solidFill>
                <a:latin typeface="Arial"/>
              </a:rPr>
              <a:t>Саку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c1508"/>
                </a:solidFill>
                <a:latin typeface="Arial Black"/>
              </a:rPr>
              <a:t>Японское хокку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54007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c1508"/>
                </a:solidFill>
                <a:latin typeface="Arial"/>
              </a:rPr>
              <a:t>(3-стишие)  Хокку Басё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c1508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bc1508"/>
                </a:solidFill>
                <a:latin typeface="Arial"/>
              </a:rPr>
              <a:t>Туман и осенний дожд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c1508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bc1508"/>
                </a:solidFill>
                <a:latin typeface="Arial"/>
              </a:rPr>
              <a:t>И пусть невидима Фудз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c1508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bc1508"/>
                </a:solidFill>
                <a:latin typeface="Arial"/>
              </a:rPr>
              <a:t>Но радует сердце о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003640" y="2997360"/>
            <a:ext cx="3961080" cy="309564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Arial Black"/>
              </a:rPr>
              <a:t>Почему Япония – </a:t>
            </a:r>
            <a:br>
              <a:rPr sz="4000"/>
            </a:br>
            <a:r>
              <a:rPr b="1" lang="en-US" sz="4000" spc="-1" strike="noStrike">
                <a:solidFill>
                  <a:srgbClr val="ff00ff"/>
                </a:solidFill>
                <a:latin typeface="Arial Black"/>
              </a:rPr>
              <a:t>страна восходящего Солнца?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83664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116000" y="1773360"/>
            <a:ext cx="3538440" cy="4824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643280" y="1773360"/>
            <a:ext cx="35895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3851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 Black"/>
              </a:rPr>
              <a:t>Визитная карточка Японии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2952720" cy="223344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924360" y="1484280"/>
            <a:ext cx="2665440" cy="208908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4076280"/>
            <a:ext cx="8007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толица – Токи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лощадь – 372 тыс. кв.км (416 тыс. кв.км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аселение – 127 млн. чел. (968 тыс. чел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Форма правления – конституционная монарх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Форма территориального устройства – унитарное государ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ходит в «большую семерку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6948360" y="1413000"/>
            <a:ext cx="1944720" cy="285264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324000" y="260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343472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1T19:52:21Z</dcterms:created>
  <dc:creator>эльф</dc:creator>
  <dc:description/>
  <dc:language>en-US</dc:language>
  <cp:lastModifiedBy>эльф</cp:lastModifiedBy>
  <dcterms:modified xsi:type="dcterms:W3CDTF">2013-03-27T14:21:20Z</dcterms:modified>
  <cp:revision>46</cp:revision>
  <dc:subject/>
  <dc:title>ЯПОНИЯ –  страна восходящего солнца</dc:title>
</cp:coreProperties>
</file>