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11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png" ContentType="image/pn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4EE9-8E01-44B1-A962-A96F53DCD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DF43-8957-4419-BEB3-CB1E0445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6F70-9934-4E2A-BC32-415FE5C6A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453D-346E-4C29-9601-53A4F0428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FCC8-1F1E-40DC-BC65-6BD441A7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55CC-F8C9-478C-B121-85F976F8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FF6C-DAAA-480B-9379-ED2914E7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A82C-04C9-4A78-BFF5-E47EAD8D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11F4-39B2-4C12-9AC8-98E69967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14F9-7175-4A80-BBC6-933173D2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E00D-893B-41A6-AD9D-02A2FC57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71E3-1819-474B-9EFF-E1490447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D54C-767C-4E5F-98A3-5543A1EA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BB1A-4F0B-4023-BA85-08B3A93A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CB4E-6958-49F0-AB05-546E83AF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9385-962A-4284-B113-279F9D411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7A04-DA99-4736-BD51-9CF7B866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EABF-82FF-46BD-A37E-378A8038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E9AE-B93D-4777-A604-C3FC697B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340C-4359-4505-9302-54093D2B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5C02-C2E2-48B1-A10D-6FA0EC6E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5A31-0979-4797-B3F6-13E247B3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FA41-1BD0-4B8A-A9CC-1F896892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EDC8-7C04-4032-93F4-B1BE6773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91CF-8B33-4A71-86CD-ADD8C23882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6F3F-4D0F-4323-BD37-0B3CD79CEF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12.jpeg"/><Relationship Id="rId3" Type="http://schemas.openxmlformats.org/officeDocument/2006/relationships/image" Target="../media/image47.jpe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388360" cy="633744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708360" y="4221000"/>
            <a:ext cx="2327400" cy="2232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55640" y="62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1093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 Black"/>
              </a:rPr>
              <a:t>Цель урока 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Задачи уро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Вспомнить – узнать - научить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 Black"/>
              </a:rPr>
              <a:t>1. Особенности географического положения и экономико-географического положения Япони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64000" y="1844640"/>
            <a:ext cx="3456000" cy="453708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4430880" cy="288108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2400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43472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 Black"/>
              </a:rPr>
              <a:t>Природные ресурсы Япони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3311640" cy="230328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55640" y="4292640"/>
            <a:ext cx="3745080" cy="223200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859280" y="1628640"/>
            <a:ext cx="3745080" cy="223200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5076720" y="4249800"/>
            <a:ext cx="3403800" cy="235728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 Black"/>
              </a:rPr>
              <a:t>Природные ресурсы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4032360" cy="263844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435640" y="907920"/>
            <a:ext cx="3384360" cy="272124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68360" y="4005360"/>
            <a:ext cx="4103640" cy="231624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5364000" y="4005360"/>
            <a:ext cx="3384720" cy="238896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 Black"/>
              </a:rPr>
              <a:t>Население Японии – 128 млн. чел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3745080" cy="259236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003640" y="1268280"/>
            <a:ext cx="3672000" cy="237672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148360" y="4149720"/>
            <a:ext cx="3527280" cy="237492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755640" y="4149720"/>
            <a:ext cx="3887640" cy="237492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Arial Black"/>
              </a:rPr>
              <a:t>Япония – </a:t>
            </a:r>
            <a:br>
              <a:rPr sz="3200"/>
            </a:br>
            <a:r>
              <a:rPr b="1" lang="ru-RU" sz="3200" spc="-1" strike="noStrike">
                <a:solidFill>
                  <a:srgbClr val="ff00ff"/>
                </a:solidFill>
                <a:latin typeface="Arial Black"/>
              </a:rPr>
              <a:t>высокоурбанизированная стран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3311640" cy="219852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292720" y="1700280"/>
            <a:ext cx="3095640" cy="214956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755640" y="4221000"/>
            <a:ext cx="3816360" cy="221796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219640" y="4221000"/>
            <a:ext cx="3457800" cy="208764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3851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Хозяйство Япони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3973680" cy="30988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932360" y="1197000"/>
            <a:ext cx="3743280" cy="2952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920" y="4581000"/>
            <a:ext cx="80186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ысокие темпы роста эконом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Главный мировой кредит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труктура экономики – постиндустриаль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актически все сырье и топливо импортируе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Экспортируются готовые издел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риентация на новейшие наукоемкие отрас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 Black"/>
              </a:rPr>
              <a:t>Хозяйство Японии. Промышленность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3456000" cy="2303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826920" y="3933720"/>
            <a:ext cx="3600720" cy="2448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5076720" y="1484280"/>
            <a:ext cx="3382920" cy="2089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5076720" y="4005360"/>
            <a:ext cx="3311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 Black"/>
              </a:rPr>
              <a:t>Хозяйство Японии. Сельское хозяйство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4319280" cy="2592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24000" y="3933720"/>
            <a:ext cx="4176720" cy="2590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4932360" y="1268280"/>
            <a:ext cx="3887640" cy="25815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4932360" y="4005360"/>
            <a:ext cx="39607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 Black"/>
              </a:rPr>
              <a:t>Хозяйство Японии. Транспорт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3889440" cy="26305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11280" y="4076640"/>
            <a:ext cx="3889440" cy="2448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148360" y="4149720"/>
            <a:ext cx="3600360" cy="2190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5076720" y="1268280"/>
            <a:ext cx="359892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c1508"/>
                </a:solidFill>
                <a:latin typeface="Arial Black"/>
              </a:rPr>
              <a:t>ЯПОНИЯ –</a:t>
            </a:r>
            <a:br>
              <a:rPr sz="4400"/>
            </a:br>
            <a:r>
              <a:rPr b="1" lang="en-US" sz="4400" spc="-1" strike="noStrike">
                <a:solidFill>
                  <a:srgbClr val="bc1508"/>
                </a:solidFill>
                <a:latin typeface="Arial Black"/>
              </a:rPr>
              <a:t>страна восходящего солнц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2633760" cy="266508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924360" y="1773360"/>
            <a:ext cx="1655640" cy="158904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780000" y="3500280"/>
            <a:ext cx="2303280" cy="295308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227640" y="1844640"/>
            <a:ext cx="2400480" cy="280836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3851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 Black"/>
              </a:rPr>
              <a:t>«Японская модель развития»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700280"/>
            <a:ext cx="800748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c1508"/>
                </a:solidFill>
                <a:latin typeface="Arial"/>
              </a:rPr>
              <a:t>Разумная стратегия развития с учетом местных условий и национальных традиц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c1508"/>
                </a:solidFill>
                <a:latin typeface="Arial"/>
              </a:rPr>
              <a:t>Высоко развитой системой образования; сочетанием образования, науки и производ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c1508"/>
                </a:solidFill>
                <a:latin typeface="Arial"/>
              </a:rPr>
              <a:t>Большим капиталовложениями в науку    (1 место по доле расходов в мире, числу ученых и инженер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c1508"/>
                </a:solidFill>
                <a:latin typeface="Arial"/>
              </a:rPr>
              <a:t>Заимствование и быстрое внедрение научных изобрет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c1508"/>
                </a:solidFill>
                <a:latin typeface="Arial"/>
              </a:rPr>
              <a:t>Сочетанием крупного производства и мелких предприят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244440"/>
            <a:ext cx="830268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 Black"/>
              </a:rPr>
              <a:t>Что нового вы узнали на уроке?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ff"/>
                </a:solidFill>
                <a:latin typeface="Arial Black"/>
              </a:rPr>
              <a:t>Что вам понравилось?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771640" y="3141720"/>
            <a:ext cx="4176720" cy="3311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905280" y="56664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Рефлек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052280"/>
            <a:ext cx="83851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 Black"/>
              </a:rPr>
              <a:t>Домашнее задание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00ff"/>
                </a:solidFill>
                <a:latin typeface="Arial Black"/>
              </a:rPr>
              <a:t>1. Заполнить таблицу общая экономико-географическая характеристика Японии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00ff"/>
                </a:solidFill>
                <a:latin typeface="Arial Black"/>
              </a:rPr>
              <a:t>2. По желанию. Ответьте на вопрос: почему Японцы долго живут?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627280" y="4197240"/>
            <a:ext cx="4608720" cy="26607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294503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851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 Black"/>
              </a:rPr>
              <a:t>Дополнительно: Кухня Япони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3816360" cy="22446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292720" y="4076640"/>
            <a:ext cx="3240000" cy="2448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5219640" y="1484280"/>
            <a:ext cx="3313080" cy="2232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826920" y="4076640"/>
            <a:ext cx="36738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c1508"/>
                </a:solidFill>
                <a:latin typeface="Arial Black"/>
              </a:rPr>
              <a:t>Традиции Япон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3743280" cy="350208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930920" y="1844640"/>
            <a:ext cx="3817800" cy="351144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899640" y="-387360"/>
            <a:ext cx="80074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c1508"/>
                </a:solidFill>
                <a:latin typeface="Arial Black"/>
              </a:rPr>
              <a:t>Восток  - дело тонко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3456000" cy="331308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796000" y="3357720"/>
            <a:ext cx="3097080" cy="331308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203640" y="1341360"/>
            <a:ext cx="2735280" cy="266400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c1508"/>
                </a:solidFill>
                <a:latin typeface="Arial Black"/>
              </a:rPr>
              <a:t>Традиции Япон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600360" cy="446436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651640" y="1341360"/>
            <a:ext cx="3311280" cy="439272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348000" y="4767120"/>
            <a:ext cx="2952720" cy="209088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337440" cy="518472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3906360" y="2793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ff"/>
                </a:solidFill>
                <a:latin typeface="Arial"/>
              </a:rPr>
              <a:t>Сак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c1508"/>
                </a:solidFill>
                <a:latin typeface="Arial Black"/>
              </a:rPr>
              <a:t>Японское хокку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54007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c1508"/>
                </a:solidFill>
                <a:latin typeface="Arial"/>
              </a:rPr>
              <a:t>(3-стишие)  Хокку Басё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c1508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bc1508"/>
                </a:solidFill>
                <a:latin typeface="Arial"/>
              </a:rPr>
              <a:t>Туман и осенний дожд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c1508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bc1508"/>
                </a:solidFill>
                <a:latin typeface="Arial"/>
              </a:rPr>
              <a:t>И пусть невидима Фудз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c1508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bc1508"/>
                </a:solidFill>
                <a:latin typeface="Arial"/>
              </a:rPr>
              <a:t>Но радует сердце 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003640" y="2997360"/>
            <a:ext cx="3961080" cy="309564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 Black"/>
              </a:rPr>
              <a:t>Почему Япония – </a:t>
            </a:r>
            <a:br>
              <a:rPr sz="4000"/>
            </a:br>
            <a:r>
              <a:rPr b="1" lang="en-US" sz="4000" spc="-1" strike="noStrike">
                <a:solidFill>
                  <a:srgbClr val="ff00ff"/>
                </a:solidFill>
                <a:latin typeface="Arial Black"/>
              </a:rPr>
              <a:t>страна восходящего Солнца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3538440" cy="4824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35895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3851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 Black"/>
              </a:rPr>
              <a:t>Визитная карточка Япони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2952720" cy="223344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924360" y="1484280"/>
            <a:ext cx="2665440" cy="208908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407628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толица – Токи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лощадь – 372 тыс. кв.км (416 тыс. кв.км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селение – 127 млн. чел. (968 тыс. че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Форма правления – конституционная монарх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Форма территориального устройства – унитарное государ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ходит в «большую семерку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948360" y="1413000"/>
            <a:ext cx="1944720" cy="285264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32400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43472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19:52:21Z</dcterms:created>
  <dc:creator>эльф</dc:creator>
  <dc:description/>
  <dc:language>en-US</dc:language>
  <cp:lastModifiedBy>эльф</cp:lastModifiedBy>
  <dcterms:modified xsi:type="dcterms:W3CDTF">2013-03-27T14:21:20Z</dcterms:modified>
  <cp:revision>46</cp:revision>
  <dc:subject/>
  <dc:title>ЯПОНИЯ –  страна восходящего солнца</dc:title>
</cp:coreProperties>
</file>