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gif" ContentType="image/gif"/>
  <Override PartName="/ppt/media/image26.gif" ContentType="image/gif"/>
  <Override PartName="/ppt/media/image20.jpeg" ContentType="image/jpeg"/>
  <Override PartName="/ppt/media/image24.gif" ContentType="image/gif"/>
  <Override PartName="/ppt/media/image32.jpeg" ContentType="image/jpeg"/>
  <Override PartName="/ppt/media/image21.jpeg" ContentType="image/jpeg"/>
  <Override PartName="/ppt/media/chimes.wav" ContentType="audio/x-wav"/>
  <Override PartName="/ppt/media/image6.gif" ContentType="image/gif"/>
  <Override PartName="/ppt/media/image19.jpeg" ContentType="image/jpeg"/>
  <Override PartName="/ppt/media/image2.gif" ContentType="image/gif"/>
  <Override PartName="/ppt/media/image23.gif" ContentType="image/gif"/>
  <Override PartName="/ppt/media/image17.jpeg" ContentType="image/jpeg"/>
  <Override PartName="/ppt/media/image12.gif" ContentType="image/gif"/>
  <Override PartName="/ppt/media/image25.gif" ContentType="image/gif"/>
  <Override PartName="/ppt/media/image3.jpeg" ContentType="image/jpeg"/>
  <Override PartName="/ppt/media/image30.png" ContentType="image/png"/>
  <Override PartName="/ppt/media/image37.jpeg" ContentType="image/jpeg"/>
  <Override PartName="/ppt/media/image10.gif" ContentType="image/gif"/>
  <Override PartName="/ppt/media/image34.jpeg" ContentType="image/jpeg"/>
  <Override PartName="/ppt/media/image7.gif" ContentType="image/gif"/>
  <Override PartName="/ppt/media/image5.jpeg" ContentType="image/jpeg"/>
  <Override PartName="/ppt/media/image35.png" ContentType="image/png"/>
  <Override PartName="/ppt/media/image42.gif" ContentType="image/gif"/>
  <Override PartName="/ppt/media/image33.jpeg" ContentType="image/jpeg"/>
  <Override PartName="/ppt/media/image38.jpeg" ContentType="image/jpeg"/>
  <Override PartName="/ppt/media/image15.jpeg" ContentType="image/jpeg"/>
  <Override PartName="/ppt/media/image29.gif" ContentType="image/gif"/>
  <Override PartName="/ppt/media/image39.jpeg" ContentType="image/jpeg"/>
  <Override PartName="/ppt/media/image41.gif" ContentType="image/gif"/>
  <Override PartName="/ppt/media/image36.jpeg" ContentType="image/jpeg"/>
  <Override PartName="/ppt/media/image40.gif" ContentType="image/gif"/>
  <Override PartName="/ppt/media/image11.gif" ContentType="image/gif"/>
  <Override PartName="/ppt/media/image8.gif" ContentType="image/gif"/>
  <Override PartName="/ppt/media/image4.jpeg" ContentType="image/jpeg"/>
  <Override PartName="/ppt/media/image18.jpeg" ContentType="image/jpeg"/>
  <Override PartName="/ppt/media/image22.gif" ContentType="image/gif"/>
  <Override PartName="/ppt/media/image9.gif" ContentType="image/gif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484D-8E4F-4C56-B838-D123EFE63A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C3B9-D96C-4FFD-B96D-12170E7D8E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B63-F020-4B55-82E6-1E5CAAE2E3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9B12-DCCC-44ED-867F-20F54A9704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0B4D-9B0E-464F-B0C2-BAE0FFF4CB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5C81-C736-415D-BB58-68121A3619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59E1-E704-405E-8DFA-FF1CE84FCB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03D0-6430-44D4-853C-3189465416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0BC5-AE4B-4434-B1D5-180865D2D5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8BE2-A1C0-4FB4-9B1D-5836D4FA00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3A7-12FD-47DF-B8E6-B8D90B722D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FF74-AB5B-451A-A3AE-B37E37D33D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8401-A968-48DD-9361-2667144993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2D96-CDE0-4273-A281-15455021E3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C9FD-DC84-4115-B7AE-EF73F8225A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C62D-4F12-4460-9772-30220AFF8C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3670-D457-4947-9570-E1789B7A16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DBF7-82B8-434A-A803-E70F90BC06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E26D-708A-4896-AE09-1589824E33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41E7-9744-45B9-823B-923D1B2BF7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0EB9-2E0A-466B-9E43-12881C1411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DF89-734A-4257-93BC-353EE90D42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3118-4953-4218-8C02-11E4D286EF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68F9-73F9-49A3-A182-5AE06AB98A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8B51-93EC-4452-B8A4-A6C5D0EC90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2525-308F-48FB-94B1-AB9CAFD863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5250-56CC-4EF9-8E3C-CFE4ACC521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D0B9-16CD-4DE2-B954-C8A8307491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FBFD-D449-4523-B43D-AC8525C8E4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969-A738-46CF-99EF-2431B7A143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7B9E-D2B5-4C56-A913-B8B506F2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F80A-FA2C-4BED-8888-0C858479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A59F-AD3E-4753-A04B-DA5E3D88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0868-39B5-4074-8989-89509E14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D08E-4A7B-4980-AC2D-28C1148B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BE8F-9F92-44ED-AFDE-AC1A8D9D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3F28-9EBE-4A8B-B7A0-E92727DB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70E5-DAE9-4EAE-BEE7-8556F33B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1118-F23C-461B-AEF2-EDE3314B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A14A-4625-4BE6-8AB3-B6AC75CA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39F9-5513-4E97-834F-0C5DB08C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D805-7CE3-4A04-B22C-AA86B1B7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F051-1BB7-4E4B-9DEC-99446E04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D30D-7B19-461A-A702-C63F96D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150A-5FE6-4642-97A0-62B02B83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4EAF-4152-43BC-9430-1B70F55D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FF62-B0CE-45CC-9E37-C09AB092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031D-9333-4BD5-86AC-8910A992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3851-C752-478D-837F-545AEFC4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711B-849D-4EBD-826F-46F46ED5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0A62-822F-4AB6-B333-385B00AC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B1B7-176A-438D-A70B-A0B9310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BC89-A198-4595-BE4E-C5F30ADC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08E6-E548-470D-8B91-4E41E2ED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F3967-AFEC-446E-8FDB-B2E47571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960BA-6840-4EC6-B49C-16E2CB8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3F13-81EE-4B7B-8679-2E647DB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B354-9327-4AC8-A1AF-15B1D143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607F-3F50-4BF4-AC3C-DFD87898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EBAD-AC9B-410D-A0A8-8828DA51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9124F-82B9-4F17-BB11-28A8EEDD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30C0-F07D-42FD-805A-929226A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38DC-6EFF-4234-BDF2-6B73BC01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78F4-0F6B-412B-B48F-6C9B86A0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6E61-01DE-46BC-8561-8DEA3620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74E9-835E-4D5B-80AF-AE4C3AEE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1D40-6B76-4DE7-9895-BB05943D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E10A1-E0EE-49D6-9AAD-D7791303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C205-1584-4198-8250-B423465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FB85D-43DA-447C-90F0-F2B705CD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A9B5-C013-42CF-B136-82080542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F5AF-6956-416B-80F9-7D9F8D4D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AE3A-DB2D-40B9-83D2-F781BB4D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4D6D-691A-4844-91F8-E8C82B5D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FA4A-737B-449B-ABA4-5BBD5FC3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64EA-DBA9-4536-8AA4-DC1B714B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7C7EE-B7AC-4D64-8650-4D10CAFD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C291-4E58-4754-9F13-02875CFB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4F49-E8BC-4511-A434-AB63CD3A82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f7f7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d8d8"/>
                  </a:gs>
                  <a:gs pos="100000">
                    <a:srgbClr val="00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9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f7f7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0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1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cc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cc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AF1F-B91D-4391-9938-D908CB6E8A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8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32B1-6CA3-4B5D-B3BD-111D7E2FF3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f7f7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d8d8"/>
                  </a:gs>
                  <a:gs pos="100000">
                    <a:srgbClr val="00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f7f7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cc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cc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3BD0-7462-4012-B9DD-3636950E17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image" Target="../media/image13.jpeg"/><Relationship Id="rId5" Type="http://schemas.openxmlformats.org/officeDocument/2006/relationships/slide" Target="slide14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8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4.xml"/><Relationship Id="rId4" Type="http://schemas.openxmlformats.org/officeDocument/2006/relationships/image" Target="../media/image13.jpeg"/><Relationship Id="rId5" Type="http://schemas.openxmlformats.org/officeDocument/2006/relationships/image" Target="../media/image1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4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20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image" Target="../media/image13.jpeg"/><Relationship Id="rId5" Type="http://schemas.openxmlformats.org/officeDocument/2006/relationships/slide" Target="slide14.xml"/><Relationship Id="rId6" Type="http://schemas.openxmlformats.org/officeDocument/2006/relationships/image" Target="../media/image13.jpeg"/><Relationship Id="rId7" Type="http://schemas.openxmlformats.org/officeDocument/2006/relationships/image" Target="../media/image21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" Target="slide5.xml"/><Relationship Id="rId4" Type="http://schemas.openxmlformats.org/officeDocument/2006/relationships/image" Target="../media/image24.gif"/><Relationship Id="rId5" Type="http://schemas.openxmlformats.org/officeDocument/2006/relationships/slide" Target="slide5.xml"/><Relationship Id="rId6" Type="http://schemas.openxmlformats.org/officeDocument/2006/relationships/image" Target="../media/image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" Target="slide5.xml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7.gif"/><Relationship Id="rId3" Type="http://schemas.openxmlformats.org/officeDocument/2006/relationships/slide" Target="slide17.xml"/><Relationship Id="rId4" Type="http://schemas.openxmlformats.org/officeDocument/2006/relationships/image" Target="../media/image8.gif"/><Relationship Id="rId5" Type="http://schemas.openxmlformats.org/officeDocument/2006/relationships/slide" Target="slide3.xml"/><Relationship Id="rId6" Type="http://schemas.openxmlformats.org/officeDocument/2006/relationships/image" Target="../media/image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image" Target="../media/image29.gif"/><Relationship Id="rId13" Type="http://schemas.openxmlformats.org/officeDocument/2006/relationships/slide" Target="slide28.xml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0.xml"/><Relationship Id="rId3" Type="http://schemas.openxmlformats.org/officeDocument/2006/relationships/image" Target="../media/image13.jpeg"/><Relationship Id="rId4" Type="http://schemas.openxmlformats.org/officeDocument/2006/relationships/slide" Target="slide29.xml"/><Relationship Id="rId5" Type="http://schemas.openxmlformats.org/officeDocument/2006/relationships/image" Target="../media/image13.jpeg"/><Relationship Id="rId6" Type="http://schemas.openxmlformats.org/officeDocument/2006/relationships/slide" Target="slide30.xml"/><Relationship Id="rId7" Type="http://schemas.openxmlformats.org/officeDocument/2006/relationships/image" Target="../media/image13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3.jpeg"/><Relationship Id="rId3" Type="http://schemas.openxmlformats.org/officeDocument/2006/relationships/slide" Target="slide30.xml"/><Relationship Id="rId4" Type="http://schemas.openxmlformats.org/officeDocument/2006/relationships/image" Target="../media/image13.jpeg"/><Relationship Id="rId5" Type="http://schemas.openxmlformats.org/officeDocument/2006/relationships/slide" Target="slide29.xml"/><Relationship Id="rId6" Type="http://schemas.openxmlformats.org/officeDocument/2006/relationships/image" Target="../media/image13.jpeg"/><Relationship Id="rId7" Type="http://schemas.openxmlformats.org/officeDocument/2006/relationships/image" Target="../media/image31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30.xml"/><Relationship Id="rId3" Type="http://schemas.openxmlformats.org/officeDocument/2006/relationships/image" Target="../media/image13.jpeg"/><Relationship Id="rId4" Type="http://schemas.openxmlformats.org/officeDocument/2006/relationships/slide" Target="slide29.xml"/><Relationship Id="rId5" Type="http://schemas.openxmlformats.org/officeDocument/2006/relationships/image" Target="../media/image13.jpeg"/><Relationship Id="rId6" Type="http://schemas.openxmlformats.org/officeDocument/2006/relationships/slide" Target="slide30.xml"/><Relationship Id="rId7" Type="http://schemas.openxmlformats.org/officeDocument/2006/relationships/image" Target="../media/image13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9.xml"/><Relationship Id="rId3" Type="http://schemas.openxmlformats.org/officeDocument/2006/relationships/image" Target="../media/image13.jpeg"/><Relationship Id="rId4" Type="http://schemas.openxmlformats.org/officeDocument/2006/relationships/slide" Target="slide30.xml"/><Relationship Id="rId5" Type="http://schemas.openxmlformats.org/officeDocument/2006/relationships/image" Target="../media/image13.jpeg"/><Relationship Id="rId6" Type="http://schemas.openxmlformats.org/officeDocument/2006/relationships/slide" Target="slide30.xml"/><Relationship Id="rId7" Type="http://schemas.openxmlformats.org/officeDocument/2006/relationships/image" Target="../media/image13.jpeg"/><Relationship Id="rId8" Type="http://schemas.openxmlformats.org/officeDocument/2006/relationships/slide" Target="slide30.xml"/><Relationship Id="rId9" Type="http://schemas.openxmlformats.org/officeDocument/2006/relationships/image" Target="../media/image13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3.jpeg"/><Relationship Id="rId3" Type="http://schemas.openxmlformats.org/officeDocument/2006/relationships/slide" Target="slide30.xml"/><Relationship Id="rId4" Type="http://schemas.openxmlformats.org/officeDocument/2006/relationships/image" Target="../media/image13.jpeg"/><Relationship Id="rId5" Type="http://schemas.openxmlformats.org/officeDocument/2006/relationships/slide" Target="slide30.xml"/><Relationship Id="rId6" Type="http://schemas.openxmlformats.org/officeDocument/2006/relationships/image" Target="../media/image13.jpeg"/><Relationship Id="rId7" Type="http://schemas.openxmlformats.org/officeDocument/2006/relationships/image" Target="../media/image34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3.jpeg"/><Relationship Id="rId3" Type="http://schemas.openxmlformats.org/officeDocument/2006/relationships/slide" Target="slide30.xml"/><Relationship Id="rId4" Type="http://schemas.openxmlformats.org/officeDocument/2006/relationships/image" Target="../media/image13.jpeg"/><Relationship Id="rId5" Type="http://schemas.openxmlformats.org/officeDocument/2006/relationships/slide" Target="slide29.xml"/><Relationship Id="rId6" Type="http://schemas.openxmlformats.org/officeDocument/2006/relationships/image" Target="../media/image13.jpeg"/><Relationship Id="rId7" Type="http://schemas.openxmlformats.org/officeDocument/2006/relationships/slide" Target="slide30.xml"/><Relationship Id="rId8" Type="http://schemas.openxmlformats.org/officeDocument/2006/relationships/image" Target="../media/image13.jpeg"/><Relationship Id="rId9" Type="http://schemas.openxmlformats.org/officeDocument/2006/relationships/image" Target="../media/image3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3.jpeg"/><Relationship Id="rId3" Type="http://schemas.openxmlformats.org/officeDocument/2006/relationships/slide" Target="slide29.xml"/><Relationship Id="rId4" Type="http://schemas.openxmlformats.org/officeDocument/2006/relationships/image" Target="../media/image13.jpeg"/><Relationship Id="rId5" Type="http://schemas.openxmlformats.org/officeDocument/2006/relationships/slide" Target="slide30.xml"/><Relationship Id="rId6" Type="http://schemas.openxmlformats.org/officeDocument/2006/relationships/image" Target="../media/image13.jpeg"/><Relationship Id="rId7" Type="http://schemas.openxmlformats.org/officeDocument/2006/relationships/image" Target="../media/image36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3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3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3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" Target="slide16.xml"/><Relationship Id="rId4" Type="http://schemas.openxmlformats.org/officeDocument/2006/relationships/image" Target="../media/image8.gif"/><Relationship Id="rId5" Type="http://schemas.openxmlformats.org/officeDocument/2006/relationships/slide" Target="slide4.xml"/><Relationship Id="rId6" Type="http://schemas.openxmlformats.org/officeDocument/2006/relationships/image" Target="../media/image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" Target="slide5.xml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4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4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6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7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987280" y="46530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99ff"/>
                </a:solidFill>
                <a:latin typeface="Arial"/>
              </a:rPr>
              <a:t>Урок обобщения и систематизации зна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533600" y="632952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©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харова Н.А.,  ГБОУ СОШ № 881, г. Москв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2987640" y="2205000"/>
            <a:ext cx="57024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он Архимеда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5" name="Picture 7" descr="f5"/>
          <p:cNvPicPr/>
          <p:nvPr/>
        </p:nvPicPr>
        <p:blipFill>
          <a:blip r:embed="rId1"/>
          <a:stretch/>
        </p:blipFill>
        <p:spPr>
          <a:xfrm>
            <a:off x="539640" y="4149720"/>
            <a:ext cx="251964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3284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5640" y="422100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5640" y="5157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5640" y="602136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8"/>
          <p:cNvSpPr/>
          <p:nvPr/>
        </p:nvSpPr>
        <p:spPr>
          <a:xfrm>
            <a:off x="3276720" y="1557360"/>
            <a:ext cx="53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Выбери неправильно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утверждение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281960" y="5157720"/>
            <a:ext cx="75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ила Архимеда всегда меньше силы тяжес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1121040" y="4221000"/>
            <a:ext cx="80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ила Архимеда зависит от плотности жидкос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1292040" y="3068640"/>
            <a:ext cx="58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ила Архимеда зависит от объема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погруженной части те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1212120" y="6094440"/>
            <a:ext cx="69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ила Архимеда обычно направлена вверх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6" name="Picture 13" descr="plavanie2"/>
          <p:cNvPicPr/>
          <p:nvPr/>
        </p:nvPicPr>
        <p:blipFill>
          <a:blip r:embed="rId9"/>
          <a:stretch/>
        </p:blipFill>
        <p:spPr>
          <a:xfrm>
            <a:off x="250920" y="1159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24360" y="3645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95640" y="5300640"/>
            <a:ext cx="513000" cy="585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1239840" y="501480"/>
            <a:ext cx="758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Действует ли архимедова сила на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искусственные спутники Земли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613040" y="3454560"/>
            <a:ext cx="38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Да, т.к. она действуе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се тела при любых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словиях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4639320" y="5110200"/>
            <a:ext cx="34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ет, т.к. спутники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движутся в вакуум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12" name="Picture 11" descr="012"/>
          <p:cNvPicPr/>
          <p:nvPr/>
        </p:nvPicPr>
        <p:blipFill>
          <a:blip r:embed="rId5"/>
          <a:stretch/>
        </p:blipFill>
        <p:spPr>
          <a:xfrm>
            <a:off x="250920" y="213372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56000" y="393372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56000" y="4581360"/>
            <a:ext cx="513000" cy="586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356000" y="522936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356000" y="5877000"/>
            <a:ext cx="513000" cy="58572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8"/>
          <p:cNvSpPr/>
          <p:nvPr/>
        </p:nvSpPr>
        <p:spPr>
          <a:xfrm>
            <a:off x="-48600" y="549360"/>
            <a:ext cx="874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Как изменится сила Архимеда, действующа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на тело на Земле, если переместить его н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Луну, где сила тяжести в шесть раз меньше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4919040" y="40053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е изменитс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4923000" y="46530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танет равна нулю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4859280" y="530064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величится в шесть раз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4827960" y="595008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меньшится в шесть раз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2" name="Picture 14" descr="luna"/>
          <p:cNvPicPr/>
          <p:nvPr/>
        </p:nvPicPr>
        <p:blipFill>
          <a:blip r:embed="rId9"/>
          <a:stretch/>
        </p:blipFill>
        <p:spPr>
          <a:xfrm>
            <a:off x="179280" y="2349360"/>
            <a:ext cx="40323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35640" y="3573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35640" y="4365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15772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8"/>
          <p:cNvSpPr/>
          <p:nvPr/>
        </p:nvSpPr>
        <p:spPr>
          <a:xfrm>
            <a:off x="529920" y="333360"/>
            <a:ext cx="88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Чему рав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подъёмная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сила, когда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тело покоится на дне?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6078240" y="36450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Весу этого те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6015600" y="4221000"/>
            <a:ext cx="32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Весу вытесненной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им вод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6034320" y="522936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Равна нулю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30" name="Picture 12" descr="banka2"/>
          <p:cNvPicPr/>
          <p:nvPr/>
        </p:nvPicPr>
        <p:blipFill>
          <a:blip r:embed="rId7"/>
          <a:stretch/>
        </p:blipFill>
        <p:spPr>
          <a:xfrm>
            <a:off x="539640" y="227664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KIDS01"/>
          <p:cNvPicPr/>
          <p:nvPr/>
        </p:nvPicPr>
        <p:blipFill>
          <a:blip r:embed="rId1"/>
          <a:stretch/>
        </p:blipFill>
        <p:spPr>
          <a:xfrm>
            <a:off x="4067280" y="1989000"/>
            <a:ext cx="3600360" cy="24926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3"/>
          <p:cNvSpPr/>
          <p:nvPr/>
        </p:nvSpPr>
        <p:spPr>
          <a:xfrm>
            <a:off x="2397960" y="836640"/>
            <a:ext cx="60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cc"/>
                </a:solidFill>
                <a:latin typeface="Comic Sans MS"/>
              </a:rPr>
              <a:t>Ура! Мы молодцы 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980080" y="5013360"/>
            <a:ext cx="58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Comic Sans MS"/>
              </a:rPr>
              <a:t>Можно плыть дальше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34" name="Picture 5" descr="sm87"/>
          <p:cNvPicPr/>
          <p:nvPr/>
        </p:nvPicPr>
        <p:blipFill>
          <a:blip r:embed="rId2"/>
          <a:stretch/>
        </p:blipFill>
        <p:spPr>
          <a:xfrm>
            <a:off x="826920" y="765000"/>
            <a:ext cx="1152720" cy="9306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ship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4869000"/>
            <a:ext cx="2555640" cy="817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2" descr="ar27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093080" y="5877000"/>
            <a:ext cx="57456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b6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21607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3"/>
          <p:cNvSpPr/>
          <p:nvPr/>
        </p:nvSpPr>
        <p:spPr>
          <a:xfrm>
            <a:off x="408960" y="2276640"/>
            <a:ext cx="782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Ой! Ой! Ой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Ваши очки поглотил спрут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2987640" y="4581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ff"/>
                </a:solidFill>
                <a:latin typeface="Comic Sans MS"/>
              </a:rPr>
              <a:t>Ну что, продолжим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0" name="Picture 5" descr="sm55"/>
          <p:cNvPicPr/>
          <p:nvPr/>
        </p:nvPicPr>
        <p:blipFill>
          <a:blip r:embed="rId2"/>
          <a:stretch/>
        </p:blipFill>
        <p:spPr>
          <a:xfrm>
            <a:off x="539640" y="458136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ar2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5734080"/>
            <a:ext cx="717480" cy="7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10920" y="-171720"/>
            <a:ext cx="5905800" cy="26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І І  </a:t>
            </a:r>
            <a:br>
              <a:rPr sz="6000"/>
            </a:br>
            <a:r>
              <a:rPr b="1" lang="ru-RU" sz="6000" spc="-1" strike="noStrike">
                <a:solidFill>
                  <a:srgbClr val="66ffcc"/>
                </a:solidFill>
                <a:latin typeface="Arial"/>
              </a:rPr>
              <a:t>Р А У Н Д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3" name="Picture 4" descr="chasy"/>
          <p:cNvPicPr/>
          <p:nvPr/>
        </p:nvPicPr>
        <p:blipFill>
          <a:blip r:embed="rId1"/>
          <a:stretch/>
        </p:blipFill>
        <p:spPr>
          <a:xfrm>
            <a:off x="468360" y="476280"/>
            <a:ext cx="1227240" cy="187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r8"/>
          <p:cNvPicPr/>
          <p:nvPr/>
        </p:nvPicPr>
        <p:blipFill>
          <a:blip r:embed="rId2"/>
          <a:stretch/>
        </p:blipFill>
        <p:spPr>
          <a:xfrm>
            <a:off x="1403280" y="3357720"/>
            <a:ext cx="6408720" cy="3133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2" descr="ar2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300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3" descr="ar27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10800000">
            <a:off x="394920" y="6092640"/>
            <a:ext cx="43020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WordArt 4"/>
          <p:cNvSpPr txBox="1"/>
          <p:nvPr/>
        </p:nvSpPr>
        <p:spPr>
          <a:xfrm>
            <a:off x="755640" y="2708280"/>
            <a:ext cx="763272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8" name="Picture 5" descr="19в"/>
          <p:cNvPicPr/>
          <p:nvPr/>
        </p:nvPicPr>
        <p:blipFill>
          <a:blip r:embed="rId1"/>
          <a:stretch/>
        </p:blipFill>
        <p:spPr>
          <a:xfrm>
            <a:off x="395280" y="0"/>
            <a:ext cx="2952720" cy="21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9" name=""/>
          <p:cNvGraphicFramePr/>
          <p:nvPr/>
        </p:nvGraphicFramePr>
        <p:xfrm>
          <a:off x="324000" y="4797360"/>
          <a:ext cx="8497800" cy="792360"/>
        </p:xfrm>
        <a:graphic>
          <a:graphicData uri="http://schemas.openxmlformats.org/drawingml/2006/table">
            <a:tbl>
              <a:tblPr/>
              <a:tblGrid>
                <a:gridCol w="895320"/>
                <a:gridCol w="823680"/>
                <a:gridCol w="822600"/>
                <a:gridCol w="823680"/>
                <a:gridCol w="822240"/>
                <a:gridCol w="822600"/>
                <a:gridCol w="823680"/>
                <a:gridCol w="822600"/>
                <a:gridCol w="823680"/>
                <a:gridCol w="1017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7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9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0" name="Picture 62" descr="15"/>
          <p:cNvPicPr/>
          <p:nvPr/>
        </p:nvPicPr>
        <p:blipFill>
          <a:blip r:embed="rId12"/>
          <a:stretch/>
        </p:blipFill>
        <p:spPr>
          <a:xfrm>
            <a:off x="6305400" y="0"/>
            <a:ext cx="2838600" cy="23814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64"/>
          <p:cNvSpPr/>
          <p:nvPr/>
        </p:nvSpPr>
        <p:spPr>
          <a:xfrm>
            <a:off x="3726360" y="6237360"/>
            <a:ext cx="169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ffff"/>
                </a:solidFill>
                <a:uFillTx/>
                <a:latin typeface="Comic Sans MS"/>
                <a:hlinkClick r:id="rId13" action="ppaction://hlinksldjump"/>
              </a:rPr>
              <a:t>В конец игры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4"/>
          <p:cNvSpPr/>
          <p:nvPr/>
        </p:nvSpPr>
        <p:spPr>
          <a:xfrm>
            <a:off x="3635280" y="692280"/>
            <a:ext cx="5508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ри каком условии тело, целиком погруженное в жидкость , всплывает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2841840" y="5084640"/>
            <a:ext cx="538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Если сила тяжести тела больше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архимедовой сил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2822400" y="4005360"/>
            <a:ext cx="54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Если сила тяжести тела меньше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архимедовой сил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2850120" y="2924280"/>
            <a:ext cx="510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Если сила тяжести тела равна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архимедовой сил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6" name="Picture 18" descr="image017"/>
          <p:cNvPicPr/>
          <p:nvPr/>
        </p:nvPicPr>
        <p:blipFill>
          <a:blip r:embed="rId1"/>
          <a:stretch/>
        </p:blipFill>
        <p:spPr>
          <a:xfrm>
            <a:off x="250920" y="476280"/>
            <a:ext cx="3168720" cy="2036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0" descr="ris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68360" y="522936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1" descr="ris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68360" y="414972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2" descr="ris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68360" y="3068640"/>
            <a:ext cx="51300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4560840" y="333360"/>
            <a:ext cx="4583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лотность тела меньше плотности жидкости. Будет ли такое тело плавать на поверхности жидкости или будет тонуть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1" name="Picture 5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19280" y="4292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19280" y="5157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619280" y="602136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>
            <a:off x="2526120" y="438948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Это зависит от формы те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2627280" y="5181480"/>
            <a:ext cx="216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Будет тонуть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2551680" y="609300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Будет плавать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7" name="Picture 11" descr="image013"/>
          <p:cNvPicPr/>
          <p:nvPr/>
        </p:nvPicPr>
        <p:blipFill>
          <a:blip r:embed="rId7"/>
          <a:stretch/>
        </p:blipFill>
        <p:spPr>
          <a:xfrm>
            <a:off x="324000" y="836640"/>
            <a:ext cx="360036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2260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ccff"/>
                </a:solidFill>
                <a:latin typeface="Arial"/>
              </a:rPr>
              <a:t>При проведении данного урока используется идея телевизионной передач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7" name="Picture 7" descr="Рисунок5"/>
          <p:cNvPicPr/>
          <p:nvPr/>
        </p:nvPicPr>
        <p:blipFill>
          <a:blip r:embed="rId1"/>
          <a:stretch/>
        </p:blipFill>
        <p:spPr>
          <a:xfrm>
            <a:off x="179280" y="4643280"/>
            <a:ext cx="2808360" cy="183672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  <p:pic>
        <p:nvPicPr>
          <p:cNvPr id="338" name="Picture 8" descr="Рисунок1"/>
          <p:cNvPicPr/>
          <p:nvPr/>
        </p:nvPicPr>
        <p:blipFill>
          <a:blip r:embed="rId2"/>
          <a:stretch/>
        </p:blipFill>
        <p:spPr>
          <a:xfrm>
            <a:off x="6084720" y="4568760"/>
            <a:ext cx="2816280" cy="198144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  <p:pic>
        <p:nvPicPr>
          <p:cNvPr id="339" name="Picture 6" descr="sv_igra"/>
          <p:cNvPicPr/>
          <p:nvPr/>
        </p:nvPicPr>
        <p:blipFill>
          <a:blip r:embed="rId3"/>
          <a:stretch/>
        </p:blipFill>
        <p:spPr>
          <a:xfrm>
            <a:off x="2627280" y="2708280"/>
            <a:ext cx="3816360" cy="301464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2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2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2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2967120" y="1293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179280" y="-10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Корабль из устья Волги переходит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в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Каспийское море. Как изменится при этом выталкивающая сила, действующая на корабль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696360" y="472320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е изменится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733800" y="537264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величится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6584400" y="60202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меньшится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3" name="Picture 9" descr="ris4"/>
          <p:cNvPicPr/>
          <p:nvPr/>
        </p:nvPicPr>
        <p:blipFill>
          <a:blip r:embed="rId1"/>
          <a:stretch/>
        </p:blipFill>
        <p:spPr>
          <a:xfrm>
            <a:off x="250920" y="2314440"/>
            <a:ext cx="5761080" cy="4303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ris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27640" y="595008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1" descr="ris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27640" y="530064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ris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27640" y="4653000"/>
            <a:ext cx="51300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4"/>
          <p:cNvSpPr/>
          <p:nvPr/>
        </p:nvSpPr>
        <p:spPr>
          <a:xfrm>
            <a:off x="324000" y="47340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В трех сосудах налиты разные жидкости. В первом сосуде ртуть, во втором – вода, в третьем – масло. Во всех трех сосудах плавают кораблики, имеющие одинаковые массы и объемы. На какой кораблик действует со стороны жидкостей большая выталкивающая сила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8" name="Picture 5" descr="ris6"/>
          <p:cNvPicPr/>
          <p:nvPr/>
        </p:nvPicPr>
        <p:blipFill>
          <a:blip r:embed="rId1"/>
          <a:stretch/>
        </p:blipFill>
        <p:spPr>
          <a:xfrm>
            <a:off x="324000" y="3860640"/>
            <a:ext cx="3456000" cy="2551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ris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3933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ris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4653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ris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48360" y="5373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ris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8360" y="609300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10"/>
          <p:cNvSpPr/>
          <p:nvPr/>
        </p:nvSpPr>
        <p:spPr>
          <a:xfrm>
            <a:off x="5826960" y="407664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перв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5846400" y="4724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торой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5816160" y="53737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трети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5874120" y="5973840"/>
            <a:ext cx="21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се три –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одинакова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5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422100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5013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5805360"/>
            <a:ext cx="512640" cy="5860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8"/>
          <p:cNvSpPr/>
          <p:nvPr/>
        </p:nvSpPr>
        <p:spPr>
          <a:xfrm>
            <a:off x="471636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163040" y="1125360"/>
            <a:ext cx="457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Что делают рыбы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чтобы подняться на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оверхность воды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1023120" y="429264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величивают объем плавательного пузыр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1068480" y="5084640"/>
            <a:ext cx="68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Быстрее начинают работать плавникам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1096920" y="5877000"/>
            <a:ext cx="69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меньшают объем плавательного пузыр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5" name="Picture 13" descr="ris7"/>
          <p:cNvPicPr/>
          <p:nvPr/>
        </p:nvPicPr>
        <p:blipFill>
          <a:blip r:embed="rId7"/>
          <a:stretch/>
        </p:blipFill>
        <p:spPr>
          <a:xfrm>
            <a:off x="324000" y="260280"/>
            <a:ext cx="34192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73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11640" y="4365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11640" y="5157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11640" y="595008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272520" y="2349360"/>
            <a:ext cx="348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В каком из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приведенны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случаев тело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утонет?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4887000" y="44370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Кусок льда в вод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4820040" y="371628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литок свинца в рту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4820400" y="59500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Кусок пробки в керосин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4806720" y="525456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литок платины в рту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5" name="Picture 15" descr="23"/>
          <p:cNvPicPr/>
          <p:nvPr/>
        </p:nvPicPr>
        <p:blipFill>
          <a:blip r:embed="rId9"/>
          <a:stretch/>
        </p:blipFill>
        <p:spPr>
          <a:xfrm>
            <a:off x="3203640" y="260280"/>
            <a:ext cx="540072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27640" y="400536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27640" y="465300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27640" y="5300640"/>
            <a:ext cx="513000" cy="5857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8"/>
          <p:cNvSpPr/>
          <p:nvPr/>
        </p:nvSpPr>
        <p:spPr>
          <a:xfrm>
            <a:off x="42120" y="333360"/>
            <a:ext cx="829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Какое из трех тел будет плавать в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расплавленном алюминии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1. Свинцовый шарик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2. Мраморный шарик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3. Фарфоровый шарик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6698160" y="40053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Перв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6750720" y="465300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Втор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6764760" y="5373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Трети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3" name="Picture 12" descr="25"/>
          <p:cNvPicPr/>
          <p:nvPr/>
        </p:nvPicPr>
        <p:blipFill>
          <a:blip r:embed="rId7"/>
          <a:stretch/>
        </p:blipFill>
        <p:spPr>
          <a:xfrm>
            <a:off x="611280" y="3406680"/>
            <a:ext cx="439236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306864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ris5"/>
          <p:cNvPicPr/>
          <p:nvPr/>
        </p:nvPicPr>
        <p:blipFill>
          <a:blip r:embed="rId3"/>
          <a:stretch/>
        </p:blipFill>
        <p:spPr>
          <a:xfrm>
            <a:off x="5003640" y="3860640"/>
            <a:ext cx="513000" cy="586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ris5"/>
          <p:cNvPicPr/>
          <p:nvPr/>
        </p:nvPicPr>
        <p:blipFill>
          <a:blip r:embed="rId4"/>
          <a:stretch/>
        </p:blipFill>
        <p:spPr>
          <a:xfrm>
            <a:off x="5003640" y="4653000"/>
            <a:ext cx="513000" cy="5857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220680" y="333360"/>
            <a:ext cx="866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Тело плавает в некоторой жидкост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Как изменится выталкивающая сила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если это тело поместить в жидкость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лотность которой вдвое больше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5566680" y="31417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Comic Sans MS"/>
              </a:rPr>
              <a:t>Не изменитс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5573520" y="38606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величится в 2 раз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5542200" y="46530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меньшится в 2 раз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1" name="Picture 12" descr="ris8"/>
          <p:cNvPicPr/>
          <p:nvPr/>
        </p:nvPicPr>
        <p:blipFill>
          <a:blip r:embed="rId5"/>
          <a:stretch/>
        </p:blipFill>
        <p:spPr>
          <a:xfrm>
            <a:off x="250920" y="2852640"/>
            <a:ext cx="446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ris5"/>
          <p:cNvPicPr/>
          <p:nvPr/>
        </p:nvPicPr>
        <p:blipFill>
          <a:blip r:embed="rId1"/>
          <a:stretch/>
        </p:blipFill>
        <p:spPr>
          <a:xfrm>
            <a:off x="1692360" y="494172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ris5"/>
          <p:cNvPicPr/>
          <p:nvPr/>
        </p:nvPicPr>
        <p:blipFill>
          <a:blip r:embed="rId2"/>
          <a:stretch/>
        </p:blipFill>
        <p:spPr>
          <a:xfrm>
            <a:off x="1692360" y="551664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8"/>
          <p:cNvSpPr/>
          <p:nvPr/>
        </p:nvSpPr>
        <p:spPr>
          <a:xfrm>
            <a:off x="0" y="0"/>
            <a:ext cx="9175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Тела одинаковой массы, изготовленные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из одного и того же материала, плавают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в различных жидкостях так, как показано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на рисунках. В каком из нижеприведенны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соотношений находятся плотности эти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жидкостей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5" name="Picture 9" descr="ris5"/>
          <p:cNvPicPr/>
          <p:nvPr/>
        </p:nvPicPr>
        <p:blipFill>
          <a:blip r:embed="rId3"/>
          <a:stretch/>
        </p:blipFill>
        <p:spPr>
          <a:xfrm>
            <a:off x="1692360" y="609300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10"/>
          <p:cNvSpPr/>
          <p:nvPr/>
        </p:nvSpPr>
        <p:spPr>
          <a:xfrm>
            <a:off x="2413080" y="5013360"/>
            <a:ext cx="282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1) 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 baseline="-25000">
                <a:solidFill>
                  <a:srgbClr val="66ff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&lt; 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 baseline="-25000">
                <a:solidFill>
                  <a:srgbClr val="66ffcc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&lt; 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 baseline="-25000">
                <a:solidFill>
                  <a:srgbClr val="66ffcc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2432520" y="5589720"/>
            <a:ext cx="288468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)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&gt;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&gt;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3</a:t>
            </a:r>
            <a:r>
              <a:rPr b="1" lang="en-US" sz="1800" spc="-1" strike="noStrike">
                <a:solidFill>
                  <a:srgbClr val="66ff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2417400" y="6165720"/>
            <a:ext cx="288468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)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&gt;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&gt;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9" name="Picture 13" descr="28"/>
          <p:cNvPicPr/>
          <p:nvPr/>
        </p:nvPicPr>
        <p:blipFill>
          <a:blip r:embed="rId4"/>
          <a:stretch/>
        </p:blipFill>
        <p:spPr>
          <a:xfrm>
            <a:off x="2195640" y="2997360"/>
            <a:ext cx="651672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ris5"/>
          <p:cNvPicPr/>
          <p:nvPr/>
        </p:nvPicPr>
        <p:blipFill>
          <a:blip r:embed="rId1"/>
          <a:stretch/>
        </p:blipFill>
        <p:spPr>
          <a:xfrm>
            <a:off x="3348000" y="5157720"/>
            <a:ext cx="378000" cy="432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ris5"/>
          <p:cNvPicPr/>
          <p:nvPr/>
        </p:nvPicPr>
        <p:blipFill>
          <a:blip r:embed="rId2"/>
          <a:stretch/>
        </p:blipFill>
        <p:spPr>
          <a:xfrm>
            <a:off x="3348000" y="5734080"/>
            <a:ext cx="378000" cy="4316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ris5"/>
          <p:cNvPicPr/>
          <p:nvPr/>
        </p:nvPicPr>
        <p:blipFill>
          <a:blip r:embed="rId3"/>
          <a:stretch/>
        </p:blipFill>
        <p:spPr>
          <a:xfrm>
            <a:off x="3348000" y="6237360"/>
            <a:ext cx="378000" cy="4316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8"/>
          <p:cNvSpPr/>
          <p:nvPr/>
        </p:nvSpPr>
        <p:spPr>
          <a:xfrm>
            <a:off x="1042920" y="476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948600" y="260280"/>
            <a:ext cx="753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Тело весом 20 Н погрузили в вод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Вес вытесненной им воды 12 Н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Утонет ли это тело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3799080" y="522936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тоне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3851280" y="566100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Будет плавать внутри жидкос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3800520" y="61657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Всплыве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8" name="Picture 13" descr="podlodka4"/>
          <p:cNvPicPr/>
          <p:nvPr/>
        </p:nvPicPr>
        <p:blipFill>
          <a:blip r:embed="rId4"/>
          <a:stretch/>
        </p:blipFill>
        <p:spPr>
          <a:xfrm>
            <a:off x="1476360" y="1916280"/>
            <a:ext cx="60483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r3"/>
          <p:cNvPicPr/>
          <p:nvPr/>
        </p:nvPicPr>
        <p:blipFill>
          <a:blip r:embed="rId1"/>
          <a:stretch/>
        </p:blipFill>
        <p:spPr>
          <a:xfrm>
            <a:off x="324000" y="4292640"/>
            <a:ext cx="3168360" cy="2111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4R4"/>
          <p:cNvPicPr/>
          <p:nvPr/>
        </p:nvPicPr>
        <p:blipFill>
          <a:blip r:embed="rId2"/>
          <a:stretch/>
        </p:blipFill>
        <p:spPr>
          <a:xfrm>
            <a:off x="5938920" y="0"/>
            <a:ext cx="3205080" cy="2916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ship12а"/>
          <p:cNvPicPr/>
          <p:nvPr/>
        </p:nvPicPr>
        <p:blipFill>
          <a:blip r:embed="rId3"/>
          <a:stretch/>
        </p:blipFill>
        <p:spPr>
          <a:xfrm>
            <a:off x="7812000" y="57340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8"/>
          <p:cNvSpPr/>
          <p:nvPr/>
        </p:nvSpPr>
        <p:spPr>
          <a:xfrm>
            <a:off x="111240" y="1628640"/>
            <a:ext cx="62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Ну, вот и всё 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Вы славно поработал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и  можете отдохнуть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KIDS01"/>
          <p:cNvPicPr/>
          <p:nvPr/>
        </p:nvPicPr>
        <p:blipFill>
          <a:blip r:embed="rId1"/>
          <a:stretch/>
        </p:blipFill>
        <p:spPr>
          <a:xfrm>
            <a:off x="4067280" y="1989000"/>
            <a:ext cx="3600360" cy="24926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2397960" y="836640"/>
            <a:ext cx="60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cc"/>
                </a:solidFill>
                <a:latin typeface="Comic Sans MS"/>
              </a:rPr>
              <a:t>Ура! Мы молодцы 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44800" y="5013360"/>
            <a:ext cx="58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Comic Sans MS"/>
              </a:rPr>
              <a:t>Можно плыть дальше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6" name="Picture 7" descr="sm87"/>
          <p:cNvPicPr/>
          <p:nvPr/>
        </p:nvPicPr>
        <p:blipFill>
          <a:blip r:embed="rId2"/>
          <a:stretch/>
        </p:blipFill>
        <p:spPr>
          <a:xfrm>
            <a:off x="826920" y="765000"/>
            <a:ext cx="1152720" cy="930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ship2"/>
          <p:cNvPicPr/>
          <p:nvPr/>
        </p:nvPicPr>
        <p:blipFill>
          <a:blip r:embed="rId3"/>
          <a:stretch/>
        </p:blipFill>
        <p:spPr>
          <a:xfrm>
            <a:off x="5796000" y="5300640"/>
            <a:ext cx="2556000" cy="817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ar27"/>
          <p:cNvPicPr/>
          <p:nvPr/>
        </p:nvPicPr>
        <p:blipFill>
          <a:blip r:embed="rId4"/>
          <a:stretch/>
        </p:blipFill>
        <p:spPr>
          <a:xfrm>
            <a:off x="755640" y="5877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11"/>
          <p:cNvSpPr/>
          <p:nvPr/>
        </p:nvSpPr>
        <p:spPr>
          <a:xfrm>
            <a:off x="179280" y="3716280"/>
            <a:ext cx="5400720" cy="1800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650920" y="620640"/>
            <a:ext cx="277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cc"/>
                </a:solidFill>
                <a:latin typeface="Comic Sans MS"/>
              </a:rPr>
              <a:t>I </a:t>
            </a:r>
            <a:r>
              <a:rPr b="1" lang="ru-RU" sz="5400" spc="-1" strike="noStrike">
                <a:solidFill>
                  <a:srgbClr val="66ffcc"/>
                </a:solidFill>
                <a:latin typeface="Comic Sans MS"/>
              </a:rPr>
              <a:t>раунд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5476680" y="1844640"/>
            <a:ext cx="32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66ffcc"/>
                </a:solidFill>
                <a:latin typeface="Comic Sans MS"/>
              </a:rPr>
              <a:t>II </a:t>
            </a:r>
            <a:r>
              <a:rPr b="1" lang="ru-RU" sz="5400" spc="-1" strike="noStrike">
                <a:solidFill>
                  <a:srgbClr val="66ffcc"/>
                </a:solidFill>
                <a:latin typeface="Comic Sans MS"/>
              </a:rPr>
              <a:t>раунд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3" name="Picture 6" descr="lady_news_anchor_md_wht"/>
          <p:cNvPicPr/>
          <p:nvPr/>
        </p:nvPicPr>
        <p:blipFill>
          <a:blip r:embed="rId1"/>
          <a:stretch/>
        </p:blipFill>
        <p:spPr>
          <a:xfrm>
            <a:off x="324000" y="404640"/>
            <a:ext cx="2233440" cy="1914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6аб"/>
          <p:cNvPicPr/>
          <p:nvPr/>
        </p:nvPicPr>
        <p:blipFill>
          <a:blip r:embed="rId2"/>
          <a:stretch/>
        </p:blipFill>
        <p:spPr>
          <a:xfrm>
            <a:off x="6084720" y="4292640"/>
            <a:ext cx="2735280" cy="20588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"/>
          <p:cNvSpPr/>
          <p:nvPr/>
        </p:nvSpPr>
        <p:spPr>
          <a:xfrm>
            <a:off x="236520" y="3860640"/>
            <a:ext cx="538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Внимание!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Для правильной работы программы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нажимать только на кнопки со стрелками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помещенными на слайд, или объекты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с всплывающей надписью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6" name="Picture 12" descr="ar2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3280" y="1989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ar27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43280" y="836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b6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21607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408960" y="2276640"/>
            <a:ext cx="782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Ой! Ой! Ой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Ваши очки поглотил спрут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2987640" y="4581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ff"/>
                </a:solidFill>
                <a:latin typeface="Comic Sans MS"/>
              </a:rPr>
              <a:t>Ну что, продолжим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2" name="Picture 8" descr="sm55"/>
          <p:cNvPicPr/>
          <p:nvPr/>
        </p:nvPicPr>
        <p:blipFill>
          <a:blip r:embed="rId2"/>
          <a:stretch/>
        </p:blipFill>
        <p:spPr>
          <a:xfrm>
            <a:off x="539640" y="458136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" descr="ar27"/>
          <p:cNvPicPr/>
          <p:nvPr/>
        </p:nvPicPr>
        <p:blipFill>
          <a:blip r:embed="rId3"/>
          <a:stretch/>
        </p:blipFill>
        <p:spPr>
          <a:xfrm>
            <a:off x="7380360" y="5661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І</a:t>
            </a:r>
            <a:br>
              <a:rPr sz="6600"/>
            </a:br>
            <a:r>
              <a:rPr b="1" lang="ru-RU" sz="6600" spc="-1" strike="noStrike">
                <a:solidFill>
                  <a:srgbClr val="66ffcc"/>
                </a:solidFill>
                <a:latin typeface="Arial"/>
              </a:rPr>
              <a:t>Р А У Н Д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9" name="Picture 5" descr="chasy"/>
          <p:cNvPicPr/>
          <p:nvPr/>
        </p:nvPicPr>
        <p:blipFill>
          <a:blip r:embed="rId1"/>
          <a:stretch/>
        </p:blipFill>
        <p:spPr>
          <a:xfrm>
            <a:off x="468360" y="476280"/>
            <a:ext cx="1227240" cy="18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cot"/>
          <p:cNvPicPr/>
          <p:nvPr/>
        </p:nvPicPr>
        <p:blipFill>
          <a:blip r:embed="rId2"/>
          <a:stretch/>
        </p:blipFill>
        <p:spPr>
          <a:xfrm>
            <a:off x="1187280" y="3141720"/>
            <a:ext cx="7380360" cy="3209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2" descr="ar2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50184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900000" y="2205000"/>
            <a:ext cx="741708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кон Архиме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71640" y="4869000"/>
          <a:ext cx="7200720" cy="792000"/>
        </p:xfrm>
        <a:graphic>
          <a:graphicData uri="http://schemas.openxmlformats.org/drawingml/2006/table">
            <a:tbl>
              <a:tblPr/>
              <a:tblGrid>
                <a:gridCol w="901440"/>
                <a:gridCol w="898560"/>
                <a:gridCol w="901800"/>
                <a:gridCol w="898560"/>
                <a:gridCol w="901800"/>
                <a:gridCol w="898560"/>
                <a:gridCol w="901440"/>
                <a:gridCol w="8985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4" name="Picture 50" descr="ship4а"/>
          <p:cNvPicPr/>
          <p:nvPr/>
        </p:nvPicPr>
        <p:blipFill>
          <a:blip r:embed="rId9"/>
          <a:stretch/>
        </p:blipFill>
        <p:spPr>
          <a:xfrm>
            <a:off x="5940360" y="260280"/>
            <a:ext cx="3025800" cy="2189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1" descr="peo-bath_dude"/>
          <p:cNvPicPr/>
          <p:nvPr/>
        </p:nvPicPr>
        <p:blipFill>
          <a:blip r:embed="rId10"/>
          <a:stretch/>
        </p:blipFill>
        <p:spPr>
          <a:xfrm>
            <a:off x="250920" y="0"/>
            <a:ext cx="1919160" cy="28083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9"/>
          <p:cNvSpPr/>
          <p:nvPr/>
        </p:nvSpPr>
        <p:spPr>
          <a:xfrm>
            <a:off x="3748680" y="6237360"/>
            <a:ext cx="237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ffff"/>
                </a:solidFill>
                <a:uFillTx/>
                <a:latin typeface="Comic Sans MS"/>
                <a:hlinkClick r:id="rId11" action="ppaction://hlinksldjump"/>
              </a:rPr>
              <a:t>Переход к </a:t>
            </a:r>
            <a:r>
              <a:rPr b="0" lang="en-US" sz="1800" spc="-1" strike="noStrike" u="sng">
                <a:solidFill>
                  <a:srgbClr val="ccffff"/>
                </a:solidFill>
                <a:uFillTx/>
                <a:latin typeface="Comic Sans MS"/>
                <a:hlinkClick r:id="rId12" action="ppaction://hlinksldjump"/>
              </a:rPr>
              <a:t>II </a:t>
            </a:r>
            <a:r>
              <a:rPr b="0" lang="ru-RU" sz="1800" spc="-1" strike="noStrike" u="sng">
                <a:solidFill>
                  <a:srgbClr val="ccffff"/>
                </a:solidFill>
                <a:uFillTx/>
                <a:latin typeface="Comic Sans MS"/>
                <a:hlinkClick r:id="rId13" action="ppaction://hlinksldjump"/>
              </a:rPr>
              <a:t>раунду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3740760" y="428760"/>
            <a:ext cx="522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лотность какого тела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определял Архимед по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риказу царя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Гиерона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781240" y="357336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Царского кубк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770080" y="44370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Царской корон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5788800" y="52293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Царского трон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780880" y="595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Царского перстн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2" name="Picture 9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8360" y="350028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48360" y="4292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148360" y="508464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48360" y="5877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sluchaino"/>
          <p:cNvPicPr/>
          <p:nvPr/>
        </p:nvPicPr>
        <p:blipFill>
          <a:blip r:embed="rId9"/>
          <a:stretch/>
        </p:blipFill>
        <p:spPr>
          <a:xfrm>
            <a:off x="250920" y="2276640"/>
            <a:ext cx="431964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7"/>
          <p:cNvSpPr/>
          <p:nvPr/>
        </p:nvSpPr>
        <p:spPr>
          <a:xfrm>
            <a:off x="4522680" y="549360"/>
            <a:ext cx="40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В каком город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жил Архимед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4474800" y="35002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Сиракуз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4594680" y="278136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Ри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4608720" y="422100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Афин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4593240" y="494172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Спарт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2" name="Picture 2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51280" y="270828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3429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1280" y="4149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51280" y="4869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8" descr="1"/>
          <p:cNvPicPr/>
          <p:nvPr/>
        </p:nvPicPr>
        <p:blipFill>
          <a:blip r:embed="rId9"/>
          <a:stretch/>
        </p:blipFill>
        <p:spPr>
          <a:xfrm>
            <a:off x="250920" y="241200"/>
            <a:ext cx="345744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3764160" y="475200"/>
            <a:ext cx="547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На какой из опущенны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в воду стальных шаров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действует наибольшая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сила Архимеда?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381060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перв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732840" y="400536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тор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728880" y="479736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трети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3673080" y="5516640"/>
            <a:ext cx="45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се три шара действуе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одинаковая си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82" name="Picture 10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3141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03640" y="5589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03640" y="4797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3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03640" y="4005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27"/>
          <p:cNvPicPr/>
          <p:nvPr/>
        </p:nvPicPr>
        <p:blipFill>
          <a:blip r:embed="rId9"/>
          <a:stretch/>
        </p:blipFill>
        <p:spPr>
          <a:xfrm>
            <a:off x="250920" y="404640"/>
            <a:ext cx="345744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9"/>
          <p:cNvSpPr/>
          <p:nvPr/>
        </p:nvSpPr>
        <p:spPr>
          <a:xfrm>
            <a:off x="684360" y="3168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Три тела одинакового объема полностью погрузили в жидкость. Первое тело стальное, второе – алюминиевое, третье – деревянное. На какое тело действует меньшая выталкивающая сила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6018840" y="328356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первое тело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6003360" y="40755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торое тело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Rectangle 32"/>
          <p:cNvSpPr/>
          <p:nvPr/>
        </p:nvSpPr>
        <p:spPr>
          <a:xfrm>
            <a:off x="5997240" y="479628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третье тело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Rectangle 33"/>
          <p:cNvSpPr/>
          <p:nvPr/>
        </p:nvSpPr>
        <p:spPr>
          <a:xfrm>
            <a:off x="6129000" y="5443560"/>
            <a:ext cx="29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се три тела –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одинаковы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2" name="Picture 3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35640" y="3284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35640" y="4005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472428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5516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1" descr="24а"/>
          <p:cNvPicPr/>
          <p:nvPr/>
        </p:nvPicPr>
        <p:blipFill>
          <a:blip r:embed="rId9"/>
          <a:stretch/>
        </p:blipFill>
        <p:spPr>
          <a:xfrm>
            <a:off x="324000" y="2997360"/>
            <a:ext cx="48384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9:22:17Z</dcterms:created>
  <dc:creator>шк881</dc:creator>
  <dc:description/>
  <dc:language>en-US</dc:language>
  <cp:lastModifiedBy>nadegda</cp:lastModifiedBy>
  <dcterms:modified xsi:type="dcterms:W3CDTF">2013-01-13T09:03:32Z</dcterms:modified>
  <cp:revision>92</cp:revision>
  <dc:subject/>
  <dc:title>Слайд 1</dc:title>
</cp:coreProperties>
</file>