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gif" ContentType="image/gif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342-204F-43E1-9DE3-76886B16A426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DE6-0F6E-433E-99A8-65DD639142BD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2FB-B999-44DD-8629-CAEEA47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83D-1E80-4A36-8477-3E661FD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0B2-0D94-4633-8B37-387D9807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836-E18B-4B96-AE63-1FB4858E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7B1-34B3-4B3C-9657-CBFBD32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3EA-9BDA-43B4-8693-9D5AFDD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4C8-9E5A-4E9E-B06C-990F2556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5DF-EA94-40F1-9A75-0E7EBA9B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014-2A68-4E54-8932-A8006C18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D23-9564-488B-99CC-9BCB7B6A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65C-D487-4BC2-81F5-4D7CADF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613-A96E-411E-9D7F-0B9C7E0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0606-9778-4AE4-A46E-76DFA47AF0BF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forchildren.ru/pictures/showimg/neznaika/neznaika17gif.htm" TargetMode="External"/><Relationship Id="rId3" Type="http://schemas.openxmlformats.org/officeDocument/2006/relationships/hyperlink" Target="http://allforchildren.ru/pictures/showimg/neznaika/neznaika17gif.htm" TargetMode="External"/><Relationship Id="rId4" Type="http://schemas.openxmlformats.org/officeDocument/2006/relationships/hyperlink" Target="http://allforchildren.ru/pictures/showimg/neznaika/neznaika17gif.htm" TargetMode="External"/><Relationship Id="rId5" Type="http://schemas.openxmlformats.org/officeDocument/2006/relationships/hyperlink" Target="http://allforchildren.ru/pictures/showimg/neznaika/neznaika17gif.htm" TargetMode="External"/><Relationship Id="rId6" Type="http://schemas.openxmlformats.org/officeDocument/2006/relationships/hyperlink" Target="http://allforchildren.ru/pictures/showimg/neznaika/neznaika17gif.htm" TargetMode="External"/><Relationship Id="rId7" Type="http://schemas.openxmlformats.org/officeDocument/2006/relationships/hyperlink" Target="http://allforchildren.ru/pictures/showimg/neznaika/neznaika17gif.htm" TargetMode="External"/><Relationship Id="rId8" Type="http://schemas.openxmlformats.org/officeDocument/2006/relationships/hyperlink" Target="http://allforchildren.ru/pictures/showimg/neznaika/neznaika17gif.htm" TargetMode="External"/><Relationship Id="rId9" Type="http://schemas.openxmlformats.org/officeDocument/2006/relationships/hyperlink" Target="http://allforchildren.ru/pictures/showimg/neznaika/neznaika17gif.htm" TargetMode="External"/><Relationship Id="rId10" Type="http://schemas.openxmlformats.org/officeDocument/2006/relationships/hyperlink" Target="http://allforchildren.ru/pictures/showimg/neznaika/neznaika17gif.htm" TargetMode="External"/><Relationship Id="rId11" Type="http://schemas.openxmlformats.org/officeDocument/2006/relationships/hyperlink" Target="http://allforchildren.ru/pictures/showimg/neznaika/neznaika17gif.htm" TargetMode="External"/><Relationship Id="rId12" Type="http://schemas.openxmlformats.org/officeDocument/2006/relationships/hyperlink" Target="http://allforchildren.ru/pictures/showimg/neznaika/neznaika17gif.htm" TargetMode="External"/><Relationship Id="rId13" Type="http://schemas.openxmlformats.org/officeDocument/2006/relationships/hyperlink" Target="http://allforchildren.ru/pictures/showimg/neznaika/neznaika17gif.htm" TargetMode="External"/><Relationship Id="rId14" Type="http://schemas.openxmlformats.org/officeDocument/2006/relationships/hyperlink" Target="http://allforchildren.ru/pictures/showimg/neznaika/neznaika17gif.htm" TargetMode="External"/><Relationship Id="rId15" Type="http://schemas.openxmlformats.org/officeDocument/2006/relationships/hyperlink" Target="http://allforchildren.ru/pictures/showimg/neznaika/neznaika17gif.htm" TargetMode="External"/><Relationship Id="rId16" Type="http://schemas.openxmlformats.org/officeDocument/2006/relationships/hyperlink" Target="http://allforchildren.ru/pictures/showimg/neznaika/neznaika17gif.htm" TargetMode="External"/><Relationship Id="rId17" Type="http://schemas.openxmlformats.org/officeDocument/2006/relationships/hyperlink" Target="http://allforchildren.ru/pictures/showimg/neznaika/neznaika17gif.htm" TargetMode="External"/><Relationship Id="rId18" Type="http://schemas.openxmlformats.org/officeDocument/2006/relationships/hyperlink" Target="http://allforchildren.ru/pictures/showimg/neznaika/neznaika17gif.htm" TargetMode="External"/><Relationship Id="rId19" Type="http://schemas.openxmlformats.org/officeDocument/2006/relationships/hyperlink" Target="http://allforchildren.ru/pictures/showimg/neznaika/neznaika05gif.htm" TargetMode="External"/><Relationship Id="rId20" Type="http://schemas.openxmlformats.org/officeDocument/2006/relationships/hyperlink" Target="http://allforchildren.ru/pictures/showimg/neznaika/neznaika05gif.htm" TargetMode="External"/><Relationship Id="rId21" Type="http://schemas.openxmlformats.org/officeDocument/2006/relationships/hyperlink" Target="http://allforchildren.ru/pictures/showimg/neznaika/neznaika05gif.htm" TargetMode="External"/><Relationship Id="rId22" Type="http://schemas.openxmlformats.org/officeDocument/2006/relationships/hyperlink" Target="http://allforchildren.ru/pictures/showimg/neznaika/neznaika05gif.htm" TargetMode="External"/><Relationship Id="rId23" Type="http://schemas.openxmlformats.org/officeDocument/2006/relationships/hyperlink" Target="http://allforchildren.ru/pictures/showimg/neznaika/neznaika05gif.htm" TargetMode="External"/><Relationship Id="rId24" Type="http://schemas.openxmlformats.org/officeDocument/2006/relationships/hyperlink" Target="http://allforchildren.ru/pictures/showimg/neznaika/neznaika05gif.htm" TargetMode="External"/><Relationship Id="rId25" Type="http://schemas.openxmlformats.org/officeDocument/2006/relationships/hyperlink" Target="http://allforchildren.ru/pictures/showimg/neznaika/neznaika05gif.htm" TargetMode="External"/><Relationship Id="rId26" Type="http://schemas.openxmlformats.org/officeDocument/2006/relationships/hyperlink" Target="http://allforchildren.ru/pictures/showimg/neznaika/neznaika05gif.htm" TargetMode="External"/><Relationship Id="rId27" Type="http://schemas.openxmlformats.org/officeDocument/2006/relationships/hyperlink" Target="http://allforchildren.ru/pictures/showimg/neznaika/neznaika05gif.htm" TargetMode="External"/><Relationship Id="rId28" Type="http://schemas.openxmlformats.org/officeDocument/2006/relationships/hyperlink" Target="http://allforchildren.ru/pictures/showimg/neznaika/neznaika05gif.htm" TargetMode="External"/><Relationship Id="rId29" Type="http://schemas.openxmlformats.org/officeDocument/2006/relationships/hyperlink" Target="http://allforchildren.ru/pictures/showimg/neznaika/neznaika05gif.htm" TargetMode="External"/><Relationship Id="rId30" Type="http://schemas.openxmlformats.org/officeDocument/2006/relationships/hyperlink" Target="http://allforchildren.ru/pictures/showimg/neznaika/neznaika05gif.htm" TargetMode="External"/><Relationship Id="rId31" Type="http://schemas.openxmlformats.org/officeDocument/2006/relationships/hyperlink" Target="http://allforchildren.ru/pictures/showimg/neznaika/neznaika05gif.htm" TargetMode="External"/><Relationship Id="rId32" Type="http://schemas.openxmlformats.org/officeDocument/2006/relationships/hyperlink" Target="http://allforchildren.ru/pictures/showimg/neznaika/neznaika05gif.htm" TargetMode="External"/><Relationship Id="rId33" Type="http://schemas.openxmlformats.org/officeDocument/2006/relationships/hyperlink" Target="http://allforchildren.ru/pictures/showimg/neznaika/neznaika05gif.htm" TargetMode="External"/><Relationship Id="rId34" Type="http://schemas.openxmlformats.org/officeDocument/2006/relationships/hyperlink" Target="http://allforchildren.ru/pictures/showimg/neznaika/neznaika05gif.htm" TargetMode="External"/><Relationship Id="rId35" Type="http://schemas.openxmlformats.org/officeDocument/2006/relationships/hyperlink" Target="http://allforchildren.ru/pictures/showimg/neznaika/neznaika05gif.htm" TargetMode="External"/><Relationship Id="rId36" Type="http://schemas.openxmlformats.org/officeDocument/2006/relationships/hyperlink" Target="http://allforchildren.ru/pictures/showimg/neznaika/neznaika08gif.htm" TargetMode="External"/><Relationship Id="rId37" Type="http://schemas.openxmlformats.org/officeDocument/2006/relationships/hyperlink" Target="http://allforchildren.ru/pictures/showimg/neznaika/neznaika08gif.htm" TargetMode="External"/><Relationship Id="rId38" Type="http://schemas.openxmlformats.org/officeDocument/2006/relationships/hyperlink" Target="http://allforchildren.ru/pictures/showimg/neznaika/neznaika08gif.htm" TargetMode="External"/><Relationship Id="rId39" Type="http://schemas.openxmlformats.org/officeDocument/2006/relationships/hyperlink" Target="http://allforchildren.ru/pictures/showimg/neznaika/neznaika08gif.htm" TargetMode="External"/><Relationship Id="rId40" Type="http://schemas.openxmlformats.org/officeDocument/2006/relationships/hyperlink" Target="http://allforchildren.ru/pictures/showimg/neznaika/neznaika08gif.htm" TargetMode="External"/><Relationship Id="rId41" Type="http://schemas.openxmlformats.org/officeDocument/2006/relationships/hyperlink" Target="http://allforchildren.ru/pictures/showimg/neznaika/neznaika08gif.htm" TargetMode="External"/><Relationship Id="rId42" Type="http://schemas.openxmlformats.org/officeDocument/2006/relationships/hyperlink" Target="http://allforchildren.ru/pictures/showimg/neznaika/neznaika08gif.htm" TargetMode="External"/><Relationship Id="rId43" Type="http://schemas.openxmlformats.org/officeDocument/2006/relationships/hyperlink" Target="http://allforchildren.ru/pictures/showimg/neznaika/neznaika08gif.htm" TargetMode="External"/><Relationship Id="rId44" Type="http://schemas.openxmlformats.org/officeDocument/2006/relationships/hyperlink" Target="http://allforchildren.ru/pictures/showimg/neznaika/neznaika08gif.htm" TargetMode="External"/><Relationship Id="rId45" Type="http://schemas.openxmlformats.org/officeDocument/2006/relationships/hyperlink" Target="http://allforchildren.ru/pictures/showimg/neznaika/neznaika08gif.htm" TargetMode="External"/><Relationship Id="rId46" Type="http://schemas.openxmlformats.org/officeDocument/2006/relationships/hyperlink" Target="http://allforchildren.ru/pictures/showimg/neznaika/neznaika08gif.htm" TargetMode="External"/><Relationship Id="rId47" Type="http://schemas.openxmlformats.org/officeDocument/2006/relationships/hyperlink" Target="http://allforchildren.ru/pictures/showimg/neznaika/neznaika08gif.htm" TargetMode="External"/><Relationship Id="rId48" Type="http://schemas.openxmlformats.org/officeDocument/2006/relationships/hyperlink" Target="http://allforchildren.ru/pictures/showimg/neznaika/neznaika08gif.htm" TargetMode="External"/><Relationship Id="rId49" Type="http://schemas.openxmlformats.org/officeDocument/2006/relationships/hyperlink" Target="http://allforchildren.ru/pictures/showimg/neznaika/neznaika08gif.htm" TargetMode="External"/><Relationship Id="rId50" Type="http://schemas.openxmlformats.org/officeDocument/2006/relationships/hyperlink" Target="http://allforchildren.ru/pictures/showimg/neznaika/neznaika08gif.htm" TargetMode="External"/><Relationship Id="rId51" Type="http://schemas.openxmlformats.org/officeDocument/2006/relationships/hyperlink" Target="http://allforchildren.ru/pictures/showimg/neznaika/neznaika08gif.htm" TargetMode="External"/><Relationship Id="rId52" Type="http://schemas.openxmlformats.org/officeDocument/2006/relationships/hyperlink" Target="http://allforchildren.ru/pictures/showimg/neznaika/neznaika08gif.htm" TargetMode="External"/><Relationship Id="rId53" Type="http://schemas.openxmlformats.org/officeDocument/2006/relationships/hyperlink" Target="http://allforchildren.ru/pictures/showimg/neznaika/neznaika18gif.htm" TargetMode="External"/><Relationship Id="rId54" Type="http://schemas.openxmlformats.org/officeDocument/2006/relationships/hyperlink" Target="http://allforchildren.ru/pictures/showimg/neznaika/neznaika18gif.htm" TargetMode="External"/><Relationship Id="rId55" Type="http://schemas.openxmlformats.org/officeDocument/2006/relationships/hyperlink" Target="http://allforchildren.ru/pictures/showimg/neznaika/neznaika18gif.htm" TargetMode="External"/><Relationship Id="rId56" Type="http://schemas.openxmlformats.org/officeDocument/2006/relationships/hyperlink" Target="http://allforchildren.ru/pictures/showimg/neznaika/neznaika18gif.htm" TargetMode="External"/><Relationship Id="rId57" Type="http://schemas.openxmlformats.org/officeDocument/2006/relationships/hyperlink" Target="http://allforchildren.ru/pictures/showimg/neznaika/neznaika18gif.htm" TargetMode="External"/><Relationship Id="rId58" Type="http://schemas.openxmlformats.org/officeDocument/2006/relationships/hyperlink" Target="http://allforchildren.ru/pictures/showimg/neznaika/neznaika18gif.htm" TargetMode="External"/><Relationship Id="rId59" Type="http://schemas.openxmlformats.org/officeDocument/2006/relationships/hyperlink" Target="http://allforchildren.ru/pictures/showimg/neznaika/neznaika18gif.htm" TargetMode="External"/><Relationship Id="rId60" Type="http://schemas.openxmlformats.org/officeDocument/2006/relationships/hyperlink" Target="http://allforchildren.ru/pictures/showimg/neznaika/neznaika18gif.htm" TargetMode="External"/><Relationship Id="rId61" Type="http://schemas.openxmlformats.org/officeDocument/2006/relationships/hyperlink" Target="http://allforchildren.ru/pictures/showimg/neznaika/neznaika18gif.htm" TargetMode="External"/><Relationship Id="rId62" Type="http://schemas.openxmlformats.org/officeDocument/2006/relationships/hyperlink" Target="http://allforchildren.ru/pictures/showimg/neznaika/neznaika18gif.htm" TargetMode="External"/><Relationship Id="rId63" Type="http://schemas.openxmlformats.org/officeDocument/2006/relationships/hyperlink" Target="http://allforchildren.ru/pictures/showimg/neznaika/neznaika18gif.htm" TargetMode="External"/><Relationship Id="rId64" Type="http://schemas.openxmlformats.org/officeDocument/2006/relationships/hyperlink" Target="http://allforchildren.ru/pictures/showimg/neznaika/neznaika18gif.htm" TargetMode="External"/><Relationship Id="rId65" Type="http://schemas.openxmlformats.org/officeDocument/2006/relationships/hyperlink" Target="http://allforchildren.ru/pictures/showimg/neznaika/neznaika18gif.htm" TargetMode="External"/><Relationship Id="rId66" Type="http://schemas.openxmlformats.org/officeDocument/2006/relationships/hyperlink" Target="http://allforchildren.ru/pictures/showimg/neznaika/neznaika18gif.htm" TargetMode="External"/><Relationship Id="rId67" Type="http://schemas.openxmlformats.org/officeDocument/2006/relationships/hyperlink" Target="http://allforchildren.ru/pictures/showimg/neznaika/neznaika18gif.htm" TargetMode="External"/><Relationship Id="rId68" Type="http://schemas.openxmlformats.org/officeDocument/2006/relationships/hyperlink" Target="http://allforchildren.ru/pictures/showimg/neznaika/neznaika18gif.htm" TargetMode="External"/><Relationship Id="rId69" Type="http://schemas.openxmlformats.org/officeDocument/2006/relationships/hyperlink" Target="http://allforchildren.ru/pictures/showimg/neznaika/neznaika18gif.htm" TargetMode="External"/><Relationship Id="rId70" Type="http://schemas.openxmlformats.org/officeDocument/2006/relationships/hyperlink" Target="http://allforchildren.ru/pictures/showimg/neznaika/neznaika32gif.htm" TargetMode="External"/><Relationship Id="rId71" Type="http://schemas.openxmlformats.org/officeDocument/2006/relationships/hyperlink" Target="http://allforchildren.ru/pictures/showimg/neznaika/neznaika32gif.htm" TargetMode="External"/><Relationship Id="rId72" Type="http://schemas.openxmlformats.org/officeDocument/2006/relationships/hyperlink" Target="http://allforchildren.ru/pictures/showimg/neznaika/neznaika32gif.htm" TargetMode="External"/><Relationship Id="rId73" Type="http://schemas.openxmlformats.org/officeDocument/2006/relationships/hyperlink" Target="http://allforchildren.ru/pictures/showimg/neznaika/neznaika32gif.htm" TargetMode="External"/><Relationship Id="rId74" Type="http://schemas.openxmlformats.org/officeDocument/2006/relationships/hyperlink" Target="http://allforchildren.ru/pictures/showimg/neznaika/neznaika32gif.htm" TargetMode="External"/><Relationship Id="rId75" Type="http://schemas.openxmlformats.org/officeDocument/2006/relationships/hyperlink" Target="http://allforchildren.ru/pictures/showimg/neznaika/neznaika32gif.htm" TargetMode="External"/><Relationship Id="rId76" Type="http://schemas.openxmlformats.org/officeDocument/2006/relationships/hyperlink" Target="http://allforchildren.ru/pictures/showimg/neznaika/neznaika32gif.htm" TargetMode="External"/><Relationship Id="rId77" Type="http://schemas.openxmlformats.org/officeDocument/2006/relationships/hyperlink" Target="http://allforchildren.ru/pictures/showimg/neznaika/neznaika32gif.htm" TargetMode="External"/><Relationship Id="rId78" Type="http://schemas.openxmlformats.org/officeDocument/2006/relationships/hyperlink" Target="http://allforchildren.ru/pictures/showimg/neznaika/neznaika32gif.htm" TargetMode="External"/><Relationship Id="rId79" Type="http://schemas.openxmlformats.org/officeDocument/2006/relationships/hyperlink" Target="http://allforchildren.ru/pictures/showimg/neznaika/neznaika32gif.htm" TargetMode="External"/><Relationship Id="rId80" Type="http://schemas.openxmlformats.org/officeDocument/2006/relationships/hyperlink" Target="http://allforchildren.ru/pictures/showimg/neznaika/neznaika32gif.htm" TargetMode="External"/><Relationship Id="rId81" Type="http://schemas.openxmlformats.org/officeDocument/2006/relationships/hyperlink" Target="http://allforchildren.ru/pictures/showimg/neznaika/neznaika32gif.htm" TargetMode="External"/><Relationship Id="rId82" Type="http://schemas.openxmlformats.org/officeDocument/2006/relationships/hyperlink" Target="http://allforchildren.ru/pictures/showimg/neznaika/neznaika32gif.htm" TargetMode="External"/><Relationship Id="rId83" Type="http://schemas.openxmlformats.org/officeDocument/2006/relationships/hyperlink" Target="http://allforchildren.ru/pictures/showimg/neznaika/neznaika32gif.htm" TargetMode="External"/><Relationship Id="rId84" Type="http://schemas.openxmlformats.org/officeDocument/2006/relationships/hyperlink" Target="http://allforchildren.ru/pictures/showimg/neznaika/neznaika32gif.htm" TargetMode="External"/><Relationship Id="rId85" Type="http://schemas.openxmlformats.org/officeDocument/2006/relationships/hyperlink" Target="http://allforchildren.ru/pictures/showimg/neznaika/neznaika32gif.htm" TargetMode="External"/><Relationship Id="rId86" Type="http://schemas.openxmlformats.org/officeDocument/2006/relationships/hyperlink" Target="http://allforchildren.ru/pictures/showimg/neznaika/neznaika32gif.htm" TargetMode="External"/><Relationship Id="rId8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122688.html" TargetMode="External"/><Relationship Id="rId3" Type="http://schemas.openxmlformats.org/officeDocument/2006/relationships/image" Target="../media/image8.gif"/><Relationship Id="rId4" Type="http://schemas.openxmlformats.org/officeDocument/2006/relationships/hyperlink" Target="http://smiles.33b.ru/smile.122692.html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1640" y="836640"/>
            <a:ext cx="234144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26920" y="1268280"/>
            <a:ext cx="355284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овторени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Решение задач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4000" y="3213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3 клас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32360" y="4797360"/>
            <a:ext cx="40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Презентацию подготовил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учитель начальных классо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МБОУ Солтонская СОШ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Бухгамер Ольга Александров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333360"/>
            <a:ext cx="64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Работа по учебни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sp>
        <p:nvSpPr>
          <p:cNvPr id="152" name=""/>
          <p:cNvSpPr/>
          <p:nvPr/>
        </p:nvSpPr>
        <p:spPr>
          <a:xfrm>
            <a:off x="375120" y="119700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тр.58, №3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"/>
          <p:cNvSpPr/>
          <p:nvPr/>
        </p:nvSpPr>
        <p:spPr>
          <a:xfrm>
            <a:off x="473400" y="1773360"/>
            <a:ext cx="36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На даче – 10 дней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34936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доме отдыха - ? 2 нед. по 7 дн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1916280"/>
            <a:ext cx="287280" cy="86508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>
            <a:off x="7998840" y="2060640"/>
            <a:ext cx="6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- 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96360" y="4437000"/>
            <a:ext cx="1400040" cy="2141640"/>
          </a:xfrm>
          <a:prstGeom prst="rect">
            <a:avLst/>
          </a:prstGeom>
          <a:ln w="0">
            <a:noFill/>
          </a:ln>
        </p:spPr>
      </p:pic>
      <p:sp>
        <p:nvSpPr>
          <p:cNvPr id="158" name="Line 2"/>
          <p:cNvSpPr/>
          <p:nvPr/>
        </p:nvSpPr>
        <p:spPr>
          <a:xfrm>
            <a:off x="900000" y="4508640"/>
            <a:ext cx="6769080" cy="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AutoShape 3"/>
          <p:cNvSpPr/>
          <p:nvPr/>
        </p:nvSpPr>
        <p:spPr>
          <a:xfrm rot="5400000">
            <a:off x="2089080" y="2815920"/>
            <a:ext cx="431640" cy="28101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3080 h 2810160"/>
              <a:gd name="textAreaBottom" fmla="*/ 2737080 h 281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370836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774072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82692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572436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AutoShape 12"/>
          <p:cNvSpPr/>
          <p:nvPr/>
        </p:nvSpPr>
        <p:spPr>
          <a:xfrm rot="5400000">
            <a:off x="5472000" y="2241360"/>
            <a:ext cx="431640" cy="3959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AutoShape 4"/>
          <p:cNvSpPr/>
          <p:nvPr/>
        </p:nvSpPr>
        <p:spPr>
          <a:xfrm rot="16200000">
            <a:off x="4049640" y="1503000"/>
            <a:ext cx="468360" cy="6767640"/>
          </a:xfrm>
          <a:custGeom>
            <a:avLst/>
            <a:gdLst>
              <a:gd name="textAreaLeft" fmla="*/ 299160 w 468360"/>
              <a:gd name="textAreaRight" fmla="*/ 468720 w 468360"/>
              <a:gd name="textAreaTop" fmla="*/ 176400 h 6767640"/>
              <a:gd name="textAreaBottom" fmla="*/ 6591240 h 67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924360" y="522936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763640" y="3213000"/>
            <a:ext cx="1111320" cy="6350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10 дн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067280" y="3213000"/>
            <a:ext cx="3456000" cy="720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- 2 нед. по 7 дн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"/>
          <p:cNvSpPr/>
          <p:nvPr/>
        </p:nvSpPr>
        <p:spPr>
          <a:xfrm>
            <a:off x="1888920" y="422100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"/>
          <p:cNvSpPr/>
          <p:nvPr/>
        </p:nvSpPr>
        <p:spPr>
          <a:xfrm>
            <a:off x="445536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6307920" y="42148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1001880" cy="1785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19480" y="1125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тр.58, №4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539280" y="3357720"/>
            <a:ext cx="7993800" cy="2160"/>
          </a:xfrm>
          <a:prstGeom prst="straightConnector1">
            <a:avLst/>
          </a:prstGeom>
          <a:ln w="38160">
            <a:solidFill>
              <a:srgbClr val="000080"/>
            </a:solidFill>
            <a:miter/>
            <a:headEnd len="med" type="oval" w="med"/>
            <a:tailEnd len="med" type="oval" w="med"/>
          </a:ln>
        </p:spPr>
      </p:cxnSp>
      <p:sp>
        <p:nvSpPr>
          <p:cNvPr id="175" name=""/>
          <p:cNvSpPr/>
          <p:nvPr/>
        </p:nvSpPr>
        <p:spPr>
          <a:xfrm>
            <a:off x="2556000" y="3068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068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"/>
          <p:cNvSpPr/>
          <p:nvPr/>
        </p:nvSpPr>
        <p:spPr>
          <a:xfrm>
            <a:off x="8532720" y="2997360"/>
            <a:ext cx="0" cy="50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14172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 rot="16200000">
            <a:off x="4337640" y="-226440"/>
            <a:ext cx="468360" cy="7921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06280 h 7921440"/>
              <a:gd name="textAreaBottom" fmla="*/ 7715160 h 79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140360" y="400536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35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AutoShape 3"/>
          <p:cNvSpPr/>
          <p:nvPr/>
        </p:nvSpPr>
        <p:spPr>
          <a:xfrm rot="5400000">
            <a:off x="1331640" y="191592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AutoShape 3"/>
          <p:cNvSpPr/>
          <p:nvPr/>
        </p:nvSpPr>
        <p:spPr>
          <a:xfrm rot="5400000">
            <a:off x="3059640" y="2204280"/>
            <a:ext cx="431640" cy="143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AutoShape 3"/>
          <p:cNvSpPr/>
          <p:nvPr/>
        </p:nvSpPr>
        <p:spPr>
          <a:xfrm rot="5400000">
            <a:off x="6084000" y="691200"/>
            <a:ext cx="431640" cy="446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116000" y="206064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7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843280" y="206064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5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867280" y="2060640"/>
            <a:ext cx="87336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"/>
          <p:cNvSpPr/>
          <p:nvPr/>
        </p:nvSpPr>
        <p:spPr>
          <a:xfrm>
            <a:off x="739440" y="48690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5 – 7 – 5 = 23 (м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687960" y="558324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5 – (7 + 5) = 23 (м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333360"/>
            <a:ext cx="64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Работа по учебни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86760" y="4292640"/>
            <a:ext cx="149364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564000" y="1096920"/>
            <a:ext cx="463536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всё понят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труд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интерес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прибавилось знаний 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"/>
          <p:cNvSpPr txBox="1"/>
          <p:nvPr/>
        </p:nvSpPr>
        <p:spPr>
          <a:xfrm rot="20427000">
            <a:off x="544680" y="2887200"/>
            <a:ext cx="301284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 урок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не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376360" cy="1946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0_2985f_846079dd_L"/>
          <p:cNvPicPr/>
          <p:nvPr/>
        </p:nvPicPr>
        <p:blipFill>
          <a:blip r:embed="rId2"/>
          <a:stretch/>
        </p:blipFill>
        <p:spPr>
          <a:xfrm>
            <a:off x="-252360" y="-100080"/>
            <a:ext cx="4092480" cy="42498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6"/>
          <p:cNvSpPr txBox="1"/>
          <p:nvPr/>
        </p:nvSpPr>
        <p:spPr>
          <a:xfrm>
            <a:off x="4067280" y="907920"/>
            <a:ext cx="446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2678040" cy="4091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Times New Roman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222280" cy="422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1959120" cy="4249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28920" y="2556000"/>
            <a:ext cx="28576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MS Gothic"/>
              </a:rPr>
              <a:t>№ 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MS Gothic"/>
              </a:rPr>
              <a:t>1,  стр. 58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повторить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таблицу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умножения.</a:t>
            </a:r>
            <a:r>
              <a:rPr b="1" i="1" lang="en-US" sz="2900" spc="-1" strike="noStrike">
                <a:solidFill>
                  <a:srgbClr val="6600cc"/>
                </a:solidFill>
                <a:latin typeface="Times New Roman"/>
                <a:ea typeface="M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Bookman Old Style"/>
              </a:rPr>
              <a:t>По́нчик — круглый, жареный в масле, обычно сладкий пирожок. В пончике может быть начинка: варенье, повидло, джем и др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11280" y="54936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ловар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817236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137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Bookman Old Style"/>
              </a:rPr>
              <a:t>Спасибо: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Севостьяновой Л. А. г. Елизово МОУ СОШ № 9 за «Игру в снежки»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Шевелёвой С. В. МОУ «Москаленская СОШ»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Марьяновского р-на, Омской обл. за идею с конфетами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Фон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http://pedsovet.su/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Девочка со звонком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http://cs5133.userapi.com/u12775086/-5/x_00baff87.jpg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Зна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0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2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4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5"/>
              </a:rPr>
              <a:t>17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6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8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зна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0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1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3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5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7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9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1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2"/>
              </a:rPr>
              <a:t>05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3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5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Пончик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7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8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9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0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2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4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6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8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9"/>
              </a:rPr>
              <a:t>0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0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2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Му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4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5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7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9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1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3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5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6"/>
              </a:rPr>
              <a:t>1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7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Ромашка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2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4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6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8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0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2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3"/>
              </a:rPr>
              <a:t>3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4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6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боська http://img-fotki.yandex.ru/get/5408/kur-valentina.11d/0_8d9cd_dfb5f365_XL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Авоська  http://img-fotki.yandex.ru/get/4402/jlipeiton.259/0_50bb6_991a10e_XL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Стекляшкин, Незнайка, Знайка  http://www.prazdnik-vash.ru/sites/default/files/images/neznaika3.jpg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68360" y="1915920"/>
            <a:ext cx="6407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   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Прозвенел для нас звонок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Начинается урок!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Тут  затеи и задачи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Игры, шутки, -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Всё для  нас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Пожелаем всем удачи-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За работу, в добрый  час!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182760" cy="32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376360" cy="1946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66536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678400" cy="408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34880" y="5781600"/>
            <a:ext cx="1663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508640"/>
            <a:ext cx="5543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2 ноября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1052640"/>
            <a:ext cx="6407280" cy="2305080"/>
          </a:xfrm>
          <a:prstGeom prst="cloudCallout">
            <a:avLst>
              <a:gd name="adj1" fmla="val -50097"/>
              <a:gd name="adj2" fmla="val 6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егодня нас ждёт увлекательное путешествие в страну Математики!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Вставьте знак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 или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так, чтобы записи были верными: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83200" y="1600200"/>
            <a:ext cx="450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6 * 3 * 2 = 9 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8 * 2 * 5 = 20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7 * 5 * 1 = 35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253960" cy="401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03480" y="3213000"/>
            <a:ext cx="37656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213000"/>
            <a:ext cx="3920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4076640"/>
            <a:ext cx="4064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"/>
          <p:cNvSpPr/>
          <p:nvPr/>
        </p:nvSpPr>
        <p:spPr>
          <a:xfrm>
            <a:off x="5811480" y="4076640"/>
            <a:ext cx="37656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869000"/>
            <a:ext cx="4064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4869000"/>
            <a:ext cx="4046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7640" y="62064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омогите Незнайк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79280" y="1268280"/>
            <a:ext cx="5977080" cy="1313640"/>
          </a:xfrm>
          <a:prstGeom prst="rect">
            <a:avLst/>
          </a:prstGeom>
          <a:solidFill>
            <a:srgbClr val="a3e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Наведите порядок в этих рядах чисел.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Где здесь «лишние» числа  и почему они «лишние»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Забросаем снежками «лишние» числа!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2600" y="3689280"/>
            <a:ext cx="449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7,  14,  21,  27,  35, 42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1,  2,  31,  4,  5,  6,  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24,  11,  13,  15,  17,  19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Oval 8"/>
          <p:cNvSpPr/>
          <p:nvPr/>
        </p:nvSpPr>
        <p:spPr>
          <a:xfrm>
            <a:off x="7740720" y="414972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9"/>
          <p:cNvSpPr/>
          <p:nvPr/>
        </p:nvSpPr>
        <p:spPr>
          <a:xfrm>
            <a:off x="7740720" y="465300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7740720" y="515772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7" name="Picture 4" descr="http://s15.rimg.info/2601cabe7103bf1ac0258759a5d74f35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125360"/>
            <a:ext cx="284508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15.rimg.info/8b8de01e1356b5cd49d1496f5607dd8e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149720"/>
            <a:ext cx="2185920" cy="230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47640" y="476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Игра в снеж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0694 L -0.40833 0.01389 E">
                                      <p:cBhvr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0.00717 L -0.55799 0.00717 E">
                                      <p:cBhvr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-0.00348 L -0.70764 0.00694 E">
                                      <p:cBhvr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Конфеты с математической начинко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2808360" cy="126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79640" y="2060640"/>
            <a:ext cx="2881440" cy="1301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24000" y="3213000"/>
            <a:ext cx="2735280" cy="1235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195640" y="4292640"/>
            <a:ext cx="2592360" cy="117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24000" y="5300640"/>
            <a:ext cx="2664000" cy="120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076720" y="2276640"/>
            <a:ext cx="183672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219640" y="1125360"/>
            <a:ext cx="1873440" cy="1179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24000" y="1989000"/>
            <a:ext cx="172692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95280" y="299736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468360" y="4149720"/>
            <a:ext cx="1800000" cy="1239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468360" y="5229360"/>
            <a:ext cx="172728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234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8   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429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27  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4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7  6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58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48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141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12  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42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5  4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573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7 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5  9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5661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8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484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9  9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395280" y="981000"/>
            <a:ext cx="1728720" cy="118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126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24  4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1413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565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73408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653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57336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869000"/>
            <a:ext cx="1425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700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87700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184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2781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162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155736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371628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877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484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263700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"/>
          <p:cNvSpPr/>
          <p:nvPr/>
        </p:nvSpPr>
        <p:spPr>
          <a:xfrm>
            <a:off x="5284080" y="25588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  5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6732720" y="2708280"/>
            <a:ext cx="2103480" cy="3740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Проверь себя:</a:t>
            </a: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6, 16, 9, 42, 6, 4, 20, 56, 45, 64, 1, 30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4902120" y="4076640"/>
            <a:ext cx="1724040" cy="2136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3716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1224000" cy="1297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50920" y="371628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093080" y="2924280"/>
            <a:ext cx="171612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1403280" y="3716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1403280" y="29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332000" y="2421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2484360" y="306864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404640"/>
            <a:ext cx="871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Реши  задачу:</a:t>
            </a: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Пончик очень любит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man Old Style"/>
                <a:hlinkClick r:id="rId12" action="ppaction://hlinksldjump"/>
              </a:rPr>
              <a:t>пончики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. За завтрак и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обед он может съесть 12 штук. Сколько пончиков может съесть Пончик за день, съедая каждый раз одинаковое их количество, если он ещё и поужинает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9417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1) 12 : 2 = 6 (п.) – за один раз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"/>
          <p:cNvSpPr/>
          <p:nvPr/>
        </p:nvSpPr>
        <p:spPr>
          <a:xfrm>
            <a:off x="442440" y="551664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) 6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 = 18 (п.) – за день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"/>
          <p:cNvSpPr/>
          <p:nvPr/>
        </p:nvSpPr>
        <p:spPr>
          <a:xfrm>
            <a:off x="666000" y="596916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Ответ: 18 пончиков съест Пончик за день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32846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12 п. – за 2 раз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4182840" y="37893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? п. – за 3 раз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9080" y="333360"/>
            <a:ext cx="65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Работа над решённой задачей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052640"/>
            <a:ext cx="66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За сколько приёмов Пончик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ъест 30 пончиков?</a:t>
            </a:r>
            <a:r>
              <a:rPr b="1" i="1" lang="en-US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>
            <a:off x="718560" y="2133720"/>
            <a:ext cx="37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6 п. – за один раз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>
            <a:off x="725040" y="26370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0 п. – за ? раз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386400" y="2421000"/>
            <a:ext cx="1989360" cy="367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067280"/>
            <a:ext cx="720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0 : 6 = 5 (раз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Ответ: за 5 приёмов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Пончик съест 30 пончиков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Поднимает руки класс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раз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Повернулась голова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два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уки вниз, вперед смотри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три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уки в сторону пошире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азвернули на «четыре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С силой их к плечам прижать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пять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Всем ребятам тихо сесть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шесть»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62440" cy="289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1674720" cy="2371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236000" y="3984480"/>
            <a:ext cx="1908000" cy="2873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4:57:28Z</dcterms:created>
  <dc:creator>Бухгамер О.А.</dc:creator>
  <dc:description/>
  <dc:language>en-US</dc:language>
  <cp:lastModifiedBy>Admin</cp:lastModifiedBy>
  <dcterms:modified xsi:type="dcterms:W3CDTF">2013-03-27T15:46:38Z</dcterms:modified>
  <cp:revision>241</cp:revision>
  <dc:subject>Закрепление. Решение задач </dc:subject>
  <dc:title>Урок математики в 3 классе</dc:title>
</cp:coreProperties>
</file>