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4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3381-DDAB-40C9-9E8D-BFFBBB17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1ED-7305-4D3E-BDE2-2BBFAF7F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A323-9D95-4275-9230-69D00120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2752-0101-4E50-AA60-4D4F87A2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B2B1-7522-45C3-95EF-E97D73BC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C80B-7176-4DF5-B715-39B080BD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880B-EC0F-4AFD-BD75-1F1015C5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0DA9-EBA7-4665-BEA5-49AFD38C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C993-A7DD-4D7D-BFB0-041D8941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E5A4-E97F-4A90-A51E-F424CBB6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C0DB-4F38-487E-B90A-1F851381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0480-6C14-4A2A-BF84-E5267A58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B9C7-D441-4AEB-8C81-1083A48E1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uperweld.ru/pages/gallery/imggal/6/11.jpg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Горит дуга </a:t>
            </a:r>
            <a:br>
              <a:rPr sz="2800"/>
            </a:b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За маскою забрала, </a:t>
            </a:r>
            <a:br>
              <a:rPr sz="2800"/>
            </a:b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Тверда рука и больше не дрожит, </a:t>
            </a:r>
            <a:br>
              <a:rPr sz="2800"/>
            </a:b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Ручьем, по шву текущего металла, </a:t>
            </a:r>
            <a:br>
              <a:rPr sz="2800"/>
            </a:b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Соединяю корпус в монолит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012000" y="189000"/>
            <a:ext cx="295596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точник питания сварочной дуги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ДМ – 1202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20080815145554"/>
          <p:cNvPicPr/>
          <p:nvPr/>
        </p:nvPicPr>
        <p:blipFill>
          <a:blip r:embed="rId2"/>
          <a:stretch/>
        </p:blipFill>
        <p:spPr>
          <a:xfrm>
            <a:off x="2509920" y="1719360"/>
            <a:ext cx="4124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арочный кабель с электродержа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komplekt-svar-kabel1"/>
          <p:cNvPicPr/>
          <p:nvPr/>
        </p:nvPicPr>
        <p:blipFill>
          <a:blip r:embed="rId2"/>
          <a:stretch/>
        </p:blipFill>
        <p:spPr>
          <a:xfrm>
            <a:off x="1692360" y="1628640"/>
            <a:ext cx="5543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арочный 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img6332"/>
          <p:cNvPicPr/>
          <p:nvPr/>
        </p:nvPicPr>
        <p:blipFill>
          <a:blip r:embed="rId2"/>
          <a:stretch/>
        </p:blipFill>
        <p:spPr>
          <a:xfrm>
            <a:off x="1692360" y="1557360"/>
            <a:ext cx="57592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помогательный инструмент электросварщ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image_107"/>
          <p:cNvPicPr/>
          <p:nvPr/>
        </p:nvPicPr>
        <p:blipFill>
          <a:blip r:embed="rId2"/>
          <a:stretch/>
        </p:blipFill>
        <p:spPr>
          <a:xfrm>
            <a:off x="1187280" y="1484280"/>
            <a:ext cx="712980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лектроды АНО – 21 диаметр 3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295-category"/>
          <p:cNvPicPr/>
          <p:nvPr/>
        </p:nvPicPr>
        <p:blipFill>
          <a:blip r:embed="rId2"/>
          <a:stretch/>
        </p:blipFill>
        <p:spPr>
          <a:xfrm>
            <a:off x="1258920" y="1413000"/>
            <a:ext cx="6697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мерительный инструмент сварщ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28400_7454"/>
          <p:cNvPicPr/>
          <p:nvPr/>
        </p:nvPicPr>
        <p:blipFill>
          <a:blip r:embed="rId2"/>
          <a:stretch/>
        </p:blipFill>
        <p:spPr>
          <a:xfrm>
            <a:off x="250920" y="1628640"/>
            <a:ext cx="4176720" cy="4321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ad36c91d9796929b9ac74e14d532b250"/>
          <p:cNvPicPr/>
          <p:nvPr/>
        </p:nvPicPr>
        <p:blipFill>
          <a:blip r:embed="rId3"/>
          <a:stretch/>
        </p:blipFill>
        <p:spPr>
          <a:xfrm>
            <a:off x="4648320" y="1628640"/>
            <a:ext cx="40384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готовки из прутка 10 – 12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у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 = 1500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м – 2ш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у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00 мм – 2ш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у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400 мм – 8 ш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ба проф. 40х20 – 2ш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едовательность выполнения сборки и сварки декоративного огра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ть рабочее место и проверить сварочную цеп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ть заготовки из прутка, промерив их рулеткой и разложить по размерам на ст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обрать режим сварки для электродов АНО-21 диаметром 3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 = b x 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Выполните сборку каркаса ограждения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хватки выполнять по диагонали с угла на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Rectangle 3" descr=""/>
          <p:cNvPicPr/>
          <p:nvPr/>
        </p:nvPicPr>
        <p:blipFill>
          <a:blip r:embed="rId2"/>
          <a:stretch/>
        </p:blipFill>
        <p:spPr>
          <a:xfrm>
            <a:off x="958680" y="1600200"/>
            <a:ext cx="7226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Произвести разметку поперечных перегородок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стояние между перегородками 200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Rectangle 3" descr=""/>
          <p:cNvPicPr/>
          <p:nvPr/>
        </p:nvPicPr>
        <p:blipFill>
          <a:blip r:embed="rId2"/>
          <a:stretch/>
        </p:blipFill>
        <p:spPr>
          <a:xfrm>
            <a:off x="958680" y="1600200"/>
            <a:ext cx="7226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Занятие производственного обучения по профессии «Сварщик» </a:t>
            </a:r>
            <a:br>
              <a:rPr sz="3200"/>
            </a:b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электросварочные и газосварочные работы)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мастер п/о Ершов В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А ЗАНЯТ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борка и сварка декоративных ограждений с прутка 12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00536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 программы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ексные работы.  Самостоятельное выполнение работ электрогазосварщика 3 разря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Выполнить сварку поперечных перегородок предельно короткой дугой обеспечивая полный провар пру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Rectangle 3" descr=""/>
          <p:cNvPicPr/>
          <p:nvPr/>
        </p:nvPicPr>
        <p:blipFill>
          <a:blip r:embed="rId2"/>
          <a:stretch/>
        </p:blipFill>
        <p:spPr>
          <a:xfrm>
            <a:off x="969840" y="1628640"/>
            <a:ext cx="7226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ь сварку верхних и средних фигурных деталей ограждения используя раннее приобретенные навы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Rectangle 3" descr=""/>
          <p:cNvPicPr/>
          <p:nvPr/>
        </p:nvPicPr>
        <p:blipFill>
          <a:blip r:embed="rId2"/>
          <a:stretch/>
        </p:blipFill>
        <p:spPr>
          <a:xfrm>
            <a:off x="324000" y="1600200"/>
            <a:ext cx="849600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Произвести сварку ограждения с обратной стор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Отбить шлак соблюдая технику безопасности и пользуясь средствами индивидуальной защи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Произвести визуальный осмотр и контроль сварных шв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того чтобы стать настоящим сварщиком – научись думать головой и работать руками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.А. Пат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i-main-pic" descr="Картинка 17 из 71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1628640"/>
            <a:ext cx="4676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507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ль занят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учиться самостоятельно выполнять сборку и сварку декоративных ограждений из прутка 12мм, пользуясь технологической картой и умениями знаниями и навыками полученными на занятиях производственного обуч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ГРАЖД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от слов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града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щита от кого либо или чего либо, эт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ена, забор, решет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ОИТЕЛЬ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post106_11"/>
          <p:cNvPicPr/>
          <p:nvPr/>
        </p:nvPicPr>
        <p:blipFill>
          <a:blip r:embed="rId1"/>
          <a:stretch/>
        </p:blipFill>
        <p:spPr>
          <a:xfrm>
            <a:off x="1187280" y="2060640"/>
            <a:ext cx="684072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Р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038480" cy="468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doroga1"/>
          <p:cNvPicPr/>
          <p:nvPr/>
        </p:nvPicPr>
        <p:blipFill>
          <a:blip r:embed="rId2"/>
          <a:stretch/>
        </p:blipFill>
        <p:spPr>
          <a:xfrm>
            <a:off x="539640" y="1700280"/>
            <a:ext cx="3961080" cy="4321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514303"/>
          <p:cNvPicPr/>
          <p:nvPr/>
        </p:nvPicPr>
        <p:blipFill>
          <a:blip r:embed="rId3"/>
          <a:stretch/>
        </p:blipFill>
        <p:spPr>
          <a:xfrm>
            <a:off x="4648320" y="1628640"/>
            <a:ext cx="40384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ЕКОРАТИ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45915132-05_id15_sid1_582x500"/>
          <p:cNvPicPr/>
          <p:nvPr/>
        </p:nvPicPr>
        <p:blipFill>
          <a:blip r:embed="rId1"/>
          <a:stretch/>
        </p:blipFill>
        <p:spPr>
          <a:xfrm>
            <a:off x="457200" y="2127240"/>
            <a:ext cx="4038480" cy="347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ogragd_5"/>
          <p:cNvPicPr/>
          <p:nvPr/>
        </p:nvPicPr>
        <p:blipFill>
          <a:blip r:embed="rId2"/>
          <a:stretch/>
        </p:blipFill>
        <p:spPr>
          <a:xfrm>
            <a:off x="4716360" y="2133720"/>
            <a:ext cx="39592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briz-2"/>
          <p:cNvPicPr/>
          <p:nvPr/>
        </p:nvPicPr>
        <p:blipFill>
          <a:blip r:embed="rId2"/>
          <a:stretch/>
        </p:blipFill>
        <p:spPr>
          <a:xfrm>
            <a:off x="179280" y="1628640"/>
            <a:ext cx="4321440" cy="4464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mod3"/>
          <p:cNvPicPr/>
          <p:nvPr/>
        </p:nvPicPr>
        <p:blipFill>
          <a:blip r:embed="rId3"/>
          <a:stretch/>
        </p:blipFill>
        <p:spPr>
          <a:xfrm>
            <a:off x="4643280" y="1557360"/>
            <a:ext cx="4327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Б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7412556_w640_h640_123"/>
          <p:cNvPicPr/>
          <p:nvPr/>
        </p:nvPicPr>
        <p:blipFill>
          <a:blip r:embed="rId1"/>
          <a:stretch/>
        </p:blipFill>
        <p:spPr>
          <a:xfrm>
            <a:off x="971640" y="1413000"/>
            <a:ext cx="7416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орудования и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5699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едства индивидуальной защиты электросварщ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649933_w640_h640_kk223"/>
          <p:cNvPicPr/>
          <p:nvPr/>
        </p:nvPicPr>
        <p:blipFill>
          <a:blip r:embed="rId2"/>
          <a:stretch/>
        </p:blipFill>
        <p:spPr>
          <a:xfrm>
            <a:off x="3203640" y="2492280"/>
            <a:ext cx="28810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14:39:26Z</dcterms:created>
  <dc:creator>Valera</dc:creator>
  <dc:description/>
  <dc:language>en-US</dc:language>
  <cp:lastModifiedBy>Нютка</cp:lastModifiedBy>
  <dcterms:modified xsi:type="dcterms:W3CDTF">2013-03-27T14:52:17Z</dcterms:modified>
  <cp:revision>28</cp:revision>
  <dc:subject/>
  <dc:title>Слайд 1</dc:title>
</cp:coreProperties>
</file>