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32D-5930-4A0D-AA3F-9DC0131D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76F-9889-4679-8AFD-B8239708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C9F-A4BF-4613-962D-BFCB1BD9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C43-FECB-4AC8-8778-0B08B04E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275-D060-4D72-9EF0-0EE1ECE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ACA-0116-421E-8204-EA089A87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5B5-B28E-4B81-8F9D-8D7C7ACF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36C-7D33-4CA4-BCAB-3077E782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1A8-2515-4D4F-9350-ACEFC804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ED7-5D85-4603-A170-2D732F04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C31-DAE2-46B9-B3B2-1E213214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B0E-4248-46FD-82F3-4F666CC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2DE1-AB98-4128-AB0C-34D3F59A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perweld.ru/pages/gallery/imggal/6/1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Горит дуга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За маскою забрала,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Тверда рука и больше не дрожит,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Ручьем, по шву текущего металла,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Соединяю корпус в монолит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9559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чник питания сварочной дуг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ДМ – 1202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0080815145554"/>
          <p:cNvPicPr/>
          <p:nvPr/>
        </p:nvPicPr>
        <p:blipFill>
          <a:blip r:embed="rId2"/>
          <a:stretch/>
        </p:blipFill>
        <p:spPr>
          <a:xfrm>
            <a:off x="2509920" y="1719360"/>
            <a:ext cx="4124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арочный кабель с электродержа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komplekt-svar-kabel1"/>
          <p:cNvPicPr/>
          <p:nvPr/>
        </p:nvPicPr>
        <p:blipFill>
          <a:blip r:embed="rId2"/>
          <a:stretch/>
        </p:blipFill>
        <p:spPr>
          <a:xfrm>
            <a:off x="1692360" y="1628640"/>
            <a:ext cx="554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арочны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mg6332"/>
          <p:cNvPicPr/>
          <p:nvPr/>
        </p:nvPicPr>
        <p:blipFill>
          <a:blip r:embed="rId2"/>
          <a:stretch/>
        </p:blipFill>
        <p:spPr>
          <a:xfrm>
            <a:off x="1692360" y="1557360"/>
            <a:ext cx="5759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помогательный инструмент электросвар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mage_107"/>
          <p:cNvPicPr/>
          <p:nvPr/>
        </p:nvPicPr>
        <p:blipFill>
          <a:blip r:embed="rId2"/>
          <a:stretch/>
        </p:blipFill>
        <p:spPr>
          <a:xfrm>
            <a:off x="1187280" y="1484280"/>
            <a:ext cx="71298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лектроды АНО – 21 диаметр 3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295-category"/>
          <p:cNvPicPr/>
          <p:nvPr/>
        </p:nvPicPr>
        <p:blipFill>
          <a:blip r:embed="rId2"/>
          <a:stretch/>
        </p:blipFill>
        <p:spPr>
          <a:xfrm>
            <a:off x="1258920" y="1413000"/>
            <a:ext cx="669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мерительный инструмент свар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28400_7454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4321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d36c91d9796929b9ac74e14d532b250"/>
          <p:cNvPicPr/>
          <p:nvPr/>
        </p:nvPicPr>
        <p:blipFill>
          <a:blip r:embed="rId3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готовки из прутка 10 – 12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у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 = 150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м – 2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у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0 мм – 2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у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400 мм – 8 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ба проф. 40х20 – 2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сборки и сварки декоративного огра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рабочее место и проверить сварочную цеп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заготовки из прутка, промерив их рулеткой и разложить по размерам на ст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рать режим сварки для электродов АНО-21 диаметром 3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 = b x 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Выполните сборку каркаса ограждения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хватки выполнять по диагонали с угла на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роизвести разметку поперечных перегородо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между перегородками 200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2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Занятие производственного обучения по профессии «Сварщик» </a:t>
            </a:r>
            <a:br>
              <a:rPr sz="32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электросварочные и газосварочные работы)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мастер п/о Ершов В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ЗАНЯ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борка и сварка декоративных ограждений с прутка 12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005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программы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работы.  Самостоятельное выполнение работ электрогазосварщика 3 разр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Выполнить сварку поперечных перегородок предельно короткой дугой обеспечивая полный провар пр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Rectangle 3" descr=""/>
          <p:cNvPicPr/>
          <p:nvPr/>
        </p:nvPicPr>
        <p:blipFill>
          <a:blip r:embed="rId2"/>
          <a:stretch/>
        </p:blipFill>
        <p:spPr>
          <a:xfrm>
            <a:off x="969840" y="1628640"/>
            <a:ext cx="722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сварку верхних и средних фигурных деталей ограждения используя раннее приобретенные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3" descr=""/>
          <p:cNvPicPr/>
          <p:nvPr/>
        </p:nvPicPr>
        <p:blipFill>
          <a:blip r:embed="rId2"/>
          <a:stretch/>
        </p:blipFill>
        <p:spPr>
          <a:xfrm>
            <a:off x="324000" y="1600200"/>
            <a:ext cx="84960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Произвести сварку ограждения с обратн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Отбить шлак соблюдая технику безопасности и пользуясь средствами индивидуальной защ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Произвести визуальный осмотр и контроль сварных шв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того чтобы стать настоящим сварщиком – научись думать головой и работать руками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.А. Па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-main-pic" descr="Картинка 17 из 7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1628640"/>
            <a:ext cx="4676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 зан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учиться самостоятельно выполнять сборку и сварку декоративных ограждений из прутка 12мм, пользуясь технологической картой и умениями знаниями и навыками полученными на занятиях производственн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ГРАЖД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т слов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града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щита от кого либо или чего либо, э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на, забор, решет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ОИТ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post106_11"/>
          <p:cNvPicPr/>
          <p:nvPr/>
        </p:nvPicPr>
        <p:blipFill>
          <a:blip r:embed="rId1"/>
          <a:stretch/>
        </p:blipFill>
        <p:spPr>
          <a:xfrm>
            <a:off x="1187280" y="2060640"/>
            <a:ext cx="68407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46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doroga1"/>
          <p:cNvPicPr/>
          <p:nvPr/>
        </p:nvPicPr>
        <p:blipFill>
          <a:blip r:embed="rId2"/>
          <a:stretch/>
        </p:blipFill>
        <p:spPr>
          <a:xfrm>
            <a:off x="539640" y="1700280"/>
            <a:ext cx="3961080" cy="43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514303"/>
          <p:cNvPicPr/>
          <p:nvPr/>
        </p:nvPicPr>
        <p:blipFill>
          <a:blip r:embed="rId3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КО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45915132-05_id15_sid1_582x500"/>
          <p:cNvPicPr/>
          <p:nvPr/>
        </p:nvPicPr>
        <p:blipFill>
          <a:blip r:embed="rId1"/>
          <a:stretch/>
        </p:blipFill>
        <p:spPr>
          <a:xfrm>
            <a:off x="457200" y="2127240"/>
            <a:ext cx="4038480" cy="347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ogragd_5"/>
          <p:cNvPicPr/>
          <p:nvPr/>
        </p:nvPicPr>
        <p:blipFill>
          <a:blip r:embed="rId2"/>
          <a:stretch/>
        </p:blipFill>
        <p:spPr>
          <a:xfrm>
            <a:off x="4716360" y="2133720"/>
            <a:ext cx="3959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briz-2"/>
          <p:cNvPicPr/>
          <p:nvPr/>
        </p:nvPicPr>
        <p:blipFill>
          <a:blip r:embed="rId2"/>
          <a:stretch/>
        </p:blipFill>
        <p:spPr>
          <a:xfrm>
            <a:off x="179280" y="1628640"/>
            <a:ext cx="4321440" cy="446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od3"/>
          <p:cNvPicPr/>
          <p:nvPr/>
        </p:nvPicPr>
        <p:blipFill>
          <a:blip r:embed="rId3"/>
          <a:stretch/>
        </p:blipFill>
        <p:spPr>
          <a:xfrm>
            <a:off x="4643280" y="1557360"/>
            <a:ext cx="4327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7412556_w640_h640_123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я и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5699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ства индивидуальной защиты электросварщ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649933_w640_h640_kk223"/>
          <p:cNvPicPr/>
          <p:nvPr/>
        </p:nvPicPr>
        <p:blipFill>
          <a:blip r:embed="rId2"/>
          <a:stretch/>
        </p:blipFill>
        <p:spPr>
          <a:xfrm>
            <a:off x="3203640" y="2492280"/>
            <a:ext cx="2881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4:39:26Z</dcterms:created>
  <dc:creator>Valera</dc:creator>
  <dc:description/>
  <dc:language>en-US</dc:language>
  <cp:lastModifiedBy>Нютка</cp:lastModifiedBy>
  <dcterms:modified xsi:type="dcterms:W3CDTF">2013-03-27T14:52:17Z</dcterms:modified>
  <cp:revision>28</cp:revision>
  <dc:subject/>
  <dc:title>Слайд 1</dc:title>
</cp:coreProperties>
</file>