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C2E-ACFF-4482-B424-FEE89C9E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80F-C2D2-4324-9B8F-316967CD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9B5-D9AB-4BCA-BF20-BA22D307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CD9-77A7-4F13-92AE-A7C16755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9B70-F774-4C7C-BDEF-C2864D37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7B5-2154-4672-A6BA-2B11B3D5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B05F-70B6-44A3-84FE-F15B978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CE47-DA56-4B32-80A1-A8C9680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11D-8C6C-483B-8E07-6B99162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BEA-4B1E-4D7F-82CD-7CE4E21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9695-9405-489A-9154-D3CE086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DAE-BCD1-418C-82A7-A918944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214-0B04-4F25-984C-EDAA3A7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2EA7-1D1B-4E11-9A64-A4E152E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54B4-2ABA-4F9A-A504-F0CF1CE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201-1C62-4FDB-9B1D-B56FB0E6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279-03B6-4AF5-B050-F8144D61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732F-C571-4C1E-B803-59E715D7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7102-885E-4875-B51D-8F7B4E6C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E259-D826-475E-87AA-897318A3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66C3-37BB-46E1-BBCB-C5A8A4DE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A5AF-2FAD-407A-B339-6F7BBAC7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CF6-59EF-4834-9822-9C89443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0F40-0BAD-4979-9FF8-9E8928E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23B9-CAE0-481D-A2F8-C0250B2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71E1-8548-4DEA-920B-8B19BFC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240D-FB33-4BE1-8C38-3089068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C8AE-89D7-4B34-AA70-BA00964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741D-5EFD-4DC6-BBCD-9FAFCEB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0275-7A16-4B6D-82CD-46DD591F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71C-2129-42B9-901C-9494B64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D6B-587C-4D5A-A774-824CEA86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357-0A4B-436D-8F78-8423038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C74-69EF-4D31-9AEE-8111A5D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DA0-4135-470A-B009-2C2E61E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4DD-C294-49E4-ABAF-D978396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C5B8-5F09-4B87-BB89-5FB328EF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3D2-DD7B-4C61-B703-1349D95E63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707A-55DC-47A0-A383-85FDB4FCD3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Ж расшифровывается как Здоровый Образ Жизни. Сейчас данная тема очень актуальна. Заключается данное понятие в том, что каждый человек должен пристально следить за своим здоровьем, рационом пищи и занятием спортом. Проблеме ЗОЖ уделяют внимание на всех уровнях: от жизненных принципов каждого человека, до политики государства, направленной на увлечение нации в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236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io-Россия – Александр Тушев (Europe), Влад Есаулков, Влад Минаков, Александр Рыбаков, Вика Сафронов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642160" cy="3770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71640" y="189000"/>
            <a:ext cx="334008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доровый Образ Жизни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4456080" y="1119240"/>
            <a:ext cx="299088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191520"/>
            <a:ext cx="468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проблемами у современной молодежи являются признаки нездоровой жизни: пристрастие к курению, алкоголю и наркотикам, зависимость от компьютера, малоподвижный образ жизни. Со всем этим ведется активная борьб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о стало уделять внимание всевозможным спортивным мероприятиям. Каждый год проводятся Лыжня России и Кросс нации. Основная задача - привлечь молодежь к спорту. Стоит отметить, что это удается осуществить. Полным ходом набирает свою силу экстремальное движение - люди, увлеченные экстремальными видами спорта. Молодое население страны начало постепенно находить себя. Наркомания и алкоголизм уже не в моде. Наметился рост численности некурящих людей. Вот они, плоды ЗО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148360" y="2852640"/>
            <a:ext cx="2952720" cy="386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580000" y="189000"/>
            <a:ext cx="33829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08240"/>
            <a:ext cx="9144000" cy="60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доровый образ жиз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— это реализация комплекса действий во всех основных формах жизнедеятельности человека: трудовой, общественной, семейно-бытовой, досуг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зко биологическом смысле речь идет о физиологических адаптационных возможностях человека к воздействиям внешней среды и изменениям состояний внутренней среды. движения: физически активная жизнь, включая специальные физические упражнения с учётом возрастных и физиологических особен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гие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ма: соблюдение правил личной и общественной гигиены, владение навыками первой помощ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На физиологическое состояние человека большое влияние оказывает его психоэмоциональное состояние, которое зависит, в свою очередь, от его ментальных установок. Поэтому некоторые авторы</a:t>
            </a:r>
            <a:r>
              <a:rPr b="1" lang="en-US" sz="1800" spc="-1" strike="noStrike">
                <a:solidFill>
                  <a:srgbClr val="2406d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также выделяют дополнительно следующие аспекты ЗОЖ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эмоциональное самочувствие: психогигиена, умение справляться с собственными эмоц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интеллектуальное самочувствие: способность человека узнавать и использовать новую информацию для оптимальных действий в новых обстоятельств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духовное самочувствие: способность устанавливать действительно значимые, конструктивные жизненные цели и стремиться к ним, оптим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92520"/>
            <a:ext cx="5400720" cy="66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ом: пропаганда через СМИ, информационно-просветительская рабо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раструктурном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чностном: система ценностных ориентаций человека, стандартизация бытового у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оциальный уровен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 России проблемами этого уровня занимается служба формирования здорового образа жизни (СФЗОЖ), которая включает краевые, областные, городские и районные центры здоровья, врачебно-физкультурные диспансеры, косметологические лечебницы, кабинеты пропаганды здорового образа жизни. Научно-методическое обеспечение осуществляет Всероссийский научно-исследовательский центр профилактической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33396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2958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90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но, что ЗОЖ свойственен не только молодым людям. Здоровый образ жизни важен так же и для среднего возраста, не говоря уже о пожилых. Сейчас очень распространено такое явление, что человек лет сорока работает себе тихо в офисе, и вся его жизнь сводится к тому, что он каждый день ходит на работу и ведет неподвижный образ жизнедеятельности. Это очень опасно. Многие болезни появляются из-за того, что человеку не хватает банального движения. Люди, которые занимаются спортом, меньше подвержены стрессам на работе. Есть масса аспектов, которые можно отнести к ЗОЖ, но вот основополагающими являются всего несколько: спорт, здоровый отдых, отсутствие вредных привычек. Каждый должен сделать выводы из прочитанного материала. Если хочешь быть здоровым, целеустремленным, успевающим человеком, то ЗО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действительно тв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3568680" cy="242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80000" y="4149720"/>
            <a:ext cx="3240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2Z</dcterms:created>
  <dc:creator>Дом</dc:creator>
  <dc:description/>
  <dc:language>en-US</dc:language>
  <cp:lastModifiedBy>Дом</cp:lastModifiedBy>
  <dcterms:modified xsi:type="dcterms:W3CDTF">2009-12-26T17:06:34Z</dcterms:modified>
  <cp:revision>10</cp:revision>
  <dc:subject/>
  <dc:title>Слайд 1</dc:title>
</cp:coreProperties>
</file>