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13D-25B5-4441-80D9-62FDAA1A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6BB-E92B-4530-930A-4CC12116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7C1-0E00-4848-BC4F-972709C7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925-0827-4D07-91FA-1FCE3488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CAF3-BB03-423E-B7E4-55044B84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C7E0-7733-463E-844A-3201055C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69FC-6543-43DC-A928-65074197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9737-D254-41E9-B578-A64FE2E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9A23-B513-4D01-A098-9045906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0CCD-8C3E-44B9-B1F5-905E5554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D986-F008-46B8-A287-AA3B7888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DB7-9A4B-4672-819C-6336AC88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8311-B9C2-45A8-8F21-B966240A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6B0F-B6E9-418D-A154-E95A2530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1AB8-902E-46CF-84BA-BD83D201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038A-7E0A-4609-A31E-E39D1E90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F8D1-ACB5-40F1-A366-632B2395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397C-539F-4ECB-AFE1-C1EB4E7D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3DD8-605B-475F-A3E9-C6E8F605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E2B5-7696-46D3-8A6F-315EBE3E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61D9-B20D-4298-A215-D799A7E8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6BC0-B3F1-4769-B505-2C0DA1A3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1A9-1789-4321-9DDA-4A40BF86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B65F-3727-4D32-8BE3-C22676BB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7AFE-3E13-4C07-B4BD-8A48EA7B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E7BF-DBA6-4545-ABF6-AC62B381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4DC0-E7DD-495E-985D-B30B587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8901-320F-4EE8-94B1-602AFF4A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93F8-1058-49A0-9D27-65772B13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9B38-E02F-471B-A63E-81E6B89C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8C9-C0CA-4FDF-8930-772DB5C8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3C9-7F6C-4409-8965-97DD18D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DD7-2881-4571-AC6B-B8A3312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0DE-0579-43FE-806B-42DD1FE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131-9F42-4689-A007-55EB2F9F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386-101E-404D-8B36-AFAAB8E7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0BCA-A3DA-4E23-B6BF-19E0DE91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AD3B-547D-4E30-B16E-1160AF5150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8E25-D094-486D-ACCB-19F29F9214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ОЖ расшифровывается как Здоровый Образ Жизни. Сейчас данная тема очень актуальна. Заключается данное понятие в том, что каждый человек должен пристально следить за своим здоровьем, рационом пищи и занятием спортом. Проблеме ЗОЖ уделяют внимание на всех уровнях: от жизненных принципов каждого человека, до политики государства, направленной на увлечение нации в 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6236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io-Россия – Александр Тушев (Europe), Влад Есаулков, Влад Минаков, Александр Рыбаков, Вика Сафронов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8642160" cy="3770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71640" y="189000"/>
            <a:ext cx="334008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доровый Образ Жизни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-4456080" y="1119240"/>
            <a:ext cx="2990880" cy="22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191520"/>
            <a:ext cx="4680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ми проблемами у современной молодежи являются признаки нездоровой жизни: пристрастие к курению, алкоголю и наркотикам, зависимость от компьютера, малоподвижный образ жизни. Со всем этим ведется активная борьб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о стало уделять внимание всевозможным спортивным мероприятиям. Каждый год проводятся Лыжня России и Кросс нации. Основная задача - привлечь молодежь к спорту. Стоит отметить, что это удается осуществить. Полным ходом набирает свою силу экстремальное движение - люди, увлеченные экстремальными видами спорта. Молодое население страны начало постепенно находить себя. Наркомания и алкоголизм уже не в моде. Наметился рост численности некурящих людей. Вот они, плоды ЗО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148360" y="2852640"/>
            <a:ext cx="2952720" cy="3861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580000" y="189000"/>
            <a:ext cx="338292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08240"/>
            <a:ext cx="9144000" cy="60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" rIns="9360" tIns="9360" bIns="9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доровый образ жизн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— это реализация комплекса действий во всех основных формах жизнедеятельности человека: трудовой, общественной, семейно-бытовой, досуг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зко биологическом смысле речь идет о физиологических адаптационных возможностях человека к воздействиям внешней среды и изменениям состояний внутренней среды. движения: физически активная жизнь, включая специальные физические упражнения с учётом возрастных и физиологических особеннос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гиен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изма: соблюдение правил личной и общественной гигиены, владение навыками первой помощ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али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На физиологическое состояние человека большое влияние оказывает его психоэмоциональное состояние, которое зависит, в свою очередь, от его ментальных установок. Поэтому некоторые авторы</a:t>
            </a:r>
            <a:r>
              <a:rPr b="1" lang="en-US" sz="1800" spc="-1" strike="noStrike">
                <a:solidFill>
                  <a:srgbClr val="2406d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также выделяют дополнительно следующие аспекты ЗОЖ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эмоциональное самочувствие: психогигиена, умение справляться с собственными эмоция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интеллектуальное самочувствие: способность человека узнавать и использовать новую информацию для оптимальных действий в новых обстоятельств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06da"/>
                </a:solidFill>
                <a:latin typeface="Arial"/>
              </a:rPr>
              <a:t>духовное самочувствие: способность устанавливать действительно значимые, конструктивные жизненные цели и стремиться к ним, оптим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92520"/>
            <a:ext cx="5400720" cy="66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" rIns="9360" tIns="9360" bIns="9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З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ирование образа жизни, способствующего укреплению здоровья человека, осуществляется на трёх уровн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циальном: пропаганда через СМИ, информационно-просветительская рабо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фраструктурном: конкретные условия в основных сферах жизнедеятельности (наличие свободного времени, материальных средств), профилактические учреждения, экологический контро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чностном: система ценностных ориентаций человека, стандартизация бытового укл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оциальный уровень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 России проблемами этого уровня занимается служба формирования здорового образа жизни (СФЗОЖ), которая включает краевые, областные, городские и районные центры здоровья, врачебно-физкультурные диспансеры, косметологические лечебницы, кабинеты пропаганды здорового образа жизни. Научно-методическое обеспечение осуществляет Всероссийский научно-исследовательский центр профилактической медиц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33396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2958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900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нятно, что ЗОЖ свойственен не только молодым людям. Здоровый образ жизни важен так же и для среднего возраста, не говоря уже о пожилых. Сейчас очень распространено такое явление, что человек лет сорока работает себе тихо в офисе, и вся его жизнь сводится к тому, что он каждый день ходит на работу и ведет неподвижный образ жизнедеятельности. Это очень опасно. Многие болезни появляются из-за того, что человеку не хватает банального движения. Люди, которые занимаются спортом, меньше подвержены стрессам на работе. Есть масса аспектов, которые можно отнести к ЗОЖ, но вот основополагающими являются всего несколько: спорт, здоровый отдых, отсутствие вредных привычек. Каждый должен сделать выводы из прочитанного материала. Если хочешь быть здоровым, целеустремленным, успевающим человеком, то ЗО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действительно тв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3568680" cy="242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580000" y="4149720"/>
            <a:ext cx="3240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2Z</dcterms:created>
  <dc:creator>Дом</dc:creator>
  <dc:description/>
  <dc:language>en-US</dc:language>
  <cp:lastModifiedBy>Дом</cp:lastModifiedBy>
  <dcterms:modified xsi:type="dcterms:W3CDTF">2009-12-26T17:06:34Z</dcterms:modified>
  <cp:revision>10</cp:revision>
  <dc:subject/>
  <dc:title>Слайд 1</dc:title>
</cp:coreProperties>
</file>