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png" ContentType="image/png"/>
  <Override PartName="/ppt/media/arrow.wav" ContentType="audio/x-wav"/>
  <Override PartName="/ppt/media/image8.png" ContentType="image/png"/>
  <Override PartName="/ppt/media/chimes.wav" ContentType="audio/x-wav"/>
  <Override PartName="/ppt/media/wind.wav" ContentType="audio/x-wav"/>
  <Override PartName="/ppt/media/image2.png" ContentType="image/png"/>
  <Override PartName="/ppt/media/image9.jpeg" ContentType="image/jpeg"/>
  <Override PartName="/ppt/media/image6.jpeg" ContentType="image/jpeg"/>
  <Override PartName="/ppt/media/breeze.wav" ContentType="audio/x-wav"/>
  <Override PartName="/ppt/media/image3.png" ContentType="image/png"/>
  <Override PartName="/ppt/media/image4.png" ContentType="image/png"/>
  <Override PartName="/ppt/media/whoosh.wav" ContentType="audio/x-wav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7E7-089B-43DC-B310-377EA173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0D4-0FDE-46B6-AE8C-10731923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5FC-7D47-4B60-A520-8F9022E9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1F6-7850-47E0-90C3-18E34E08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FCC8-6F3C-4FD2-9C25-769D1967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B42B-E7D0-4B13-AF80-E9D9C2E6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D5F8-997D-4EAF-AAFB-F21FA540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4FFD-40B0-497D-9412-323B6892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3B3D-A18A-4B51-8BD9-FCB9F0CC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B7C7-5B28-4B1A-91D3-5753C0F9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862F-150B-47C8-B6CC-5E10EC4F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17B-9E6A-447A-8399-4F6E3C33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15E0-2DB2-4FE9-AAA9-D45DDD1D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C7AF-FF50-4CEF-A761-7A655C27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6131-60F2-4E98-AE61-7574762E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0DCE-1026-4E24-9FBB-DA7B1831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352D-9F18-4F09-8AA6-40C6AFDE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DCB-C981-468F-BC1F-16E0C012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5CF-A947-4381-ACF1-48B7FD62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BD4-CC98-4C16-96E8-28F81AD6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62D-2F83-4B57-A4BD-4389712C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399-5024-43FF-9025-7FF389C8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9B9-6BC0-4581-B324-7C4DE061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5EE-1D97-456F-8EE8-C4921BD5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2623-9ACF-4699-8C2A-525E5A88793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78D7-9517-40F5-92F6-F05D3C5BE8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Перпендикуляр и наклон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68360" y="907920"/>
            <a:ext cx="75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Times New Roman"/>
              </a:rPr>
              <a:t>Угол между прямой и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0_6323"/>
          <p:cNvPicPr/>
          <p:nvPr/>
        </p:nvPicPr>
        <p:blipFill>
          <a:blip r:embed="rId1"/>
          <a:stretch/>
        </p:blipFill>
        <p:spPr>
          <a:xfrm>
            <a:off x="250920" y="2349360"/>
            <a:ext cx="464796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5003640" y="2133720"/>
            <a:ext cx="335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d629"/>
                </a:solidFill>
                <a:latin typeface="Times New Roman"/>
              </a:rPr>
              <a:t>Углом между прямой и плоскостью, пересекающей эту прямую и не перпендикулярной к ней, называется угол между прямой и её проекцией на эту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ВТОРЫ:</a:t>
            </a:r>
            <a:br>
              <a:rPr sz="4400"/>
            </a:b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учащиеся 10 Б класса МБОУ «СОШ №6» г.Чебокса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Илларионов Дмитр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Никитин Серг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горов Владими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Мартынов Евг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учный консультан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читель математики Маркова З.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642 -0.01528 0.31284 -0.03033 0.38142 0.05578 C 0.45 0.14189 0.50069 0.43449 0.41163 0.5162 C 0.32257 0.59791 -0.04028 0.61898 -0.15243 0.5456 C -0.26459 0.47222 -0.34393 0.16736 -0.26163 0.07592 C -0.17934 -0.01551 0.24114 0.00995 0.34184 -0.00325 E">
                                      <p:cBhvr>
                                        <p:cTn id="33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16597 -0.07917 0.33212 -0.15833 0.40816 -0.09306 C 0.4842 -0.02778 0.5467 0.29838 0.45573 0.39213 C 0.36476 0.48588 -0.01806 0.53866 -0.13715 0.46968 C -0.25642 0.40069 -0.27049 0.0706 -0.26042 -0.02176 C -0.25035 -0.11412 -0.11007 -0.07454 -0.07674 -0.08518 C -0.04358 -0.09583 -0.05208 -0.09051 -0.06059 -0.08518 E">
                                      <p:cBhvr>
                                        <p:cTn id="33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-0.0033 -0.06019 -0.00642 -0.12014 0.02917 -0.14885 C 0.06476 -0.17755 0.15955 -0.17014 0.21406 -0.17223 C 0.26858 -0.17431 0.31753 -0.17871 0.3559 -0.16135 C 0.39427 -0.14398 0.42396 -0.12107 0.44427 -0.06829 C 0.46458 -0.01551 0.47812 0.09213 0.47795 0.15509 C 0.47778 0.21805 0.47031 0.27361 0.44305 0.30995 C 0.4158 0.34629 0.36302 0.35393 0.31406 0.37361 C 0.2651 0.39328 0.20694 0.42083 0.14896 0.42777 C 0.09097 0.43472 0.02101 0.43379 -0.03368 0.41551 C -0.08837 0.39722 -0.14063 0.37662 -0.17899 0.31782 C -0.21736 0.25902 -0.2559 0.13078 -0.26389 0.06203 C -0.27188 -0.00672 -0.26233 -0.06898 -0.22674 -0.09468 C -0.19115 -0.12037 -0.11129 -0.09167 -0.05 -0.09144 C 0.01128 -0.09121 0.0776 -0.09329 0.1408 -0.09306 C 0.20399 -0.09283 0.28524 -0.09074 0.32917 -0.09005 C 0.37309 -0.08936 0.38889 -0.08982 0.40469 -0.08843 C 0.42048 -0.08704 0.42101 -0.08311 0.42448 -0.08218 E">
                                      <p:cBhvr>
                                        <p:cTn id="33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36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40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44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Перпендикуляр из точки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</a:t>
            </a: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 к плоскост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рез точку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оведем прямую, перпендикулярную к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Обозначим буквой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точку пересечения этой прямой с плоскостью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езок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ерпендикуляром, проведенным из точки А к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 а точка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 – основанием перпендикуляра.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ина перпендикуляра  называется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стоянием от точки А до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519280" cy="15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Motion origin="layout" path="M -6.11111E-006 -3.70113E-007 C 0.05954 -0.01203 -0.20018 -0.35693 -0.31181 -0.41383 C -0.42344 -0.47074 -0.72136 -0.41082 -0.66945 -0.34189 C -0.61754 -0.27296 -0.05955 0.01203 -6.11111E-006 -3.70113E-007 Z">
                                      <p:cBhvr>
                                        <p:cTn id="15" dur="8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remove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Наклонная из точки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</a:t>
            </a: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 к плоскост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лоскост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тметим произвольную точку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отличную от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и проведем отрезок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н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клонной, проведенной из точки А к плоскост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а точк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снованием наклонно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резок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- проекц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клонной на плоскость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Безымянный2"/>
          <p:cNvPicPr/>
          <p:nvPr/>
        </p:nvPicPr>
        <p:blipFill>
          <a:blip r:embed="rId1"/>
          <a:stretch/>
        </p:blipFill>
        <p:spPr>
          <a:xfrm>
            <a:off x="5724360" y="3357720"/>
            <a:ext cx="28800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33"/>
                </a:solidFill>
                <a:latin typeface="Comic Sans MS"/>
              </a:rPr>
              <a:t>      </a:t>
            </a:r>
            <a:r>
              <a:rPr b="0" i="1" lang="ru-RU" sz="2800" spc="-1" strike="noStrike">
                <a:solidFill>
                  <a:srgbClr val="33cc33"/>
                </a:solidFill>
                <a:latin typeface="Comic Sans MS"/>
              </a:rPr>
              <a:t>Перпендикуляр, проведенный из данной точки к плоскости, меньше любой наклонной, проведенной из той же точки  к этой плоск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H&lt;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Безымянный2"/>
          <p:cNvPicPr/>
          <p:nvPr/>
        </p:nvPicPr>
        <p:blipFill>
          <a:blip r:embed="rId1"/>
          <a:stretch/>
        </p:blipFill>
        <p:spPr>
          <a:xfrm>
            <a:off x="5148360" y="3573360"/>
            <a:ext cx="3541680" cy="196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Расстояние между параллельными плоскостя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6960" y="2263680"/>
            <a:ext cx="71992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тояние от произвольной точки одной из параллельных плоскостей до другой плоскости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асстоянием между параллельными плоскост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7" descr="Безымянный"/>
          <p:cNvPicPr/>
          <p:nvPr/>
        </p:nvPicPr>
        <p:blipFill>
          <a:blip r:embed="rId1"/>
          <a:stretch/>
        </p:blipFill>
        <p:spPr>
          <a:xfrm>
            <a:off x="4716360" y="4005360"/>
            <a:ext cx="3384720" cy="17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Расстояние между прямой            и паралле</a:t>
            </a:r>
            <a:r>
              <a:rPr b="0" lang="ru-RU" sz="3600" spc="-1" strike="noStrike" u="sng">
                <a:solidFill>
                  <a:srgbClr val="ff00ff"/>
                </a:solidFill>
                <a:uFillTx/>
                <a:latin typeface="Comic Sans MS"/>
              </a:rPr>
              <a:t>льной ей плоскость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6086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прямая параллельна плоскости, то все ее точки равноудалены от этой плоскости. В этом случае расстояние от произвольной точки до плоскости 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асстоянием между прямой и параллельной ей плоскост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Безымянный3"/>
          <p:cNvPicPr/>
          <p:nvPr/>
        </p:nvPicPr>
        <p:blipFill>
          <a:blip r:embed="rId1"/>
          <a:stretch/>
        </p:blipFill>
        <p:spPr>
          <a:xfrm>
            <a:off x="6227640" y="2708280"/>
            <a:ext cx="2916360" cy="21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Расстояние между скрещивающимися прямы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тояние между одной из скрещивающихся прямых  и плоскостью, проходящей через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ругую прямую параллельн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ой, назыв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асстоянием межд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крещивающимися прямы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Безымянный10"/>
          <p:cNvPicPr/>
          <p:nvPr/>
        </p:nvPicPr>
        <p:blipFill>
          <a:blip r:embed="rId1"/>
          <a:stretch/>
        </p:blipFill>
        <p:spPr>
          <a:xfrm>
            <a:off x="6227640" y="3573360"/>
            <a:ext cx="17398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-316440"/>
            <a:ext cx="67262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Теорема о трех перпендикуляр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100_6322"/>
          <p:cNvPicPr/>
          <p:nvPr/>
        </p:nvPicPr>
        <p:blipFill>
          <a:blip r:embed="rId1"/>
          <a:stretch/>
        </p:blipFill>
        <p:spPr>
          <a:xfrm>
            <a:off x="5278320" y="2616120"/>
            <a:ext cx="2895840" cy="2368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11280" y="1268280"/>
            <a:ext cx="51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Прямая, проведенная к плоскости через основание наклонной перпендикулярно к ее проекции на эту плоскость, перпендикулярна и к самой накло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116000" y="2708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6920" y="2852640"/>
            <a:ext cx="4032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703dff"/>
                </a:solidFill>
                <a:uFillTx/>
                <a:latin typeface="Times New Roman"/>
              </a:rPr>
              <a:t>Доказательство</a:t>
            </a:r>
            <a:r>
              <a:rPr b="0" i="1" lang="ru-RU" sz="1600" spc="-1" strike="noStrike" u="sng">
                <a:solidFill>
                  <a:srgbClr val="703dff"/>
                </a:solidFill>
                <a:uFillTx/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Безымянный"/>
          <p:cNvPicPr/>
          <p:nvPr/>
        </p:nvPicPr>
        <p:blipFill>
          <a:blip r:embed="rId2"/>
          <a:stretch/>
        </p:blipFill>
        <p:spPr>
          <a:xfrm>
            <a:off x="3203640" y="4869000"/>
            <a:ext cx="84240" cy="14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3">
            <a:lum bright="6000"/>
          </a:blip>
          <a:stretch/>
        </p:blipFill>
        <p:spPr>
          <a:xfrm rot="21411600">
            <a:off x="611280" y="3645000"/>
            <a:ext cx="4608360" cy="23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357 0.08652 -0.17274 0.41013 -0.10121 0.50174 C -0.02968 0.59334 0.33577 0.63683 0.42934 0.55031 C 0.52292 0.4638 0.53212 0.07356 0.4599 -0.01712 C 0.38768 -0.10779 0.09358 -0.08651 0 0 Z">
                                      <p:cBhvr>
                                        <p:cTn id="25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7659E-006 C 0.00208 0.00092 -0.05105 -0.02429 -5.55556E-006 0.0155 C 0.05103 0.05528 0.19913 0.24288 0.3059 0.23826 C 0.41267 0.23363 0.60208 0.09692 0.64114 -0.01273 C 0.6802 -0.12237 0.62291 -0.35947 0.53992 -0.42008 C 0.45694 -0.48069 0.22985 -0.42378 0.14357 -0.37636 C 0.05728 -0.32894 0.04843 -0.19917 0.02239 -0.13486 C -0.00365 -0.07056 -0.00956 -0.01342 -0.01303 0.00925 C -0.0165 0.03192 -0.00209 -0.00093 -5.55556E-006 3.7659E-006 Z">
                                      <p:cBhvr>
                                        <p:cTn id="25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7 6.22484E-006 C 0.02587 -0.13416 0.05191 -0.26833 -0.02118 -0.31644 C -0.09427 -0.36456 -0.33819 -0.34651 -0.43871 -0.28822 C -0.53924 -0.22993 -0.63542 -0.07286 -0.62465 0.03308 C -0.61389 0.13903 -0.48368 0.30766 -0.37413 0.34814 C -0.26458 0.38862 -0.01805 0.34329 0.03299 0.27597 C 0.08403 0.20866 -0.06371 -0.00855 -0.06823 -0.05644 C -0.07274 -0.10432 -0.00608 -0.01549 0.0059 -0.01087 C 0.01788 -0.00624 0.0026 -0.01989 0.00365 -0.02822 C 0.00469 -0.03654 0.01181 -0.0643 0.01181 -0.06106 C 0.01181 -0.05782 0.00764 -0.03354 0.00365 -0.00925 E">
                                      <p:cBhvr>
                                        <p:cTn id="25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Comic Sans MS"/>
              </a:rPr>
              <a:t>Обратная теорем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5256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2fff2f"/>
                </a:solidFill>
                <a:latin typeface="Comic Sans MS"/>
              </a:rPr>
              <a:t>Прямая, проведенная в плоскости через основание наклонной перпендикулярно к ней, перпендикулярна и к ее прое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100_632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651640" y="2276640"/>
            <a:ext cx="2895480" cy="236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5:36:29Z</dcterms:created>
  <dc:creator>Гость</dc:creator>
  <dc:description/>
  <dc:language>en-US</dc:language>
  <cp:lastModifiedBy>XTreme.ws</cp:lastModifiedBy>
  <dcterms:modified xsi:type="dcterms:W3CDTF">2013-03-28T09:54:50Z</dcterms:modified>
  <cp:revision>20</cp:revision>
  <dc:subject/>
  <dc:title>Расстояние от точки до плоскости</dc:title>
</cp:coreProperties>
</file>