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png" ContentType="image/png"/>
  <Override PartName="/ppt/media/arrow.wav" ContentType="audio/x-wav"/>
  <Override PartName="/ppt/media/image8.png" ContentType="image/png"/>
  <Override PartName="/ppt/media/chimes.wav" ContentType="audio/x-wav"/>
  <Override PartName="/ppt/media/wind.wav" ContentType="audio/x-wav"/>
  <Override PartName="/ppt/media/image2.png" ContentType="image/png"/>
  <Override PartName="/ppt/media/image9.jpeg" ContentType="image/jpeg"/>
  <Override PartName="/ppt/media/image6.jpeg" ContentType="image/jpeg"/>
  <Override PartName="/ppt/media/breeze.wav" ContentType="audio/x-wav"/>
  <Override PartName="/ppt/media/image3.png" ContentType="image/png"/>
  <Override PartName="/ppt/media/image4.png" ContentType="image/png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B19-09C0-467D-AFC8-9F3A82D7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29C-D96E-496B-8B8B-ED30AD58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7FD-DF18-4DCE-819C-5107E1ED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673-5C27-4B16-92E8-1A297C67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F1D3-81AA-45A2-A660-C5FD2547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52A5-5F02-4728-A219-E250256A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6461-E9EF-4436-BBA7-EB8E2055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4BC5-8575-4B20-A81B-5EF11F0E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5164-06F0-4461-B769-988A3553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2A9-E464-4084-A744-C96B99E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556-B53D-487C-B773-85711D3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9DA-055C-47CF-B9EE-87C3D00C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4E1-E5A9-45F2-B414-B40DABB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C4DC-98E5-4AD6-A885-B0F2D191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3E45-17F8-420F-BE4B-40296B37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8435-2D0B-40D9-B6F8-8C3FD3A9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14FF-27BB-4446-8968-CE1AB8F4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7D3-6E3F-4A05-86DA-7234461D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121-0609-4123-A68C-906352B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A2E-F886-4883-97C6-CEB09203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F65-333E-4D50-BFB0-6FDF33EA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91E-4FF4-4B07-AEF9-55793C28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239-E700-4108-AEEC-C344073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254-28FF-4B86-93A4-3A97955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6C61-0E92-4F65-B0FE-46A899BA53D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9C6-1227-48FA-93E6-CA39F3D24A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Перпендикуляр и наклон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907920"/>
            <a:ext cx="75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Times New Roman"/>
              </a:rPr>
              <a:t>Угол между прямой и плоск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100_6323"/>
          <p:cNvPicPr/>
          <p:nvPr/>
        </p:nvPicPr>
        <p:blipFill>
          <a:blip r:embed="rId1"/>
          <a:stretch/>
        </p:blipFill>
        <p:spPr>
          <a:xfrm>
            <a:off x="250920" y="2349360"/>
            <a:ext cx="4647960" cy="3483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5003640" y="2133720"/>
            <a:ext cx="335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d629"/>
                </a:solidFill>
                <a:latin typeface="Times New Roman"/>
              </a:rPr>
              <a:t>Углом между прямой и плоскостью, пересекающей эту прямую и не перпендикулярной к ней, называется угол между прямой и её проекцией на эту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ВТОРЫ:</a:t>
            </a:r>
            <a:br>
              <a:rPr sz="4400"/>
            </a:b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</a:rPr>
              <a:t>учащиеся 10 Б класса МБОУ «СОШ №6» г.Чебокса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Илларионов Дмитр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Никитин Серг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горов Владими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Мартынов Евг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аучный консультан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читель математики Маркова З.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642 -0.01528 0.31284 -0.03033 0.38142 0.05578 C 0.45 0.14189 0.50069 0.43449 0.41163 0.5162 C 0.32257 0.59791 -0.04028 0.61898 -0.15243 0.5456 C -0.26459 0.47222 -0.34393 0.16736 -0.26163 0.07592 C -0.17934 -0.01551 0.24114 0.00995 0.34184 -0.00325 E">
                                      <p:cBhvr>
                                        <p:cTn id="33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0.16597 -0.07917 0.33212 -0.15833 0.40816 -0.09306 C 0.4842 -0.02778 0.5467 0.29838 0.45573 0.39213 C 0.36476 0.48588 -0.01806 0.53866 -0.13715 0.46968 C -0.25642 0.40069 -0.27049 0.0706 -0.26042 -0.02176 C -0.25035 -0.11412 -0.11007 -0.07454 -0.07674 -0.08518 C -0.04358 -0.09583 -0.05208 -0.09051 -0.06059 -0.08518 E">
                                      <p:cBhvr>
                                        <p:cTn id="33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-0.0033 -0.06019 -0.00642 -0.12014 0.02917 -0.14885 C 0.06476 -0.17755 0.15955 -0.17014 0.21406 -0.17223 C 0.26858 -0.17431 0.31753 -0.17871 0.3559 -0.16135 C 0.39427 -0.14398 0.42396 -0.12107 0.44427 -0.06829 C 0.46458 -0.01551 0.47812 0.09213 0.47795 0.15509 C 0.47778 0.21805 0.47031 0.27361 0.44305 0.30995 C 0.4158 0.34629 0.36302 0.35393 0.31406 0.37361 C 0.2651 0.39328 0.20694 0.42083 0.14896 0.42777 C 0.09097 0.43472 0.02101 0.43379 -0.03368 0.41551 C -0.08837 0.39722 -0.14063 0.37662 -0.17899 0.31782 C -0.21736 0.25902 -0.2559 0.13078 -0.26389 0.06203 C -0.27188 -0.00672 -0.26233 -0.06898 -0.22674 -0.09468 C -0.19115 -0.12037 -0.11129 -0.09167 -0.05 -0.09144 C 0.01128 -0.09121 0.0776 -0.09329 0.1408 -0.09306 C 0.20399 -0.09283 0.28524 -0.09074 0.32917 -0.09005 C 0.37309 -0.08936 0.38889 -0.08982 0.40469 -0.08843 C 0.42048 -0.08704 0.42101 -0.08311 0.42448 -0.08218 E">
                                      <p:cBhvr>
                                        <p:cTn id="33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36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0573 -0.0456 -0.01128 -0.0912 -0.0092 -0.1287 C -0.00712 -0.1662 -0.00174 -0.20208 0.01285 -0.22477 C 0.02743 -0.24745 0.02899 -0.2581 0.07795 -0.26504 C 0.12691 -0.27199 0.24757 -0.2794 0.30712 -0.26667 C 0.36667 -0.25393 0.40781 -0.22523 0.4349 -0.18912 C 0.46198 -0.15301 0.46285 -0.10856 0.46979 -0.04954 C 0.47674 0.00949 0.49306 0.11528 0.47674 0.16597 C 0.46042 0.21667 0.40851 0.23218 0.37222 0.25417 C 0.33594 0.27616 0.31372 0.28611 0.25938 0.29769 C 0.20504 0.30926 0.11458 0.33033 0.04653 0.32408 C -0.02153 0.31783 -0.09878 0.30996 -0.14878 0.26042 C -0.19878 0.21088 -0.2342 0.08449 -0.25347 0.02639 C -0.27274 -0.03171 -0.26788 -0.05417 -0.26389 -0.08842 C -0.25989 -0.12268 -0.25712 -0.16574 -0.22899 -0.17986 C -0.20087 -0.19398 -0.125 -0.17361 -0.09531 -0.17361 C -0.06562 -0.17361 -0.05781 -0.1794 -0.05104 -0.17986 E">
                                      <p:cBhvr>
                                        <p:cTn id="344" dur="2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Перпендикуляр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рез точку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роведем прямую, перпендикулярную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Обозначим буквой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очку пересечения этой прямой с плоскостью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ерпендикуляром, проведенным из точки А к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 а точк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 – основанием перпендикуляра.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ина перпендикуляра  называется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стоянием от точки А до плоскости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519280" cy="15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Motion origin="layout" path="M -6.11111E-006 -3.70113E-007 C 0.05954 -0.01203 -0.20018 -0.35693 -0.31181 -0.41383 C -0.42344 -0.47074 -0.72136 -0.41082 -0.66945 -0.34189 C -0.61754 -0.27296 -0.05955 0.01203 -6.11111E-006 -3.70113E-007 Z">
                                      <p:cBhvr>
                                        <p:cTn id="15" dur="8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remove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Наклонная из точки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0" lang="ru-RU" sz="4400" spc="-1" strike="noStrike" u="sng">
                <a:solidFill>
                  <a:srgbClr val="ffb800"/>
                </a:solidFill>
                <a:uFillTx/>
                <a:latin typeface="Comic Sans MS"/>
              </a:rPr>
              <a:t> к плоскости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тметим произвольную точку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тличную от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 проведем 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аклонной, проведенной из точки А к плоскост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а точк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снованием наклонно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резок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- проекц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клонной на плоскость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5" descr="Безымянный2"/>
          <p:cNvPicPr/>
          <p:nvPr/>
        </p:nvPicPr>
        <p:blipFill>
          <a:blip r:embed="rId1"/>
          <a:stretch/>
        </p:blipFill>
        <p:spPr>
          <a:xfrm>
            <a:off x="5724360" y="3357720"/>
            <a:ext cx="2880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      </a:t>
            </a:r>
            <a:r>
              <a:rPr b="0" i="1" lang="ru-RU" sz="2800" spc="-1" strike="noStrike">
                <a:solidFill>
                  <a:srgbClr val="33cc33"/>
                </a:solidFill>
                <a:latin typeface="Comic Sans MS"/>
              </a:rPr>
              <a:t>Перпендикуляр, проведенный из данной точки к плоскости, меньше любой наклонной, проведенной из той же точки  к этой плоск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H&lt;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6" descr="Безымянный2"/>
          <p:cNvPicPr/>
          <p:nvPr/>
        </p:nvPicPr>
        <p:blipFill>
          <a:blip r:embed="rId1"/>
          <a:stretch/>
        </p:blipFill>
        <p:spPr>
          <a:xfrm>
            <a:off x="5148360" y="3573360"/>
            <a:ext cx="35416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параллельными плоскостя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6960" y="2263680"/>
            <a:ext cx="71992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ояние от произвольной точки одной из параллельных плоскостей до другой плоскости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сстоянием между параллельными плоскост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Безымянный"/>
          <p:cNvPicPr/>
          <p:nvPr/>
        </p:nvPicPr>
        <p:blipFill>
          <a:blip r:embed="rId1"/>
          <a:stretch/>
        </p:blipFill>
        <p:spPr>
          <a:xfrm>
            <a:off x="4716360" y="4005360"/>
            <a:ext cx="3384720" cy="17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ff"/>
                </a:solidFill>
                <a:uFillTx/>
                <a:latin typeface="Comic Sans MS"/>
              </a:rPr>
              <a:t>Расстояние между прямой            и паралле</a:t>
            </a:r>
            <a:r>
              <a:rPr b="0" lang="ru-RU" sz="3600" spc="-1" strike="noStrike" u="sng">
                <a:solidFill>
                  <a:srgbClr val="ff00ff"/>
                </a:solidFill>
                <a:uFillTx/>
                <a:latin typeface="Comic Sans MS"/>
              </a:rPr>
              <a:t>льной ей плоскость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6086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прямая параллельна плоскости, то все ее точки равноудалены от этой плоскости. В этом случае расстояние от произвольной точки до плоскости 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прямой и параллельной ей плоск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Безымянный3"/>
          <p:cNvPicPr/>
          <p:nvPr/>
        </p:nvPicPr>
        <p:blipFill>
          <a:blip r:embed="rId1"/>
          <a:stretch/>
        </p:blipFill>
        <p:spPr>
          <a:xfrm>
            <a:off x="6227640" y="2708280"/>
            <a:ext cx="29163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Расстояние между скрещивающимися прямы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тояние между одной из скрещивающихся прямых  и плоскостью, проходящей через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ругую прямую параллель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вой, назыв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асстоянием межд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крещивающимися прямы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Безымянный10"/>
          <p:cNvPicPr/>
          <p:nvPr/>
        </p:nvPicPr>
        <p:blipFill>
          <a:blip r:embed="rId1"/>
          <a:stretch/>
        </p:blipFill>
        <p:spPr>
          <a:xfrm>
            <a:off x="6227640" y="3573360"/>
            <a:ext cx="17398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-316440"/>
            <a:ext cx="672624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Теорема о трех перпендикуляр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5" descr="100_6322"/>
          <p:cNvPicPr/>
          <p:nvPr/>
        </p:nvPicPr>
        <p:blipFill>
          <a:blip r:embed="rId1"/>
          <a:stretch/>
        </p:blipFill>
        <p:spPr>
          <a:xfrm>
            <a:off x="5278320" y="2616120"/>
            <a:ext cx="2895840" cy="2368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11280" y="1268280"/>
            <a:ext cx="511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Прямая, проведенная к плоскости через основание наклонной перпендикулярно к ее проекции на эту плоскость, перпендикулярна и к самой накло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116000" y="2708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26920" y="2852640"/>
            <a:ext cx="403236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703dff"/>
                </a:solidFill>
                <a:uFillTx/>
                <a:latin typeface="Times New Roman"/>
              </a:rPr>
              <a:t>Доказательство</a:t>
            </a:r>
            <a:r>
              <a:rPr b="0" i="1" lang="ru-RU" sz="1600" spc="-1" strike="noStrike" u="sng">
                <a:solidFill>
                  <a:srgbClr val="703dff"/>
                </a:solidFill>
                <a:uFillTx/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Безымянный"/>
          <p:cNvPicPr/>
          <p:nvPr/>
        </p:nvPicPr>
        <p:blipFill>
          <a:blip r:embed="rId2"/>
          <a:stretch/>
        </p:blipFill>
        <p:spPr>
          <a:xfrm>
            <a:off x="3203640" y="4869000"/>
            <a:ext cx="842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3">
            <a:lum bright="6000"/>
          </a:blip>
          <a:stretch/>
        </p:blipFill>
        <p:spPr>
          <a:xfrm rot="21411600">
            <a:off x="611280" y="3645000"/>
            <a:ext cx="460836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357 0.08652 -0.17274 0.41013 -0.10121 0.50174 C -0.02968 0.59334 0.33577 0.63683 0.42934 0.55031 C 0.52292 0.4638 0.53212 0.07356 0.4599 -0.01712 C 0.38768 -0.10779 0.09358 -0.08651 0 0 Z">
                                      <p:cBhvr>
                                        <p:cTn id="2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3.7659E-006 C 0.00208 0.00092 -0.05105 -0.02429 -5.55556E-006 0.0155 C 0.05103 0.05528 0.19913 0.24288 0.3059 0.23826 C 0.41267 0.23363 0.60208 0.09692 0.64114 -0.01273 C 0.6802 -0.12237 0.62291 -0.35947 0.53992 -0.42008 C 0.45694 -0.48069 0.22985 -0.42378 0.14357 -0.37636 C 0.05728 -0.32894 0.04843 -0.19917 0.02239 -0.13486 C -0.00365 -0.07056 -0.00956 -0.01342 -0.01303 0.00925 C -0.0165 0.03192 -0.00209 -0.00093 -5.55556E-006 3.7659E-006 Z">
                                      <p:cBhvr>
                                        <p:cTn id="25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7 6.22484E-006 C 0.02587 -0.13416 0.05191 -0.26833 -0.02118 -0.31644 C -0.09427 -0.36456 -0.33819 -0.34651 -0.43871 -0.28822 C -0.53924 -0.22993 -0.63542 -0.07286 -0.62465 0.03308 C -0.61389 0.13903 -0.48368 0.30766 -0.37413 0.34814 C -0.26458 0.38862 -0.01805 0.34329 0.03299 0.27597 C 0.08403 0.20866 -0.06371 -0.00855 -0.06823 -0.05644 C -0.07274 -0.10432 -0.00608 -0.01549 0.0059 -0.01087 C 0.01788 -0.00624 0.0026 -0.01989 0.00365 -0.02822 C 0.00469 -0.03654 0.01181 -0.0643 0.01181 -0.06106 C 0.01181 -0.05782 0.00764 -0.03354 0.00365 -0.00925 E">
                                      <p:cBhvr>
                                        <p:cTn id="25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Обратная теорем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525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2fff2f"/>
                </a:solidFill>
                <a:latin typeface="Comic Sans MS"/>
              </a:rPr>
              <a:t>Прямая, проведенная в плоскости через основание наклонной перпендикулярно к ней, перпендикулярна и к ее проек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100_632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651640" y="2276640"/>
            <a:ext cx="2895480" cy="2368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5:36:29Z</dcterms:created>
  <dc:creator>Гость</dc:creator>
  <dc:description/>
  <dc:language>en-US</dc:language>
  <cp:lastModifiedBy>XTreme.ws</cp:lastModifiedBy>
  <dcterms:modified xsi:type="dcterms:W3CDTF">2013-03-28T09:54:50Z</dcterms:modified>
  <cp:revision>20</cp:revision>
  <dc:subject/>
  <dc:title>Расстояние от точки до плоскости</dc:title>
</cp:coreProperties>
</file>