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391-41C2-4EEE-B615-E48911C6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E1AF-54C2-4138-A595-302F7ADA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66AE-D8FC-4BB7-B386-4F44ACB5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9F3D-1D8D-4DAB-BBE5-3F323D1A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BB88-75C5-42E3-A1C9-771B00E3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4764-69E3-4C59-9D96-071BFB3B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9EDA-0F71-4262-AAE2-FAD0A2B7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D6A6-980C-4A6C-AF22-73E57C71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1A85-2E05-458F-8161-0ADC2A2F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8590-389B-46AB-98DB-40F04F51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6E8F-AB2D-4B2F-87B4-EA9224C4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365-A159-4F0A-A6A3-5C716D1A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3C6E-DBC6-4CE8-974F-AEF99099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5FF5-62ED-4B0A-ACB3-CFFC9F44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DF8B-8E43-4220-9E8A-DEEA73FE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75D8-A41A-4350-ACF5-A6CED50D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3C25-FDBC-4DC6-A3E9-899DC623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715-7B09-4BCB-9A0B-3AA5A939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784-AA4F-4C0F-A2FB-D735E95B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C46-D135-49C8-80A4-543CF3BC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9AD9-FC9D-438A-8F18-32F31FB6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4CF-8412-4F5A-928F-B8631C6A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18CF-3E89-4436-AC52-02DE501C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C86D-3A6A-4DC2-B19A-D1196607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ОУ "Средняя общеобразовательная школа №6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3B32-6654-4760-91BE-F66AB17FAE9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ОУ "Средняя общеобразовательная школа №6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655E-8959-4951-9D4F-A0840ABA5A4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0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6372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ченик и учитель –союзники. Обучение должно быть бесконфликтным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7200"/>
            <a:ext cx="68580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Родительское собр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367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Monotype Corsiva"/>
              </a:rPr>
              <a:t>А н а л и з   к о н т р о л ь н ы х   р а б о т 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Monotype Corsiva"/>
              </a:rPr>
              <a:t>п о   р у с с к о м у  я з ы к у  </a:t>
            </a: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за 1 полугодие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268280"/>
          <a:ext cx="4643280" cy="3745080"/>
        </p:xfrm>
        <a:graphic>
          <a:graphicData uri="http://schemas.openxmlformats.org/drawingml/2006/table">
            <a:tbl>
              <a:tblPr/>
              <a:tblGrid>
                <a:gridCol w="884160"/>
                <a:gridCol w="623880"/>
                <a:gridCol w="625680"/>
                <a:gridCol w="628560"/>
                <a:gridCol w="625320"/>
                <a:gridCol w="628920"/>
                <a:gridCol w="62676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5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Monotype Corsiva"/>
                          <a:ea typeface="Arial"/>
                        </a:rPr>
                        <a:t>5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Monotype Corsiva"/>
                          <a:ea typeface="Arial"/>
                        </a:rPr>
                        <a:t>5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Monotype Corsiva"/>
                          <a:ea typeface="Arial"/>
                        </a:rPr>
                        <a:t>5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Monotype Corsiva"/>
                          <a:ea typeface="Arial"/>
                        </a:rPr>
                        <a:t>5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Monotype Corsiva"/>
                          <a:ea typeface="Arial"/>
                        </a:rPr>
                        <a:t>5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дикт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"5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"4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"3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Monotype Corsiva"/>
                          <a:ea typeface="Arial"/>
                        </a:rPr>
                        <a:t>"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Monotype Corsiva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Monotype Corsiva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Monotype Corsiva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Monotype Corsiva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Monotype Corsiva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гр.зад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"5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"4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"3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Monotype Corsiva"/>
                          <a:ea typeface="Arial"/>
                        </a:rPr>
                        <a:t>"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Monotype Corsiva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Monotype Corsiva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Monotype Corsiva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Object 86"/>
          <p:cNvGraphicFramePr/>
          <p:nvPr/>
        </p:nvGraphicFramePr>
        <p:xfrm>
          <a:off x="4859280" y="1197000"/>
          <a:ext cx="4284720" cy="259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8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197000"/>
                    <a:ext cx="428472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87"/>
          <p:cNvGraphicFramePr/>
          <p:nvPr/>
        </p:nvGraphicFramePr>
        <p:xfrm>
          <a:off x="4932360" y="3860640"/>
          <a:ext cx="4211640" cy="281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1" name="Object 8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3860640"/>
                    <a:ext cx="421164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64000" y="228600"/>
            <a:ext cx="37800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5 класс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900000" y="692280"/>
          <a:ext cx="4248360" cy="20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92280"/>
                    <a:ext cx="424836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5148360" y="692280"/>
          <a:ext cx="3995640" cy="1993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692280"/>
                    <a:ext cx="399564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7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8"/>
          <p:cNvGraphicFramePr/>
          <p:nvPr/>
        </p:nvGraphicFramePr>
        <p:xfrm>
          <a:off x="900000" y="2708280"/>
          <a:ext cx="4248360" cy="20048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2708280"/>
                    <a:ext cx="424836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9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0"/>
          <p:cNvGraphicFramePr/>
          <p:nvPr/>
        </p:nvGraphicFramePr>
        <p:xfrm>
          <a:off x="5148360" y="2727360"/>
          <a:ext cx="3995640" cy="20098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34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8360" y="2727360"/>
                    <a:ext cx="39956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1"/>
          <p:cNvGraphicFramePr/>
          <p:nvPr/>
        </p:nvGraphicFramePr>
        <p:xfrm>
          <a:off x="3132000" y="4653000"/>
          <a:ext cx="4032360" cy="19764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36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32000" y="4653000"/>
                    <a:ext cx="403236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720" y="277560"/>
            <a:ext cx="485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Monotype Corsiva"/>
              </a:rPr>
              <a:t>Анализ успеваемости</a:t>
            </a:r>
            <a:br>
              <a:rPr sz="4200"/>
            </a:br>
            <a:r>
              <a:rPr b="0" lang="ru-RU" sz="4200" spc="-1" strike="noStrike">
                <a:solidFill>
                  <a:srgbClr val="990033"/>
                </a:solidFill>
                <a:latin typeface="Monotype Corsiva"/>
              </a:rPr>
              <a:t> 5 «г» класса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1 четверть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0" y="3860640"/>
          <a:ext cx="9144000" cy="299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60640"/>
                    <a:ext cx="914400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24000" y="0"/>
          <a:ext cx="4392360" cy="3817800"/>
        </p:xfrm>
        <a:graphic>
          <a:graphicData uri="http://schemas.openxmlformats.org/drawingml/2006/table">
            <a:tbl>
              <a:tblPr/>
              <a:tblGrid>
                <a:gridCol w="2125440"/>
                <a:gridCol w="566640"/>
                <a:gridCol w="636840"/>
                <a:gridCol w="650880"/>
                <a:gridCol w="412560"/>
              </a:tblGrid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5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4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3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2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усский я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родо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остр.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р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узы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з-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4"/>
          <p:cNvGraphicFramePr/>
          <p:nvPr/>
        </p:nvGraphicFramePr>
        <p:xfrm>
          <a:off x="0" y="3860640"/>
          <a:ext cx="9144000" cy="299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60640"/>
                    <a:ext cx="914400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189000"/>
          <a:ext cx="5651640" cy="3902040"/>
        </p:xfrm>
        <a:graphic>
          <a:graphicData uri="http://schemas.openxmlformats.org/drawingml/2006/table">
            <a:tbl>
              <a:tblPr/>
              <a:tblGrid>
                <a:gridCol w="1833480"/>
                <a:gridCol w="955800"/>
                <a:gridCol w="952560"/>
                <a:gridCol w="955440"/>
                <a:gridCol w="9543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5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4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3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усский я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родо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остр.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р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узы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з-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405"/>
          <p:cNvSpPr/>
          <p:nvPr/>
        </p:nvSpPr>
        <p:spPr>
          <a:xfrm>
            <a:off x="5580000" y="549360"/>
            <a:ext cx="356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Анализ успеваемости</a:t>
            </a:r>
            <a:br>
              <a:rPr sz="4800"/>
            </a:b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 5 «г» класса</a:t>
            </a:r>
            <a:br>
              <a:rPr sz="4800"/>
            </a:b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2 четвер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0" y="0"/>
          <a:ext cx="4140360" cy="3687840"/>
        </p:xfrm>
        <a:graphic>
          <a:graphicData uri="http://schemas.openxmlformats.org/drawingml/2006/table">
            <a:tbl>
              <a:tblPr/>
              <a:tblGrid>
                <a:gridCol w="1979640"/>
                <a:gridCol w="576360"/>
                <a:gridCol w="576000"/>
                <a:gridCol w="576360"/>
                <a:gridCol w="43200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5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4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3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2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усский я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родо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остр.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р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узы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з-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716360" y="2781360"/>
          <a:ext cx="4427640" cy="3776760"/>
        </p:xfrm>
        <a:graphic>
          <a:graphicData uri="http://schemas.openxmlformats.org/drawingml/2006/table">
            <a:tbl>
              <a:tblPr/>
              <a:tblGrid>
                <a:gridCol w="1943280"/>
                <a:gridCol w="649080"/>
                <a:gridCol w="648000"/>
                <a:gridCol w="647640"/>
                <a:gridCol w="5396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5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4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3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усский я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родо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остр.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р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узы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з-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7280" y="277560"/>
            <a:ext cx="425916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0033"/>
                </a:solidFill>
                <a:uFillTx/>
                <a:latin typeface="Times New Roman"/>
              </a:rPr>
              <a:t>1 четверть</a:t>
            </a:r>
            <a:br>
              <a:rPr sz="3000"/>
            </a:b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% качества -41 %</a:t>
            </a:r>
            <a:br>
              <a:rPr sz="3000"/>
            </a:b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% успеваемости-100%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4005360"/>
            <a:ext cx="4500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2 четвер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% качества -2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% успеваемости- 9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/а -3 ч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0" name="Object 3"/>
          <p:cNvGraphicFramePr/>
          <p:nvPr/>
        </p:nvGraphicFramePr>
        <p:xfrm>
          <a:off x="0" y="0"/>
          <a:ext cx="6659640" cy="374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65964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6"/>
          <p:cNvSpPr/>
          <p:nvPr/>
        </p:nvSpPr>
        <p:spPr>
          <a:xfrm>
            <a:off x="1080" y="306864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тоги 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7"/>
          <p:cNvGraphicFramePr/>
          <p:nvPr/>
        </p:nvGraphicFramePr>
        <p:xfrm>
          <a:off x="2411280" y="4124160"/>
          <a:ext cx="6443640" cy="2733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4124160"/>
                    <a:ext cx="644364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0" y="1700280"/>
          <a:ext cx="9144000" cy="483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914400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Line 7"/>
          <p:cNvSpPr/>
          <p:nvPr/>
        </p:nvSpPr>
        <p:spPr>
          <a:xfrm>
            <a:off x="248436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611280" y="2492280"/>
            <a:ext cx="718920" cy="290520"/>
          </a:xfrm>
          <a:prstGeom prst="wedgeRectCallout">
            <a:avLst>
              <a:gd name="adj1" fmla="val -32782"/>
              <a:gd name="adj2" fmla="val 7513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1403280" y="2708280"/>
            <a:ext cx="649440" cy="289080"/>
          </a:xfrm>
          <a:prstGeom prst="wedgeRectCallout">
            <a:avLst>
              <a:gd name="adj1" fmla="val 10388"/>
              <a:gd name="adj2" fmla="val 8021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6659640" y="2421000"/>
            <a:ext cx="433440" cy="287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4211640" y="1989000"/>
            <a:ext cx="433440" cy="287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6012000" y="2276640"/>
            <a:ext cx="433080" cy="287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2700360" y="2205000"/>
            <a:ext cx="433440" cy="287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2124000" y="1916280"/>
            <a:ext cx="433440" cy="287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5508720" y="2852640"/>
            <a:ext cx="433440" cy="287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8"/>
          <p:cNvSpPr/>
          <p:nvPr/>
        </p:nvSpPr>
        <p:spPr>
          <a:xfrm>
            <a:off x="4932360" y="2205000"/>
            <a:ext cx="433440" cy="287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9"/>
          <p:cNvSpPr/>
          <p:nvPr/>
        </p:nvSpPr>
        <p:spPr>
          <a:xfrm>
            <a:off x="3492360" y="2708280"/>
            <a:ext cx="433440" cy="287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5843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Анкета для родителе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1. Какие формы совместной работы вы считаете наиболее эффектив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Родительское собр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ткрытые у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осещение семей учителями, социальным педаго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Беседы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овместные дела детского и родительского коллекти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едагогические конференции в школе,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Другие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2.Какие формы работы Вас затрудня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3.Каких форм взаимодействия нет в вашей школ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4.Какие формы взаимодействия вы хотели бы ввести в практи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5.Встречаете ли вы трудности в воспитании и как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6.Какие пути их разрешения возмож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7.Готовы ли Вы к совместной работе для преодоления этих трудност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23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роцесс обучения</a:t>
            </a:r>
            <a:r>
              <a:rPr b="1" i="1" lang="ru-RU" sz="2800" spc="-1" strike="noStrike">
                <a:solidFill>
                  <a:srgbClr val="330033"/>
                </a:solidFill>
                <a:latin typeface="Arial"/>
              </a:rPr>
              <a:t> -это не только и не столько усвоение системы знаний, но в первую очередь становление общеучебных и интелектуальных умений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87280" y="4371840"/>
            <a:ext cx="5256360" cy="24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тому помогает развитие                                                          познавательных процес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амя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Приоритетное формирование учебных навыков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: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Формирование речевых, коммуникативных ум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Формирование умений работать с тек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Коррекционная деятельность по развитию устной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Работа над докладом, рефера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Единые дисциплинарные требования к  учащимся 5 класс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ачинать урок со зво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Готовиться к уроку на перем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рививать культуру диалога, не перебивать ни учителя, ни уче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однятая рука – это сигнал вопроса или от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Отвечаем, выйдя из-за парты; для развернутого ответа выходим к до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Единые требования по ведению дневника, тетра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56908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ребования к учителю-предметнику</a:t>
            </a: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Особое внимание уделять организации учеб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Урок в 5 классе должен быть с частой сменой видо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На уроках не должна превышаться норма письма, на всех уроках главная учебная задача формирование речевых, коммуникативных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Новые виды деятельности должны сопровождаться четкими инструк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Особое внимание на всех уроках уделять развитию поэтапно навыков работы с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Задача учителя – знать затруднения в усвоении учебного материала, своевременно прийти на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5 класс- это переход из начального модуля в средний и из-за смены структуры, содержания обучения у детей этого возраста происходят изменения психологического и деятельностного характ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ает состояние стр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еличивается кол-во изучаемых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бинетная система и много учителей предме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жность адаптации к учител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утом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образие и отличие от начальной школы приемов работы на у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онимность в первые месяцы способствует негативным проявлениям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се эти причины приводят приводят к снижению качества успеваемости. Необходима коррекционная деятельность учителей и психолога шк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07920"/>
            <a:ext cx="77724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едущая дея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обуче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 1 ступени обучения –   И –Т –О –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  2 ступени обучения -   Т – И- О- 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 3 ступени обучения –   О- Т - П - И ,г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И - иг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 - тру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 – общ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- проектная деятельност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тепени обученности ученик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Различение (отличие существенного от несуще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Запоминание (воспроизводит материал, но это не является доказательством его поним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онимание (свободно устанавливает причинно-следственные связ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Умения (знания, закрепленные на практи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еренос (навыки, знания и первичные умения могут применяться в новых, нестандартных ситуаци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56000" y="277560"/>
            <a:ext cx="2987640" cy="28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  <a:ea typeface="Arial"/>
              </a:rPr>
              <a:t>А н а л и з  </a:t>
            </a:r>
            <a:br>
              <a:rPr sz="2000"/>
            </a:br>
            <a:r>
              <a:rPr b="1" lang="ru-RU" sz="2000" spc="-1" strike="noStrike">
                <a:solidFill>
                  <a:srgbClr val="990033"/>
                </a:solidFill>
                <a:latin typeface="Arial"/>
                <a:ea typeface="Arial"/>
              </a:rPr>
              <a:t> к о н т р о л ь н ы х  </a:t>
            </a:r>
            <a:br>
              <a:rPr sz="2000"/>
            </a:br>
            <a:r>
              <a:rPr b="1" lang="ru-RU" sz="2000" spc="-1" strike="noStrike">
                <a:solidFill>
                  <a:srgbClr val="990033"/>
                </a:solidFill>
                <a:latin typeface="Arial"/>
                <a:ea typeface="Arial"/>
              </a:rPr>
              <a:t> р а б о т </a:t>
            </a:r>
            <a:br>
              <a:rPr sz="2000"/>
            </a:br>
            <a:r>
              <a:rPr b="1" lang="ru-RU" sz="2000" spc="-1" strike="noStrike">
                <a:solidFill>
                  <a:srgbClr val="990033"/>
                </a:solidFill>
                <a:latin typeface="Arial"/>
                <a:ea typeface="Arial"/>
              </a:rPr>
              <a:t>п о   математике  </a:t>
            </a:r>
            <a:br>
              <a:rPr sz="20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  <a:ea typeface="Arial"/>
              </a:rPr>
              <a:t>за 1 полугодие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2920" y="0"/>
          <a:ext cx="5724360" cy="2933640"/>
        </p:xfrm>
        <a:graphic>
          <a:graphicData uri="http://schemas.openxmlformats.org/drawingml/2006/table">
            <a:tbl>
              <a:tblPr/>
              <a:tblGrid>
                <a:gridCol w="1027080"/>
                <a:gridCol w="878040"/>
                <a:gridCol w="1023840"/>
                <a:gridCol w="2147760"/>
                <a:gridCol w="647640"/>
              </a:tblGrid>
              <a:tr h="9050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певаем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"5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"4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"3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"2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Object 241"/>
          <p:cNvGraphicFramePr/>
          <p:nvPr/>
        </p:nvGraphicFramePr>
        <p:xfrm>
          <a:off x="2340000" y="3365640"/>
          <a:ext cx="6804000" cy="34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365640"/>
                    <a:ext cx="680400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28T06:00:53Z</dcterms:modified>
  <cp:revision>4</cp:revision>
  <dc:subject/>
  <dc:title>PowerPoint Presentation</dc:title>
</cp:coreProperties>
</file>