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8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229D-2494-4ADB-A7D4-8841EED51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075D-D026-4F31-B1FE-D3B27ED3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A679-C4E8-436A-B5A0-1ECF14DA2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73DD-0819-44F2-ACBE-7226346F6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5E92-1102-4296-9A2F-C9F4668A1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0801-9D0A-4640-897B-FD22D1F3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A29C-8EAA-4F11-BE5C-E45F40DE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B42D-973A-4067-AC9D-26B36688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E795-8699-41C0-92EE-C07B295B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DA3C-532A-41C0-B8E5-2E52ED44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968F-675D-4D6C-BB9D-64C67BDF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B8EE-8B5A-4241-974E-B811353D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4423-E1D8-4DF7-829C-5E5E9D71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BA32-F710-413C-BEC1-784F7A9B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F66F-342C-4472-BF1F-FA1AF420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8851-FDE3-4C4D-92A0-EA67B2A2D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1B08-CC44-456E-842D-2CFBA1B27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BD7F-12BE-4CC5-AF7B-A0575BE5A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E95F-2950-4F6B-8C69-908D7542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62FD-3011-4108-A02E-BC4BFE9E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89A4-314E-468E-94CB-93D4FF1D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A728-7ED1-4598-9CCF-53903595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DC75-B39B-41DC-9C69-1C86B808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D247-A81E-4F4D-96AB-06F726E7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МОУ "Средняя общеобразовательная школа №6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7D85-7CC4-49F4-AA2F-AC8834C876A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МОУ "Средняя общеобразовательная школа №6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509E-CAF5-4AB2-AD19-E1B556E71D1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9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0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71280" y="-360"/>
            <a:ext cx="6372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Ученик и учитель –союзники. Обучение должно быть бесконфликтным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7200"/>
            <a:ext cx="68580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Родительское собр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736776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Monotype Corsiva"/>
              </a:rPr>
              <a:t>А н а л и з   к о н т р о л ь н ы х   р а б о т 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Monotype Corsiva"/>
              </a:rPr>
              <a:t>п о   р у с с к о м у  я з ы к у  </a:t>
            </a:r>
            <a:r>
              <a:rPr b="1" lang="ru-RU" sz="2800" spc="-1" strike="noStrike">
                <a:solidFill>
                  <a:srgbClr val="990033"/>
                </a:solidFill>
                <a:latin typeface="Monotype Corsiva"/>
              </a:rPr>
              <a:t>за 1 полугодие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0" y="1268280"/>
          <a:ext cx="4643280" cy="3745080"/>
        </p:xfrm>
        <a:graphic>
          <a:graphicData uri="http://schemas.openxmlformats.org/drawingml/2006/table">
            <a:tbl>
              <a:tblPr/>
              <a:tblGrid>
                <a:gridCol w="884160"/>
                <a:gridCol w="623880"/>
                <a:gridCol w="625680"/>
                <a:gridCol w="628560"/>
                <a:gridCol w="625320"/>
                <a:gridCol w="628920"/>
                <a:gridCol w="626760"/>
              </a:tblGrid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5 кл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Monotype Corsiva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Monotype Corsiva"/>
                          <a:ea typeface="Arial"/>
                        </a:rPr>
                        <a:t>5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Monotype Corsiva"/>
                          <a:ea typeface="Arial"/>
                        </a:rPr>
                        <a:t>5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Monotype Corsiva"/>
                          <a:ea typeface="Arial"/>
                        </a:rPr>
                        <a:t>5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Monotype Corsiva"/>
                          <a:ea typeface="Arial"/>
                        </a:rPr>
                        <a:t>5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Monotype Corsiva"/>
                          <a:ea typeface="Arial"/>
                        </a:rPr>
                        <a:t>5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дикта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"5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"4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"3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Monotype Corsiva"/>
                          <a:ea typeface="Arial"/>
                        </a:rPr>
                        <a:t>"2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Monotype Corsiva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Monotype Corsiva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Monotype Corsiva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Monotype Corsiva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Monotype Corsiva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гр.зад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"5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"4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"3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Monotype Corsiva"/>
                          <a:ea typeface="Arial"/>
                        </a:rPr>
                        <a:t>"2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Monotype Corsiva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Monotype Corsiva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Monotype Corsiva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Object 86"/>
          <p:cNvGraphicFramePr/>
          <p:nvPr/>
        </p:nvGraphicFramePr>
        <p:xfrm>
          <a:off x="4859280" y="1197000"/>
          <a:ext cx="4284720" cy="2597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Object 8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1197000"/>
                    <a:ext cx="4284720" cy="25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87"/>
          <p:cNvGraphicFramePr/>
          <p:nvPr/>
        </p:nvGraphicFramePr>
        <p:xfrm>
          <a:off x="4932360" y="3860640"/>
          <a:ext cx="4211640" cy="2814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1" name="Object 8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3860640"/>
                    <a:ext cx="4211640" cy="28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64000" y="228600"/>
            <a:ext cx="3780000" cy="4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5 классы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4"/>
          <p:cNvGraphicFramePr/>
          <p:nvPr/>
        </p:nvGraphicFramePr>
        <p:xfrm>
          <a:off x="900000" y="692280"/>
          <a:ext cx="4248360" cy="201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692280"/>
                    <a:ext cx="424836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6"/>
          <p:cNvGraphicFramePr/>
          <p:nvPr/>
        </p:nvGraphicFramePr>
        <p:xfrm>
          <a:off x="5148360" y="692280"/>
          <a:ext cx="3995640" cy="1993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8360" y="692280"/>
                    <a:ext cx="3995640" cy="19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Rectangle 7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Object 8"/>
          <p:cNvGraphicFramePr/>
          <p:nvPr/>
        </p:nvGraphicFramePr>
        <p:xfrm>
          <a:off x="900000" y="2708280"/>
          <a:ext cx="4248360" cy="20048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31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0000" y="2708280"/>
                    <a:ext cx="4248360" cy="20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Rectangle 9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10"/>
          <p:cNvGraphicFramePr/>
          <p:nvPr/>
        </p:nvGraphicFramePr>
        <p:xfrm>
          <a:off x="5148360" y="2727360"/>
          <a:ext cx="3995640" cy="20098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34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48360" y="2727360"/>
                    <a:ext cx="399564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11"/>
          <p:cNvGraphicFramePr/>
          <p:nvPr/>
        </p:nvGraphicFramePr>
        <p:xfrm>
          <a:off x="3132000" y="4653000"/>
          <a:ext cx="4032360" cy="19764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36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32000" y="4653000"/>
                    <a:ext cx="403236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4720" y="277560"/>
            <a:ext cx="485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990033"/>
                </a:solidFill>
                <a:latin typeface="Monotype Corsiva"/>
              </a:rPr>
              <a:t>Анализ успеваемости</a:t>
            </a:r>
            <a:br>
              <a:rPr sz="4200"/>
            </a:br>
            <a:r>
              <a:rPr b="0" lang="ru-RU" sz="4200" spc="-1" strike="noStrike">
                <a:solidFill>
                  <a:srgbClr val="990033"/>
                </a:solidFill>
                <a:latin typeface="Monotype Corsiva"/>
              </a:rPr>
              <a:t> 5 «г» класса</a:t>
            </a:r>
            <a:br>
              <a:rPr sz="3400"/>
            </a:b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   </a:t>
            </a:r>
            <a:r>
              <a:rPr b="0" lang="ru-RU" sz="3000" spc="-1" strike="noStrike">
                <a:solidFill>
                  <a:srgbClr val="330033"/>
                </a:solidFill>
                <a:latin typeface="Times New Roman"/>
              </a:rPr>
              <a:t>1 четверть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8" name="Object 3"/>
          <p:cNvGraphicFramePr/>
          <p:nvPr/>
        </p:nvGraphicFramePr>
        <p:xfrm>
          <a:off x="0" y="3860640"/>
          <a:ext cx="9144000" cy="299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60640"/>
                    <a:ext cx="9144000" cy="29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324000" y="0"/>
          <a:ext cx="4392360" cy="3817800"/>
        </p:xfrm>
        <a:graphic>
          <a:graphicData uri="http://schemas.openxmlformats.org/drawingml/2006/table">
            <a:tbl>
              <a:tblPr/>
              <a:tblGrid>
                <a:gridCol w="2125440"/>
                <a:gridCol w="566640"/>
                <a:gridCol w="636840"/>
                <a:gridCol w="650880"/>
                <a:gridCol w="412560"/>
              </a:tblGrid>
              <a:tr h="426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"5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"4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"3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"2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усский яз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литера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атема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сто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иродовед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остр.язы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р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узы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из-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Object 4"/>
          <p:cNvGraphicFramePr/>
          <p:nvPr/>
        </p:nvGraphicFramePr>
        <p:xfrm>
          <a:off x="0" y="3860640"/>
          <a:ext cx="9144000" cy="299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60640"/>
                    <a:ext cx="9144000" cy="29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0" y="189000"/>
          <a:ext cx="5651640" cy="3902040"/>
        </p:xfrm>
        <a:graphic>
          <a:graphicData uri="http://schemas.openxmlformats.org/drawingml/2006/table">
            <a:tbl>
              <a:tblPr/>
              <a:tblGrid>
                <a:gridCol w="1833480"/>
                <a:gridCol w="955800"/>
                <a:gridCol w="952560"/>
                <a:gridCol w="955440"/>
                <a:gridCol w="95436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"5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"4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"3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"2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усский яз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литера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атема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сто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иродовед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остр.язы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р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узы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из-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Rectangle 405"/>
          <p:cNvSpPr/>
          <p:nvPr/>
        </p:nvSpPr>
        <p:spPr>
          <a:xfrm>
            <a:off x="5580000" y="549360"/>
            <a:ext cx="3564000" cy="41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33"/>
                </a:solidFill>
                <a:latin typeface="Monotype Corsiva"/>
              </a:rPr>
              <a:t>Анализ успеваемости</a:t>
            </a:r>
            <a:br>
              <a:rPr sz="4800"/>
            </a:br>
            <a:r>
              <a:rPr b="1" lang="ru-RU" sz="4800" spc="-1" strike="noStrike">
                <a:solidFill>
                  <a:srgbClr val="990033"/>
                </a:solidFill>
                <a:latin typeface="Monotype Corsiva"/>
              </a:rPr>
              <a:t> 5 «г» класса</a:t>
            </a:r>
            <a:br>
              <a:rPr sz="4800"/>
            </a:b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2 четвер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0" y="0"/>
          <a:ext cx="4140360" cy="3687840"/>
        </p:xfrm>
        <a:graphic>
          <a:graphicData uri="http://schemas.openxmlformats.org/drawingml/2006/table">
            <a:tbl>
              <a:tblPr/>
              <a:tblGrid>
                <a:gridCol w="1979640"/>
                <a:gridCol w="576360"/>
                <a:gridCol w="576000"/>
                <a:gridCol w="576360"/>
                <a:gridCol w="43200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четвер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"5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"4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"3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"2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усский яз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литера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атема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сто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иродовед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остр.язы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р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узы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из-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4716360" y="2781360"/>
          <a:ext cx="4427640" cy="3776760"/>
        </p:xfrm>
        <a:graphic>
          <a:graphicData uri="http://schemas.openxmlformats.org/drawingml/2006/table">
            <a:tbl>
              <a:tblPr/>
              <a:tblGrid>
                <a:gridCol w="1943280"/>
                <a:gridCol w="649080"/>
                <a:gridCol w="648000"/>
                <a:gridCol w="647640"/>
                <a:gridCol w="53964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 четвер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"5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"4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"3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"2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усский яз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литера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атема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сто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иродовед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остр.язы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р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узы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из-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7280" y="277560"/>
            <a:ext cx="425916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330033"/>
                </a:solidFill>
                <a:uFillTx/>
                <a:latin typeface="Times New Roman"/>
              </a:rPr>
              <a:t>1 четверть</a:t>
            </a:r>
            <a:br>
              <a:rPr sz="3000"/>
            </a:br>
            <a:r>
              <a:rPr b="0" lang="ru-RU" sz="3000" spc="-1" strike="noStrike">
                <a:solidFill>
                  <a:srgbClr val="330033"/>
                </a:solidFill>
                <a:latin typeface="Times New Roman"/>
              </a:rPr>
              <a:t>% качества -41 %</a:t>
            </a:r>
            <a:br>
              <a:rPr sz="3000"/>
            </a:br>
            <a:r>
              <a:rPr b="0" lang="ru-RU" sz="3000" spc="-1" strike="noStrike">
                <a:solidFill>
                  <a:srgbClr val="330033"/>
                </a:solidFill>
                <a:latin typeface="Times New Roman"/>
              </a:rPr>
              <a:t>% успеваемости-100%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4005360"/>
            <a:ext cx="45007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2 четвер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% качества -2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% успеваемости- 9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/а -3 ч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0" name="Object 3"/>
          <p:cNvGraphicFramePr/>
          <p:nvPr/>
        </p:nvGraphicFramePr>
        <p:xfrm>
          <a:off x="0" y="0"/>
          <a:ext cx="6659640" cy="374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659640" cy="37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Rectangle 6"/>
          <p:cNvSpPr/>
          <p:nvPr/>
        </p:nvSpPr>
        <p:spPr>
          <a:xfrm>
            <a:off x="1080" y="3068640"/>
            <a:ext cx="163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Итоги 4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7"/>
          <p:cNvGraphicFramePr/>
          <p:nvPr/>
        </p:nvGraphicFramePr>
        <p:xfrm>
          <a:off x="2411280" y="4124160"/>
          <a:ext cx="6443640" cy="2733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1280" y="4124160"/>
                    <a:ext cx="6443640" cy="27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6" name="Object 3"/>
          <p:cNvGraphicFramePr/>
          <p:nvPr/>
        </p:nvGraphicFramePr>
        <p:xfrm>
          <a:off x="0" y="1700280"/>
          <a:ext cx="9144000" cy="483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00280"/>
                    <a:ext cx="914400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Line 7"/>
          <p:cNvSpPr/>
          <p:nvPr/>
        </p:nvSpPr>
        <p:spPr>
          <a:xfrm>
            <a:off x="2484360" y="4365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611280" y="2492280"/>
            <a:ext cx="718920" cy="290520"/>
          </a:xfrm>
          <a:prstGeom prst="wedgeRectCallout">
            <a:avLst>
              <a:gd name="adj1" fmla="val -32782"/>
              <a:gd name="adj2" fmla="val 7513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0"/>
          <p:cNvSpPr/>
          <p:nvPr/>
        </p:nvSpPr>
        <p:spPr>
          <a:xfrm>
            <a:off x="1403280" y="2708280"/>
            <a:ext cx="649440" cy="289080"/>
          </a:xfrm>
          <a:prstGeom prst="wedgeRectCallout">
            <a:avLst>
              <a:gd name="adj1" fmla="val 10388"/>
              <a:gd name="adj2" fmla="val 8021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1"/>
          <p:cNvSpPr/>
          <p:nvPr/>
        </p:nvSpPr>
        <p:spPr>
          <a:xfrm>
            <a:off x="6659640" y="2421000"/>
            <a:ext cx="433440" cy="2872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2"/>
          <p:cNvSpPr/>
          <p:nvPr/>
        </p:nvSpPr>
        <p:spPr>
          <a:xfrm>
            <a:off x="4211640" y="1989000"/>
            <a:ext cx="433440" cy="2876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3"/>
          <p:cNvSpPr/>
          <p:nvPr/>
        </p:nvSpPr>
        <p:spPr>
          <a:xfrm>
            <a:off x="6012000" y="2276640"/>
            <a:ext cx="433080" cy="2872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5"/>
          <p:cNvSpPr/>
          <p:nvPr/>
        </p:nvSpPr>
        <p:spPr>
          <a:xfrm>
            <a:off x="2700360" y="2205000"/>
            <a:ext cx="433440" cy="2872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6"/>
          <p:cNvSpPr/>
          <p:nvPr/>
        </p:nvSpPr>
        <p:spPr>
          <a:xfrm>
            <a:off x="2124000" y="1916280"/>
            <a:ext cx="433440" cy="2872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7"/>
          <p:cNvSpPr/>
          <p:nvPr/>
        </p:nvSpPr>
        <p:spPr>
          <a:xfrm>
            <a:off x="5508720" y="2852640"/>
            <a:ext cx="433440" cy="2872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8"/>
          <p:cNvSpPr/>
          <p:nvPr/>
        </p:nvSpPr>
        <p:spPr>
          <a:xfrm>
            <a:off x="4932360" y="2205000"/>
            <a:ext cx="433440" cy="2872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9"/>
          <p:cNvSpPr/>
          <p:nvPr/>
        </p:nvSpPr>
        <p:spPr>
          <a:xfrm>
            <a:off x="3492360" y="2708280"/>
            <a:ext cx="433440" cy="2872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5843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Анкета для родителей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836280"/>
            <a:ext cx="77724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1. Какие формы совместной работы вы считаете наиболее эффективны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Родительское собр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Открытые у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осещение семей учителями, социальным педагог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Беседы с родител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Совместные дела детского и родительского коллектив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Педагогические конференции в школе, клас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Другие ф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2.Какие формы работы Вас затрудняю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3.Каких форм взаимодействия нет в вашей школ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4.Какие формы взаимодействия вы хотели бы ввести в практик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5.Встречаете ли вы трудности в воспитании и как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6.Какие пути их разрешения возможн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7.Готовы ли Вы к совместной работе для преодоления этих трудност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23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роцесс обучения</a:t>
            </a:r>
            <a:r>
              <a:rPr b="1" i="1" lang="ru-RU" sz="2800" spc="-1" strike="noStrike">
                <a:solidFill>
                  <a:srgbClr val="330033"/>
                </a:solidFill>
                <a:latin typeface="Arial"/>
              </a:rPr>
              <a:t> -это не только и не столько усвоение системы знаний, но в первую очередь становление общеучебных и интелектуальных умений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87280" y="4371840"/>
            <a:ext cx="5256360" cy="24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Этому помогает развитие                                                          познавательных процесс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ним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амя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ыш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Arial"/>
              </a:rPr>
              <a:t>Приоритетное формирование учебных навыков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: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Формирование речевых, коммуникативных ум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Формирование умений работать с тек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Коррекционная деятельность по развитию устной р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Работа над докладом, рефера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Единые дисциплинарные требования к  учащимся 5 классов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Начинать урок со звон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Готовиться к уроку на переме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Прививать культуру диалога, не перебивать ни учителя, ни уче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Поднятая рука – это сигнал вопроса или от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Отвечаем, выйдя из-за парты; для развернутого ответа выходим к дос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Единые требования по ведению дневника, тетрад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3640" y="277920"/>
            <a:ext cx="8569080" cy="2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Требования к учителю-предметнику</a:t>
            </a:r>
            <a:r>
              <a:rPr b="0" lang="ru-RU" sz="3200" spc="-1" strike="noStrike">
                <a:solidFill>
                  <a:srgbClr val="330033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Особое внимание уделять организации учеб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Урок в 5 классе должен быть с частой сменой видов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На уроках не должна превышаться норма письма, на всех уроках главная учебная задача формирование речевых, коммуникативных ум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Новые виды деятельности должны сопровождаться четкими инструкц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Особое внимание на всех уроках уделять развитию поэтапно навыков работы с текс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Задача учителя – знать затруднения в усвоении учебного материала, своевременно прийти на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362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5 класс- это переход из начального модуля в средний и из-за смены структуры, содержания обучения у детей этого возраста происходят изменения психологического и деятельностного характе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никает состояние стр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величивается кол-во изучаемых предм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бинетная система и много учителей предмет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ожность адаптации к учител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утом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огообразие и отличие от начальной школы приемов работы на уро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онимность в первые месяцы способствует негативным проявлениям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Все эти причины приводят приводят к снижению качества успеваемости. Необходима коррекционная деятельность учителей и психолога школ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907920"/>
            <a:ext cx="77724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Ведущая деятель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в обучен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а 1 ступени обучения –   И –Т –О –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а  2 ступени обучения -   Т – И- О- 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а 3 ступени обучения –   О- Т - П - И ,гд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         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И - игр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            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Т - труд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               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О – обще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                   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- проектная деятельность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Степени обученности ученика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785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Различение (отличие существенного от несуществ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Запоминание (воспроизводит материал, но это не является доказательством его понима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Понимание (свободно устанавливает причинно-следственные связ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Умения (знания, закрепленные на практик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Перенос (навыки, знания и первичные умения могут применяться в новых, нестандартных ситуация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56000" y="277560"/>
            <a:ext cx="2987640" cy="28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  <a:ea typeface="Arial"/>
              </a:rPr>
              <a:t>А н а л и з  </a:t>
            </a:r>
            <a:br>
              <a:rPr sz="2000"/>
            </a:br>
            <a:r>
              <a:rPr b="1" lang="ru-RU" sz="2000" spc="-1" strike="noStrike">
                <a:solidFill>
                  <a:srgbClr val="990033"/>
                </a:solidFill>
                <a:latin typeface="Arial"/>
                <a:ea typeface="Arial"/>
              </a:rPr>
              <a:t> к о н т р о л ь н ы х  </a:t>
            </a:r>
            <a:br>
              <a:rPr sz="2000"/>
            </a:br>
            <a:r>
              <a:rPr b="1" lang="ru-RU" sz="2000" spc="-1" strike="noStrike">
                <a:solidFill>
                  <a:srgbClr val="990033"/>
                </a:solidFill>
                <a:latin typeface="Arial"/>
                <a:ea typeface="Arial"/>
              </a:rPr>
              <a:t> р а б о т </a:t>
            </a:r>
            <a:br>
              <a:rPr sz="2000"/>
            </a:br>
            <a:r>
              <a:rPr b="1" lang="ru-RU" sz="2000" spc="-1" strike="noStrike">
                <a:solidFill>
                  <a:srgbClr val="990033"/>
                </a:solidFill>
                <a:latin typeface="Arial"/>
                <a:ea typeface="Arial"/>
              </a:rPr>
              <a:t>п о   математике  </a:t>
            </a:r>
            <a:br>
              <a:rPr sz="2000"/>
            </a:br>
            <a:r>
              <a:rPr b="1" lang="ru-RU" sz="1800" spc="-1" strike="noStrike">
                <a:solidFill>
                  <a:srgbClr val="990033"/>
                </a:solidFill>
                <a:latin typeface="Arial"/>
                <a:ea typeface="Arial"/>
              </a:rPr>
              <a:t>за 1 полугодие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2920" y="0"/>
          <a:ext cx="5724360" cy="2933640"/>
        </p:xfrm>
        <a:graphic>
          <a:graphicData uri="http://schemas.openxmlformats.org/drawingml/2006/table">
            <a:tbl>
              <a:tblPr/>
              <a:tblGrid>
                <a:gridCol w="1027080"/>
                <a:gridCol w="878040"/>
                <a:gridCol w="1023840"/>
                <a:gridCol w="2147760"/>
                <a:gridCol w="647640"/>
              </a:tblGrid>
              <a:tr h="90504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клас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спеваем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"5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"4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кач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"3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"2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Object 241"/>
          <p:cNvGraphicFramePr/>
          <p:nvPr/>
        </p:nvGraphicFramePr>
        <p:xfrm>
          <a:off x="2340000" y="3365640"/>
          <a:ext cx="6804000" cy="349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Object 2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3365640"/>
                    <a:ext cx="6804000" cy="34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3-03-28T06:00:53Z</dcterms:modified>
  <cp:revision>4</cp:revision>
  <dc:subject/>
  <dc:title>PowerPoint Presentation</dc:title>
</cp:coreProperties>
</file>