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939AD-50BF-46FA-90CC-828587DE4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EF101-4679-47E8-AF0D-C72AD2ED0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531F4-9AFF-4AFA-B1CE-05D664B4A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CDF0E-CA23-4D99-8A74-B97712AB64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AD26F-304F-4CAE-BE4E-B52E40A6A3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1ABE5-4799-44D3-BDD0-439D7FABB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5D63B-416C-43C7-947A-232ECBBCF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88438-D640-4002-AFA8-E3EC0B8237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0F537-35D4-4EAF-B118-75CE0F479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DECDA-6B77-4AE2-A222-5C70248AB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F31C2-9592-43DC-84A6-B8DDF7B55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B7ECE-2DB6-4007-B147-D0F9E0A80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3440" y="65721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9272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B950-BACA-4F01-9483-E941A7CD94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Задача о напитка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85160" y="6199200"/>
            <a:ext cx="863640" cy="398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79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.Л. Босова, УМК по информатике для 5-7 клас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866960" y="1916280"/>
            <a:ext cx="5111640" cy="412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Москва, 2006 г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61110-3521-4100-90E3-2027B0C929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90792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На столе поставлены в ряд бутылка минеральной воды, кружка, чашка, стакан и кувшин, причем точно в таком порядке, в каком они перечисле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46" name="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"/>
          <p:cNvSpPr/>
          <p:nvPr/>
        </p:nvSpPr>
        <p:spPr>
          <a:xfrm>
            <a:off x="250920" y="2492280"/>
            <a:ext cx="8642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 них находятся различные напитки: кофе, чай, молоко, квас и минеральная вода, но неизвестно, какой напиток в каком сосуде. Если стакан поставить между посудой с чаем и молоком, то по соседству с молоком будет квас, а кофе будет точно в середи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пределите, в какую посуду что налит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544500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УТЫЛКА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РУЖКА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АШКА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ТАКАН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УВШ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236000" y="1341360"/>
            <a:ext cx="158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773360"/>
            <a:ext cx="36003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920" y="570852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МИНЕРАЛЬНАЯ ВОДА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640" y="1628640"/>
            <a:ext cx="7848720" cy="1368720"/>
          </a:xfrm>
          <a:prstGeom prst="wedgeEllipseCallout">
            <a:avLst>
              <a:gd name="adj1" fmla="val -46481"/>
              <a:gd name="adj2" fmla="val 10429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ЧИТ, В БУТЫЛКЕ – МИНЕРАЛЬНАЯ  В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995640" y="595008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324000" y="2587680"/>
            <a:ext cx="8569080" cy="2879640"/>
            <a:chOff x="324000" y="2587680"/>
            <a:chExt cx="8569080" cy="2879640"/>
          </a:xfrm>
        </p:grpSpPr>
        <p:pic>
          <p:nvPicPr>
            <p:cNvPr id="56" name="" descr=""/>
            <p:cNvPicPr/>
            <p:nvPr/>
          </p:nvPicPr>
          <p:blipFill>
            <a:blip r:embed="rId5"/>
            <a:stretch/>
          </p:blipFill>
          <p:spPr>
            <a:xfrm>
              <a:off x="324000" y="2587680"/>
              <a:ext cx="85248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6"/>
            <a:stretch/>
          </p:blipFill>
          <p:spPr>
            <a:xfrm>
              <a:off x="2124000" y="4500360"/>
              <a:ext cx="1006560" cy="9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7"/>
            <a:stretch/>
          </p:blipFill>
          <p:spPr>
            <a:xfrm>
              <a:off x="3808440" y="4640040"/>
              <a:ext cx="105084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8"/>
            <a:stretch/>
          </p:blipFill>
          <p:spPr>
            <a:xfrm>
              <a:off x="7323120" y="3136680"/>
              <a:ext cx="1569960" cy="23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9"/>
            <a:stretch/>
          </p:blipFill>
          <p:spPr>
            <a:xfrm>
              <a:off x="5857920" y="4098600"/>
              <a:ext cx="801720" cy="136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Москва, 2006 г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B1078-D541-482E-BBFD-FD38A3ED95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1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47840" y="-339840"/>
            <a:ext cx="578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692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На столе поставлены в ряд бутылка минеральной воды, кружка, чашка, стакан и кувшин, причем точно в таком порядке, в каком они перечисле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916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В них находятся различные напитки: кофе, чай, молоко, квас и минеральная вода, но неизвестно, какой напиток в каком сосуд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213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Если стакан поставить между посудой с чаем и молоком, то по соседству с молоком будет квас, а кофе будет точно в середи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4508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пределите, в какую посуду что налит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200" y="578016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МИНЕРАЛЬНАЯ ВОДА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2781360"/>
            <a:ext cx="7920000" cy="1368360"/>
          </a:xfrm>
          <a:prstGeom prst="wedgeEllipseCallout">
            <a:avLst>
              <a:gd name="adj1" fmla="val 13277"/>
              <a:gd name="adj2" fmla="val 3735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ЙЧАС СТАКАН НЕ СТОИТ МЕЖДУ ЧАЕМ И МОЛО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3005280"/>
            <a:ext cx="6192720" cy="1224000"/>
          </a:xfrm>
          <a:prstGeom prst="wedgeEllipseCallout">
            <a:avLst>
              <a:gd name="adj1" fmla="val -17574"/>
              <a:gd name="adj2" fmla="val 4416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УДА МОЖНО ПЕРЕСТАВИТЬ СТАКАН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205000"/>
            <a:ext cx="8136000" cy="1873440"/>
          </a:xfrm>
          <a:prstGeom prst="wedgeEllipseCallout">
            <a:avLst>
              <a:gd name="adj1" fmla="val -33393"/>
              <a:gd name="adj2" fmla="val 7228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ЮДА СТАКАН ПОСТАВИТЬ НЕЛЬЗЯ. ЗДЕСЬ ОН БУДЕТ СТОЯТЬ МЕЖДУ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МИНЕРАЛЬНОЙ ВОДО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И ДРУГИМ НАПИТ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58920" y="3068640"/>
            <a:ext cx="6192720" cy="1008000"/>
          </a:xfrm>
          <a:prstGeom prst="wedgeEllipseCallout">
            <a:avLst>
              <a:gd name="adj1" fmla="val -13624"/>
              <a:gd name="adj2" fmla="val 12811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ТАКАН МОЖНО ПОСТАВИТЬ ТОЛЬКО СЮД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5445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УТЫЛ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8000" y="54388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РУЖ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08720" y="54388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УВШ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2781360"/>
            <a:ext cx="57625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030480"/>
            <a:ext cx="7632720" cy="1079640"/>
          </a:xfrm>
          <a:prstGeom prst="wedgeEllipseCallout">
            <a:avLst>
              <a:gd name="adj1" fmla="val 1643"/>
              <a:gd name="adj2" fmla="val 7632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СЕРЕДИНЕ СТОИТ СТАКАН. ЗНАЧИТ, В НЕМ – КОФЕ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48000" y="58053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КОФ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40360" y="602136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250920" y="6199200"/>
            <a:ext cx="8640720" cy="436680"/>
            <a:chOff x="250920" y="6199200"/>
            <a:chExt cx="8640720" cy="436680"/>
          </a:xfrm>
        </p:grpSpPr>
        <p:pic>
          <p:nvPicPr>
            <p:cNvPr id="80" name="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802800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50920" y="623736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24000" y="3003480"/>
            <a:ext cx="723600" cy="244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2124000" y="4405320"/>
            <a:ext cx="1006560" cy="96696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3780000" y="4508640"/>
            <a:ext cx="1439640" cy="1298520"/>
            <a:chOff x="3780000" y="4508640"/>
            <a:chExt cx="1439640" cy="1298520"/>
          </a:xfrm>
        </p:grpSpPr>
        <p:sp>
          <p:nvSpPr>
            <p:cNvPr id="85" name=""/>
            <p:cNvSpPr/>
            <p:nvPr/>
          </p:nvSpPr>
          <p:spPr>
            <a:xfrm>
              <a:off x="3780000" y="54388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ЧАШ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7"/>
            <a:stretch/>
          </p:blipFill>
          <p:spPr>
            <a:xfrm>
              <a:off x="3780000" y="4508640"/>
              <a:ext cx="1050840" cy="82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"/>
          <p:cNvGrpSpPr/>
          <p:nvPr/>
        </p:nvGrpSpPr>
        <p:grpSpPr>
          <a:xfrm>
            <a:off x="5651640" y="4005360"/>
            <a:ext cx="1439640" cy="1803600"/>
            <a:chOff x="5651640" y="4005360"/>
            <a:chExt cx="1439640" cy="1803600"/>
          </a:xfrm>
        </p:grpSpPr>
        <p:sp>
          <p:nvSpPr>
            <p:cNvPr id="88" name=""/>
            <p:cNvSpPr/>
            <p:nvPr/>
          </p:nvSpPr>
          <p:spPr>
            <a:xfrm>
              <a:off x="5651640" y="54406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СТАКА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8"/>
            <a:stretch/>
          </p:blipFill>
          <p:spPr>
            <a:xfrm>
              <a:off x="5857920" y="4005360"/>
              <a:ext cx="801720" cy="1368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7308720" y="3068640"/>
            <a:ext cx="1570320" cy="233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Москва, 2006 г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BCB43-9ED8-4433-B906-AED479F2B8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8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83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2642 L 0 -0.24722 E">
                                      <p:cBhvr>
                                        <p:cTn id="85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8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2127 L 0 -0.237 E">
                                      <p:cBhvr>
                                        <p:cTn id="89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61353E-006 L -2.77778E-007 -0.17586 E">
                                      <p:cBhvr>
                                        <p:cTn id="91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indefinite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4" dur="indefinite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94798E-006 L 0.22031 0.00532 E">
                                      <p:cBhvr>
                                        <p:cTn id="175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00647 L -0.1967 0.00578 E">
                                      <p:cBhvr>
                                        <p:cTn id="177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0920" y="692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На столе поставлены в ряд бутылка минеральной воды, кружка, чашка, стакан и кувшин, причем точно в таком порядке, в каком они перечисле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1989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В них находятся различные напитки: кофе, чай, молоко, квас и минеральная вода, но неизвестно, какой напиток в каком сосуд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47840" y="-339840"/>
            <a:ext cx="578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1640" y="2421000"/>
            <a:ext cx="5688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2852640"/>
            <a:ext cx="900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3213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Если стакан поставить между посудой с чаем и молоком, то по соседству с молоком будет квас, а кофе будет точно в середи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4508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пределите, в какую посуду что налит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200" y="570852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МИНЕРАЛЬНАЯ ВОДА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54388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УТЫЛ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35280" y="5445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РУЖ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5437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ТАК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58053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КОФ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08720" y="5445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АШ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08720" y="5445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УВШ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64000" y="578808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МОЛО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578808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КВА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2709720"/>
            <a:ext cx="8424720" cy="1224000"/>
          </a:xfrm>
          <a:prstGeom prst="wedgeEllipseCallout">
            <a:avLst>
              <a:gd name="adj1" fmla="val 32361"/>
              <a:gd name="adj2" fmla="val 8035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СОСЕДСТВУ С МОЛОКОМ – КВАС. ЗНАЧИТ, КВАС – В КУВШИ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4200" y="2708280"/>
            <a:ext cx="7921440" cy="1368360"/>
          </a:xfrm>
          <a:prstGeom prst="wedgeEllipseCallout">
            <a:avLst>
              <a:gd name="adj1" fmla="val 15749"/>
              <a:gd name="adj2" fmla="val 9976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НАЧИТ, МОЛОКО МОЖЕТ БЫТЬ ТОЛЬКО ЗДЕС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200" y="2781360"/>
            <a:ext cx="8713800" cy="1439640"/>
          </a:xfrm>
          <a:prstGeom prst="wedgeEllipseCallout">
            <a:avLst>
              <a:gd name="adj1" fmla="val -27990"/>
              <a:gd name="adj2" fmla="val 4051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Т! ТОГДА ПО СОСЕДСТВУ                  С МОЛОКОМ БУДЕТ КОФ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МИНЕРАЛЬНАЯ ВОДА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3141720"/>
            <a:ext cx="7345440" cy="792000"/>
          </a:xfrm>
          <a:prstGeom prst="wedgeEllipseCallout">
            <a:avLst>
              <a:gd name="adj1" fmla="val -19851"/>
              <a:gd name="adj2" fmla="val 92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ЖЕТ БЫТЬ, МОЛОКО ЗДЕС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780000" y="60418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985160" y="619920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50920" y="619452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395280" y="2852640"/>
            <a:ext cx="766800" cy="2590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2124000" y="4405320"/>
            <a:ext cx="1006560" cy="966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5796000" y="4508640"/>
            <a:ext cx="1050840" cy="826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7380360" y="3068640"/>
            <a:ext cx="1569960" cy="2330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4067280" y="4035600"/>
            <a:ext cx="801720" cy="136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Москва, 2006 г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5BED1-61AA-4080-9B6F-268CC0A306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21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221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61353E-006 L -2.77778E-007 -0.17586 E">
                                      <p:cBhvr>
                                        <p:cTn id="223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2642 L 0 -0.24722 E">
                                      <p:cBhvr>
                                        <p:cTn id="225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indefinite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8" dur="indefinite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9" dur="indefinite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23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9055E-006 L -3.61111E-006 -0.25834 E">
                                      <p:cBhvr>
                                        <p:cTn id="233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50920" y="692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На столе поставлены в ряд бутылка минеральной воды, кружка, чашка, стакан и кувшин, причем точно в таком порядке, в каком они перечисле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1916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В них находятся различные напитки: кофе, чай, молоко, квас и минеральная вода, но неизвестно, какой напиток в каком сосуд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3213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Если стакан поставить между посудой с чаем и молоком, то по соседству с молоком будет квас, а кофе будет точно в середи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508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пределите, в какую посуду что налит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08360" y="1557360"/>
            <a:ext cx="1943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200" y="570852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МИНЕРАЛЬНАЯ ВОДА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54388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УТЫЛ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5445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РУЖ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51280" y="5437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ТАК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58053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КОФ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5445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АШ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08720" y="5445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УВШ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64000" y="578808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МОЛО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578808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КВА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0920" y="573408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ЧА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564000" y="5948280"/>
            <a:ext cx="720720" cy="72072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136" name="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324000" y="2492280"/>
            <a:ext cx="852480" cy="2880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2124000" y="4405320"/>
            <a:ext cx="1006560" cy="966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5753160" y="4545000"/>
            <a:ext cx="1050840" cy="827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4067280" y="4003560"/>
            <a:ext cx="801720" cy="1368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7323120" y="3041640"/>
            <a:ext cx="1569960" cy="233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Москва, 2006 г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A8FAF-267F-4F14-AACC-FD8E344DE5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35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indefinite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6" dur="indefinite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7" dur="indefinite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03 0.01551 L 0.01025 -0.11597 E">
                                      <p:cBhvr>
                                        <p:cTn id="359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7847 L 0 -0.12662 E">
                                      <p:cBhvr>
                                        <p:cTn id="361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36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36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0 -0.23704 E">
                                      <p:cBhvr>
                                        <p:cTn id="367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2416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2912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3720" y="4851360"/>
            <a:ext cx="17272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МИНЕРАЛЬ-НАЯ ВОД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77320" y="493380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ЧА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15440" y="493380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МОЛОК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33720" y="493380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КОФ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09440" y="49338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КВА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9200" y="1987560"/>
            <a:ext cx="1584360" cy="352908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3529080"/>
              <a:gd name="textAreaBottom" fmla="*/ 3452040 h 3529080"/>
            </a:gdLst>
            <a:ahLst/>
            <a:rect l="textAreaLeft" t="textAreaTop" r="textAreaRight" b="textAreaBottom"/>
            <a:pathLst>
              <a:path w="21600" h="48107">
                <a:moveTo>
                  <a:pt x="3600" y="0"/>
                </a:moveTo>
                <a:arcTo wR="3600" hR="3600" stAng="16200000" swAng="-5400000"/>
                <a:lnTo>
                  <a:pt x="0" y="44507"/>
                </a:lnTo>
                <a:arcTo wR="3600" hR="3600" stAng="10800000" swAng="-5400000"/>
                <a:lnTo>
                  <a:pt x="18000" y="481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3560" y="1989000"/>
            <a:ext cx="1584360" cy="352764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3527640"/>
              <a:gd name="textAreaBottom" fmla="*/ 3450600 h 3527640"/>
            </a:gdLst>
            <a:ahLst/>
            <a:rect l="textAreaLeft" t="textAreaTop" r="textAreaRight" b="textAreaBottom"/>
            <a:pathLst>
              <a:path w="21600" h="48087">
                <a:moveTo>
                  <a:pt x="3600" y="0"/>
                </a:moveTo>
                <a:arcTo wR="3600" hR="3600" stAng="16200000" swAng="-5400000"/>
                <a:lnTo>
                  <a:pt x="0" y="44487"/>
                </a:lnTo>
                <a:arcTo wR="3600" hR="3600" stAng="10800000" swAng="-5400000"/>
                <a:lnTo>
                  <a:pt x="18000" y="480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87920" y="1989000"/>
            <a:ext cx="1584360" cy="352764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3527640"/>
              <a:gd name="textAreaBottom" fmla="*/ 3450600 h 3527640"/>
            </a:gdLst>
            <a:ahLst/>
            <a:rect l="textAreaLeft" t="textAreaTop" r="textAreaRight" b="textAreaBottom"/>
            <a:pathLst>
              <a:path w="21600" h="48087">
                <a:moveTo>
                  <a:pt x="3600" y="0"/>
                </a:moveTo>
                <a:arcTo wR="3600" hR="3600" stAng="16200000" swAng="-5400000"/>
                <a:lnTo>
                  <a:pt x="0" y="44487"/>
                </a:lnTo>
                <a:arcTo wR="3600" hR="3600" stAng="10800000" swAng="-5400000"/>
                <a:lnTo>
                  <a:pt x="18000" y="480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72280" y="1989000"/>
            <a:ext cx="1584000" cy="3527640"/>
          </a:xfrm>
          <a:custGeom>
            <a:avLst/>
            <a:gdLst>
              <a:gd name="textAreaLeft" fmla="*/ 77040 w 1584000"/>
              <a:gd name="textAreaRight" fmla="*/ 1506960 w 1584000"/>
              <a:gd name="textAreaTop" fmla="*/ 77040 h 3527640"/>
              <a:gd name="textAreaBottom" fmla="*/ 3450600 h 3527640"/>
            </a:gdLst>
            <a:ahLst/>
            <a:rect l="textAreaLeft" t="textAreaTop" r="textAreaRight" b="textAreaBottom"/>
            <a:pathLst>
              <a:path w="21600" h="48098">
                <a:moveTo>
                  <a:pt x="3600" y="0"/>
                </a:moveTo>
                <a:arcTo wR="3600" hR="3600" stAng="16200000" swAng="-5400000"/>
                <a:lnTo>
                  <a:pt x="0" y="44498"/>
                </a:lnTo>
                <a:arcTo wR="3600" hR="3600" stAng="10800000" swAng="-5400000"/>
                <a:lnTo>
                  <a:pt x="18000" y="480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56280" y="1989000"/>
            <a:ext cx="1584360" cy="352764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3527640"/>
              <a:gd name="textAreaBottom" fmla="*/ 3450600 h 3527640"/>
            </a:gdLst>
            <a:ahLst/>
            <a:rect l="textAreaLeft" t="textAreaTop" r="textAreaRight" b="textAreaBottom"/>
            <a:pathLst>
              <a:path w="21600" h="48087">
                <a:moveTo>
                  <a:pt x="3600" y="0"/>
                </a:moveTo>
                <a:arcTo wR="3600" hR="3600" stAng="16200000" swAng="-5400000"/>
                <a:lnTo>
                  <a:pt x="0" y="44487"/>
                </a:lnTo>
                <a:arcTo wR="3600" hR="3600" stAng="10800000" swAng="-5400000"/>
                <a:lnTo>
                  <a:pt x="18000" y="480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64000" y="765000"/>
            <a:ext cx="1871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Arial"/>
              </a:rPr>
              <a:t>ОТВЕТ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2280" y="2133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УТЫЛ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76640" y="2133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РУЖ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45000" y="2133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ТАК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60640" y="2133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АШ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29360" y="2133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УВШ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067280" y="6021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19452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981000" y="2421000"/>
            <a:ext cx="746280" cy="2520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2637000" y="3830760"/>
            <a:ext cx="1006200" cy="966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4033800" y="3970440"/>
            <a:ext cx="1050840" cy="826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7174080" y="2852640"/>
            <a:ext cx="1326960" cy="1970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5722920" y="3573360"/>
            <a:ext cx="717480" cy="122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Москва, 2006 г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F7376-F2E8-4BFF-893E-6C1D8A2690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14:15:57Z</dcterms:created>
  <dc:creator>Пользователь</dc:creator>
  <dc:description/>
  <dc:language>en-US</dc:language>
  <cp:lastModifiedBy>esprit</cp:lastModifiedBy>
  <dcterms:modified xsi:type="dcterms:W3CDTF">2006-09-06T14:56:22Z</dcterms:modified>
  <cp:revision>24</cp:revision>
  <dc:subject/>
  <dc:title>Задача о напитках</dc:title>
</cp:coreProperties>
</file>