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5.gif" ContentType="image/gif"/>
  <Override PartName="/ppt/media/image9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47021-BB0E-4DC7-8C11-2A7928BC63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DB958-5E7D-4195-A15A-93BEFC112A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842D0-EBFE-46F5-AFDF-4E0D790248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289F2-76BB-42BE-A362-5F818326F9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26712-6AE4-40C7-9BFF-2492943C35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BB08D-ACFB-4180-A269-5762F598F2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18F00-4340-4800-A4F4-AC4471AA12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93BA6-8F00-456C-92CB-89588C76B8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973D3-16E8-4039-908D-8A3B3A9CC4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FEFC9-695C-4AE5-B754-ED53717226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EBFF0-3BB7-48DA-94D0-6AE8233066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82A75-A874-4153-9F4A-DFE3AD4294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63440" y="65721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92720" y="65977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2F256-2FF0-4AD5-8A37-1A300BA2FF7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gif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Arial"/>
              </a:rPr>
              <a:t>Задача о напитках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985160" y="6199200"/>
            <a:ext cx="863640" cy="398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79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.Л. Босова, УМК по информатике для 5-7 класс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866960" y="1916280"/>
            <a:ext cx="5111640" cy="4120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Москва, 2006 г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3F523-AA82-439C-9CE5-950D5E5C181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0920" y="90792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На столе поставлены в ряд бутылка минеральной воды, кружка, чашка, стакан и кувшин, причем точно в таком порядке, в каком они перечислен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6194520"/>
            <a:ext cx="8597880" cy="403200"/>
            <a:chOff x="250920" y="6194520"/>
            <a:chExt cx="8597880" cy="403200"/>
          </a:xfrm>
        </p:grpSpPr>
        <p:pic>
          <p:nvPicPr>
            <p:cNvPr id="46" name="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7985160" y="6199200"/>
              <a:ext cx="863640" cy="39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250920" y="6194520"/>
              <a:ext cx="863640" cy="39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"/>
          <p:cNvSpPr/>
          <p:nvPr/>
        </p:nvSpPr>
        <p:spPr>
          <a:xfrm>
            <a:off x="250920" y="2492280"/>
            <a:ext cx="8642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В них находятся различные напитки: кофе, чай, молоко, квас и минеральная вода, но неизвестно, какой напиток в каком сосуде. Если стакан поставить между посудой с чаем и молоком, то по соседству с молоком будет квас, а кофе будет точно в середин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Определите, в какую посуду что налит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9280" y="5445000"/>
            <a:ext cx="878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БУТЫЛКА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РУЖКА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ЧАШКА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ТАКАН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УВШ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236000" y="1341360"/>
            <a:ext cx="158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1773360"/>
            <a:ext cx="360036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920" y="5708520"/>
            <a:ext cx="165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МИНЕРАЛЬНАЯ ВОДА</a:t>
            </a: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47640" y="1628640"/>
            <a:ext cx="7848720" cy="1368720"/>
          </a:xfrm>
          <a:prstGeom prst="wedgeEllipseCallout">
            <a:avLst>
              <a:gd name="adj1" fmla="val -46481"/>
              <a:gd name="adj2" fmla="val 10429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НАЧИТ, В БУТЫЛКЕ – МИНЕРАЛЬНАЯ  В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3995640" y="5950080"/>
            <a:ext cx="647640" cy="647640"/>
          </a:xfrm>
          <a:prstGeom prst="rect">
            <a:avLst/>
          </a:prstGeom>
          <a:ln w="0">
            <a:noFill/>
          </a:ln>
        </p:spPr>
      </p:pic>
      <p:grpSp>
        <p:nvGrpSpPr>
          <p:cNvPr id="55" name=""/>
          <p:cNvGrpSpPr/>
          <p:nvPr/>
        </p:nvGrpSpPr>
        <p:grpSpPr>
          <a:xfrm>
            <a:off x="324000" y="2587680"/>
            <a:ext cx="8569080" cy="2879640"/>
            <a:chOff x="324000" y="2587680"/>
            <a:chExt cx="8569080" cy="2879640"/>
          </a:xfrm>
        </p:grpSpPr>
        <p:pic>
          <p:nvPicPr>
            <p:cNvPr id="56" name="" descr=""/>
            <p:cNvPicPr/>
            <p:nvPr/>
          </p:nvPicPr>
          <p:blipFill>
            <a:blip r:embed="rId5"/>
            <a:stretch/>
          </p:blipFill>
          <p:spPr>
            <a:xfrm>
              <a:off x="324000" y="2587680"/>
              <a:ext cx="852480" cy="28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6"/>
            <a:stretch/>
          </p:blipFill>
          <p:spPr>
            <a:xfrm>
              <a:off x="2124000" y="4500360"/>
              <a:ext cx="1006560" cy="96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7"/>
            <a:stretch/>
          </p:blipFill>
          <p:spPr>
            <a:xfrm>
              <a:off x="3808440" y="4640040"/>
              <a:ext cx="1050840" cy="82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8"/>
            <a:stretch/>
          </p:blipFill>
          <p:spPr>
            <a:xfrm>
              <a:off x="7323120" y="3136680"/>
              <a:ext cx="1569960" cy="233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9"/>
            <a:stretch/>
          </p:blipFill>
          <p:spPr>
            <a:xfrm>
              <a:off x="5857920" y="4098600"/>
              <a:ext cx="801720" cy="1368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Москва, 2006 г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8C4C2-2EC8-4A9F-AE8C-1672A7875CE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" dur="indefinite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" dur="indefinite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1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247840" y="-339840"/>
            <a:ext cx="578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69228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На столе поставлены в ряд бутылка минеральной воды, кружка, чашка, стакан и кувшин, причем точно в таком порядке, в каком они перечислен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191628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В них находятся различные напитки: кофе, чай, молоко, квас и минеральная вода, но неизвестно, какой напиток в каком сосуд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321300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Если стакан поставить между посудой с чаем и молоком, то по соседству с молоком будет квас, а кофе будет точно в середин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0920" y="450864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Определите, в какую посуду что налит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200" y="5780160"/>
            <a:ext cx="165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МИНЕРАЛЬНАЯ ВОДА</a:t>
            </a: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2781360"/>
            <a:ext cx="7920000" cy="1368360"/>
          </a:xfrm>
          <a:prstGeom prst="wedgeEllipseCallout">
            <a:avLst>
              <a:gd name="adj1" fmla="val 13277"/>
              <a:gd name="adj2" fmla="val 37356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ЕЙЧАС СТАКАН НЕ СТОИТ МЕЖДУ ЧАЕМ И МОЛОК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58920" y="3005280"/>
            <a:ext cx="6192720" cy="1224000"/>
          </a:xfrm>
          <a:prstGeom prst="wedgeEllipseCallout">
            <a:avLst>
              <a:gd name="adj1" fmla="val -17574"/>
              <a:gd name="adj2" fmla="val 4416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УДА МОЖНО ПЕРЕСТАВИТЬ СТАКАН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205000"/>
            <a:ext cx="8136000" cy="1873440"/>
          </a:xfrm>
          <a:prstGeom prst="wedgeEllipseCallout">
            <a:avLst>
              <a:gd name="adj1" fmla="val -33393"/>
              <a:gd name="adj2" fmla="val 7228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ЮДА СТАКАН ПОСТАВИТЬ НЕЛЬЗЯ. ЗДЕСЬ ОН БУДЕТ СТОЯТЬ МЕЖДУ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МИНЕРАЛЬНОЙ ВОДО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И ДРУГИМ НАПИТК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58920" y="3068640"/>
            <a:ext cx="6192720" cy="1008000"/>
          </a:xfrm>
          <a:prstGeom prst="wedgeEllipseCallout">
            <a:avLst>
              <a:gd name="adj1" fmla="val -13624"/>
              <a:gd name="adj2" fmla="val 12811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СТАКАН МОЖНО ПОСТАВИТЬ ТОЛЬКО СЮД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9280" y="5445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БУТЫЛ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08000" y="54388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РУЖ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08720" y="54388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УВШ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32000" y="2781360"/>
            <a:ext cx="57625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3030480"/>
            <a:ext cx="7632720" cy="1079640"/>
          </a:xfrm>
          <a:prstGeom prst="wedgeEllipseCallout">
            <a:avLst>
              <a:gd name="adj1" fmla="val 1643"/>
              <a:gd name="adj2" fmla="val 76324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СЕРЕДИНЕ СТОИТ СТАКАН. ЗНАЧИТ, В НЕМ – КОФЕ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348000" y="580536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КОФ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40360" y="6021360"/>
            <a:ext cx="647640" cy="647640"/>
          </a:xfrm>
          <a:prstGeom prst="rect">
            <a:avLst/>
          </a:prstGeom>
          <a:ln w="0">
            <a:noFill/>
          </a:ln>
        </p:spPr>
      </p:pic>
      <p:grpSp>
        <p:nvGrpSpPr>
          <p:cNvPr id="79" name=""/>
          <p:cNvGrpSpPr/>
          <p:nvPr/>
        </p:nvGrpSpPr>
        <p:grpSpPr>
          <a:xfrm>
            <a:off x="250920" y="6199200"/>
            <a:ext cx="8640720" cy="436680"/>
            <a:chOff x="250920" y="6199200"/>
            <a:chExt cx="8640720" cy="436680"/>
          </a:xfrm>
        </p:grpSpPr>
        <p:pic>
          <p:nvPicPr>
            <p:cNvPr id="80" name="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8028000" y="6199200"/>
              <a:ext cx="863640" cy="39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250920" y="6237360"/>
              <a:ext cx="863640" cy="398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324000" y="3003480"/>
            <a:ext cx="723600" cy="2448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2124000" y="4405320"/>
            <a:ext cx="1006560" cy="966960"/>
          </a:xfrm>
          <a:prstGeom prst="rect">
            <a:avLst/>
          </a:prstGeom>
          <a:ln w="0">
            <a:noFill/>
          </a:ln>
        </p:spPr>
      </p:pic>
      <p:grpSp>
        <p:nvGrpSpPr>
          <p:cNvPr id="84" name=""/>
          <p:cNvGrpSpPr/>
          <p:nvPr/>
        </p:nvGrpSpPr>
        <p:grpSpPr>
          <a:xfrm>
            <a:off x="3780000" y="4508640"/>
            <a:ext cx="1439640" cy="1298520"/>
            <a:chOff x="3780000" y="4508640"/>
            <a:chExt cx="1439640" cy="1298520"/>
          </a:xfrm>
        </p:grpSpPr>
        <p:sp>
          <p:nvSpPr>
            <p:cNvPr id="85" name=""/>
            <p:cNvSpPr/>
            <p:nvPr/>
          </p:nvSpPr>
          <p:spPr>
            <a:xfrm>
              <a:off x="3780000" y="5438880"/>
              <a:ext cx="14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66"/>
                  </a:solidFill>
                  <a:latin typeface="Arial"/>
                </a:rPr>
                <a:t>ЧАШК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" name="" descr=""/>
            <p:cNvPicPr/>
            <p:nvPr/>
          </p:nvPicPr>
          <p:blipFill>
            <a:blip r:embed="rId7"/>
            <a:stretch/>
          </p:blipFill>
          <p:spPr>
            <a:xfrm>
              <a:off x="3780000" y="4508640"/>
              <a:ext cx="1050840" cy="826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" name=""/>
          <p:cNvGrpSpPr/>
          <p:nvPr/>
        </p:nvGrpSpPr>
        <p:grpSpPr>
          <a:xfrm>
            <a:off x="5651640" y="4005360"/>
            <a:ext cx="1439640" cy="1803600"/>
            <a:chOff x="5651640" y="4005360"/>
            <a:chExt cx="1439640" cy="1803600"/>
          </a:xfrm>
        </p:grpSpPr>
        <p:sp>
          <p:nvSpPr>
            <p:cNvPr id="88" name=""/>
            <p:cNvSpPr/>
            <p:nvPr/>
          </p:nvSpPr>
          <p:spPr>
            <a:xfrm>
              <a:off x="5651640" y="5440680"/>
              <a:ext cx="14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66"/>
                  </a:solidFill>
                  <a:latin typeface="Arial"/>
                </a:rPr>
                <a:t>СТАКАН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" name="" descr=""/>
            <p:cNvPicPr/>
            <p:nvPr/>
          </p:nvPicPr>
          <p:blipFill>
            <a:blip r:embed="rId8"/>
            <a:stretch/>
          </p:blipFill>
          <p:spPr>
            <a:xfrm>
              <a:off x="5857920" y="4005360"/>
              <a:ext cx="801720" cy="1368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" name="" descr=""/>
          <p:cNvPicPr/>
          <p:nvPr/>
        </p:nvPicPr>
        <p:blipFill>
          <a:blip r:embed="rId9"/>
          <a:stretch/>
        </p:blipFill>
        <p:spPr>
          <a:xfrm>
            <a:off x="7308720" y="3068640"/>
            <a:ext cx="1570320" cy="2330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Москва, 2006 г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F9A8D-552C-44C2-BD55-FF6C71A0F4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8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83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2642 L 0 -0.24722 E">
                                      <p:cBhvr>
                                        <p:cTn id="85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8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02127 L 0 -0.237 E">
                                      <p:cBhvr>
                                        <p:cTn id="89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61353E-006 L -2.77778E-007 -0.17586 E">
                                      <p:cBhvr>
                                        <p:cTn id="91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indefinite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4" dur="indefinite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5" dur="indefinite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2.94798E-006 L 0.22031 0.00532 E">
                                      <p:cBhvr>
                                        <p:cTn id="175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0.00647 L -0.1967 0.00578 E">
                                      <p:cBhvr>
                                        <p:cTn id="177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5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50920" y="69228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На столе поставлены в ряд бутылка минеральной воды, кружка, чашка, стакан и кувшин, причем точно в таком порядке, в каком они перечислен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0920" y="198900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В них находятся различные напитки: кофе, чай, молоко, квас и минеральная вода, но неизвестно, какой напиток в каком сосуд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47840" y="-339840"/>
            <a:ext cx="578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71640" y="2421000"/>
            <a:ext cx="5688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2852640"/>
            <a:ext cx="900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321300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Если стакан поставить между посудой с чаем и молоком, то по соседству с молоком будет квас, а кофе будет точно в середин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450864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Определите, в какую посуду что налит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200" y="5708520"/>
            <a:ext cx="165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МИНЕРАЛЬНАЯ ВОДА</a:t>
            </a: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9280" y="54388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БУТЫЛ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35280" y="54450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РУЖ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51280" y="54370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ТАКА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64000" y="580536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КОФ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508720" y="54450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ЧАШ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308720" y="5445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УВШ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64000" y="5788080"/>
            <a:ext cx="16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МОЛОК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93080" y="578808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КВА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2709720"/>
            <a:ext cx="8424720" cy="1224000"/>
          </a:xfrm>
          <a:prstGeom prst="wedgeEllipseCallout">
            <a:avLst>
              <a:gd name="adj1" fmla="val 32361"/>
              <a:gd name="adj2" fmla="val 8035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СОСЕДСТВУ С МОЛОКОМ – КВАС. ЗНАЧИТ, КВАС – В КУВШИН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54200" y="2708280"/>
            <a:ext cx="7921440" cy="1368360"/>
          </a:xfrm>
          <a:prstGeom prst="wedgeEllipseCallout">
            <a:avLst>
              <a:gd name="adj1" fmla="val 15749"/>
              <a:gd name="adj2" fmla="val 9976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НАЧИТ, МОЛОКО МОЖЕТ БЫТЬ ТОЛЬКО ЗДЕСЬ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4200" y="2781360"/>
            <a:ext cx="8713800" cy="1439640"/>
          </a:xfrm>
          <a:prstGeom prst="wedgeEllipseCallout">
            <a:avLst>
              <a:gd name="adj1" fmla="val -27990"/>
              <a:gd name="adj2" fmla="val 4051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Т! ТОГДА ПО СОСЕДСТВУ                  С МОЛОКОМ БУДЕТ КОФ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 МИНЕРАЛЬНАЯ ВОДА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9640" y="3141720"/>
            <a:ext cx="7345440" cy="792000"/>
          </a:xfrm>
          <a:prstGeom prst="wedgeEllipseCallout">
            <a:avLst>
              <a:gd name="adj1" fmla="val -19851"/>
              <a:gd name="adj2" fmla="val 9228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ЖЕТ БЫТЬ, МОЛОКО ЗДЕСЬ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780000" y="604188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985160" y="6199200"/>
            <a:ext cx="863640" cy="398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250920" y="6194520"/>
            <a:ext cx="863640" cy="3985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395280" y="2852640"/>
            <a:ext cx="766800" cy="2590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6"/>
          <a:stretch/>
        </p:blipFill>
        <p:spPr>
          <a:xfrm>
            <a:off x="2124000" y="4405320"/>
            <a:ext cx="1006560" cy="9669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7"/>
          <a:stretch/>
        </p:blipFill>
        <p:spPr>
          <a:xfrm>
            <a:off x="5796000" y="4508640"/>
            <a:ext cx="1050840" cy="826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8"/>
          <a:stretch/>
        </p:blipFill>
        <p:spPr>
          <a:xfrm>
            <a:off x="7380360" y="3068640"/>
            <a:ext cx="1569960" cy="2330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9"/>
          <a:stretch/>
        </p:blipFill>
        <p:spPr>
          <a:xfrm>
            <a:off x="4067280" y="4035600"/>
            <a:ext cx="801720" cy="136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Москва, 2006 г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822EA-9464-407E-A8DE-0CAF1906B69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21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221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61353E-006 L -2.77778E-007 -0.17586 E">
                                      <p:cBhvr>
                                        <p:cTn id="223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2642 L 0 -0.24722 E">
                                      <p:cBhvr>
                                        <p:cTn id="225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indefinite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8" dur="indefinite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9" dur="indefinite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23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3.79055E-006 L -3.61111E-006 -0.25834 E">
                                      <p:cBhvr>
                                        <p:cTn id="233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50920" y="69228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На столе поставлены в ряд бутылка минеральной воды, кружка, чашка, стакан и кувшин, причем точно в таком порядке, в каком они перечислен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191628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В них находятся различные напитки: кофе, чай, молоко, квас и минеральная вода, но неизвестно, какой напиток в каком сосуд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321300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Если стакан поставить между посудой с чаем и молоком, то по соседству с молоком будет квас, а кофе будет точно в середин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450864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Определите, в какую посуду что налит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08360" y="1557360"/>
            <a:ext cx="194328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200" y="5708520"/>
            <a:ext cx="165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МИНЕРАЛЬНАЯ ВОДА</a:t>
            </a: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9280" y="54388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БУТЫЛ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35280" y="54450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РУЖ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51280" y="54370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ТАКА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580536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КОФ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508720" y="54450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ЧАШ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308720" y="5445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УВШ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64000" y="5788080"/>
            <a:ext cx="16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МОЛОК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93080" y="578808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КВА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0920" y="573408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ЧАЙ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564000" y="5948280"/>
            <a:ext cx="720720" cy="720720"/>
          </a:xfrm>
          <a:prstGeom prst="rect">
            <a:avLst/>
          </a:prstGeom>
          <a:ln w="0">
            <a:noFill/>
          </a:ln>
        </p:spPr>
      </p:pic>
      <p:grpSp>
        <p:nvGrpSpPr>
          <p:cNvPr id="135" name=""/>
          <p:cNvGrpSpPr/>
          <p:nvPr/>
        </p:nvGrpSpPr>
        <p:grpSpPr>
          <a:xfrm>
            <a:off x="250920" y="6194520"/>
            <a:ext cx="8597880" cy="403200"/>
            <a:chOff x="250920" y="6194520"/>
            <a:chExt cx="8597880" cy="403200"/>
          </a:xfrm>
        </p:grpSpPr>
        <p:pic>
          <p:nvPicPr>
            <p:cNvPr id="136" name="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7985160" y="6199200"/>
              <a:ext cx="863640" cy="39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250920" y="6194520"/>
              <a:ext cx="863640" cy="398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324000" y="2492280"/>
            <a:ext cx="852480" cy="2880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2124000" y="4405320"/>
            <a:ext cx="1006560" cy="9669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7"/>
          <a:stretch/>
        </p:blipFill>
        <p:spPr>
          <a:xfrm>
            <a:off x="5753160" y="4545000"/>
            <a:ext cx="1050840" cy="827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8"/>
          <a:stretch/>
        </p:blipFill>
        <p:spPr>
          <a:xfrm>
            <a:off x="4067280" y="4003560"/>
            <a:ext cx="801720" cy="13687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9"/>
          <a:stretch/>
        </p:blipFill>
        <p:spPr>
          <a:xfrm>
            <a:off x="7323120" y="3041640"/>
            <a:ext cx="1569960" cy="2330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Москва, 2006 г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1E0A0-D52F-4629-AD02-DFE3368E5D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35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indefinite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6" dur="indefinite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7" dur="indefinite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03 0.01551 L 0.01025 -0.11597 E">
                                      <p:cBhvr>
                                        <p:cTn id="359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07847 L 0 -0.12662 E">
                                      <p:cBhvr>
                                        <p:cTn id="361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2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36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36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11111E-006 L 0 -0.23704 E">
                                      <p:cBhvr>
                                        <p:cTn id="367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95280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26708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2416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029120" y="267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93720" y="4851360"/>
            <a:ext cx="17272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МИНЕРАЛЬ-НАЯ ВОДА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77320" y="4933800"/>
            <a:ext cx="6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ЧА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15440" y="493380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МОЛОК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33720" y="4933800"/>
            <a:ext cx="8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КОФ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309440" y="493380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КВА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9200" y="1987560"/>
            <a:ext cx="1584360" cy="352908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3529080"/>
              <a:gd name="textAreaBottom" fmla="*/ 3452040 h 3529080"/>
            </a:gdLst>
            <a:ahLst/>
            <a:rect l="textAreaLeft" t="textAreaTop" r="textAreaRight" b="textAreaBottom"/>
            <a:pathLst>
              <a:path w="21600" h="48107">
                <a:moveTo>
                  <a:pt x="3600" y="0"/>
                </a:moveTo>
                <a:arcTo wR="3600" hR="3600" stAng="16200000" swAng="-5400000"/>
                <a:lnTo>
                  <a:pt x="0" y="44507"/>
                </a:lnTo>
                <a:arcTo wR="3600" hR="3600" stAng="10800000" swAng="-5400000"/>
                <a:lnTo>
                  <a:pt x="18000" y="481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03560" y="1989000"/>
            <a:ext cx="1584360" cy="352764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3527640"/>
              <a:gd name="textAreaBottom" fmla="*/ 3450600 h 3527640"/>
            </a:gdLst>
            <a:ahLst/>
            <a:rect l="textAreaLeft" t="textAreaTop" r="textAreaRight" b="textAreaBottom"/>
            <a:pathLst>
              <a:path w="21600" h="48087">
                <a:moveTo>
                  <a:pt x="3600" y="0"/>
                </a:moveTo>
                <a:arcTo wR="3600" hR="3600" stAng="16200000" swAng="-5400000"/>
                <a:lnTo>
                  <a:pt x="0" y="44487"/>
                </a:lnTo>
                <a:arcTo wR="3600" hR="3600" stAng="10800000" swAng="-5400000"/>
                <a:lnTo>
                  <a:pt x="18000" y="480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87920" y="1989000"/>
            <a:ext cx="1584360" cy="352764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3527640"/>
              <a:gd name="textAreaBottom" fmla="*/ 3450600 h 3527640"/>
            </a:gdLst>
            <a:ahLst/>
            <a:rect l="textAreaLeft" t="textAreaTop" r="textAreaRight" b="textAreaBottom"/>
            <a:pathLst>
              <a:path w="21600" h="48087">
                <a:moveTo>
                  <a:pt x="3600" y="0"/>
                </a:moveTo>
                <a:arcTo wR="3600" hR="3600" stAng="16200000" swAng="-5400000"/>
                <a:lnTo>
                  <a:pt x="0" y="44487"/>
                </a:lnTo>
                <a:arcTo wR="3600" hR="3600" stAng="10800000" swAng="-5400000"/>
                <a:lnTo>
                  <a:pt x="18000" y="480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72280" y="1989000"/>
            <a:ext cx="1584000" cy="3527640"/>
          </a:xfrm>
          <a:custGeom>
            <a:avLst/>
            <a:gdLst>
              <a:gd name="textAreaLeft" fmla="*/ 77040 w 1584000"/>
              <a:gd name="textAreaRight" fmla="*/ 1506960 w 1584000"/>
              <a:gd name="textAreaTop" fmla="*/ 77040 h 3527640"/>
              <a:gd name="textAreaBottom" fmla="*/ 3450600 h 3527640"/>
            </a:gdLst>
            <a:ahLst/>
            <a:rect l="textAreaLeft" t="textAreaTop" r="textAreaRight" b="textAreaBottom"/>
            <a:pathLst>
              <a:path w="21600" h="48098">
                <a:moveTo>
                  <a:pt x="3600" y="0"/>
                </a:moveTo>
                <a:arcTo wR="3600" hR="3600" stAng="16200000" swAng="-5400000"/>
                <a:lnTo>
                  <a:pt x="0" y="44498"/>
                </a:lnTo>
                <a:arcTo wR="3600" hR="3600" stAng="10800000" swAng="-5400000"/>
                <a:lnTo>
                  <a:pt x="18000" y="480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956280" y="1989000"/>
            <a:ext cx="1584360" cy="352764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3527640"/>
              <a:gd name="textAreaBottom" fmla="*/ 3450600 h 3527640"/>
            </a:gdLst>
            <a:ahLst/>
            <a:rect l="textAreaLeft" t="textAreaTop" r="textAreaRight" b="textAreaBottom"/>
            <a:pathLst>
              <a:path w="21600" h="48087">
                <a:moveTo>
                  <a:pt x="3600" y="0"/>
                </a:moveTo>
                <a:arcTo wR="3600" hR="3600" stAng="16200000" swAng="-5400000"/>
                <a:lnTo>
                  <a:pt x="0" y="44487"/>
                </a:lnTo>
                <a:arcTo wR="3600" hR="3600" stAng="10800000" swAng="-5400000"/>
                <a:lnTo>
                  <a:pt x="18000" y="480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64000" y="765000"/>
            <a:ext cx="1871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9"/>
                </a:solidFill>
                <a:latin typeface="Arial"/>
              </a:rPr>
              <a:t>ОТВЕТ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92280" y="213372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БУТЫЛ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76640" y="213372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РУЖ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45000" y="21337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ТАКА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60640" y="21337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ЧАШ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029360" y="21337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УВШ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067280" y="60213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50920" y="6194520"/>
            <a:ext cx="863640" cy="3985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981000" y="2421000"/>
            <a:ext cx="746280" cy="25207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2637000" y="3830760"/>
            <a:ext cx="1006200" cy="9666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6"/>
          <a:stretch/>
        </p:blipFill>
        <p:spPr>
          <a:xfrm>
            <a:off x="4033800" y="3970440"/>
            <a:ext cx="1050840" cy="8269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7"/>
          <a:stretch/>
        </p:blipFill>
        <p:spPr>
          <a:xfrm>
            <a:off x="7174080" y="2852640"/>
            <a:ext cx="1326960" cy="19702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8"/>
          <a:stretch/>
        </p:blipFill>
        <p:spPr>
          <a:xfrm>
            <a:off x="5722920" y="3573360"/>
            <a:ext cx="717480" cy="1224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Москва, 2006 г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3A9EA-F5E2-4EEE-A934-6F19BA73293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6T14:15:57Z</dcterms:created>
  <dc:creator>Пользователь</dc:creator>
  <dc:description/>
  <dc:language>en-US</dc:language>
  <cp:lastModifiedBy>esprit</cp:lastModifiedBy>
  <dcterms:modified xsi:type="dcterms:W3CDTF">2006-09-06T14:56:22Z</dcterms:modified>
  <cp:revision>24</cp:revision>
  <dc:subject/>
  <dc:title>Задача о напитках</dc:title>
</cp:coreProperties>
</file>