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71F-EC84-40BF-834B-56C84D4031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E1A-5F33-4BCF-B0B2-C3C438C307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7EF-8C7C-46A6-93DD-099FBCEA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7F7-6A9B-4CF1-9F8F-BE47E49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690-704F-49E8-BE86-82F682F7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2CA-B4C7-4EBC-ABD9-C256C7FB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6340-A30E-4C83-B736-BCCDE603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6B1A-5298-440D-8BBD-190533D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6F8-54A2-4A0F-A707-6C1E620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A69-4435-4E75-B2E4-8F29950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FD7-5F32-4F37-9B31-E90622E6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D616-9F2F-4F3C-BE0C-EDB4A2F6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330-8A17-4264-92F4-4B93451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F03-E210-420E-8CA1-FA985744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F9B6-AF13-485C-92EB-CDB5C198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ED2-7E71-4E08-831F-FEAA369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267F-BB58-42DA-A3AE-2C7D8789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0D4-C3B1-417E-92E9-5A3ABFA3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BBA4-2E47-4837-989E-C028289C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6C6-4CFB-47BC-AC67-DFF0DE53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819-600D-40EC-B103-1951EBF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43E-9A08-4377-960B-F6DE462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C22-C2F4-4B03-B865-1240AB8B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216-7A14-4CDE-9E90-A50484B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8EE-7364-491D-ABA2-5BCEEB0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812-EDE4-4EDE-894F-BE37E41D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127-8A1F-4806-923B-D60CAD64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D644-60AC-4581-8637-D0F0B1617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2619360"/>
            <a:ext cx="73134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i="1" lang="en-US" sz="2900" spc="-1" strike="noStrike">
                <a:solidFill>
                  <a:srgbClr val="0000cc"/>
                </a:solidFill>
                <a:latin typeface="Verdana"/>
              </a:rPr>
              <a:t>РЕШЕНИЕ ЗАДАЧ НА ПРИМЕНЕНИЕ ПРИЗНАКОВ РАВЕНСТВА ТРЕУГОЛЬНИК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Равнобедренный треугольник 4"/>
          <p:cNvSpPr/>
          <p:nvPr/>
        </p:nvSpPr>
        <p:spPr>
          <a:xfrm>
            <a:off x="755640" y="5300640"/>
            <a:ext cx="2714760" cy="1000080"/>
          </a:xfrm>
          <a:prstGeom prst="triangle">
            <a:avLst>
              <a:gd name="adj" fmla="val 5273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Равнобедренный треугольник 6"/>
          <p:cNvSpPr/>
          <p:nvPr/>
        </p:nvSpPr>
        <p:spPr>
          <a:xfrm>
            <a:off x="6227640" y="4508640"/>
            <a:ext cx="2143080" cy="1773000"/>
          </a:xfrm>
          <a:prstGeom prst="triangle">
            <a:avLst>
              <a:gd name="adj" fmla="val 52199"/>
            </a:avLst>
          </a:prstGeom>
          <a:gradFill rotWithShape="0">
            <a:gsLst>
              <a:gs pos="0">
                <a:srgbClr val="5f8e8e"/>
              </a:gs>
              <a:gs pos="100000">
                <a:srgbClr val="7ebcbc"/>
              </a:gs>
            </a:gsLst>
            <a:lin ang="16200000"/>
          </a:gradFill>
          <a:ln w="9360">
            <a:solidFill>
              <a:srgbClr val="86b6b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1332000" y="69228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7343640" y="549360"/>
            <a:ext cx="131472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4284720" y="551664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3564000" y="765000"/>
            <a:ext cx="25923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2214720"/>
            <a:ext cx="7313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Вдохновение нужно в поэзии, как и в геометр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  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А.С.Пушк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Литературная страниц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Многие математические понятия термины и идеи нашли отражение на страницах произведений А.С.Пушкин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Поверил я алгеброй гармонию…» пишет он в произведении «Моцарт и Сальер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- сказ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5520" y="1571760"/>
            <a:ext cx="7956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некотором царстве, геометрическом государстве жила-была биссектриса. Она бегала по углам треугольников и делила их пополам. Но в каждом треугольнике жили медианы и высоты. Невзлюбили они веселую биссектрису и выгнали её из треугольни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олго ходила бедная биссектриса и наконец нашла себе необычный треугольник. Из какого бы угла она не выходила, она делила треугольник на две равные фигуры. А самое главное, её никто не обижал, там не было  серьезных медиан и высот. В любой момент, биссектриса могла стать и высотой и медиан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 каком необычном треугольнике идет речь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ческая геометр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4000" y="2637000"/>
            <a:ext cx="5029200" cy="12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ктическая 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627280" y="1268280"/>
            <a:ext cx="4105440" cy="1729080"/>
            <a:chOff x="2627280" y="1268280"/>
            <a:chExt cx="4105440" cy="1729080"/>
          </a:xfrm>
        </p:grpSpPr>
        <p:sp>
          <p:nvSpPr>
            <p:cNvPr id="113" name="Oval 4"/>
            <p:cNvSpPr/>
            <p:nvPr/>
          </p:nvSpPr>
          <p:spPr>
            <a:xfrm>
              <a:off x="2627280" y="1268280"/>
              <a:ext cx="4105440" cy="172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WordArt 5"/>
            <p:cNvSpPr txBox="1"/>
            <p:nvPr/>
          </p:nvSpPr>
          <p:spPr>
            <a:xfrm>
              <a:off x="3635280" y="1557360"/>
              <a:ext cx="193356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ОЛОТО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5" name="Line 7"/>
          <p:cNvSpPr/>
          <p:nvPr/>
        </p:nvSpPr>
        <p:spPr>
          <a:xfrm>
            <a:off x="1476360" y="2133720"/>
            <a:ext cx="648036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547640" y="2133720"/>
            <a:ext cx="6480360" cy="38876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1763640" y="2205000"/>
            <a:ext cx="6193080" cy="3960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4859280" y="3933720"/>
            <a:ext cx="863640" cy="360360"/>
            <a:chOff x="4859280" y="3933720"/>
            <a:chExt cx="863640" cy="360360"/>
          </a:xfrm>
        </p:grpSpPr>
        <p:sp>
          <p:nvSpPr>
            <p:cNvPr id="119" name="WordArt 11"/>
            <p:cNvSpPr txBox="1"/>
            <p:nvPr/>
          </p:nvSpPr>
          <p:spPr>
            <a:xfrm>
              <a:off x="4859280" y="4076640"/>
              <a:ext cx="14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.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0" name="WordArt 12"/>
            <p:cNvSpPr txBox="1"/>
            <p:nvPr/>
          </p:nvSpPr>
          <p:spPr>
            <a:xfrm>
              <a:off x="5435640" y="393372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1042920" y="1557360"/>
            <a:ext cx="7345440" cy="431640"/>
            <a:chOff x="1042920" y="1557360"/>
            <a:chExt cx="7345440" cy="431640"/>
          </a:xfrm>
        </p:grpSpPr>
        <p:sp>
          <p:nvSpPr>
            <p:cNvPr id="122" name="WordArt 13"/>
            <p:cNvSpPr txBox="1"/>
            <p:nvPr/>
          </p:nvSpPr>
          <p:spPr>
            <a:xfrm>
              <a:off x="1042920" y="155736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" name="WordArt 14"/>
            <p:cNvSpPr txBox="1"/>
            <p:nvPr/>
          </p:nvSpPr>
          <p:spPr>
            <a:xfrm>
              <a:off x="8101080" y="162864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4" name="Line 15"/>
          <p:cNvSpPr/>
          <p:nvPr/>
        </p:nvSpPr>
        <p:spPr>
          <a:xfrm>
            <a:off x="1692360" y="6165720"/>
            <a:ext cx="64800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116000" y="5950080"/>
            <a:ext cx="7488360" cy="360360"/>
            <a:chOff x="1116000" y="5950080"/>
            <a:chExt cx="7488360" cy="360360"/>
          </a:xfrm>
        </p:grpSpPr>
        <p:sp>
          <p:nvSpPr>
            <p:cNvPr id="126" name="WordArt 16"/>
            <p:cNvSpPr txBox="1"/>
            <p:nvPr/>
          </p:nvSpPr>
          <p:spPr>
            <a:xfrm>
              <a:off x="1116000" y="595008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7" name="WordArt 17"/>
            <p:cNvSpPr txBox="1"/>
            <p:nvPr/>
          </p:nvSpPr>
          <p:spPr>
            <a:xfrm>
              <a:off x="8317080" y="595008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1547640" y="2133720"/>
            <a:ext cx="3383280" cy="20145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1476360" y="2133720"/>
            <a:ext cx="6696000" cy="4032000"/>
            <a:chOff x="1476360" y="2133720"/>
            <a:chExt cx="6696000" cy="4032000"/>
          </a:xfrm>
        </p:grpSpPr>
        <p:sp>
          <p:nvSpPr>
            <p:cNvPr id="130" name="Line 23"/>
            <p:cNvSpPr/>
            <p:nvPr/>
          </p:nvSpPr>
          <p:spPr>
            <a:xfrm>
              <a:off x="1476360" y="2133720"/>
              <a:ext cx="6480360" cy="0"/>
            </a:xfrm>
            <a:prstGeom prst="line">
              <a:avLst/>
            </a:prstGeom>
            <a:ln w="7632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>
              <a:off x="1692360" y="6165720"/>
              <a:ext cx="6480000" cy="0"/>
            </a:xfrm>
            <a:prstGeom prst="line">
              <a:avLst/>
            </a:prstGeom>
            <a:ln w="7632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4439880" y="3364920"/>
            <a:ext cx="1027080" cy="1603800"/>
            <a:chOff x="4439880" y="3364920"/>
            <a:chExt cx="1027080" cy="1603800"/>
          </a:xfrm>
        </p:grpSpPr>
        <p:sp>
          <p:nvSpPr>
            <p:cNvPr id="133" name="Arc 26"/>
            <p:cNvSpPr/>
            <p:nvPr/>
          </p:nvSpPr>
          <p:spPr>
            <a:xfrm flipV="1" rot="2298600">
              <a:off x="4571640" y="4149360"/>
              <a:ext cx="777960" cy="647640"/>
            </a:xfrm>
            <a:prstGeom prst="pie">
              <a:avLst/>
            </a:pr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rc 27"/>
            <p:cNvSpPr/>
            <p:nvPr/>
          </p:nvSpPr>
          <p:spPr>
            <a:xfrm flipV="1" rot="13553400">
              <a:off x="4574880" y="3495960"/>
              <a:ext cx="641160" cy="647640"/>
            </a:xfrm>
            <a:prstGeom prst="pie">
              <a:avLst/>
            </a:pr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WordArt 28"/>
            <p:cNvSpPr txBox="1"/>
            <p:nvPr/>
          </p:nvSpPr>
          <p:spPr>
            <a:xfrm>
              <a:off x="4859280" y="3716280"/>
              <a:ext cx="144360" cy="23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6" name="WordArt 29"/>
            <p:cNvSpPr txBox="1"/>
            <p:nvPr/>
          </p:nvSpPr>
          <p:spPr>
            <a:xfrm>
              <a:off x="4859280" y="4292640"/>
              <a:ext cx="144360" cy="23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7" name="Group 33"/>
          <p:cNvGrpSpPr/>
          <p:nvPr/>
        </p:nvGrpSpPr>
        <p:grpSpPr>
          <a:xfrm>
            <a:off x="3419280" y="3141720"/>
            <a:ext cx="3457800" cy="2231640"/>
            <a:chOff x="3419280" y="3141720"/>
            <a:chExt cx="3457800" cy="2231640"/>
          </a:xfrm>
        </p:grpSpPr>
        <p:sp>
          <p:nvSpPr>
            <p:cNvPr id="138" name="Line 31"/>
            <p:cNvSpPr/>
            <p:nvPr/>
          </p:nvSpPr>
          <p:spPr>
            <a:xfrm flipH="1">
              <a:off x="3419280" y="3141720"/>
              <a:ext cx="215640" cy="36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 flipV="1">
              <a:off x="6588000" y="5013000"/>
              <a:ext cx="289080" cy="360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4"/>
          <p:cNvGrpSpPr/>
          <p:nvPr/>
        </p:nvGrpSpPr>
        <p:grpSpPr>
          <a:xfrm>
            <a:off x="2987640" y="2852640"/>
            <a:ext cx="3673440" cy="2592360"/>
            <a:chOff x="2987640" y="2852640"/>
            <a:chExt cx="3673440" cy="2592360"/>
          </a:xfrm>
        </p:grpSpPr>
        <p:sp>
          <p:nvSpPr>
            <p:cNvPr id="141" name="Line 40"/>
            <p:cNvSpPr/>
            <p:nvPr/>
          </p:nvSpPr>
          <p:spPr>
            <a:xfrm>
              <a:off x="2987640" y="5013360"/>
              <a:ext cx="360360" cy="431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3059280" y="4941720"/>
              <a:ext cx="360360" cy="43200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6227640" y="2924280"/>
              <a:ext cx="360360" cy="431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6300720" y="2852640"/>
              <a:ext cx="360360" cy="43200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5" name="Picture 45" descr="133"/>
          <p:cNvPicPr/>
          <p:nvPr/>
        </p:nvPicPr>
        <p:blipFill>
          <a:blip r:embed="rId1"/>
          <a:stretch/>
        </p:blipFill>
        <p:spPr>
          <a:xfrm>
            <a:off x="2195640" y="404640"/>
            <a:ext cx="1174680" cy="109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6" descr="133"/>
          <p:cNvPicPr/>
          <p:nvPr/>
        </p:nvPicPr>
        <p:blipFill>
          <a:blip r:embed="rId2"/>
          <a:stretch/>
        </p:blipFill>
        <p:spPr>
          <a:xfrm>
            <a:off x="3564000" y="1890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7" descr="133"/>
          <p:cNvPicPr/>
          <p:nvPr/>
        </p:nvPicPr>
        <p:blipFill>
          <a:blip r:embed="rId3"/>
          <a:stretch/>
        </p:blipFill>
        <p:spPr>
          <a:xfrm>
            <a:off x="4716360" y="1890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8" descr="133"/>
          <p:cNvPicPr/>
          <p:nvPr/>
        </p:nvPicPr>
        <p:blipFill>
          <a:blip r:embed="rId4"/>
          <a:stretch/>
        </p:blipFill>
        <p:spPr>
          <a:xfrm>
            <a:off x="6156360" y="47628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9" descr="133"/>
          <p:cNvPicPr/>
          <p:nvPr/>
        </p:nvPicPr>
        <p:blipFill>
          <a:blip r:embed="rId5"/>
          <a:stretch/>
        </p:blipFill>
        <p:spPr>
          <a:xfrm>
            <a:off x="4067280" y="3068640"/>
            <a:ext cx="647640" cy="60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0" descr="133"/>
          <p:cNvPicPr/>
          <p:nvPr/>
        </p:nvPicPr>
        <p:blipFill>
          <a:blip r:embed="rId6"/>
          <a:stretch/>
        </p:blipFill>
        <p:spPr>
          <a:xfrm>
            <a:off x="5003640" y="2997360"/>
            <a:ext cx="648000" cy="60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1" descr="SUNG"/>
          <p:cNvPicPr/>
          <p:nvPr/>
        </p:nvPicPr>
        <p:blipFill>
          <a:blip r:embed="rId7"/>
          <a:stretch/>
        </p:blipFill>
        <p:spPr>
          <a:xfrm>
            <a:off x="1042920" y="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2" descr="AN406"/>
          <p:cNvPicPr/>
          <p:nvPr/>
        </p:nvPicPr>
        <p:blipFill>
          <a:blip r:embed="rId8"/>
          <a:stretch/>
        </p:blipFill>
        <p:spPr>
          <a:xfrm>
            <a:off x="3780000" y="2205000"/>
            <a:ext cx="687240" cy="56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3" descr="AN406"/>
          <p:cNvPicPr/>
          <p:nvPr/>
        </p:nvPicPr>
        <p:blipFill>
          <a:blip r:embed="rId9"/>
          <a:stretch/>
        </p:blipFill>
        <p:spPr>
          <a:xfrm>
            <a:off x="5651640" y="1628640"/>
            <a:ext cx="6872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Оцен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Домашнее задан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вопросы 10-15, стр. 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упражнение №168, №16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а здравствует математика!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С Новым годом 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4943520" y="595008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нежная королев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411280" y="3933720"/>
            <a:ext cx="42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58920" y="2492280"/>
            <a:ext cx="640872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 здравствует математи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4005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 новым год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6329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0:04:06Z</dcterms:created>
  <dc:creator>Administrator</dc:creator>
  <dc:description/>
  <dc:language>en-US</dc:language>
  <cp:lastModifiedBy>USER</cp:lastModifiedBy>
  <dcterms:modified xsi:type="dcterms:W3CDTF">2011-12-21T09:07:43Z</dcterms:modified>
  <cp:revision>82</cp:revision>
  <dc:subject/>
  <dc:title>РЕШЕНИЕ ЗАДАЧ ПО ТЕМЕ «ПРИЗНАКИ РАВЕНСТВА ТРЕУГОЛЬНИКОВ.</dc:title>
</cp:coreProperties>
</file>