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61F-FE0D-4CD9-BAAE-300BB509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C73-B2E2-4A03-A303-42B55457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86F-C4D4-4839-84AD-56A04B77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214-55B2-443D-9302-0E0E1E5F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A8D-B401-4A8A-A44C-15BA4DA6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9C2-DC24-400D-B53B-A7DC0AC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F2F-FC84-4176-B518-EFBA22F7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305-24BA-410E-82F6-254A479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2C5-FF20-4092-9972-B315229F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FEA-9EAB-4370-994F-6B7294BF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DAD-F7BE-4739-B24D-2A65D9B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DD4-187C-4728-AC34-FA7C9A8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A50-0FBF-4498-AF63-6699E5B58D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ОГБОУ СПО «Белгородского строительного колледж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бз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8"/>
          <p:cNvGrpSpPr/>
          <p:nvPr/>
        </p:nvGrpSpPr>
        <p:grpSpPr>
          <a:xfrm>
            <a:off x="2514600" y="2209680"/>
            <a:ext cx="4648320" cy="3505320"/>
            <a:chOff x="2514600" y="2209680"/>
            <a:chExt cx="4648320" cy="3505320"/>
          </a:xfrm>
        </p:grpSpPr>
        <p:sp>
          <p:nvSpPr>
            <p:cNvPr id="283" name="AutoShape 20"/>
            <p:cNvSpPr/>
            <p:nvPr/>
          </p:nvSpPr>
          <p:spPr>
            <a:xfrm>
              <a:off x="3276360" y="2666880"/>
              <a:ext cx="2667240" cy="609480"/>
            </a:xfrm>
            <a:prstGeom prst="flowChartPreparat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"/>
            <p:cNvSpPr/>
            <p:nvPr/>
          </p:nvSpPr>
          <p:spPr>
            <a:xfrm>
              <a:off x="4572000" y="2209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>
              <a:off x="4800600" y="5257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4572000" y="3352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3504960" y="27428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четч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3124080" y="38862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тело цик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>
              <a:off x="5943600" y="29714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4800600" y="52578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2514600" y="48769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3"/>
            <p:cNvSpPr/>
            <p:nvPr/>
          </p:nvSpPr>
          <p:spPr>
            <a:xfrm>
              <a:off x="6705720" y="2971440"/>
              <a:ext cx="0" cy="228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"/>
            <p:cNvSpPr/>
            <p:nvPr/>
          </p:nvSpPr>
          <p:spPr>
            <a:xfrm>
              <a:off x="4724280" y="44197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3352680" y="3276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5943600" y="2438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н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514600" y="2971440"/>
              <a:ext cx="0" cy="190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1"/>
            <p:cNvSpPr/>
            <p:nvPr/>
          </p:nvSpPr>
          <p:spPr>
            <a:xfrm>
              <a:off x="2514600" y="297144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имова О. В. Курс компьютерных технологий с основами информатики.- М.: Издательство АСТ, 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0 кл.- СПб.: ПИТЕР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1 кл.- СПб.: ПИТЕР, 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арова Н. В. Информатика и ИКТ 10-11 кл. СПб.: ПИТЕР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6673" t="48917" r="23354" b="24458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rcRect l="0" t="11755" r="0" b="0"/>
          <a:stretch/>
        </p:blipFill>
        <p:spPr>
          <a:xfrm>
            <a:off x="7162920" y="2743200"/>
            <a:ext cx="159048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8T11:52:0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