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57B-28C9-4145-8CC0-57C1AF4C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CDC-3257-4BCD-811F-7545DB3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C07-12AA-486C-B394-0CCB407F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B99-9214-4C2C-9E12-A739A3B5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51B-2E49-4460-B82D-1C3CD511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761-9C73-45AA-B30C-B417EE3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3C6-274C-4D33-8BF2-53F6136C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6C1-AF5B-44E3-8B3E-07171A5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F24-5EF4-4787-A395-0FBED2A1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D5B-C9C6-4F48-8F9C-01348D3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47E-5EF6-4C52-81A0-FFAFFD9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0BE-93F0-4C97-A0B7-A4B5BB28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C326-C934-4137-ABA3-04354E257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ОГБОУ СПО «Белгородского строительного колледж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бз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18"/>
          <p:cNvGrpSpPr/>
          <p:nvPr/>
        </p:nvGrpSpPr>
        <p:grpSpPr>
          <a:xfrm>
            <a:off x="2514600" y="2209680"/>
            <a:ext cx="4648320" cy="3505320"/>
            <a:chOff x="2514600" y="2209680"/>
            <a:chExt cx="4648320" cy="3505320"/>
          </a:xfrm>
        </p:grpSpPr>
        <p:sp>
          <p:nvSpPr>
            <p:cNvPr id="283" name="AutoShape 20"/>
            <p:cNvSpPr/>
            <p:nvPr/>
          </p:nvSpPr>
          <p:spPr>
            <a:xfrm>
              <a:off x="3276360" y="2666880"/>
              <a:ext cx="2667240" cy="609480"/>
            </a:xfrm>
            <a:prstGeom prst="flowChartPreparat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"/>
            <p:cNvSpPr/>
            <p:nvPr/>
          </p:nvSpPr>
          <p:spPr>
            <a:xfrm>
              <a:off x="4572000" y="22096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>
              <a:off x="4800600" y="5257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>
              <a:off x="4572000" y="33526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3504960" y="27428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четч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3124080" y="38862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тело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0"/>
            <p:cNvSpPr/>
            <p:nvPr/>
          </p:nvSpPr>
          <p:spPr>
            <a:xfrm>
              <a:off x="5943600" y="297144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4800600" y="525780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>
              <a:off x="2514600" y="48769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3"/>
            <p:cNvSpPr/>
            <p:nvPr/>
          </p:nvSpPr>
          <p:spPr>
            <a:xfrm>
              <a:off x="6705720" y="2971440"/>
              <a:ext cx="0" cy="228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"/>
            <p:cNvSpPr/>
            <p:nvPr/>
          </p:nvSpPr>
          <p:spPr>
            <a:xfrm>
              <a:off x="4724280" y="44197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5"/>
            <p:cNvSpPr/>
            <p:nvPr/>
          </p:nvSpPr>
          <p:spPr>
            <a:xfrm>
              <a:off x="3352680" y="3276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5943600" y="2438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н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514600" y="2971440"/>
              <a:ext cx="0" cy="190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1"/>
            <p:cNvSpPr/>
            <p:nvPr/>
          </p:nvSpPr>
          <p:spPr>
            <a:xfrm>
              <a:off x="2514600" y="297144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фимова О. В. Курс компьютерных технологий с основами информатики.- М.: Издательство АСТ, 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ва Н. В. Информатика и ИКТ 10 кл.- СПб.: ПИТЕР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ва Н. В. Информатика и ИКТ 11 кл.- СПб.: ПИТЕР, 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ва Н. В. Информатика и ИКТ 10-11 кл. СПб.: ПИТЕР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6673" t="48917" r="23354" b="24458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rcRect l="0" t="11755" r="0" b="0"/>
          <a:stretch/>
        </p:blipFill>
        <p:spPr>
          <a:xfrm>
            <a:off x="7162920" y="2743200"/>
            <a:ext cx="159048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8T11:52:0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