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10.gif" ContentType="image/gif"/>
  <Override PartName="/ppt/media/image9.gif" ContentType="image/gif"/>
  <Override PartName="/ppt/media/image16.png" ContentType="image/pn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6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CF3C-8CCF-44F9-A5C0-C55CB587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E98B-23DD-4FEB-8309-FB2F27FD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4816-EC30-4D2F-812C-334C1DCF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6393-CA56-4954-9981-24CAE647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9D80-637A-4C12-819E-89CCDDDD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F2DE-E144-4C2E-BC7A-2246A569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181C-39D4-4CBC-93DC-9511670A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1DF2-C9CC-43E7-9F6B-19AC1950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785C-5A88-47A8-A9E1-5E62FD56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F7F8-20B4-41F2-AB23-217A6F62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065A-C809-47BE-A2D2-CCB0FA41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6426-0040-43F0-89F8-D26462CA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121B-9CB2-42B2-BCE3-4837335A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EAD8-78C3-4E5D-8111-E5675841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A2D6-0066-40DC-AF59-B03A6AB9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007B-7B8A-4D7A-BC66-3AB3A882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C870-BE38-4E61-B43D-AFA7DA86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DB4D-D99A-491C-BBE4-2F781FEF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E0F8-75F7-4649-88D4-B57D800D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2EB8-F26B-4E4D-B05F-53F25676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CF91-C72D-457B-91F1-A636538A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F3FE-8AFB-4993-9CF7-6C7D1556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B758-C0F4-4B26-9416-749CDA31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501-7231-4BDB-9A81-00650C96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C302-7B32-4BF9-86A4-C9324ED1839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9DBC-4AD9-4E07-8F77-1EE9EBA9043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estgif.narod.ru/eda/bestgif.narod.ru_45.gif" TargetMode="Externa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332000" y="1052640"/>
            <a:ext cx="734364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онетик күнег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8" descr="animal27.gif"/>
          <p:cNvPicPr/>
          <p:nvPr/>
        </p:nvPicPr>
        <p:blipFill>
          <a:blip r:embed="rId1"/>
          <a:stretch/>
        </p:blipFill>
        <p:spPr>
          <a:xfrm>
            <a:off x="3132000" y="333360"/>
            <a:ext cx="4608720" cy="4390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500720" y="515772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көчле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1" descr="91kfo.gif"/>
          <p:cNvPicPr/>
          <p:nvPr/>
        </p:nvPicPr>
        <p:blipFill>
          <a:blip r:embed="rId1"/>
          <a:stretch/>
        </p:blipFill>
        <p:spPr>
          <a:xfrm>
            <a:off x="3708360" y="476280"/>
            <a:ext cx="2463840" cy="44528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419640" y="5157720"/>
            <a:ext cx="32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борчак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1" descr="g10gsp.gif"/>
          <p:cNvPicPr/>
          <p:nvPr/>
        </p:nvPicPr>
        <p:blipFill>
          <a:blip r:embed="rId1"/>
          <a:stretch/>
        </p:blipFill>
        <p:spPr>
          <a:xfrm>
            <a:off x="2556000" y="0"/>
            <a:ext cx="4270320" cy="45831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916360" y="4724280"/>
            <a:ext cx="48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чөгендер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9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1619280" y="0"/>
            <a:ext cx="6697800" cy="4797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564000" y="5373720"/>
            <a:ext cx="43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кача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1293" t="27289" r="0" b="29866"/>
          <a:stretch/>
        </p:blipFill>
        <p:spPr>
          <a:xfrm>
            <a:off x="2124000" y="549360"/>
            <a:ext cx="5473800" cy="2376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916360" y="4005360"/>
            <a:ext cx="46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бетергеч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700360" y="0"/>
            <a:ext cx="4319640" cy="5445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635280" y="5445000"/>
            <a:ext cx="26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агач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rcRect l="24619" t="0" r="16956" b="2390"/>
          <a:stretch/>
        </p:blipFill>
        <p:spPr>
          <a:xfrm>
            <a:off x="2411280" y="115920"/>
            <a:ext cx="2737080" cy="5832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292720" y="256536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чалбар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00000" y="476280"/>
            <a:ext cx="80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чып йөри, чып – чып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Чыпчык,  чыпчык,  чык,  чыпчык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чып чык,  чыпчык,  чык,кошчык!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Чык – чык,  кошчык,  очып  чык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132000" y="2924280"/>
            <a:ext cx="370836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050920" y="549360"/>
            <a:ext cx="5545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6699"/>
                </a:solidFill>
                <a:latin typeface="Verdana"/>
              </a:rPr>
              <a:t>Эчтем, эчтем, су эчтем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6699"/>
                </a:solidFill>
                <a:latin typeface="Verdana"/>
              </a:rPr>
              <a:t>Чәй эчмичә су эчтем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6699"/>
                </a:solidFill>
                <a:latin typeface="Verdana"/>
              </a:rPr>
              <a:t>Чәй эчмичә су эчкәнгә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6699"/>
                </a:solidFill>
                <a:latin typeface="Verdana"/>
              </a:rPr>
              <a:t>Бик авыртты шул эчем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0" name="Рисунок 3" descr="1000180226.jpg"/>
          <p:cNvPicPr/>
          <p:nvPr/>
        </p:nvPicPr>
        <p:blipFill>
          <a:blip r:embed="rId1"/>
          <a:srcRect l="7502" t="25782" r="36262" b="6248"/>
          <a:stretch/>
        </p:blipFill>
        <p:spPr>
          <a:xfrm>
            <a:off x="3203640" y="3500280"/>
            <a:ext cx="3600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700360" y="0"/>
            <a:ext cx="4967280" cy="4365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995640" y="4941720"/>
            <a:ext cx="30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чәчәк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3" descr="1000180226.jpg"/>
          <p:cNvPicPr/>
          <p:nvPr/>
        </p:nvPicPr>
        <p:blipFill>
          <a:blip r:embed="rId1"/>
          <a:srcRect l="7502" t="25782" r="36262" b="6248"/>
          <a:stretch/>
        </p:blipFill>
        <p:spPr>
          <a:xfrm>
            <a:off x="3059280" y="260280"/>
            <a:ext cx="4582800" cy="5281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788000" y="5661000"/>
            <a:ext cx="23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эч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57" descr="D:\Документы\картинки\рисунки\!Wallpapers\Abstract\wallpaper2_1024.jpg"/>
          <p:cNvPicPr/>
          <p:nvPr/>
        </p:nvPicPr>
        <p:blipFill>
          <a:blip r:embed="rId1"/>
          <a:stretch/>
        </p:blipFill>
        <p:spPr>
          <a:xfrm>
            <a:off x="2556000" y="0"/>
            <a:ext cx="5759280" cy="4292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43280" y="4508640"/>
            <a:ext cx="23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эчә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-main-pic" descr="Картинка 8 из 3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260280"/>
            <a:ext cx="4896000" cy="4248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03640" y="5084640"/>
            <a:ext cx="388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эчемлек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896000" cy="4441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635280" y="4797360"/>
            <a:ext cx="34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чыпчык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5184720" cy="4724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924360" y="5013360"/>
            <a:ext cx="33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читек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59280" y="0"/>
            <a:ext cx="4752720" cy="4398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492360" y="486900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чүлмәк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8" descr="7ZSTRFCA5VK9UWCA710ZKJCAQ1J2E2CA0OL668CAYIJ1NYCAH5X9DJCAODSKBWCARUG9W8CA93NKMHCAVDQ1L5CALUIS3DCA4QJZQECA7EG1FWCAC35HRCCAROYKI4CASBVH97CAGV8EJTCA5ECK6G.jpg"/>
          <p:cNvPicPr/>
          <p:nvPr/>
        </p:nvPicPr>
        <p:blipFill>
          <a:blip r:embed="rId1"/>
          <a:stretch/>
        </p:blipFill>
        <p:spPr>
          <a:xfrm>
            <a:off x="2411280" y="0"/>
            <a:ext cx="5040360" cy="4508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564000" y="4797360"/>
            <a:ext cx="33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очучы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8:50:47Z</dcterms:created>
  <dc:creator>Резеда</dc:creator>
  <dc:description/>
  <dc:language>en-US</dc:language>
  <cp:lastModifiedBy>Резеда</cp:lastModifiedBy>
  <dcterms:modified xsi:type="dcterms:W3CDTF">2010-11-07T19:41:17Z</dcterms:modified>
  <cp:revision>4</cp:revision>
  <dc:subject/>
  <dc:title>Слайд 1</dc:title>
</cp:coreProperties>
</file>