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0.gif" ContentType="image/gif"/>
  <Override PartName="/ppt/media/image9.gif" ContentType="image/gif"/>
  <Override PartName="/ppt/media/image16.png" ContentType="image/pn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6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A4A-1245-4AAB-93A0-53D55C51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A0ED-1A3E-4831-923E-F13CD4D4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269-F4FA-45AD-9E59-685EDBB7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33D-49BC-457E-8AEA-5EDA9FF7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CB21-3B8E-4FCB-A674-F6CA5DB6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FED7-342F-4651-9131-53B785CE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9CA9-B076-4A8E-97CB-A37BEB5D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72C5-A329-4A92-A375-81B2C3BD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CCC3-DB70-494D-83EE-102F7FD0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BF13-90D4-4D36-BC09-48C655E5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DF7E-FFF9-4524-A1B9-F62A7A1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7A2-0E50-4CEF-A791-7ECBFAE4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ADDC-3805-4BF0-9EAF-2FC73E10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B387-82F0-412F-9A03-B717336C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EBDB-9BB8-4CFA-A67A-89BC1C6B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E20E-2B8C-452B-AFF2-8014E2AE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590E-7074-45C7-BBD6-3553E73F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0A84-5AD3-429D-BF43-B518961E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0F74-CD46-4DB2-8442-8ABA0882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23C-6588-4081-A2F3-B949A99E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F46-B6C7-4D43-B886-DAA42965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9AC-535A-4097-BBD8-AF8686B8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01B-38A4-47E7-918A-B169ACDF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E53-6D8E-4BF2-97AD-B9CE99C5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9062-7524-443A-886D-D280556A470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8005-93A9-4381-8E68-F70098F6EA6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estgif.narod.ru/eda/bestgif.narod.ru_45.gif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332000" y="1052640"/>
            <a:ext cx="734364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онетик күнег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8" descr="animal27.gif"/>
          <p:cNvPicPr/>
          <p:nvPr/>
        </p:nvPicPr>
        <p:blipFill>
          <a:blip r:embed="rId1"/>
          <a:stretch/>
        </p:blipFill>
        <p:spPr>
          <a:xfrm>
            <a:off x="3132000" y="333360"/>
            <a:ext cx="4608720" cy="4390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500720" y="515772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көчле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" descr="91kfo.gif"/>
          <p:cNvPicPr/>
          <p:nvPr/>
        </p:nvPicPr>
        <p:blipFill>
          <a:blip r:embed="rId1"/>
          <a:stretch/>
        </p:blipFill>
        <p:spPr>
          <a:xfrm>
            <a:off x="3708360" y="476280"/>
            <a:ext cx="2463840" cy="4452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419640" y="5157720"/>
            <a:ext cx="32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борчак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1" descr="g10gsp.gif"/>
          <p:cNvPicPr/>
          <p:nvPr/>
        </p:nvPicPr>
        <p:blipFill>
          <a:blip r:embed="rId1"/>
          <a:stretch/>
        </p:blipFill>
        <p:spPr>
          <a:xfrm>
            <a:off x="2556000" y="0"/>
            <a:ext cx="4270320" cy="4583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916360" y="4724280"/>
            <a:ext cx="48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чөгендер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9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1619280" y="0"/>
            <a:ext cx="6697800" cy="4797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564000" y="537372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кача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1293" t="27289" r="0" b="29866"/>
          <a:stretch/>
        </p:blipFill>
        <p:spPr>
          <a:xfrm>
            <a:off x="2124000" y="549360"/>
            <a:ext cx="5473800" cy="2376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916360" y="400536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бетергеч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4319640" cy="5445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635280" y="5445000"/>
            <a:ext cx="26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агач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24619" t="0" r="16956" b="2390"/>
          <a:stretch/>
        </p:blipFill>
        <p:spPr>
          <a:xfrm>
            <a:off x="2411280" y="115920"/>
            <a:ext cx="2737080" cy="5832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292720" y="256536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чалбар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00000" y="47628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чып йөри, чып – чып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Чыпчык,  чыпчык,  чык,  чыпчык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чып чык,  чыпчык,  чык,кошчык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Чык – чык,  кошчык,  очып  чык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132000" y="2924280"/>
            <a:ext cx="37083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050920" y="549360"/>
            <a:ext cx="5545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6699"/>
                </a:solidFill>
                <a:latin typeface="Verdana"/>
              </a:rPr>
              <a:t>Эчтем, эчтем, су эчтем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6699"/>
                </a:solidFill>
                <a:latin typeface="Verdana"/>
              </a:rPr>
              <a:t>Чәй эчмичә су эчтем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6699"/>
                </a:solidFill>
                <a:latin typeface="Verdana"/>
              </a:rPr>
              <a:t>Чәй эчмичә су эчкәнгә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6699"/>
                </a:solidFill>
                <a:latin typeface="Verdana"/>
              </a:rPr>
              <a:t>Бик авыртты шул эчем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0" name="Рисунок 3" descr="1000180226.jpg"/>
          <p:cNvPicPr/>
          <p:nvPr/>
        </p:nvPicPr>
        <p:blipFill>
          <a:blip r:embed="rId1"/>
          <a:srcRect l="7502" t="25782" r="36262" b="6248"/>
          <a:stretch/>
        </p:blipFill>
        <p:spPr>
          <a:xfrm>
            <a:off x="3203640" y="3500280"/>
            <a:ext cx="3600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4967280" cy="4365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95640" y="4941720"/>
            <a:ext cx="30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чәчәк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1000180226.jpg"/>
          <p:cNvPicPr/>
          <p:nvPr/>
        </p:nvPicPr>
        <p:blipFill>
          <a:blip r:embed="rId1"/>
          <a:srcRect l="7502" t="25782" r="36262" b="6248"/>
          <a:stretch/>
        </p:blipFill>
        <p:spPr>
          <a:xfrm>
            <a:off x="3059280" y="260280"/>
            <a:ext cx="4582800" cy="5281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788000" y="5661000"/>
            <a:ext cx="23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эч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57" descr="D:\Документы\картинки\рисунки\!Wallpapers\Abstract\wallpaper2_1024.jpg"/>
          <p:cNvPicPr/>
          <p:nvPr/>
        </p:nvPicPr>
        <p:blipFill>
          <a:blip r:embed="rId1"/>
          <a:stretch/>
        </p:blipFill>
        <p:spPr>
          <a:xfrm>
            <a:off x="2556000" y="0"/>
            <a:ext cx="5759280" cy="429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3280" y="450864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эчә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-main-pic" descr="Картинка 8 из 3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260280"/>
            <a:ext cx="4896000" cy="4248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03640" y="5084640"/>
            <a:ext cx="38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эчемлек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896000" cy="4441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635280" y="4797360"/>
            <a:ext cx="34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чыпчык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5184720" cy="4724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924360" y="5013360"/>
            <a:ext cx="33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читек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4752720" cy="4398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492360" y="486900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чүлмәк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8" descr="7ZSTRFCA5VK9UWCA710ZKJCAQ1J2E2CA0OL668CAYIJ1NYCAH5X9DJCAODSKBWCARUG9W8CA93NKMHCAVDQ1L5CALUIS3DCA4QJZQECA7EG1FWCAC35HRCCAROYKI4CASBVH97CAGV8EJTCA5ECK6G.jpg"/>
          <p:cNvPicPr/>
          <p:nvPr/>
        </p:nvPicPr>
        <p:blipFill>
          <a:blip r:embed="rId1"/>
          <a:stretch/>
        </p:blipFill>
        <p:spPr>
          <a:xfrm>
            <a:off x="2411280" y="0"/>
            <a:ext cx="5040360" cy="4508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564000" y="4797360"/>
            <a:ext cx="33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6699"/>
                </a:solidFill>
                <a:latin typeface="Verdana"/>
              </a:rPr>
              <a:t>очучы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8:50:47Z</dcterms:created>
  <dc:creator>Резеда</dc:creator>
  <dc:description/>
  <dc:language>en-US</dc:language>
  <cp:lastModifiedBy>Резеда</cp:lastModifiedBy>
  <dcterms:modified xsi:type="dcterms:W3CDTF">2010-11-07T19:41:17Z</dcterms:modified>
  <cp:revision>4</cp:revision>
  <dc:subject/>
  <dc:title>Слайд 1</dc:title>
</cp:coreProperties>
</file>