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0923-33C1-436B-B4ED-7DA5CA70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0D9-F834-4EF1-A751-65B758F9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446-DF2B-4BB1-B537-E1735367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CF7-2506-4DB8-B459-9F4E3F35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B7C3-442C-46BC-A53B-0B51B824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03D4-9812-48C1-AEB4-22ED5974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C428-8B3E-4174-8340-55E4745E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56D-41B8-448B-A6F8-7D4D1C59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E82A-517B-4B64-86E9-56CB496B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D66-52DF-4454-958A-40CEE2E7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6C0D-0611-43CE-81E9-29E65DF9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50C-F1AD-4AB3-AF84-309BB3A6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BA5-D888-4B1C-B231-499E1C7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DB7C-1E31-4145-9CA6-8230263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D0F7-EBB1-4A2C-9A93-717E133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E41C-4C95-4476-8AF4-F60DB130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08C-6CD6-4728-9555-8F5CF9C4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D93-47E9-4925-A7CF-76CBAEE8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B22-F2ED-4ED6-8D2D-81ADAE2B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7CC-99E0-4437-A8AC-C9A261DC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68A-E5EE-4AD1-A2FA-36A6900E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22F-BA26-4B56-824D-F328B4FE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B81-55FF-4789-985F-28F1C8A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66B-9FEE-47C4-ACBE-402A92ED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898A-EEF1-41B1-8605-46CDAAA6DE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848-46B9-4580-85F1-F8D3287AA4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Monotype Corsiva"/>
              </a:rPr>
              <a:t>Интегрированное занятие для детей второй младшей группы «Б» </a:t>
            </a: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Monotype Corsiva"/>
              </a:rPr>
              <a:t>«Чистота- залог здоровья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172200" cy="49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0199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324480" y="335268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343400" cy="3733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4496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24280" y="32004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267440" cy="2819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27672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449604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4190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909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2-02T09:51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