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E4E-9D8B-4077-9DB8-930E6717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A9A-F8A7-4683-80A5-58039109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C355-0D54-48DE-8CEF-BD4E5807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B7F0-87AF-4404-B467-78ED7E9E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2B6F-81E5-4168-9402-76F20EC8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EDED-7FFF-4613-9D43-9581D857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0402-C5AC-4282-BD5D-65E39589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8D8A-B798-4B6F-874C-1885EF09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F1EC-9D51-426A-9A94-789A6228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E004-2B90-4D39-B384-3A9AD289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8B14-F955-4571-A3FC-0A4F66E0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517-9C3B-4B74-829C-B22A1C3E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56D9-97C5-4455-BF8B-069E6A51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9A6F-8D3B-46AB-A98F-19DCC91B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6B3F-0D2C-4AE3-96F4-4E6E8994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A89D-E30A-478C-8141-4F31DF40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8013-EDF8-4A12-980C-0CF001B4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003B-910B-475D-A072-5834F845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9C52-DFDD-42AD-B765-3C3E1B86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F48-62D2-407A-B801-8E20A83F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130-7655-4C95-956D-89439E89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688-FF01-4758-8B63-F437551A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591-8CCB-4A46-B7E9-9439BD8E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8DEC-5399-4B59-BBD6-FCF1DC83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ACF3-2BEC-49CF-BBD8-AB4EA5CE019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A089-F434-46C8-99AF-6DD8CA3630B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Monotype Corsiva"/>
              </a:rPr>
              <a:t>Интегрированное занятие для детей второй младшей группы «Б» </a:t>
            </a:r>
            <a:br>
              <a:rPr sz="5400"/>
            </a:br>
            <a:r>
              <a:rPr b="1" lang="en-US" sz="5400" spc="-1" strike="noStrike">
                <a:solidFill>
                  <a:srgbClr val="ccecff"/>
                </a:solidFill>
                <a:latin typeface="Monotype Corsiva"/>
              </a:rPr>
              <a:t>«Чистота- залог здоровья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6172200" cy="495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601992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40080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743200" cy="2667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324480" y="380880"/>
            <a:ext cx="2514600" cy="2667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80880" y="3352680"/>
            <a:ext cx="2743200" cy="2819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3429000" y="3352680"/>
            <a:ext cx="2666880" cy="2819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6324480" y="3352680"/>
            <a:ext cx="251460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343400" cy="3733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495680" y="3124080"/>
            <a:ext cx="4496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724280" y="228600"/>
            <a:ext cx="4191120" cy="2895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4038480" cy="3352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724280" y="3200400"/>
            <a:ext cx="41911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0" y="228600"/>
            <a:ext cx="4267080" cy="281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4267440" cy="2819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52280" y="3276720"/>
            <a:ext cx="4267440" cy="3352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572000" y="3276720"/>
            <a:ext cx="42670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26708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495680" y="3124080"/>
            <a:ext cx="4496040" cy="3505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41907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572000" cy="3200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124080"/>
            <a:ext cx="44960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0199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79096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71500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2-02T09:51:1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