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3184-4B9B-41DE-968B-72359BB2F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mari.eparhia.ru/www/news2004/yo_samara_pam_65800347222.jpg" TargetMode="External"/><Relationship Id="rId2" Type="http://schemas.openxmlformats.org/officeDocument/2006/relationships/hyperlink" Target="http://mari.eparhia.ru/www/news2004/yo_samara_pam_65800347222.jpg" TargetMode="External"/><Relationship Id="rId3" Type="http://schemas.openxmlformats.org/officeDocument/2006/relationships/hyperlink" Target="http://mari.eparhia.ru/www/news2004/yo_samara_pam_65800347222.jpg" TargetMode="External"/><Relationship Id="rId4" Type="http://schemas.openxmlformats.org/officeDocument/2006/relationships/hyperlink" Target="http://mari.eparhia.ru/www/news2004/yo_samara_pam_65800347222.jpg" TargetMode="External"/><Relationship Id="rId5" Type="http://schemas.openxmlformats.org/officeDocument/2006/relationships/hyperlink" Target="http://mari.eparhia.ru/www/news2004/yo_samara_pam_65800347222.jpg" TargetMode="External"/><Relationship Id="rId6" Type="http://schemas.openxmlformats.org/officeDocument/2006/relationships/hyperlink" Target="http://mari.eparhia.ru/www/news2004/yo_samara_pam_65800347222.jpg" TargetMode="External"/><Relationship Id="rId7" Type="http://schemas.openxmlformats.org/officeDocument/2006/relationships/hyperlink" Target="http://mari.eparhia.ru/www/news2004/yo_samara_pam_65800347222.jpg" TargetMode="External"/><Relationship Id="rId8" Type="http://schemas.openxmlformats.org/officeDocument/2006/relationships/hyperlink" Target="http://mari.eparhia.ru/www/news2004/yo_samara_pam_65800347222.jpg" TargetMode="External"/><Relationship Id="rId9" Type="http://schemas.openxmlformats.org/officeDocument/2006/relationships/hyperlink" Target="http://mari.eparhia.ru/www/news2004/yo_samara_pam_65800347222.jpg" TargetMode="External"/><Relationship Id="rId10" Type="http://schemas.openxmlformats.org/officeDocument/2006/relationships/hyperlink" Target="http://mari.eparhia.ru/www/news2004/yo_samara_pam_65800347222.jpg" TargetMode="External"/><Relationship Id="rId11" Type="http://schemas.openxmlformats.org/officeDocument/2006/relationships/hyperlink" Target="http://mari.eparhia.ru/www/news2004/yo_samara_pam_65800347222.jpg" TargetMode="External"/><Relationship Id="rId12" Type="http://schemas.openxmlformats.org/officeDocument/2006/relationships/hyperlink" Target="http://mari.eparhia.ru/www/news2004/yo_samara_pam_65800347222.jpg" TargetMode="External"/><Relationship Id="rId13" Type="http://schemas.openxmlformats.org/officeDocument/2006/relationships/hyperlink" Target="http://mari.eparhia.ru/www/news2004/yo_samara_pam_65800347222.jpg" TargetMode="External"/><Relationship Id="rId14" Type="http://schemas.openxmlformats.org/officeDocument/2006/relationships/hyperlink" Target="http://mari.eparhia.ru/www/news2004/yo_samara_pam_65800347222.jpg" TargetMode="External"/><Relationship Id="rId15" Type="http://schemas.openxmlformats.org/officeDocument/2006/relationships/hyperlink" Target="http://mari.eparhia.ru/www/news2004/yo_samara_pam_65800347222.jpg" TargetMode="External"/><Relationship Id="rId16" Type="http://schemas.openxmlformats.org/officeDocument/2006/relationships/hyperlink" Target="http://mari.eparhia.ru/www/news2004/yo_samara_pam_65800347222.jpg" TargetMode="External"/><Relationship Id="rId17" Type="http://schemas.openxmlformats.org/officeDocument/2006/relationships/hyperlink" Target="http://mari.eparhia.ru/www/news2004/yo_samara_pam_65800347222.jpg" TargetMode="External"/><Relationship Id="rId18" Type="http://schemas.openxmlformats.org/officeDocument/2006/relationships/slide" Target="../slides/slide17.xml"/><Relationship Id="rId19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urexpert.ru/croatia/country/languag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urexpert.ru/bulgaria/country/languag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rthodox.org.ru/nr305264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mari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5"/>
              </a:rPr>
              <a:t>eparhia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6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7"/>
              </a:rPr>
              <a:t>ru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8"/>
              </a:rPr>
              <a:t>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9"/>
              </a:rPr>
              <a:t>www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0"/>
              </a:rPr>
              <a:t>/news2004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1"/>
              </a:rPr>
              <a:t>yo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2"/>
              </a:rPr>
              <a:t>_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3"/>
              </a:rPr>
              <a:t>samara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4"/>
              </a:rPr>
              <a:t>_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5"/>
              </a:rPr>
              <a:t>pam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6"/>
              </a:rPr>
              <a:t>_65800347222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7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lit.1september.ru/articlef.php?ID=20020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44E-E58D-4DE2-A2DF-41FF2984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464-0F4A-4BCA-AF5E-B0BDDED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839-05F2-4962-B6C0-15AC61E6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783-C598-48BB-8207-D3FE857C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7C4E-B0AE-470C-8073-43995DD0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CAF1-0631-4671-A0C0-D326B37F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D9C-06A7-4E69-8C6D-F9B51A9E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A945-E6F2-418E-B9AA-2DEC7E8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CEA0-026B-4CE6-8ED1-F071162E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4C6D-0103-4F3A-84ED-D8308687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C373-2268-436D-9694-1580870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B7D-18F6-4F25-842C-114D6875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7EBB-1C93-45C3-8379-46CA20A4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38AB-4E33-4F33-AA42-0D4E9F2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E0A-7A03-48A0-B43E-97BAFE5A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4892-000A-4BE6-A369-31B36F0E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AF00-F44A-4F04-849E-7FC6821F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796-AC8A-4F6D-8635-62F4B36B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011-36D8-43D3-AA6A-3887310B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F98-FCE4-4BB4-9250-0A5C61AF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928-A852-4F5F-9E4D-F37F8E18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83A-FA10-4DED-8BFD-DAA76120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720-E1F1-4B9B-8673-B10668D0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5A7-D592-4F88-98A8-E4CB2B3F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86C3-1CD7-4060-AD6F-A3E685710E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BA60-FCF6-412D-8C00-64A430286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0666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Презе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2819520"/>
            <a:ext cx="849636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з да Буки - целая наук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ослание от Кирилла и Мефод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Я знаю буквы: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Письмо — это достояние.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Трудитесь усердно, земляне,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Как подобает разумным людям — 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Постигайте мироздание!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Несите слово убеждённо —</a:t>
            </a:r>
            <a:br>
              <a:rPr sz="3500"/>
            </a:br>
            <a:r>
              <a:rPr b="1" i="1" lang="en-US" sz="3500" spc="-1" strike="noStrike">
                <a:solidFill>
                  <a:srgbClr val="cc0000"/>
                </a:solidFill>
                <a:latin typeface="Tahoma"/>
              </a:rPr>
              <a:t>Знание — дар Божий!</a:t>
            </a:r>
            <a:br>
              <a:rPr sz="3500"/>
            </a:br>
            <a:r>
              <a:rPr b="1" i="1" lang="en-US" sz="3500" spc="-1" strike="noStrike">
                <a:solidFill>
                  <a:srgbClr val="cc0000"/>
                </a:solidFill>
                <a:latin typeface="Tahoma"/>
              </a:rPr>
              <a:t>Дерзайте, вникайте, чтобы</a:t>
            </a:r>
            <a:br>
              <a:rPr sz="3500"/>
            </a:br>
            <a:r>
              <a:rPr b="1" i="1" lang="en-US" sz="3500" spc="-1" strike="noStrike">
                <a:solidFill>
                  <a:srgbClr val="cc0000"/>
                </a:solidFill>
                <a:latin typeface="Tahoma"/>
              </a:rPr>
              <a:t>Сущего свет постичь!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38280" y="380880"/>
            <a:ext cx="4240440" cy="60962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79080"/>
            <a:ext cx="89917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e5ffff"/>
                </a:solidFill>
                <a:latin typeface="Tahoma"/>
              </a:rPr>
              <a:t>Научиться читать в старину было гораздо труднее, чем сейчас. </a:t>
            </a:r>
            <a:br>
              <a:rPr sz="2500"/>
            </a:br>
            <a:r>
              <a:rPr b="1" lang="en-US" sz="2500" spc="-1" strike="noStrike">
                <a:solidFill>
                  <a:srgbClr val="e5ffff"/>
                </a:solidFill>
                <a:latin typeface="Tahoma"/>
              </a:rPr>
              <a:t>С целью упрощения русского письма были проведены реформы.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-29340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Первая реформа состоялась по инициативе Петра I в начале 18 век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3400" indent="-29340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Он изъял дублетные буквы(обозначаюшие один и тот же звук речи) и ввёл новые. Изменилось начертание букв, они перестали обозначать цифр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309564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114800" y="178920"/>
            <a:ext cx="5029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ahoma"/>
              </a:rPr>
              <a:t>Царь Пётр I собственноручно вычеркнул буквы. Азбуку стали называть «гражданицей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051440" cy="6095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67080" y="4419720"/>
            <a:ext cx="48769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Реформа 1708–1710 гг. разделила единый алфавит на два: один – традиционный (для написания церковных книг,        а другой – новый, светский, гражданский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2265480"/>
            <a:ext cx="426708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                 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        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</a:t>
            </a:r>
            <a:r>
              <a:rPr b="1" lang="ru-RU" sz="3000" spc="-1" strike="noStrike">
                <a:solidFill>
                  <a:srgbClr val="e5ffff"/>
                </a:solidFill>
                <a:latin typeface="Monotype Corsiva"/>
              </a:rPr>
              <a:t>Четверть века спустя  Российская академия наук    </a:t>
            </a:r>
            <a:br>
              <a:rPr sz="3000"/>
            </a:br>
            <a:r>
              <a:rPr b="1" lang="ru-RU" sz="3000" spc="-1" strike="noStrike">
                <a:solidFill>
                  <a:srgbClr val="e5ffff"/>
                </a:solidFill>
                <a:latin typeface="Monotype Corsiva"/>
              </a:rPr>
              <a:t> продолжила   реформирование алфавита,    начатое   Петром .  Она исключила из алфавита буквы «кси» и «зело», а также «ижицу».</a:t>
            </a:r>
            <a:br>
              <a:rPr sz="3000"/>
            </a:br>
            <a:r>
              <a:rPr b="1" lang="ru-RU" sz="3000" spc="-1" strike="noStrike">
                <a:solidFill>
                  <a:srgbClr val="e5ffff"/>
                </a:solidFill>
                <a:latin typeface="Monotype Corsiva"/>
              </a:rPr>
              <a:t>                  </a:t>
            </a:r>
            <a:br>
              <a:rPr sz="3000"/>
            </a:b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                                                        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23920" y="3657240"/>
            <a:ext cx="4419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Но время быстро движется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И жизнь уже не т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Где нынче буква Ижица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Где ять? И где Фита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Без них правописание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Сумело обойтись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Новейшие издания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Без них вступают в жизнь.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3528720" cy="2384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2057400"/>
            <a:ext cx="655308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В любой старинной книжиц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Ты сможешь прочитать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Жила на свете Ижиц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А с нею буква Ять.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38480" cy="30290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838080"/>
            <a:ext cx="495288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В День славянской письменности и культуры состоялся молебен перед памятником святым равноапостольным Мефодию и Кириллу на Славянской площади в Москв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04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Comic Sans MS"/>
              </a:rPr>
              <a:t>СЛАВЯНСКИЙ НАРОД С БЛАГОДАРНОСТЬЮ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29120" cy="35049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48006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Памятник Кириллу и Мефодию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в Хорватии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53080" y="2514600"/>
            <a:ext cx="2265480" cy="3962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276720" y="152280"/>
            <a:ext cx="5257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Памятник Кириллу и Мефодию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в Болгар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>
            <a:off x="2895120" y="3886200"/>
            <a:ext cx="3429000" cy="2781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621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972480" y="1523880"/>
            <a:ext cx="1885680" cy="2514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1885680" cy="2514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2971800" y="990720"/>
            <a:ext cx="32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23-24 мая 2004 года Самара стала общероссийским центром проведения Дней славянской письменности и куль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5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Comic Sans MS"/>
              </a:rPr>
              <a:t>СЛАВЯНСКИЙ НАРОД С БЛАГОДАРНОСТЬЮ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2286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mic Sans MS"/>
              </a:rPr>
              <a:t>Кирилло-Мефодиевский собор в Самар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4724280"/>
            <a:ext cx="2286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omic Sans MS"/>
              </a:rPr>
              <a:t>Памятник Кириллу и Мефодию</a:t>
            </a:r>
            <a:br>
              <a:rPr sz="2500"/>
            </a:br>
            <a:r>
              <a:rPr b="1" lang="ru-RU" sz="2500" spc="-1" strike="noStrike">
                <a:solidFill>
                  <a:srgbClr val="a50021"/>
                </a:solidFill>
                <a:latin typeface="Comic Sans MS"/>
              </a:rPr>
              <a:t>в Самар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7574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559320" cy="590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38480" y="228600"/>
            <a:ext cx="4176720" cy="590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3657600" y="6145200"/>
            <a:ext cx="33116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етописец Нестр Васнец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359480" y="4038480"/>
            <a:ext cx="160344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553080" cy="6597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09680" y="380880"/>
            <a:ext cx="4953240" cy="60962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314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ткуда произошел русский алфавит?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5029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сьменность на Руси появилась в 988 году во время крещения Руси Владимир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0240" indent="-30024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ли славянскую письменность братья-монахи Кирилл и Мефодий, взяв за основу греческий алфав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6291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31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Monotype Corsiva"/>
              </a:rPr>
              <a:t>Глаголица</a:t>
            </a:r>
            <a:r>
              <a:rPr b="1" lang="en-US" sz="4400" spc="-1" strike="noStrike">
                <a:solidFill>
                  <a:srgbClr val="e5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Первая азбука состояла из 38 букв и называлась глаголицей. Буквы глаголицы не скопированы с другого алфавита (как кириллица – с греческого), а созданы самостоятельно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1143000"/>
            <a:ext cx="383220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47960" y="533520"/>
            <a:ext cx="42670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Кириллиц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876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Кириллица легла в основу древнерус-ской азбуки, состо-явшей из 43 бук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Название каждой буквы древнерус-ской азбуки, имело своё значени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Буквы кириллицы служили не только для обозначения звуков, но и заменяли цифры, приравнивались по значению к слову.   «Буки»- букв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419112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Превращение азбуки в алфавит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75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Tahoma"/>
              </a:rPr>
              <a:t>От названия первых двух букв кириллицы образовалось наше слово </a:t>
            </a:r>
            <a:r>
              <a:rPr b="1" i="1" lang="en-US" sz="3900" spc="-1" strike="noStrike">
                <a:solidFill>
                  <a:srgbClr val="ffff00"/>
                </a:solidFill>
                <a:latin typeface="Tahoma"/>
              </a:rPr>
              <a:t>азбука.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2444760"/>
            <a:ext cx="42670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2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Tahoma"/>
              </a:rPr>
              <a:t>Превращение азбуки в алфавит </a:t>
            </a:r>
            <a:br>
              <a:rPr sz="4500"/>
            </a:b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Вот азбука — начало всех начал 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Открыл букварь — и детством так и дунуло!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А Константин — философ по ночам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Не спал, наверно, буковки выдумывал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2880" y="1676160"/>
            <a:ext cx="41911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Шептал. Перо в чернила окунал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Он понимал, что буковки основа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Грядущего неписанного слов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Великого, как Тихий океан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Monotype Corsiva"/>
              </a:rPr>
              <a:t>Пользуясь старославянским языком, книжники приближали его к своим родным языкам – русскому, сербскому, болгарскому. Такой вариант старославянского теперь называют церковно-славянским .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13360" cy="359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3071880"/>
            <a:ext cx="5086080" cy="35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43600" y="6400800"/>
            <a:ext cx="1714680" cy="17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3532320" cy="47926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962520" y="1523880"/>
            <a:ext cx="4724280" cy="70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амятники  кириллического пись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a50021"/>
                </a:solidFill>
                <a:latin typeface="Tahoma"/>
              </a:rPr>
              <a:t>Саввина книга – отрывки из Евангелия.</a:t>
            </a:r>
            <a:br>
              <a:rPr sz="3500"/>
            </a:br>
            <a:r>
              <a:rPr b="0" lang="ru-RU" sz="3500" spc="-1" strike="noStrike">
                <a:solidFill>
                  <a:srgbClr val="a50021"/>
                </a:solidFill>
                <a:latin typeface="Tahoma"/>
              </a:rPr>
              <a:t>Лист с инициалом В, </a:t>
            </a:r>
            <a:br>
              <a:rPr sz="3500"/>
            </a:br>
            <a:r>
              <a:rPr b="0" lang="ru-RU" sz="3500" spc="-1" strike="noStrike">
                <a:solidFill>
                  <a:srgbClr val="a50021"/>
                </a:solidFill>
                <a:latin typeface="Tahoma"/>
              </a:rPr>
              <a:t>около 1220 г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52480" y="7621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Саввина книга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4T19:41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