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3B6-893F-44DC-B923-A98665E646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mari.eparhia.ru/www/news2004/yo_samara_pam_65800347222.jpg" TargetMode="External"/><Relationship Id="rId2" Type="http://schemas.openxmlformats.org/officeDocument/2006/relationships/hyperlink" Target="http://mari.eparhia.ru/www/news2004/yo_samara_pam_65800347222.jpg" TargetMode="External"/><Relationship Id="rId3" Type="http://schemas.openxmlformats.org/officeDocument/2006/relationships/hyperlink" Target="http://mari.eparhia.ru/www/news2004/yo_samara_pam_65800347222.jpg" TargetMode="External"/><Relationship Id="rId4" Type="http://schemas.openxmlformats.org/officeDocument/2006/relationships/hyperlink" Target="http://mari.eparhia.ru/www/news2004/yo_samara_pam_65800347222.jpg" TargetMode="External"/><Relationship Id="rId5" Type="http://schemas.openxmlformats.org/officeDocument/2006/relationships/hyperlink" Target="http://mari.eparhia.ru/www/news2004/yo_samara_pam_65800347222.jpg" TargetMode="External"/><Relationship Id="rId6" Type="http://schemas.openxmlformats.org/officeDocument/2006/relationships/hyperlink" Target="http://mari.eparhia.ru/www/news2004/yo_samara_pam_65800347222.jpg" TargetMode="External"/><Relationship Id="rId7" Type="http://schemas.openxmlformats.org/officeDocument/2006/relationships/hyperlink" Target="http://mari.eparhia.ru/www/news2004/yo_samara_pam_65800347222.jpg" TargetMode="External"/><Relationship Id="rId8" Type="http://schemas.openxmlformats.org/officeDocument/2006/relationships/hyperlink" Target="http://mari.eparhia.ru/www/news2004/yo_samara_pam_65800347222.jpg" TargetMode="External"/><Relationship Id="rId9" Type="http://schemas.openxmlformats.org/officeDocument/2006/relationships/hyperlink" Target="http://mari.eparhia.ru/www/news2004/yo_samara_pam_65800347222.jpg" TargetMode="External"/><Relationship Id="rId10" Type="http://schemas.openxmlformats.org/officeDocument/2006/relationships/hyperlink" Target="http://mari.eparhia.ru/www/news2004/yo_samara_pam_65800347222.jpg" TargetMode="External"/><Relationship Id="rId11" Type="http://schemas.openxmlformats.org/officeDocument/2006/relationships/hyperlink" Target="http://mari.eparhia.ru/www/news2004/yo_samara_pam_65800347222.jpg" TargetMode="External"/><Relationship Id="rId12" Type="http://schemas.openxmlformats.org/officeDocument/2006/relationships/hyperlink" Target="http://mari.eparhia.ru/www/news2004/yo_samara_pam_65800347222.jpg" TargetMode="External"/><Relationship Id="rId13" Type="http://schemas.openxmlformats.org/officeDocument/2006/relationships/hyperlink" Target="http://mari.eparhia.ru/www/news2004/yo_samara_pam_65800347222.jpg" TargetMode="External"/><Relationship Id="rId14" Type="http://schemas.openxmlformats.org/officeDocument/2006/relationships/hyperlink" Target="http://mari.eparhia.ru/www/news2004/yo_samara_pam_65800347222.jpg" TargetMode="External"/><Relationship Id="rId15" Type="http://schemas.openxmlformats.org/officeDocument/2006/relationships/hyperlink" Target="http://mari.eparhia.ru/www/news2004/yo_samara_pam_65800347222.jpg" TargetMode="External"/><Relationship Id="rId16" Type="http://schemas.openxmlformats.org/officeDocument/2006/relationships/hyperlink" Target="http://mari.eparhia.ru/www/news2004/yo_samara_pam_65800347222.jpg" TargetMode="External"/><Relationship Id="rId17" Type="http://schemas.openxmlformats.org/officeDocument/2006/relationships/hyperlink" Target="http://mari.eparhia.ru/www/news2004/yo_samara_pam_65800347222.jpg" TargetMode="External"/><Relationship Id="rId18" Type="http://schemas.openxmlformats.org/officeDocument/2006/relationships/slide" Target="../slides/slide17.xml"/><Relationship Id="rId19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urexpert.ru/croatia/country/languag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urexpert.ru/bulgaria/country/languag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rthodox.org.ru/nr305264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:/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3"/>
              </a:rPr>
              <a:t>mari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5"/>
              </a:rPr>
              <a:t>eparhia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6"/>
              </a:rPr>
              <a:t>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7"/>
              </a:rPr>
              <a:t>ru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8"/>
              </a:rPr>
              <a:t>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9"/>
              </a:rPr>
              <a:t>www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0"/>
              </a:rPr>
              <a:t>/news2004/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1"/>
              </a:rPr>
              <a:t>yo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2"/>
              </a:rPr>
              <a:t>_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3"/>
              </a:rPr>
              <a:t>samara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4"/>
              </a:rPr>
              <a:t>_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5"/>
              </a:rPr>
              <a:t>pam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6"/>
              </a:rPr>
              <a:t>_65800347222.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7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lit.1september.ru/articlef.php?ID=20020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6AB-252F-41C0-9076-E4DBA5CF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5D1-B81B-4154-A085-120E540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B88-374C-40B9-87F0-305D1E0C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886-A80F-48F6-91B4-9E0201DE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3A9F-C57A-4B40-9C1D-80EA836F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B07F-50BB-47AD-8A59-E7A1E2E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916C-456B-4659-BF9B-D346ECA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198-0F34-4C2A-86EC-39075DA7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F1BB-9B94-4B4B-8129-5FDD904D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774-0312-4655-942C-E5062ED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1AEB-A965-49B8-8DC9-46923CF4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6C2-0979-4125-8D59-2C787C7F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CB7F-ECA2-4977-AABD-699273B0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F72-505D-48E4-82E8-574C1777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9081-8745-4849-8030-E72C8B5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FB36-71D1-404B-8015-15562461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F68E-7BDC-436D-8CE1-1D5DA7FC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993-4BC7-4BAF-AC5C-5988195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FB3-CBC3-4CC5-80CB-D31C339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A8F-13C4-4A5E-BEE0-CF0A781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03D-CB37-4F6B-9A54-F8D94872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EDD-BF82-4C10-8634-ACA8510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61C-B565-4E51-B3A8-0E5295DA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BA2-ABE6-442B-A2E7-5A0ED92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5097-61C6-41AB-B9C7-1BBD50D959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22AD-CC96-43B5-860E-AE9E7F588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0666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2819520"/>
            <a:ext cx="849636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з да Буки - целая наук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Послание от Кирилла и Мефод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Я знаю буквы: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Письмо — это достояние.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Трудитесь усердно, земляне,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Как подобает разумным людям — 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Постигайте мироздание!</a:t>
            </a:r>
            <a:br>
              <a:rPr sz="3500"/>
            </a:br>
            <a:r>
              <a:rPr b="1" i="1" lang="en-US" sz="3500" spc="-1" strike="noStrike">
                <a:solidFill>
                  <a:srgbClr val="993300"/>
                </a:solidFill>
                <a:latin typeface="Tahoma"/>
              </a:rPr>
              <a:t>Несите слово убеждённо —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Знание — дар Божий!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Дерзайте, вникайте, чтобы</a:t>
            </a:r>
            <a:br>
              <a:rPr sz="3500"/>
            </a:br>
            <a:r>
              <a:rPr b="1" i="1" lang="en-US" sz="3500" spc="-1" strike="noStrike">
                <a:solidFill>
                  <a:srgbClr val="cc0000"/>
                </a:solidFill>
                <a:latin typeface="Tahoma"/>
              </a:rPr>
              <a:t>Сущего свет постичь!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4240440" cy="60962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79080"/>
            <a:ext cx="89917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e5ffff"/>
                </a:solidFill>
                <a:latin typeface="Tahoma"/>
              </a:rPr>
              <a:t>Научиться читать в старину было гораздо труднее, чем сейчас. </a:t>
            </a:r>
            <a:br>
              <a:rPr sz="2500"/>
            </a:br>
            <a:r>
              <a:rPr b="1" lang="en-US" sz="2500" spc="-1" strike="noStrike">
                <a:solidFill>
                  <a:srgbClr val="e5ffff"/>
                </a:solidFill>
                <a:latin typeface="Tahoma"/>
              </a:rPr>
              <a:t>С целью упрощения русского письма были проведены реформы.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Первая реформа состоялась по инициативе Петра I в начале 18 век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3400" indent="-29340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Он изъял дублетные буквы(обозначаюшие один и тот же звук речи) и ввёл новые. Изменилось начертание букв, они перестали обозначать цифры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309564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114800" y="178920"/>
            <a:ext cx="5029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ahoma"/>
              </a:rPr>
              <a:t>Царь Пётр I собственноручно вычеркнул буквы. Азбуку стали называть «гражданицей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051440" cy="609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67080" y="4419720"/>
            <a:ext cx="48769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Реформа 1708–1710 гг. разделила единый алфавит на два: один – традиционный (для написания церковных книг,        а другой – новый, светский, гражданский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2265480"/>
            <a:ext cx="426708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        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</a:t>
            </a: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Четверть века спустя  Российская академия наук    </a:t>
            </a: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 продолжила   реформирование алфавита,    начатое   Петром .  Она исключила из алфавита буквы «кси» и «зело», а также «ижицу».</a:t>
            </a:r>
            <a:br>
              <a:rPr sz="3000"/>
            </a:br>
            <a:r>
              <a:rPr b="1" lang="ru-RU" sz="3000" spc="-1" strike="noStrike">
                <a:solidFill>
                  <a:srgbClr val="e5ffff"/>
                </a:solidFill>
                <a:latin typeface="Monotype Corsiva"/>
              </a:rPr>
              <a:t>                  </a:t>
            </a:r>
            <a:br>
              <a:rPr sz="3000"/>
            </a:br>
            <a:r>
              <a:rPr b="0" lang="ru-RU" sz="2400" spc="-1" strike="noStrike">
                <a:solidFill>
                  <a:srgbClr val="e5ffff"/>
                </a:solidFill>
                <a:latin typeface="Monotype Corsiva"/>
              </a:rPr>
              <a:t>                                                            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23920" y="3657240"/>
            <a:ext cx="4419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Но время быстро движется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И жизнь уже не т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Где нынче буква Ижица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Где ять? И где Фита?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Без них правописание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Сумело обойтись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Новейшие издания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ahoma"/>
              </a:rPr>
              <a:t>Без них вступают в жизнь.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3528720" cy="238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2057400"/>
            <a:ext cx="655308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В любой старинной книжиц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Ты сможешь прочитать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Жила на свете Ижица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А с нею буква Ять.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30290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838080"/>
            <a:ext cx="495288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mic Sans MS"/>
              </a:rPr>
              <a:t>В День славянской письменности и культуры состоялся молебен перед памятником святым равноапостольным Мефодию и Кириллу на Славянской площади в Москве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049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omic Sans MS"/>
              </a:rPr>
              <a:t>СЛАВЯНСКИЙ НАРОД С БЛАГОДАРНОСТЬЮ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29120" cy="35049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48006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Памятник Кириллу и Мефодию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в Хорватии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553080" y="2514600"/>
            <a:ext cx="2265480" cy="3962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3276720" y="152280"/>
            <a:ext cx="5257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Памятник Кириллу и Мефодию</a:t>
            </a:r>
            <a:br>
              <a:rPr sz="3500"/>
            </a:br>
            <a:r>
              <a:rPr b="1" lang="ru-RU" sz="3500" spc="-1" strike="noStrike">
                <a:solidFill>
                  <a:srgbClr val="ffff00"/>
                </a:solidFill>
                <a:latin typeface="Tahoma"/>
              </a:rPr>
              <a:t>в Болгар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flipH="1">
            <a:off x="2895120" y="3886200"/>
            <a:ext cx="3429000" cy="2781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62120" y="59436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972480" y="1523880"/>
            <a:ext cx="1885680" cy="2514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1885680" cy="25146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2971800" y="99072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23-24 мая 2004 года Самара стала общероссийским центром проведения Дней славянской письменности и куль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5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omic Sans MS"/>
              </a:rPr>
              <a:t>СЛАВЯНСКИЙ НАРОД С БЛАГОДАРНОСТЬЮ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648320"/>
            <a:ext cx="228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Comic Sans MS"/>
              </a:rPr>
              <a:t>Кирилло-Мефодиевский собор в Сама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724280"/>
            <a:ext cx="2286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omic Sans MS"/>
              </a:rPr>
              <a:t>Памятник Кириллу и Мефодию</a:t>
            </a:r>
            <a:br>
              <a:rPr sz="2500"/>
            </a:br>
            <a:r>
              <a:rPr b="1" lang="ru-RU" sz="2500" spc="-1" strike="noStrike">
                <a:solidFill>
                  <a:srgbClr val="a50021"/>
                </a:solidFill>
                <a:latin typeface="Comic Sans MS"/>
              </a:rPr>
              <a:t>в Сама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7574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59320" cy="590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038480" y="228600"/>
            <a:ext cx="4176720" cy="590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3657600" y="6145200"/>
            <a:ext cx="3311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етописец Нестр Васнец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59480" y="4038480"/>
            <a:ext cx="16034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553080" cy="659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09680" y="380880"/>
            <a:ext cx="4953240" cy="60962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314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Откуда произошел русский алфавит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5029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0240" indent="-30024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енность на Руси появилась в 988 году во время крещения Руси Владимир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0240" indent="-30024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ли славянскую письменность братья-монахи Кирилл и Мефодий, взяв за основу греческий алфави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6291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310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Monotype Corsiva"/>
              </a:rPr>
              <a:t>Глаголица</a:t>
            </a:r>
            <a:r>
              <a:rPr b="1" lang="en-US" sz="4400" spc="-1" strike="noStrike">
                <a:solidFill>
                  <a:srgbClr val="e5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Первая азбука состояла из 38 букв и называлась глаголицей. Буквы глаголицы не скопированы с другого алфавита (как кириллица – с греческого), а созданы самостоятельно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2898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143000"/>
            <a:ext cx="383220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7960" y="533520"/>
            <a:ext cx="426708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Monotype Corsiva"/>
              </a:rPr>
              <a:t>Кириллиц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876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Кириллица легла в основу древнерус-ской азбуки, состо-явшей из 43 бук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Название каждой буквы древнерус-ской азбуки, имело своё значени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ru-RU" sz="3000" spc="-1" strike="noStrike">
                <a:solidFill>
                  <a:srgbClr val="990000"/>
                </a:solidFill>
                <a:latin typeface="Tahoma"/>
              </a:rPr>
              <a:t>Буквы кириллицы служили не только для обозначения звуков, но и заменяли цифры, приравнивались по значению к слову.   «Буки»- букв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41911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Превращение азбуки в алфави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75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Tahoma"/>
              </a:rPr>
              <a:t>От названия первых двух букв кириллицы образовалось наше слово </a:t>
            </a:r>
            <a:r>
              <a:rPr b="1" i="1" lang="en-US" sz="3900" spc="-1" strike="noStrike">
                <a:solidFill>
                  <a:srgbClr val="ffff00"/>
                </a:solidFill>
                <a:latin typeface="Tahoma"/>
              </a:rPr>
              <a:t>азбука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2444760"/>
            <a:ext cx="42670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2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Tahoma"/>
              </a:rPr>
              <a:t>Превращение азбуки в алфавит </a:t>
            </a:r>
            <a:br>
              <a:rPr sz="4500"/>
            </a:br>
            <a:endParaRPr b="0" lang="en-US" sz="45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Вот азбука — начало всех начал 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Открыл букварь — и детством так и дунуло!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А Константин — философ по ночам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Не спал, наверно, буковки выдумыва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1676160"/>
            <a:ext cx="41911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Шептал. Перо в чернила окунал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Он понимал, что буковки основа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Грядущего неписанного слова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5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Великого, как Тихий океан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Monotype Corsiva"/>
              </a:rPr>
              <a:t>Пользуясь старославянским языком, книжники приближали его к своим родным языкам – русскому, сербскому, болгарскому. Такой вариант старославянского теперь называют церковно-славянским .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13360" cy="35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4000" y="3071880"/>
            <a:ext cx="5086080" cy="35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3600" y="6400800"/>
            <a:ext cx="1714680" cy="17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3532320" cy="47926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962520" y="1523880"/>
            <a:ext cx="4724280" cy="70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амятники  кириллического пись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Саввина книга – отрывки из Евангелия.</a:t>
            </a:r>
            <a:br>
              <a:rPr sz="3500"/>
            </a:b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Лист с инициалом В, </a:t>
            </a:r>
            <a:br>
              <a:rPr sz="3500"/>
            </a:br>
            <a:r>
              <a:rPr b="0" lang="ru-RU" sz="3500" spc="-1" strike="noStrike">
                <a:solidFill>
                  <a:srgbClr val="a50021"/>
                </a:solidFill>
                <a:latin typeface="Tahoma"/>
              </a:rPr>
              <a:t>около 1220 г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52480" y="7621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Саввина книга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4T19:41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