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346-1896-4B51-A587-5D21A55E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D40-7953-4CC0-A4CF-CC8F164A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49B-FA75-4F5A-85CD-4C312EE5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43D-9FA4-48E6-9095-A29DD5DD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848-E99D-4D97-BBD8-F8C23BD7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7D3-62EA-4C30-85D1-6C30C299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7F9-927A-4D09-B1EF-ED8EE016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D13-0561-4136-AD51-79670C85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A41-F27A-40E1-921B-DBAA6FF1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AF9-C170-426A-9762-70193121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08D-DB8A-4D69-8B5A-8BE0D6DF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F42-251C-4D66-80BD-D94C960A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5F97-0CF7-4D85-B8C7-E2E3958B5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57742" TargetMode="External"/><Relationship Id="rId2" Type="http://schemas.openxmlformats.org/officeDocument/2006/relationships/hyperlink" Target="http://dic.academic.ru/dic.nsf/ruwiki/1066114" TargetMode="External"/><Relationship Id="rId3" Type="http://schemas.openxmlformats.org/officeDocument/2006/relationships/hyperlink" Target="http://dic.academic.ru/dic.nsf/ruwiki/1377784" TargetMode="External"/><Relationship Id="rId4" Type="http://schemas.openxmlformats.org/officeDocument/2006/relationships/hyperlink" Target="http://dic.academic.ru/dic.nsf/ruwiki/1377784" TargetMode="External"/><Relationship Id="rId5" Type="http://schemas.openxmlformats.org/officeDocument/2006/relationships/hyperlink" Target="http://dic.academic.ru/dic.nsf/ruwiki/15692" TargetMode="External"/><Relationship Id="rId6" Type="http://schemas.openxmlformats.org/officeDocument/2006/relationships/hyperlink" Target="http://dic.academic.ru/dic.nsf/ruwiki/13877" TargetMode="External"/><Relationship Id="rId7" Type="http://schemas.openxmlformats.org/officeDocument/2006/relationships/hyperlink" Target="http://dic.academic.ru/dic.nsf/ruwiki/201197" TargetMode="External"/><Relationship Id="rId8" Type="http://schemas.openxmlformats.org/officeDocument/2006/relationships/hyperlink" Target="http://dic.academic.ru/dic.nsf/ruwiki/45381" TargetMode="External"/><Relationship Id="rId9" Type="http://schemas.openxmlformats.org/officeDocument/2006/relationships/hyperlink" Target="http://dic.academic.ru/dic.nsf/ruwiki/627647" TargetMode="External"/><Relationship Id="rId10" Type="http://schemas.openxmlformats.org/officeDocument/2006/relationships/hyperlink" Target="http://dic.academic.ru/dic.nsf/ruwiki/16084" TargetMode="External"/><Relationship Id="rId11" Type="http://schemas.openxmlformats.org/officeDocument/2006/relationships/hyperlink" Target="http://dic.academic.ru/dic.nsf/ruwiki/117823" TargetMode="External"/><Relationship Id="rId12" Type="http://schemas.openxmlformats.org/officeDocument/2006/relationships/hyperlink" Target="http://dic.academic.ru/dic.nsf/ruwiki/3306" TargetMode="External"/><Relationship Id="rId13" Type="http://schemas.openxmlformats.org/officeDocument/2006/relationships/hyperlink" Target="http://dic.academic.ru/dic.nsf/ruwiki/78416" TargetMode="External"/><Relationship Id="rId14" Type="http://schemas.openxmlformats.org/officeDocument/2006/relationships/hyperlink" Target="http://dic.academic.ru/dic.nsf/ruwiki/101548" TargetMode="External"/><Relationship Id="rId15" Type="http://schemas.openxmlformats.org/officeDocument/2006/relationships/hyperlink" Target="http://dic.academic.ru/dic.nsf/ruwiki/486834" TargetMode="External"/><Relationship Id="rId16" Type="http://schemas.openxmlformats.org/officeDocument/2006/relationships/hyperlink" Target="http://dic.academic.ru/dic.nsf/ruwiki/486834" TargetMode="External"/><Relationship Id="rId17" Type="http://schemas.openxmlformats.org/officeDocument/2006/relationships/hyperlink" Target="http://dic.academic.ru/dic.nsf/ruwiki/486834" TargetMode="External"/><Relationship Id="rId18" Type="http://schemas.openxmlformats.org/officeDocument/2006/relationships/hyperlink" Target="http://dic.academic.ru/dic.nsf/ruwiki/27282" TargetMode="External"/><Relationship Id="rId19" Type="http://schemas.openxmlformats.org/officeDocument/2006/relationships/hyperlink" Target="http://dic.academic.ru/dic.nsf/ruwiki/1018" TargetMode="External"/><Relationship Id="rId20" Type="http://schemas.openxmlformats.org/officeDocument/2006/relationships/hyperlink" Target="http://dic.academic.ru/dic.nsf/ruwiki/44218" TargetMode="External"/><Relationship Id="rId21" Type="http://schemas.openxmlformats.org/officeDocument/2006/relationships/slide" Target=""/><Relationship Id="rId22" Type="http://schemas.openxmlformats.org/officeDocument/2006/relationships/hyperlink" Target="http://dic.academic.ru/dic.nsf/ruwiki/660068" TargetMode="External"/><Relationship Id="rId23" Type="http://schemas.openxmlformats.org/officeDocument/2006/relationships/hyperlink" Target="http://dic.academic.ru/dic.nsf/ruwiki/1153304" TargetMode="External"/><Relationship Id="rId2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1118063" TargetMode="External"/><Relationship Id="rId2" Type="http://schemas.openxmlformats.org/officeDocument/2006/relationships/hyperlink" Target="http://dic.academic.ru/dic.nsf/ruwiki/44295" TargetMode="External"/><Relationship Id="rId3" Type="http://schemas.openxmlformats.org/officeDocument/2006/relationships/hyperlink" Target="http://dic.academic.ru/dic.nsf/ruwiki/454" TargetMode="External"/><Relationship Id="rId4" Type="http://schemas.openxmlformats.org/officeDocument/2006/relationships/hyperlink" Target="http://dic.academic.ru/dic.nsf/ruwiki/14719" TargetMode="External"/><Relationship Id="rId5" Type="http://schemas.openxmlformats.org/officeDocument/2006/relationships/slide" Target=""/><Relationship Id="rId6" Type="http://schemas.openxmlformats.org/officeDocument/2006/relationships/hyperlink" Target="http://dic.academic.ru/dic.nsf/ruwiki/1131287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716" TargetMode="External"/><Relationship Id="rId2" Type="http://schemas.openxmlformats.org/officeDocument/2006/relationships/hyperlink" Target="http://dic.academic.ru/dic.nsf/ruwiki/57742" TargetMode="External"/><Relationship Id="rId3" Type="http://schemas.openxmlformats.org/officeDocument/2006/relationships/hyperlink" Target="http://dic.academic.ru/dic.nsf/ruwiki/6229" TargetMode="External"/><Relationship Id="rId4" Type="http://schemas.openxmlformats.org/officeDocument/2006/relationships/hyperlink" Target="http://dic.academic.ru/dic.nsf/ruwiki/154500" TargetMode="External"/><Relationship Id="rId5" Type="http://schemas.openxmlformats.org/officeDocument/2006/relationships/hyperlink" Target="http://dic.academic.ru/dic.nsf/ruwiki/19982" TargetMode="External"/><Relationship Id="rId6" Type="http://schemas.openxmlformats.org/officeDocument/2006/relationships/hyperlink" Target="http://dic.academic.ru/dic.nsf/ruwiki/27282" TargetMode="External"/><Relationship Id="rId7" Type="http://schemas.openxmlformats.org/officeDocument/2006/relationships/hyperlink" Target="http://dic.academic.ru/dic.nsf/ruwiki/486834" TargetMode="External"/><Relationship Id="rId8" Type="http://schemas.openxmlformats.org/officeDocument/2006/relationships/hyperlink" Target="http://dic.academic.ru/dic.nsf/ruwiki/486834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638973" TargetMode="External"/><Relationship Id="rId2" Type="http://schemas.openxmlformats.org/officeDocument/2006/relationships/hyperlink" Target="http://dic.academic.ru/dic.nsf/ruwiki/707221" TargetMode="External"/><Relationship Id="rId3" Type="http://schemas.openxmlformats.org/officeDocument/2006/relationships/hyperlink" Target="http://dic.academic.ru/dic.nsf/ruwiki/1049" TargetMode="External"/><Relationship Id="rId4" Type="http://schemas.openxmlformats.org/officeDocument/2006/relationships/hyperlink" Target="http://dic.academic.ru/dic.nsf/ruwiki/660691" TargetMode="External"/><Relationship Id="rId5" Type="http://schemas.openxmlformats.org/officeDocument/2006/relationships/hyperlink" Target="http://dic.academic.ru/dic.nsf/ruwiki/707222" TargetMode="External"/><Relationship Id="rId6" Type="http://schemas.openxmlformats.org/officeDocument/2006/relationships/hyperlink" Target="http://dic.academic.ru/dic.nsf/ruwiki/1026" TargetMode="External"/><Relationship Id="rId7" Type="http://schemas.openxmlformats.org/officeDocument/2006/relationships/hyperlink" Target="http://dic.academic.ru/dic.nsf/ruwiki/707226" TargetMode="External"/><Relationship Id="rId8" Type="http://schemas.openxmlformats.org/officeDocument/2006/relationships/hyperlink" Target="http://dic.academic.ru/dic.nsf/ruwiki/1049" TargetMode="External"/><Relationship Id="rId9" Type="http://schemas.openxmlformats.org/officeDocument/2006/relationships/hyperlink" Target="http://dic.academic.ru/dic.nsf/ruwiki/100872" TargetMode="External"/><Relationship Id="rId10" Type="http://schemas.openxmlformats.org/officeDocument/2006/relationships/hyperlink" Target="http://dic.academic.ru/dic.nsf/ruwiki/45" TargetMode="External"/><Relationship Id="rId11" Type="http://schemas.openxmlformats.org/officeDocument/2006/relationships/hyperlink" Target="http://dic.academic.ru/dic.nsf/ruwiki/986" TargetMode="External"/><Relationship Id="rId12" Type="http://schemas.openxmlformats.org/officeDocument/2006/relationships/hyperlink" Target="http://dic.academic.ru/dic.nsf/ruwiki/1194358" TargetMode="External"/><Relationship Id="rId13" Type="http://schemas.openxmlformats.org/officeDocument/2006/relationships/hyperlink" Target="http://dic.academic.ru/dic.nsf/ruwiki/15692" TargetMode="External"/><Relationship Id="rId14" Type="http://schemas.openxmlformats.org/officeDocument/2006/relationships/hyperlink" Target="http://dic.academic.ru/dic.nsf/ruwiki/382532" TargetMode="External"/><Relationship Id="rId15" Type="http://schemas.openxmlformats.org/officeDocument/2006/relationships/hyperlink" Target="http://dic.academic.ru/dic.nsf/ruwiki/716" TargetMode="External"/><Relationship Id="rId16" Type="http://schemas.openxmlformats.org/officeDocument/2006/relationships/hyperlink" Target="http://dic.academic.ru/dic.nsf/ruwiki/1026" TargetMode="External"/><Relationship Id="rId17" Type="http://schemas.openxmlformats.org/officeDocument/2006/relationships/hyperlink" Target="http://dic.academic.ru/dic.nsf/ruwiki/901803" TargetMode="External"/><Relationship Id="rId18" Type="http://schemas.openxmlformats.org/officeDocument/2006/relationships/hyperlink" Target="http://dic.academic.ru/dic.nsf/ruwiki/15032" TargetMode="External"/><Relationship Id="rId19" Type="http://schemas.openxmlformats.org/officeDocument/2006/relationships/hyperlink" Target="http://dic.academic.ru/dic.nsf/ruwiki/52385" TargetMode="External"/><Relationship Id="rId20" Type="http://schemas.openxmlformats.org/officeDocument/2006/relationships/hyperlink" Target="http://dic.academic.ru/dic.nsf/ruwiki/1026" TargetMode="External"/><Relationship Id="rId21" Type="http://schemas.openxmlformats.org/officeDocument/2006/relationships/hyperlink" Target="http://dic.academic.ru/dic.nsf/ruwiki/121745" TargetMode="External"/><Relationship Id="rId2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75/KIEV124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лад на тему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ринные город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 строились и защищались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ника 3 класса «Б» Кирьякулова П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1666800" cy="222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2000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 чего строились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ода строились из де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были постройки внешних крепостных стен из кам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 города где стены были из дерева оборонялись меньше времени, а из камня д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круг городов строились рвы или город строился на холме возле реки, чтобы сделать сложным захват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ужие осады и об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ужием для наступавших бы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ч и щ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к и стрелы (поджигались, так как города были из дер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нобитные орудия из дер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неметательные ору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ячая вода и смола лилась со тен, также сбрасывались камни на головы наступав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орона Козельска.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ы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в город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орж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марта после двухнедельной осады, монголы пошли по Селигерскому пути 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овгор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днако, не дойдя около 100 верст, окол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гнач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Кре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нули на юг в половецкие степи, разделившись на две группы и продолжая по пути уничтожать уцелевшие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ил во главе с Каданом и Бури прошла более восточным маршрутом через рязанские земли. Основные силы во главе с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Баты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шли через Долгомостье в 30 км восточне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молен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тем вошли в предел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Черниговского княже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верхне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Дес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жгл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Вщи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затем резко повернули на северо-восток, и мину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Брянс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Карач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нце март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238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шли 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Козельс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рек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Жизд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время город был столицей княжества во главе с двенадцатилетним князем Василием, внуко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Мстислав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Святославича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Чернигов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гибшего 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итве на Кал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1223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Татищев, Василий Никит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 отчеств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итов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.Войтович называет отчеств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ов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Город был хорошо укреплён: обнесён земляными валами с построенными на них крепостными стенами, но монголы располагали мощной осадной техникой. Наступившая в апреле распутица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[1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делала невозможной помощь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Михаила Всеволодовича Чернигов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олице одного из подчинённых ему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удель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няж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Файл:Oborona Kozelska.jpg"/>
          <p:cNvPicPr/>
          <p:nvPr/>
        </p:nvPicPr>
        <p:blipFill>
          <a:blip r:embed="rId1"/>
          <a:stretch/>
        </p:blipFill>
        <p:spPr>
          <a:xfrm>
            <a:off x="15228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рона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йдя к городу, войска монголов потребовали его сдачи. Жители Козельска уже знали, что монголы не щадят пленных, и предпочли умереть в бою. На совете было решено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Наш Князь младенец, но мы, как правоверные, должны за него умереть, чтобы в мире оставить по себе добрую славу, а за гробом принять венец бессмерт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главы своя положити за христианскую веру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чалась семинедельная ос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абский историк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шид-ад-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ссказывая о длительной осаде Козельска, говорил, что город был взят за три дня только тогда, когда через 2 месяца подошли войска Кадана и Бу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стенобитных машин-пороков татарам удалось разрушить часть крепостных стен и подняться на вал, гд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бысть брань велика и сеча зл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горелась кровавая схватка, «Козляне же ножи резахуся с ними» - то есть засапожные ножи). Судя по всему, осаждённым удалось отбить атаку, потому что сразу вслед за этим было принято решение о вылазке. Козельцам удалось уничтожить осадные машины и 4000 монголов (в том числе троих сынове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ем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но и сами участники вылазки погибли (во время строительства в конц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XIX 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железной дороги н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у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оители обнаружили захоронение из 267 черепов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[2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примерно соответствует оценке академико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Рыбаковым Б. 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селения русского княжеского замка того времени). Лишившись своих защитников, город пал. Завоеватели не пощадили никого, включая грудных младенцев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отрочят сосущих млеко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алолетний князь Василий, по этому же летописному преданию утонул в крови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о князи Василии не ведомо се: инии глаголяху, яко в крови утопе, понеж бо млад б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Чудовищный по последствиям для Северо-Восточной Руси набег был закон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тор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тый был взбешен неслыханным сопротивлением козельцев. Он запретил называть город Козельском, а повелел звать его «Злым градом». Козельск отнял у него 7 недель, уступая в длительности сопротивления лишь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ев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Третье место занимает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орж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стальные города, включая крупные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яза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Владими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Галич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сопротивлялись не более 6 дней. Из пяти месяцев зимней кампании 1237/38 годов против Руси два месяца Батый потратил на Козель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 длительной ос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одолжительность осады, по разным версиям, могли повлиять несколько факторов в различ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чета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е снижение боеспособности монгольской армии после первого этапа похода, выявившаяся ещё при осаде Торжка и ставшая возможной причиной отказа от похода на Новгор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тица сделала непроходимыми долины рек Жиздры и впадающей в неё у Козельска Другусны и заперла монгольское войско на водоразде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тица превратила город в островную креп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тица отрезала отряды Кадана и Бури от основных с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зельск был назначен местом сбора вой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одхода всех монгольских частей Козельск не штурмова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голы мстили городу за давнее убийство послов бывшим козельским князем, участником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битвы на Калк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Мстиславом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Святославич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47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юбом случае, беспримерная стойкость козельцев, зафиксированная в летописях — есть основа их героического подвига, сохранившегося в памяти поко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орона Ки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она Киева (1240) - эпизод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западного похода монгол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23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242 год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онгольского нашествия на Ру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237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240 год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ервый эпизод монгольского рейд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24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1242 год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целью которого стали владен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Даниила Галицк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ольш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Венг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Осада и взятие объединёнными войсками монгольских улусов во главе с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чингизи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Баты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военачальнико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Субэдэ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род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Кие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одолжавшееся с 5 сентября до 19 ноября (по другим данным, до 6 декабря)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1240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оной руководил тысяцкий Даниила Галицког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Дмит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торый после падения города попал в плен. Решающий штурм пришелся на 5 декабря 1240 года. Монголы пробили стены города сразу в нескольких местах, но защитники Киева отошли 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детине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На следующий день воины Батыя приступили к штурму центральной части города и Горы. Сломив сопротивление киевлян, монголы устроили массовую резню и подожгл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Десятинную церков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 которой укрылись последние защитники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екабр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1240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нгольское войско разорило Киев (6 декабря, после 3-месячной осады)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Ладыжи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аменец и Владимир-Волынский (Кременец монголам взять не удалос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861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х</cp:lastModifiedBy>
  <dcterms:modified xsi:type="dcterms:W3CDTF">2011-05-02T12:44:0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