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48D-3D0B-48CD-A12E-DF2B91DE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887B-2C1E-4B06-A3B5-744519FC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894E-7881-4C0D-8061-E46986F2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B7A-2CC9-48A2-BA09-BEE3620C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523-77DA-4982-B984-84902726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889-D8B9-4EF4-9F71-4FEDAEFF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A08-D82D-4C3B-BBB5-D0836C63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EE8-6BF8-459C-83B7-6F5607C5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367-D1EB-4DF9-87F4-F8CD9162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C45A-6D55-449D-9E27-7FEAB10B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B0A6-A4E0-437A-A99B-6AE3A931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D67D-9218-4D4F-9F22-B25C5879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5735-DE52-4E43-8E7F-862254710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57742" TargetMode="External"/><Relationship Id="rId2" Type="http://schemas.openxmlformats.org/officeDocument/2006/relationships/hyperlink" Target="http://dic.academic.ru/dic.nsf/ruwiki/1066114" TargetMode="External"/><Relationship Id="rId3" Type="http://schemas.openxmlformats.org/officeDocument/2006/relationships/hyperlink" Target="http://dic.academic.ru/dic.nsf/ruwiki/1377784" TargetMode="External"/><Relationship Id="rId4" Type="http://schemas.openxmlformats.org/officeDocument/2006/relationships/hyperlink" Target="http://dic.academic.ru/dic.nsf/ruwiki/1377784" TargetMode="External"/><Relationship Id="rId5" Type="http://schemas.openxmlformats.org/officeDocument/2006/relationships/hyperlink" Target="http://dic.academic.ru/dic.nsf/ruwiki/15692" TargetMode="External"/><Relationship Id="rId6" Type="http://schemas.openxmlformats.org/officeDocument/2006/relationships/hyperlink" Target="http://dic.academic.ru/dic.nsf/ruwiki/13877" TargetMode="External"/><Relationship Id="rId7" Type="http://schemas.openxmlformats.org/officeDocument/2006/relationships/hyperlink" Target="http://dic.academic.ru/dic.nsf/ruwiki/201197" TargetMode="External"/><Relationship Id="rId8" Type="http://schemas.openxmlformats.org/officeDocument/2006/relationships/hyperlink" Target="http://dic.academic.ru/dic.nsf/ruwiki/45381" TargetMode="External"/><Relationship Id="rId9" Type="http://schemas.openxmlformats.org/officeDocument/2006/relationships/hyperlink" Target="http://dic.academic.ru/dic.nsf/ruwiki/627647" TargetMode="External"/><Relationship Id="rId10" Type="http://schemas.openxmlformats.org/officeDocument/2006/relationships/hyperlink" Target="http://dic.academic.ru/dic.nsf/ruwiki/16084" TargetMode="External"/><Relationship Id="rId11" Type="http://schemas.openxmlformats.org/officeDocument/2006/relationships/hyperlink" Target="http://dic.academic.ru/dic.nsf/ruwiki/117823" TargetMode="External"/><Relationship Id="rId12" Type="http://schemas.openxmlformats.org/officeDocument/2006/relationships/hyperlink" Target="http://dic.academic.ru/dic.nsf/ruwiki/3306" TargetMode="External"/><Relationship Id="rId13" Type="http://schemas.openxmlformats.org/officeDocument/2006/relationships/hyperlink" Target="http://dic.academic.ru/dic.nsf/ruwiki/78416" TargetMode="External"/><Relationship Id="rId14" Type="http://schemas.openxmlformats.org/officeDocument/2006/relationships/hyperlink" Target="http://dic.academic.ru/dic.nsf/ruwiki/101548" TargetMode="External"/><Relationship Id="rId15" Type="http://schemas.openxmlformats.org/officeDocument/2006/relationships/hyperlink" Target="http://dic.academic.ru/dic.nsf/ruwiki/486834" TargetMode="External"/><Relationship Id="rId16" Type="http://schemas.openxmlformats.org/officeDocument/2006/relationships/hyperlink" Target="http://dic.academic.ru/dic.nsf/ruwiki/486834" TargetMode="External"/><Relationship Id="rId17" Type="http://schemas.openxmlformats.org/officeDocument/2006/relationships/hyperlink" Target="http://dic.academic.ru/dic.nsf/ruwiki/486834" TargetMode="External"/><Relationship Id="rId18" Type="http://schemas.openxmlformats.org/officeDocument/2006/relationships/hyperlink" Target="http://dic.academic.ru/dic.nsf/ruwiki/27282" TargetMode="External"/><Relationship Id="rId19" Type="http://schemas.openxmlformats.org/officeDocument/2006/relationships/hyperlink" Target="http://dic.academic.ru/dic.nsf/ruwiki/1018" TargetMode="External"/><Relationship Id="rId20" Type="http://schemas.openxmlformats.org/officeDocument/2006/relationships/hyperlink" Target="http://dic.academic.ru/dic.nsf/ruwiki/44218" TargetMode="External"/><Relationship Id="rId21" Type="http://schemas.openxmlformats.org/officeDocument/2006/relationships/slide" Target=""/><Relationship Id="rId22" Type="http://schemas.openxmlformats.org/officeDocument/2006/relationships/hyperlink" Target="http://dic.academic.ru/dic.nsf/ruwiki/660068" TargetMode="External"/><Relationship Id="rId23" Type="http://schemas.openxmlformats.org/officeDocument/2006/relationships/hyperlink" Target="http://dic.academic.ru/dic.nsf/ruwiki/1153304" TargetMode="External"/><Relationship Id="rId2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1118063" TargetMode="External"/><Relationship Id="rId2" Type="http://schemas.openxmlformats.org/officeDocument/2006/relationships/hyperlink" Target="http://dic.academic.ru/dic.nsf/ruwiki/44295" TargetMode="External"/><Relationship Id="rId3" Type="http://schemas.openxmlformats.org/officeDocument/2006/relationships/hyperlink" Target="http://dic.academic.ru/dic.nsf/ruwiki/454" TargetMode="External"/><Relationship Id="rId4" Type="http://schemas.openxmlformats.org/officeDocument/2006/relationships/hyperlink" Target="http://dic.academic.ru/dic.nsf/ruwiki/14719" TargetMode="External"/><Relationship Id="rId5" Type="http://schemas.openxmlformats.org/officeDocument/2006/relationships/slide" Target=""/><Relationship Id="rId6" Type="http://schemas.openxmlformats.org/officeDocument/2006/relationships/hyperlink" Target="http://dic.academic.ru/dic.nsf/ruwiki/1131287" TargetMode="Externa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716" TargetMode="External"/><Relationship Id="rId2" Type="http://schemas.openxmlformats.org/officeDocument/2006/relationships/hyperlink" Target="http://dic.academic.ru/dic.nsf/ruwiki/57742" TargetMode="External"/><Relationship Id="rId3" Type="http://schemas.openxmlformats.org/officeDocument/2006/relationships/hyperlink" Target="http://dic.academic.ru/dic.nsf/ruwiki/6229" TargetMode="External"/><Relationship Id="rId4" Type="http://schemas.openxmlformats.org/officeDocument/2006/relationships/hyperlink" Target="http://dic.academic.ru/dic.nsf/ruwiki/154500" TargetMode="External"/><Relationship Id="rId5" Type="http://schemas.openxmlformats.org/officeDocument/2006/relationships/hyperlink" Target="http://dic.academic.ru/dic.nsf/ruwiki/19982" TargetMode="External"/><Relationship Id="rId6" Type="http://schemas.openxmlformats.org/officeDocument/2006/relationships/hyperlink" Target="http://dic.academic.ru/dic.nsf/ruwiki/27282" TargetMode="External"/><Relationship Id="rId7" Type="http://schemas.openxmlformats.org/officeDocument/2006/relationships/hyperlink" Target="http://dic.academic.ru/dic.nsf/ruwiki/486834" TargetMode="External"/><Relationship Id="rId8" Type="http://schemas.openxmlformats.org/officeDocument/2006/relationships/hyperlink" Target="http://dic.academic.ru/dic.nsf/ruwiki/486834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ruwiki/638973" TargetMode="External"/><Relationship Id="rId2" Type="http://schemas.openxmlformats.org/officeDocument/2006/relationships/hyperlink" Target="http://dic.academic.ru/dic.nsf/ruwiki/707221" TargetMode="External"/><Relationship Id="rId3" Type="http://schemas.openxmlformats.org/officeDocument/2006/relationships/hyperlink" Target="http://dic.academic.ru/dic.nsf/ruwiki/1049" TargetMode="External"/><Relationship Id="rId4" Type="http://schemas.openxmlformats.org/officeDocument/2006/relationships/hyperlink" Target="http://dic.academic.ru/dic.nsf/ruwiki/660691" TargetMode="External"/><Relationship Id="rId5" Type="http://schemas.openxmlformats.org/officeDocument/2006/relationships/hyperlink" Target="http://dic.academic.ru/dic.nsf/ruwiki/707222" TargetMode="External"/><Relationship Id="rId6" Type="http://schemas.openxmlformats.org/officeDocument/2006/relationships/hyperlink" Target="http://dic.academic.ru/dic.nsf/ruwiki/1026" TargetMode="External"/><Relationship Id="rId7" Type="http://schemas.openxmlformats.org/officeDocument/2006/relationships/hyperlink" Target="http://dic.academic.ru/dic.nsf/ruwiki/707226" TargetMode="External"/><Relationship Id="rId8" Type="http://schemas.openxmlformats.org/officeDocument/2006/relationships/hyperlink" Target="http://dic.academic.ru/dic.nsf/ruwiki/1049" TargetMode="External"/><Relationship Id="rId9" Type="http://schemas.openxmlformats.org/officeDocument/2006/relationships/hyperlink" Target="http://dic.academic.ru/dic.nsf/ruwiki/100872" TargetMode="External"/><Relationship Id="rId10" Type="http://schemas.openxmlformats.org/officeDocument/2006/relationships/hyperlink" Target="http://dic.academic.ru/dic.nsf/ruwiki/45" TargetMode="External"/><Relationship Id="rId11" Type="http://schemas.openxmlformats.org/officeDocument/2006/relationships/hyperlink" Target="http://dic.academic.ru/dic.nsf/ruwiki/986" TargetMode="External"/><Relationship Id="rId12" Type="http://schemas.openxmlformats.org/officeDocument/2006/relationships/hyperlink" Target="http://dic.academic.ru/dic.nsf/ruwiki/1194358" TargetMode="External"/><Relationship Id="rId13" Type="http://schemas.openxmlformats.org/officeDocument/2006/relationships/hyperlink" Target="http://dic.academic.ru/dic.nsf/ruwiki/15692" TargetMode="External"/><Relationship Id="rId14" Type="http://schemas.openxmlformats.org/officeDocument/2006/relationships/hyperlink" Target="http://dic.academic.ru/dic.nsf/ruwiki/382532" TargetMode="External"/><Relationship Id="rId15" Type="http://schemas.openxmlformats.org/officeDocument/2006/relationships/hyperlink" Target="http://dic.academic.ru/dic.nsf/ruwiki/716" TargetMode="External"/><Relationship Id="rId16" Type="http://schemas.openxmlformats.org/officeDocument/2006/relationships/hyperlink" Target="http://dic.academic.ru/dic.nsf/ruwiki/1026" TargetMode="External"/><Relationship Id="rId17" Type="http://schemas.openxmlformats.org/officeDocument/2006/relationships/hyperlink" Target="http://dic.academic.ru/dic.nsf/ruwiki/901803" TargetMode="External"/><Relationship Id="rId18" Type="http://schemas.openxmlformats.org/officeDocument/2006/relationships/hyperlink" Target="http://dic.academic.ru/dic.nsf/ruwiki/15032" TargetMode="External"/><Relationship Id="rId19" Type="http://schemas.openxmlformats.org/officeDocument/2006/relationships/hyperlink" Target="http://dic.academic.ru/dic.nsf/ruwiki/52385" TargetMode="External"/><Relationship Id="rId20" Type="http://schemas.openxmlformats.org/officeDocument/2006/relationships/hyperlink" Target="http://dic.academic.ru/dic.nsf/ruwiki/1026" TargetMode="External"/><Relationship Id="rId21" Type="http://schemas.openxmlformats.org/officeDocument/2006/relationships/hyperlink" Target="http://dic.academic.ru/dic.nsf/ruwiki/121745" TargetMode="External"/><Relationship Id="rId2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75/KIEV124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клад на тему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аринные город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ак строились и защищались г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еника 3 класса «Б» Кирьякулова Пе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1666800" cy="2229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2209680"/>
            <a:ext cx="20005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 чего строились 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рода строились из дер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были постройки внешних крепостных стен из кам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 города где стены были из дерева оборонялись меньше времени, а из камня д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круг городов строились рвы или город строился на холме возле реки, чтобы сделать сложным захват 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ужие осады и обор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ужием для наступавших бы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п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ч и щ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к и стрелы (поджигались, так как города были из дер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нобитные орудия из дер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мнеметательные ору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ячая вода и смола лилась со тен, также сбрасывались камни на головы наступавш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орона Козельска.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ыс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яв город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орж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марта после двухнедельной осады, монголы пошли по Селигерскому пути к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Новгор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днако, не дойдя около 100 верст, около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гнач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Крес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вернули на юг в половецкие степи, разделившись на две группы и продолжая по пути уничтожать уцелевшие 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сил во главе с Каданом и Бури прошла более восточным маршрутом через рязанские земли. Основные силы во главе с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Баты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шли через Долгомостье в 30 км восточнее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Смоленс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тем вошли в пределы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Черниговского княже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верхней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Дес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жгл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Вщи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о затем резко повернули на северо-восток, и мину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Брянс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Караче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нце март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1238 г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шли к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Козельск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реке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Жизд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 время город был столицей княжества во главе с двенадцатилетним князем Василием, внуком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Мстислав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Святославича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Черниговск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гибшего в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битве на Кал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1223 го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Татищев, Василий Никити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ет отчеств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итови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Л.Войтович называет отчеств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ванови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Город был хорошо укреплён: обнесён земляными валами с построенными на них крепостными стенами, но монголы располагали мощной осадной техникой. Наступившая в апреле распутица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[1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делала невозможной помощь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Михаила Всеволодовича Черниговск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олице одного из подчинённых ему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удель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няж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Файл:Oborona Kozelska.jpg"/>
          <p:cNvPicPr/>
          <p:nvPr/>
        </p:nvPicPr>
        <p:blipFill>
          <a:blip r:embed="rId1"/>
          <a:stretch/>
        </p:blipFill>
        <p:spPr>
          <a:xfrm>
            <a:off x="152280" y="3049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орона г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йдя к городу, войска монголов потребовали его сдачи. Жители Козельска уже знали, что монголы не щадят пленных, и предпочли умереть в бою. На совете было решено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Наш Князь младенец, но мы, как правоверные, должны за него умереть, чтобы в мире оставить по себе добрую славу, а за гробом принять венец бессмерт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главы своя положити за христианскую веру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чалась семинедельная ос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абский историк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ашид-ад-Д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рассказывая о длительной осаде Козельска, говорил, что город был взят за три дня только тогда, когда через 2 месяца подошли войска Кадана и Бу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мощью стенобитных машин-пороков татарам удалось разрушить часть крепостных стен и подняться на вал, гд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бысть брань велика и сеча зл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горелась кровавая схватка, «Козляне же ножи резахуся с ними» - то есть засапожные ножи). Судя по всему, осаждённым удалось отбить атаку, потому что сразу вслед за этим было принято решение о вылазке. Козельцам удалось уничтожить осадные машины и 4000 монголов (в том числе троих сыновей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емни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но и сами участники вылазки погибли (во время строительства в конце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XIX ве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железной дороги н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Тул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роители обнаружили захоронение из 267 черепов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[2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что примерно соответствует оценке академиком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Рыбаковым Б. 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селения русского княжеского замка того времени). Лишившись своих защитников, город пал. Завоеватели не пощадили никого, включая грудных младенцев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отрочят сосущих млеко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алолетний князь Василий, по этому же летописному преданию утонул в крови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о князи Василии не ведомо се: инии глаголяху, яко в крови утопе, понеж бо млад бе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Чудовищный по последствиям для Северо-Восточной Руси набег был законч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торическое 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тый был взбешен неслыханным сопротивлением козельцев. Он запретил называть город Козельском, а повелел звать его «Злым градом». Козельск отнял у него 7 недель, уступая в длительности сопротивления лишь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иев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Третье место занимает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оржо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остальные города, включая крупные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язан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Владими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Галич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, сопротивлялись не более 6 дней. Из пяти месяцев зимней кампании 1237/38 годов против Руси два месяца Батый потратил на Козель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чины длительной оса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родолжительность осады, по разным версиям, могли повлиять несколько факторов в различн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чета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е снижение боеспособности монгольской армии после первого этапа похода, выявившаяся ещё при осаде Торжка и ставшая возможной причиной отказа от похода на Новгор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утица сделала непроходимыми долины рек Жиздры и впадающей в неё у Козельска Другусны и заперла монгольское войско на водоразде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утица превратила город в островную креп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утица отрезала отряды Кадана и Бури от основных с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зельск был назначен местом сбора войс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подхода всех монгольских частей Козельск не штурмовал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голы мстили городу за давнее убийство послов бывшим козельским князем, участником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битвы на Калк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Мстиславом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Святославиче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047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любом случае, беспримерная стойкость козельцев, зафиксированная в летописях — есть основа их героического подвига, сохранившегося в памяти поко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орона Ки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рона Киева (1240) - эпизод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западного похода монгол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23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242 год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онгольского нашествия на Рус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237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240 год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ервый эпизод монгольского рейд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124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1242 год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целью которого стали владени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Даниила Галицко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Польш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Венгр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Осада и взятие объединёнными войсками монгольских улусов во главе с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чингизид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Баты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военачальником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Субэдэ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род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Кие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родолжавшееся с 5 сентября до 19 ноября (по другим данным, до 6 декабря)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1240 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роной руководил тысяцкий Даниила Галицкого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Дмит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который после падения города попал в плен. Решающий штурм пришелся на 5 декабря 1240 года. Монголы пробили стены города сразу в нескольких местах, но защитники Киева отошли в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детинец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На следующий день воины Батыя приступили к штурму центральной части города и Горы. Сломив сопротивление киевлян, монголы устроили массовую резню и подожгл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Десятинную церков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 которой укрылись последние защитники 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екабре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1240 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онгольское войско разорило Киев (6 декабря, после 3-месячной осады)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Ладыжи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Каменец и Владимир-Волынский (Кременец монголам взять не удалось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0"/>
            <a:ext cx="86104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х</cp:lastModifiedBy>
  <dcterms:modified xsi:type="dcterms:W3CDTF">2011-05-02T12:44:0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