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7E1-8763-443C-B54D-9D5A4173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F02-05DB-43A0-B188-036054CF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C818-1B26-4950-B8B6-1922284E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46C-1145-463C-98B3-891F3180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4B7-AC73-4121-8FFF-3A94815D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51F-84A8-4E6F-AC72-DBE7786C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AEB-BA73-4288-9A0D-B257ADA9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C66-5068-4330-8C2B-5ED9CA67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7CB-2152-4907-A67A-5733C9E9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E50-09F2-4AE7-8A9B-C523C366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B70D-8547-4EFB-B5EB-59A94765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182-8AC8-43AA-93C4-68EBCFFD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5498-AF37-444F-8E3F-44D06E1EEA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ДОМАШНИЕ ПТИЦЫ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2a04"/>
                </a:solidFill>
                <a:latin typeface="Arial Black"/>
              </a:rPr>
              <a:t>ПОКАЖИ КУРИЦУ, ГУСЯ, УТКУ, ИНДЮКА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5" descr="b2c748efac1e"/>
          <p:cNvPicPr/>
          <p:nvPr/>
        </p:nvPicPr>
        <p:blipFill>
          <a:blip r:embed="rId1"/>
          <a:stretch/>
        </p:blipFill>
        <p:spPr>
          <a:xfrm>
            <a:off x="5796000" y="1844640"/>
            <a:ext cx="2736720" cy="216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идет гусь"/>
          <p:cNvPicPr/>
          <p:nvPr/>
        </p:nvPicPr>
        <p:blipFill>
          <a:blip r:embed="rId2"/>
          <a:stretch/>
        </p:blipFill>
        <p:spPr>
          <a:xfrm>
            <a:off x="900000" y="1700280"/>
            <a:ext cx="2305080" cy="2593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утка"/>
          <p:cNvPicPr/>
          <p:nvPr/>
        </p:nvPicPr>
        <p:blipFill>
          <a:blip r:embed="rId3"/>
          <a:stretch/>
        </p:blipFill>
        <p:spPr>
          <a:xfrm>
            <a:off x="755640" y="443700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индюк 3"/>
          <p:cNvPicPr/>
          <p:nvPr/>
        </p:nvPicPr>
        <p:blipFill>
          <a:blip r:embed="rId4"/>
          <a:stretch/>
        </p:blipFill>
        <p:spPr>
          <a:xfrm>
            <a:off x="5867280" y="4076640"/>
            <a:ext cx="25196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2a04"/>
                </a:solidFill>
                <a:latin typeface="Arial Black"/>
              </a:rPr>
              <a:t>РАССКАЖИ,ЧТО ДАЮТ ПТИЦЫ ЛЮДЯМ:</a:t>
            </a:r>
            <a:r>
              <a:rPr b="0" lang="ru-RU" sz="4000" spc="-1" strike="noStrike">
                <a:solidFill>
                  <a:srgbClr val="e5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8" descr="яйца"/>
          <p:cNvPicPr/>
          <p:nvPr/>
        </p:nvPicPr>
        <p:blipFill>
          <a:blip r:embed="rId1"/>
          <a:stretch/>
        </p:blipFill>
        <p:spPr>
          <a:xfrm>
            <a:off x="611280" y="1989000"/>
            <a:ext cx="3889440" cy="381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перо"/>
          <p:cNvPicPr/>
          <p:nvPr/>
        </p:nvPicPr>
        <p:blipFill>
          <a:blip r:embed="rId2"/>
          <a:stretch/>
        </p:blipFill>
        <p:spPr>
          <a:xfrm>
            <a:off x="5529240" y="2262240"/>
            <a:ext cx="2274840" cy="141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мясо птицы"/>
          <p:cNvPicPr/>
          <p:nvPr/>
        </p:nvPicPr>
        <p:blipFill>
          <a:blip r:embed="rId3"/>
          <a:stretch/>
        </p:blipFill>
        <p:spPr>
          <a:xfrm>
            <a:off x="5651640" y="422100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77" name="Зада2336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2a04"/>
                </a:solidFill>
                <a:latin typeface="Arial Black"/>
              </a:rPr>
              <a:t>НАЗОВИ, КАКАЯ КАРТИНКА ЛИШНЯЯ? ПОЧЕМУ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7" descr="индюк 3"/>
          <p:cNvPicPr/>
          <p:nvPr/>
        </p:nvPicPr>
        <p:blipFill>
          <a:blip r:embed="rId1"/>
          <a:stretch/>
        </p:blipFill>
        <p:spPr>
          <a:xfrm>
            <a:off x="5148360" y="1844640"/>
            <a:ext cx="2305080" cy="208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идет гусь"/>
          <p:cNvPicPr/>
          <p:nvPr/>
        </p:nvPicPr>
        <p:blipFill>
          <a:blip r:embed="rId2"/>
          <a:stretch/>
        </p:blipFill>
        <p:spPr>
          <a:xfrm>
            <a:off x="5219640" y="4005360"/>
            <a:ext cx="2232000" cy="2519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Owl2"/>
          <p:cNvPicPr/>
          <p:nvPr/>
        </p:nvPicPr>
        <p:blipFill>
          <a:blip r:embed="rId3"/>
          <a:stretch/>
        </p:blipFill>
        <p:spPr>
          <a:xfrm>
            <a:off x="1258920" y="4149720"/>
            <a:ext cx="2089080" cy="2305080"/>
          </a:xfrm>
          <a:prstGeom prst="rect">
            <a:avLst/>
          </a:prstGeom>
          <a:ln w="0">
            <a:noFill/>
          </a:ln>
        </p:spPr>
      </p:pic>
      <p:pic>
        <p:nvPicPr>
          <p:cNvPr id="82" name="Зада2350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утка"/>
          <p:cNvPicPr/>
          <p:nvPr/>
        </p:nvPicPr>
        <p:blipFill>
          <a:blip r:embed="rId5"/>
          <a:stretch/>
        </p:blipFill>
        <p:spPr>
          <a:xfrm>
            <a:off x="755640" y="1773360"/>
            <a:ext cx="259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7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2a04"/>
                </a:solidFill>
                <a:latin typeface="Arial Black"/>
              </a:rPr>
              <a:t>Составьте рассказ опираясь на таблицу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Зада2350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Зада235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7" name="Зада2352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Зада2353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Зада2354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расс2365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план рассказа"/>
          <p:cNvPicPr/>
          <p:nvPr/>
        </p:nvPicPr>
        <p:blipFill>
          <a:blip r:embed="rId7"/>
          <a:stretch/>
        </p:blipFill>
        <p:spPr>
          <a:xfrm>
            <a:off x="1476360" y="1805040"/>
            <a:ext cx="633564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6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курица и пету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6" descr="b2c748efac1e"/>
          <p:cNvPicPr/>
          <p:nvPr/>
        </p:nvPicPr>
        <p:blipFill>
          <a:blip r:embed="rId1"/>
          <a:stretch/>
        </p:blipFill>
        <p:spPr>
          <a:xfrm>
            <a:off x="179280" y="2924280"/>
            <a:ext cx="4762440" cy="2884320"/>
          </a:xfrm>
          <a:prstGeom prst="rect">
            <a:avLst/>
          </a:prstGeom>
          <a:ln w="0">
            <a:noFill/>
          </a:ln>
        </p:spPr>
      </p:pic>
      <p:pic>
        <p:nvPicPr>
          <p:cNvPr id="45" name="кури228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петух"/>
          <p:cNvPicPr/>
          <p:nvPr/>
        </p:nvPicPr>
        <p:blipFill>
          <a:blip r:embed="rId3"/>
          <a:stretch/>
        </p:blipFill>
        <p:spPr>
          <a:xfrm>
            <a:off x="5580000" y="2727360"/>
            <a:ext cx="3384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95120" y="1844640"/>
            <a:ext cx="8437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ы имеют два крыла и хвос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о летают они плохо. На голове гребен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люв слегка изогнуты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д клювом бородка. Ноги крепкие высокие . Петух и курица различаются по внешнему виду. Петух крупнее куриц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хвосте у него длинные перья-косицы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на ногах-шпоры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1319040" y="620640"/>
            <a:ext cx="728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курица и петух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гусь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ПЕТУ230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идет гусь"/>
          <p:cNvPicPr/>
          <p:nvPr/>
        </p:nvPicPr>
        <p:blipFill>
          <a:blip r:embed="rId2"/>
          <a:stretch/>
        </p:blipFill>
        <p:spPr>
          <a:xfrm>
            <a:off x="2771640" y="2637000"/>
            <a:ext cx="309564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Внешний вид и особенности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гусь230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си водоплавающие птицы. У них продолговатое туловищ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лотное опере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линённая шея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широкий клюв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ткие ноги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льцы ног соединены плавательными перепонками. Гуси крупные птицы вес варьируется от 4-7 кг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Внешний вид и особенности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утка231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утка231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утка2320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ки водоплавающие птицы. Туловище утки по форме похоже на туловище гус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о шея у неё толстя и не очень длинная. Голова утки удлинённая с широким немного вогнутым клювом . Утки по размеру меньше гусей. Средний вес утки от 2-4 к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4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ут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~PP2231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~PP3231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утка"/>
          <p:cNvPicPr/>
          <p:nvPr/>
        </p:nvPicPr>
        <p:blipFill>
          <a:blip r:embed="rId3"/>
          <a:stretch/>
        </p:blipFill>
        <p:spPr>
          <a:xfrm>
            <a:off x="2825640" y="2374920"/>
            <a:ext cx="34927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йки-самые крупные домашние птицы. У них длинные ноги широкий хвост короткие крылья .Голова и шея покрыта красными мясистыми кожными образованиями-кораллами. Индюк отличается от индейки большей массой оперения и кораллов. Вес индюка от 7-15 к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971640" y="26028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  </a:t>
            </a: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Внешний вид и особенност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индюк 3"/>
          <p:cNvPicPr/>
          <p:nvPr/>
        </p:nvPicPr>
        <p:blipFill>
          <a:blip r:embed="rId1"/>
          <a:stretch/>
        </p:blipFill>
        <p:spPr>
          <a:xfrm>
            <a:off x="2484360" y="2344680"/>
            <a:ext cx="431964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2843280" y="550800"/>
            <a:ext cx="515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2a04"/>
                </a:solidFill>
                <a:latin typeface="Arial Black"/>
              </a:rPr>
              <a:t>индюк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14:11:07Z</dcterms:created>
  <dc:creator>Марина</dc:creator>
  <dc:description/>
  <dc:language>en-US</dc:language>
  <cp:lastModifiedBy>User</cp:lastModifiedBy>
  <dcterms:modified xsi:type="dcterms:W3CDTF">2012-12-13T07:49:18Z</dcterms:modified>
  <cp:revision>30</cp:revision>
  <dc:subject/>
  <dc:title>ДОМАШНИЕ ПТИЦЫ</dc:title>
</cp:coreProperties>
</file>