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A0C9-39BD-4204-860E-8A7942AE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C744-45BB-4B1C-BBA6-82E4315E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643C-7348-41F4-AC96-8FFC05E1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1D06-C84B-409A-A63C-E748B59F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F174-7433-48F1-980E-EC2D6AAE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190C-5226-4BFA-ADE8-C10596DA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0801-1724-465D-A3CC-BF9E623D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4476-051C-43F6-A020-13A1B6A8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F620-2FBA-4E2D-955D-0F6DC680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FC0A-5822-4949-B37C-C0A72A3D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51BD-1CEC-4982-B324-F694330E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145C-E7B8-4929-A8C4-120FC2AC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9F3C-07A8-4A15-B2D1-CF71E85E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1773-E9F0-412B-8EA9-64C97477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125C-718D-4F0A-80E8-DA7A5693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C14B-2627-4DCD-9E14-6B154274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18E-9999-410B-9BF5-9F03E74F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4A2C-97D6-4050-B135-E6CB35D4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8F60-EA63-4788-88F6-BDDC268F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706CD-3DEC-4DA1-9249-08EBDBFD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F0005-FFC2-4C3C-A536-2E9727EC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E93B-384A-4BB6-9FDA-4B432149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3EC4-4536-47AE-B874-CCD2800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2BE2-79DF-4C45-8120-9C674155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18CD-95CA-4809-9492-E6A51DA0AAB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3F70-B75C-4525-9BEB-2FD28110571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4700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cc"/>
                </a:solidFill>
                <a:latin typeface="Tahoma"/>
              </a:rPr>
              <a:t>Н.В.Гоголь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«Ревизор»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tada.wav" descr=""/>
          <p:cNvPicPr/>
          <p:nvPr/>
        </p:nvPicPr>
        <p:blipFill>
          <a:blip r:embed="rId1"/>
          <a:stretch/>
        </p:blipFill>
        <p:spPr>
          <a:xfrm>
            <a:off x="4284720" y="-15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3" descr="lit08-01.jpg"/>
          <p:cNvPicPr/>
          <p:nvPr/>
        </p:nvPicPr>
        <p:blipFill>
          <a:blip r:embed="rId2"/>
          <a:stretch/>
        </p:blipFill>
        <p:spPr>
          <a:xfrm>
            <a:off x="2000160" y="0"/>
            <a:ext cx="5857920" cy="2000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939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ишло время познакомиться с действующими лицами комедии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Внимание: «парад» героев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356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0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90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Городничий – Антон Антонович Сквозник- Дмухановский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Уже постаревший на службе и очень неглупый по-своему человек. Хотя и взяточник, но ведет себя очень солидно; довольно сурьезен; несколько даже резонер; говорит ни громко ни тихо, ни много ни  мало. Его каждое слово значительно. Черты лица его грубы и жестки, как у всякого, начавшего тяжелую службу с низших чинов. Переход от страха к радости, от низости к высокомерию довольно быстр, как у человека с грубо развитыми склонностями души. Он одет, по обыкновению, в своем мундире с петлицами и в ботфортах со шпорами. Волоса на нем стриженые, с проседью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774072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906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Содержимое 4" descr="lit08-04.jpg"/>
          <p:cNvPicPr/>
          <p:nvPr/>
        </p:nvPicPr>
        <p:blipFill>
          <a:blip r:embed="rId1"/>
          <a:stretch/>
        </p:blipFill>
        <p:spPr>
          <a:xfrm>
            <a:off x="3214800" y="3073320"/>
            <a:ext cx="5429160" cy="29275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0072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5" descr="гоголь 005"/>
          <p:cNvPicPr/>
          <p:nvPr/>
        </p:nvPicPr>
        <p:blipFill>
          <a:blip r:embed="rId2"/>
          <a:stretch/>
        </p:blipFill>
        <p:spPr>
          <a:xfrm>
            <a:off x="714240" y="500040"/>
            <a:ext cx="25718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нна Андреевна,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а его, провинциальная кокетка, еще не совсем пожилых лет, воспитанная вполовину на романах и альбомах, вполовину на хлопотах в своей кладовой и девичьей. Очень любопытна  и при случае выказывает тщеславие. Берет иногда власть над мужем потому только, что тот не находится, что отвечать ей; но власть эта распространяется только на мелочи и состоит в разговорах и насмешках. Она четыре раза переодевается в разные платья в продолжение пьесы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469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ревизия 002"/>
          <p:cNvPicPr/>
          <p:nvPr/>
        </p:nvPicPr>
        <p:blipFill>
          <a:blip r:embed="rId1"/>
          <a:stretch/>
        </p:blipFill>
        <p:spPr>
          <a:xfrm>
            <a:off x="2627280" y="476280"/>
            <a:ext cx="3598920" cy="582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Хлестаков,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одой человек лет двадцати трех, тоненький, худенький; несколько приглуповат и, как говорят, без царя в голове, - один из тех людей, которых в канцеляриях называют пустейшими. Говорит и действует без всякого соображения. Он не в состоянии остановить постоянного внимания на какой-нибудь мысли. Речь его отрывиста, и слова вылетают из уст его совершенно неожиданно. Одет по м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8244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90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Содержимое 3" descr="lit08-12.jpg"/>
          <p:cNvPicPr/>
          <p:nvPr/>
        </p:nvPicPr>
        <p:blipFill>
          <a:blip r:embed="rId1"/>
          <a:stretch/>
        </p:blipFill>
        <p:spPr>
          <a:xfrm>
            <a:off x="428760" y="428760"/>
            <a:ext cx="4143240" cy="3062160"/>
          </a:xfrm>
          <a:prstGeom prst="rect">
            <a:avLst/>
          </a:prstGeom>
          <a:ln w="0">
            <a:noFill/>
          </a:ln>
        </p:spPr>
      </p:pic>
      <p:pic>
        <p:nvPicPr>
          <p:cNvPr id="169" name="Содержимое 2" descr="lit08-13.jpg"/>
          <p:cNvPicPr/>
          <p:nvPr/>
        </p:nvPicPr>
        <p:blipFill>
          <a:blip r:embed="rId2"/>
          <a:stretch/>
        </p:blipFill>
        <p:spPr>
          <a:xfrm>
            <a:off x="4929120" y="2928960"/>
            <a:ext cx="3443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Хлестаков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Picture 7" descr="39_s"/>
          <p:cNvPicPr/>
          <p:nvPr/>
        </p:nvPicPr>
        <p:blipFill>
          <a:blip r:embed="rId1"/>
          <a:srcRect l="0" t="2041" r="0" b="4341"/>
          <a:stretch/>
        </p:blipFill>
        <p:spPr>
          <a:xfrm>
            <a:off x="324000" y="1241280"/>
            <a:ext cx="3598560" cy="5616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.Гарин в роли Хлестакова в театре Вс. Мейерхоль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925 г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Осип,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2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слуга, таков, как обыкновенно бывают слуги несколько пожилых лет. Говорит сурьезно, смотрит несколько вниз, резонер и любит себе самому читать нравоучения для своего барина. Голос его всегда почти ровен, в разговоре с барином принимает суровое, отрывистое и несколько даже грубое выражение. Он умнее своего барина и потому скорее догадывается, но не любит много говорить. Костюм его – серый или синий поношенный сюртук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7956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98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575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Бобчинский и Добчинский,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а низенькие, коротенькие, очень любопытные; чрезвычайно похожи друг на друга; оба с небольшими брюшками; оба говорят скороговоркою и чрезвычайно много помогают жестами и руками. Добчинский немножковыше и сурьезнее Бобчинского, но Бобчинский развязнее и живее Добчинск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notify.wav" descr=""/>
          <p:cNvPicPr/>
          <p:nvPr/>
        </p:nvPicPr>
        <p:blipFill>
          <a:blip r:embed="rId1"/>
          <a:stretch/>
        </p:blipFill>
        <p:spPr>
          <a:xfrm>
            <a:off x="7885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353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Николай Васильевич Гоголь. Он всегда интересовался театром. И очень высоко ценил этот вид искусства. Он писал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Мне ничего не остается, как выдумать сюжет самый невинный, которым даже квартальный не мог бы обидеться…» - и, обращаясь в октябре 1835 года к Пушкину, просил: «Сделайте же милость, дайте какой-нибудь, смешной или несмешной, но русский чисто анекдот… Сделайте милость, дайте сюжет, духом будет комедия из пяти актов, и клянусь, будет смешнее черта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Содержимое 3" descr="lit08-09.jpg"/>
          <p:cNvPicPr/>
          <p:nvPr/>
        </p:nvPicPr>
        <p:blipFill>
          <a:blip r:embed="rId1"/>
          <a:stretch/>
        </p:blipFill>
        <p:spPr>
          <a:xfrm>
            <a:off x="5500800" y="642960"/>
            <a:ext cx="2671560" cy="4071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гоголь 001"/>
          <p:cNvPicPr/>
          <p:nvPr/>
        </p:nvPicPr>
        <p:blipFill>
          <a:blip r:embed="rId2"/>
          <a:stretch/>
        </p:blipFill>
        <p:spPr>
          <a:xfrm>
            <a:off x="785880" y="1785960"/>
            <a:ext cx="2835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япкин-Тяпкин,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дья, человек, прочитавший пять или шесть книг, и потому несколько вольнодумен. Охотник большой на догадки, и потому каждому слову своему дает вес. На лице всегда значительная мина. Говорит басом с продолговатой растяжкой, хрипом и сапом – как старинные часы, которые прежде шипят, а потом уже бью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916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Содержимое 3" descr="lit08-05.jpg"/>
          <p:cNvPicPr/>
          <p:nvPr/>
        </p:nvPicPr>
        <p:blipFill>
          <a:blip r:embed="rId1"/>
          <a:stretch/>
        </p:blipFill>
        <p:spPr>
          <a:xfrm>
            <a:off x="642960" y="500040"/>
            <a:ext cx="4214880" cy="3759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ревизия 001"/>
          <p:cNvPicPr/>
          <p:nvPr/>
        </p:nvPicPr>
        <p:blipFill>
          <a:blip r:embed="rId2"/>
          <a:stretch/>
        </p:blipFill>
        <p:spPr>
          <a:xfrm>
            <a:off x="4749840" y="2714760"/>
            <a:ext cx="36082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емляника,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ечитель богоугодных заведений, очень толстый, неповоротливый и неуклюжий человек, но при всем том проныра и плут. Очень услужлив и суетли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632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ревизия 003"/>
          <p:cNvPicPr/>
          <p:nvPr/>
        </p:nvPicPr>
        <p:blipFill>
          <a:blip r:embed="rId1"/>
          <a:stretch/>
        </p:blipFill>
        <p:spPr>
          <a:xfrm>
            <a:off x="642960" y="357120"/>
            <a:ext cx="3075120" cy="3306960"/>
          </a:xfrm>
          <a:prstGeom prst="rect">
            <a:avLst/>
          </a:prstGeom>
          <a:ln w="0">
            <a:noFill/>
          </a:ln>
        </p:spPr>
      </p:pic>
      <p:pic>
        <p:nvPicPr>
          <p:cNvPr id="192" name="Содержимое 2" descr="lit08-06.jpg"/>
          <p:cNvPicPr/>
          <p:nvPr/>
        </p:nvPicPr>
        <p:blipFill>
          <a:blip r:embed="rId2"/>
          <a:stretch/>
        </p:blipFill>
        <p:spPr>
          <a:xfrm>
            <a:off x="4214880" y="1785960"/>
            <a:ext cx="3681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т таковы наши основные действующие лица комедии «Ревизор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9" descr="гоголь 006"/>
          <p:cNvPicPr/>
          <p:nvPr/>
        </p:nvPicPr>
        <p:blipFill>
          <a:blip r:embed="rId1"/>
          <a:stretch/>
        </p:blipFill>
        <p:spPr>
          <a:xfrm>
            <a:off x="1908000" y="2276640"/>
            <a:ext cx="5685120" cy="3676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пода актеры особенно должны обратить внимание на последнюю сцену. Последнее произнесенное слово должно произвести электрическое потрясение на всех разом, вдруг. Вся группа должна переменить положение в один миг ока. Звук изумления должен вырваться у всех женщин разом, как будто из одной груди. От несоблюдения сих замечаний может исчезнуть весь эффек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арисовать портрет понравившегося персонаж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Написать сочинение о жизни героя после того, как в город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хал настоящий ревиз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писать сочинение на тему «Все победы начинаются с победы над собой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выполнение творческого замысла у Гоголя ушло всего два месяца (октябрь–ноябрь 1835 года), но работа над комедией продолжалась. Из глубокого смысла, вложенного в пьесу, не было ничего извлечено. Комедию приняли за обыкновенный водеви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оголь за кулисами во время репетиции в Александринском театр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Содержимое 3" descr="[LI8RK_6-08]_[IL_02]-k.jpg"/>
          <p:cNvPicPr/>
          <p:nvPr/>
        </p:nvPicPr>
        <p:blipFill>
          <a:blip r:embed="rId1"/>
          <a:stretch/>
        </p:blipFill>
        <p:spPr>
          <a:xfrm>
            <a:off x="2643120" y="1600200"/>
            <a:ext cx="3000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рвая постановка пьесы была 19 апреля 1836 года в Петербургском Александринском театре, а 25 мая – в Московском Малом театр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чером 19 апреля 1836 года необычайное оживление царило на площади у Александринского театра в Петербурге. Подъезжали экипажи, хлопали дверцы карет. Ложи и кресла заполняла высшая петербургская знать. В этот вечер театр давал комедию Гоголя «Ревизор» Присутствовал сам император, Николай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WORDPFCT"/>
          <p:cNvPicPr/>
          <p:nvPr/>
        </p:nvPicPr>
        <p:blipFill>
          <a:blip r:embed="rId1"/>
          <a:stretch/>
        </p:blipFill>
        <p:spPr>
          <a:xfrm>
            <a:off x="5573880" y="1600200"/>
            <a:ext cx="2185920" cy="218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46432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11"/>
          <p:cNvPicPr/>
          <p:nvPr/>
        </p:nvPicPr>
        <p:blipFill>
          <a:blip r:embed="rId3"/>
          <a:stretch/>
        </p:blipFill>
        <p:spPr>
          <a:xfrm>
            <a:off x="4859280" y="1628640"/>
            <a:ext cx="3598920" cy="484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1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втор был в театре. Задумчиво глядя поверх мундиров и орденов, он припоминал переводные пьесы – безделушки с выдуманными характерами и страстями, которые так нравились публике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11" descr="гоголь 002"/>
          <p:cNvPicPr/>
          <p:nvPr/>
        </p:nvPicPr>
        <p:blipFill>
          <a:blip r:embed="rId1"/>
          <a:stretch/>
        </p:blipFill>
        <p:spPr>
          <a:xfrm>
            <a:off x="1547640" y="2332080"/>
            <a:ext cx="604224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голь за работ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дной из статей Гоголь писал: «Ради Бога, дайте нам русских характеров, нас самих дайте нам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голь мечтал об искусстве, которое волнует, исторгает слезы, клеймит публично «прячущийся порок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7" descr="спектакль"/>
          <p:cNvPicPr/>
          <p:nvPr/>
        </p:nvPicPr>
        <p:blipFill>
          <a:blip r:embed="rId1"/>
          <a:stretch/>
        </p:blipFill>
        <p:spPr>
          <a:xfrm>
            <a:off x="4648320" y="1935000"/>
            <a:ext cx="4038480" cy="386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ончательная редакция комедии относится к 1842 го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Ревизор», поставленный на сцене и опубликованный в печати, вызвал многочисленные и противоречивые отклики. Обобщая все негативное, что было высказано в адрес комедии, издатель журнала «Московский телеграф» Н. А. Полевой писал в 1842 году в журнале «Русский вестник»: «…«Ревизор» его – фарс, который нравится именно тем, что в нем нет ни драмы, ни цели, ни завязки, ни развязки, ни определённых характеров. Язык в нём неправильный, лица – уродливые гротески, а характеры – китайские тени, происшествие – несбыточное и нелепое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5 ноября 1851 года в кругу литераторов на Суворовском бульваре в Москве Гоголь читает «Ревизора»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Содержимое 3" descr="[LI8RK_6-01]_[IL_05]-k.jpg"/>
          <p:cNvPicPr/>
          <p:nvPr/>
        </p:nvPicPr>
        <p:blipFill>
          <a:blip r:embed="rId1"/>
          <a:stretch/>
        </p:blipFill>
        <p:spPr>
          <a:xfrm>
            <a:off x="1452600" y="1600200"/>
            <a:ext cx="6238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9:00:44Z</dcterms:created>
  <dc:creator>1</dc:creator>
  <dc:description/>
  <dc:language>en-US</dc:language>
  <cp:lastModifiedBy>User</cp:lastModifiedBy>
  <dcterms:modified xsi:type="dcterms:W3CDTF">2012-12-06T14:04:51Z</dcterms:modified>
  <cp:revision>45</cp:revision>
  <dc:subject/>
  <dc:title>Н.В.Гоголь</dc:title>
</cp:coreProperties>
</file>