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wmf" ContentType="image/x-wm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4ACFE-F32B-413A-9253-928423A8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920E1-CFEB-4801-87B0-F60319D2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76521-852D-4CD6-85CF-6863B244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D9826-B6A3-4318-B106-0043199E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7A95-2B90-49F3-8A17-77C5978F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D9B4-9B38-4517-9846-8737A1DE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8042-35E7-4A8A-927C-DC47D17C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84A7-7378-476C-A5F5-2E168B18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51A0-F479-4551-A6B7-C830561C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8660-E424-4691-A74F-6AE8CF20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81C8-4C56-4492-9C6C-5531C571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E952E-63E1-464C-A8E0-07E4DD5B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A5F5-7CA0-450C-B897-CF29B421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6CA2-5003-4087-9CB9-D8162A1E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608B-A9C8-43EC-A48B-864962FB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B91D-F54A-4FBB-9459-9C3D9B12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4E0F-3A61-4DD1-8480-F3861553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0942D-EE8C-4ED8-8077-6F9DD7DB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4598C-1FEC-4371-BA9B-94DDBAD5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10C42-244B-4012-B18C-71394335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CB344-D4B6-4B70-A663-CDCD50C6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D5A22-1DAF-4867-A8B9-E2A63392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48B2-4F9B-44C8-B644-AC8A6660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74086-9BF0-4475-B50D-C53C7A11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E6F0-F981-4B01-8994-2BDA36150AC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1028-1EE5-4465-8964-0721A3F0FD6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4700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cc"/>
                </a:solidFill>
                <a:latin typeface="Tahoma"/>
              </a:rPr>
              <a:t>Н.В.Гоголь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ahoma"/>
              </a:rPr>
              <a:t>«Ревизор»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tada.wav" descr=""/>
          <p:cNvPicPr/>
          <p:nvPr/>
        </p:nvPicPr>
        <p:blipFill>
          <a:blip r:embed="rId1"/>
          <a:stretch/>
        </p:blipFill>
        <p:spPr>
          <a:xfrm>
            <a:off x="4284720" y="-15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3" descr="lit08-01.jpg"/>
          <p:cNvPicPr/>
          <p:nvPr/>
        </p:nvPicPr>
        <p:blipFill>
          <a:blip r:embed="rId2"/>
          <a:stretch/>
        </p:blipFill>
        <p:spPr>
          <a:xfrm>
            <a:off x="2000160" y="0"/>
            <a:ext cx="5857920" cy="2000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939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ришло время познакомиться с действующими лицами комедии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Внимание: «парад» героев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2"/>
          <a:stretch/>
        </p:blipFill>
        <p:spPr>
          <a:xfrm>
            <a:off x="43560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0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906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Городничий – Антон Антонович Сквозник- Дмухановский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Уже постаревший на службе и очень неглупый по-своему человек. Хотя и взяточник, но ведет себя очень солидно; довольно сурьезен; несколько даже резонер; говорит ни громко ни тихо, ни много ни  мало. Его каждое слово значительно. Черты лица его грубы и жестки, как у всякого, начавшего тяжелую службу с низших чинов. Переход от страха к радости, от низости к высокомерию довольно быстр, как у человека с грубо развитыми склонностями души. Он одет, по обыкновению, в своем мундире с петлицами и в ботфортах со шпорами. Волоса на нем стриженые, с проседью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774072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906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Содержимое 4" descr="lit08-04.jpg"/>
          <p:cNvPicPr/>
          <p:nvPr/>
        </p:nvPicPr>
        <p:blipFill>
          <a:blip r:embed="rId1"/>
          <a:stretch/>
        </p:blipFill>
        <p:spPr>
          <a:xfrm>
            <a:off x="3214800" y="3073320"/>
            <a:ext cx="5429160" cy="29275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50072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5" descr="гоголь 005"/>
          <p:cNvPicPr/>
          <p:nvPr/>
        </p:nvPicPr>
        <p:blipFill>
          <a:blip r:embed="rId2"/>
          <a:stretch/>
        </p:blipFill>
        <p:spPr>
          <a:xfrm>
            <a:off x="714240" y="500040"/>
            <a:ext cx="25718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нна Андреевна,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на его, провинциальная кокетка, еще не совсем пожилых лет, воспитанная вполовину на романах и альбомах, вполовину на хлопотах в своей кладовой и девичьей. Очень любопытна  и при случае выказывает тщеславие. Берет иногда власть над мужем потому только, что тот не находится, что отвечать ей; но власть эта распространяется только на мелочи и состоит в разговорах и насмешках. Она четыре раза переодевается в разные платья в продолжение пьесы.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469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ревизия 002"/>
          <p:cNvPicPr/>
          <p:nvPr/>
        </p:nvPicPr>
        <p:blipFill>
          <a:blip r:embed="rId1"/>
          <a:stretch/>
        </p:blipFill>
        <p:spPr>
          <a:xfrm>
            <a:off x="2627280" y="476280"/>
            <a:ext cx="3598920" cy="582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Хлестаков,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лодой человек лет двадцати трех, тоненький, худенький; несколько приглуповат и, как говорят, без царя в голове, - один из тех людей, которых в канцеляриях называют пустейшими. Говорит и действует без всякого соображения. Он не в состоянии остановить постоянного внимания на какой-нибудь мысли. Речь его отрывиста, и слова вылетают из уст его совершенно неожиданно. Одет по мо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8244000" y="573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8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906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8" name="Содержимое 3" descr="lit08-12.jpg"/>
          <p:cNvPicPr/>
          <p:nvPr/>
        </p:nvPicPr>
        <p:blipFill>
          <a:blip r:embed="rId1"/>
          <a:stretch/>
        </p:blipFill>
        <p:spPr>
          <a:xfrm>
            <a:off x="428760" y="428760"/>
            <a:ext cx="4143240" cy="3062160"/>
          </a:xfrm>
          <a:prstGeom prst="rect">
            <a:avLst/>
          </a:prstGeom>
          <a:ln w="0">
            <a:noFill/>
          </a:ln>
        </p:spPr>
      </p:pic>
      <p:pic>
        <p:nvPicPr>
          <p:cNvPr id="169" name="Содержимое 2" descr="lit08-13.jpg"/>
          <p:cNvPicPr/>
          <p:nvPr/>
        </p:nvPicPr>
        <p:blipFill>
          <a:blip r:embed="rId2"/>
          <a:stretch/>
        </p:blipFill>
        <p:spPr>
          <a:xfrm>
            <a:off x="4929120" y="2928960"/>
            <a:ext cx="3443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Хлестаков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1" name="Picture 7" descr="39_s"/>
          <p:cNvPicPr/>
          <p:nvPr/>
        </p:nvPicPr>
        <p:blipFill>
          <a:blip r:embed="rId1"/>
          <a:srcRect l="0" t="2041" r="0" b="4341"/>
          <a:stretch/>
        </p:blipFill>
        <p:spPr>
          <a:xfrm>
            <a:off x="324000" y="1241280"/>
            <a:ext cx="3598560" cy="56167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.Гарин в роли Хлестакова в театре Вс. Мейерхоль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925 го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Осип,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2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слуга, таков, как обыкновенно бывают слуги несколько пожилых лет. Говорит сурьезно, смотрит несколько вниз, резонер и любит себе самому читать нравоучения для своего барина. Голос его всегда почти ровен, в разговоре с барином принимает суровое, отрывистое и несколько даже грубое выражение. Он умнее своего барина и потому скорее догадывается, но не любит много говорить. Костюм его – серый или синий поношенный сюртук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795672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575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Бобчинский и Добчинский,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а низенькие, коротенькие, очень любопытные; чрезвычайно похожи друг на друга; оба с небольшими брюшками; оба говорят скороговоркою и чрезвычайно много помогают жестами и руками. Добчинский немножковыше и сурьезнее Бобчинского, но Бобчинский развязнее и живее Добчинско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notify.wav" descr=""/>
          <p:cNvPicPr/>
          <p:nvPr/>
        </p:nvPicPr>
        <p:blipFill>
          <a:blip r:embed="rId1"/>
          <a:stretch/>
        </p:blipFill>
        <p:spPr>
          <a:xfrm>
            <a:off x="7885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353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Николай Васильевич Гоголь. Он всегда интересовался театром. И очень высоко ценил этот вид искусства. Он писал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 Мне ничего не остается, как выдумать сюжет самый невинный, которым даже квартальный не мог бы обидеться…» - и, обращаясь в октябре 1835 года к Пушкину, просил: «Сделайте же милость, дайте какой-нибудь, смешной или несмешной, но русский чисто анекдот… Сделайте милость, дайте сюжет, духом будет комедия из пяти актов, и клянусь, будет смешнее черта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0" name="Содержимое 3" descr="lit08-09.jpg"/>
          <p:cNvPicPr/>
          <p:nvPr/>
        </p:nvPicPr>
        <p:blipFill>
          <a:blip r:embed="rId1"/>
          <a:stretch/>
        </p:blipFill>
        <p:spPr>
          <a:xfrm>
            <a:off x="5500800" y="642960"/>
            <a:ext cx="2671560" cy="4071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гоголь 001"/>
          <p:cNvPicPr/>
          <p:nvPr/>
        </p:nvPicPr>
        <p:blipFill>
          <a:blip r:embed="rId2"/>
          <a:stretch/>
        </p:blipFill>
        <p:spPr>
          <a:xfrm>
            <a:off x="785880" y="1785960"/>
            <a:ext cx="28353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Ляпкин-Тяпкин,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дья, человек, прочитавший пять или шесть книг, и потому несколько вольнодумен. Охотник большой на догадки, и потому каждому слову своему дает вес. На лице всегда значительная мина. Говорит басом с продолговатой растяжкой, хрипом и сапом – как старинные часы, которые прежде шипят, а потом уже бью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9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98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916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" name="Содержимое 3" descr="lit08-05.jpg"/>
          <p:cNvPicPr/>
          <p:nvPr/>
        </p:nvPicPr>
        <p:blipFill>
          <a:blip r:embed="rId1"/>
          <a:stretch/>
        </p:blipFill>
        <p:spPr>
          <a:xfrm>
            <a:off x="642960" y="500040"/>
            <a:ext cx="4214880" cy="3759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ревизия 001"/>
          <p:cNvPicPr/>
          <p:nvPr/>
        </p:nvPicPr>
        <p:blipFill>
          <a:blip r:embed="rId2"/>
          <a:stretch/>
        </p:blipFill>
        <p:spPr>
          <a:xfrm>
            <a:off x="4749840" y="2714760"/>
            <a:ext cx="360828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емляника,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печитель богоугодных заведений, очень толстый, неповоротливый и неуклюжий человек, но при всем том проныра и плут. Очень услужлив и суетли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788508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98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632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ревизия 003"/>
          <p:cNvPicPr/>
          <p:nvPr/>
        </p:nvPicPr>
        <p:blipFill>
          <a:blip r:embed="rId1"/>
          <a:stretch/>
        </p:blipFill>
        <p:spPr>
          <a:xfrm>
            <a:off x="642960" y="357120"/>
            <a:ext cx="3075120" cy="3306960"/>
          </a:xfrm>
          <a:prstGeom prst="rect">
            <a:avLst/>
          </a:prstGeom>
          <a:ln w="0">
            <a:noFill/>
          </a:ln>
        </p:spPr>
      </p:pic>
      <p:pic>
        <p:nvPicPr>
          <p:cNvPr id="192" name="Содержимое 2" descr="lit08-06.jpg"/>
          <p:cNvPicPr/>
          <p:nvPr/>
        </p:nvPicPr>
        <p:blipFill>
          <a:blip r:embed="rId2"/>
          <a:stretch/>
        </p:blipFill>
        <p:spPr>
          <a:xfrm>
            <a:off x="4214880" y="1785960"/>
            <a:ext cx="36813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от таковы наши основные действующие лица комедии «Ревизор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Picture 9" descr="гоголь 006"/>
          <p:cNvPicPr/>
          <p:nvPr/>
        </p:nvPicPr>
        <p:blipFill>
          <a:blip r:embed="rId1"/>
          <a:stretch/>
        </p:blipFill>
        <p:spPr>
          <a:xfrm>
            <a:off x="1908000" y="2276640"/>
            <a:ext cx="5685120" cy="3676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пода актеры особенно должны обратить внимание на последнюю сцену. Последнее произнесенное слово должно произвести электрическое потрясение на всех разом, вдруг. Вся группа должна переменить положение в один миг ока. Звук изумления должен вырваться у всех женщин разом, как будто из одной груди. От несоблюдения сих замечаний может исчезнуть весь эффек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Arial"/>
              </a:rPr>
              <a:t>Домашнее зад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Нарисовать портрет понравившегося персонаж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Написать сочинение о жизни героя после того, как в город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ехал настоящий ревиз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Написать сочинение на тему «Все победы начинаются с победы над собой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выполнение творческого замысла у Гоголя ушло всего два месяца (октябрь–ноябрь 1835 года), но работа над комедией продолжалась. Из глубокого смысла, вложенного в пьесу, не было ничего извлечено. Комедию приняли за обыкновенный водеви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Гоголь за кулисами во время репетиции в Александринском театр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Содержимое 3" descr="[LI8RK_6-08]_[IL_02]-k.jpg"/>
          <p:cNvPicPr/>
          <p:nvPr/>
        </p:nvPicPr>
        <p:blipFill>
          <a:blip r:embed="rId1"/>
          <a:stretch/>
        </p:blipFill>
        <p:spPr>
          <a:xfrm>
            <a:off x="2643120" y="1600200"/>
            <a:ext cx="3000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ервая постановка пьесы была 19 апреля 1836 года в Петербургском Александринском театре, а 25 мая – в Московском Малом театре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чером 19 апреля 1836 года необычайное оживление царило на площади у Александринского театра в Петербурге. Подъезжали экипажи, хлопали дверцы карет. Ложи и кресла заполняла высшая петербургская знать. В этот вечер театр давал комедию Гоголя «Ревизор» Присутствовал сам император, Николай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8" descr="WORDPFCT"/>
          <p:cNvPicPr/>
          <p:nvPr/>
        </p:nvPicPr>
        <p:blipFill>
          <a:blip r:embed="rId1"/>
          <a:stretch/>
        </p:blipFill>
        <p:spPr>
          <a:xfrm>
            <a:off x="5573880" y="1600200"/>
            <a:ext cx="2185920" cy="2187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2"/>
          <a:stretch/>
        </p:blipFill>
        <p:spPr>
          <a:xfrm>
            <a:off x="464328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11"/>
          <p:cNvPicPr/>
          <p:nvPr/>
        </p:nvPicPr>
        <p:blipFill>
          <a:blip r:embed="rId3"/>
          <a:stretch/>
        </p:blipFill>
        <p:spPr>
          <a:xfrm>
            <a:off x="4859280" y="1628640"/>
            <a:ext cx="3598920" cy="484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1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втор был в театре. Задумчиво глядя поверх мундиров и орденов, он припоминал переводные пьесы – безделушки с выдуманными характерами и страстями, которые так нравились публике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Picture 11" descr="гоголь 002"/>
          <p:cNvPicPr/>
          <p:nvPr/>
        </p:nvPicPr>
        <p:blipFill>
          <a:blip r:embed="rId1"/>
          <a:stretch/>
        </p:blipFill>
        <p:spPr>
          <a:xfrm>
            <a:off x="1547640" y="2332080"/>
            <a:ext cx="604224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68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68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голь за работ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дной из статей Гоголь писал: «Ради Бога, дайте нам русских характеров, нас самих дайте нам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голь мечтал об искусстве, которое волнует, исторгает слезы, клеймит публично «прячущийся порок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7" descr="спектакль"/>
          <p:cNvPicPr/>
          <p:nvPr/>
        </p:nvPicPr>
        <p:blipFill>
          <a:blip r:embed="rId1"/>
          <a:stretch/>
        </p:blipFill>
        <p:spPr>
          <a:xfrm>
            <a:off x="4648320" y="1935000"/>
            <a:ext cx="4038480" cy="3861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ончательная редакция комедии относится к 1842 год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Ревизор», поставленный на сцене и опубликованный в печати, вызвал многочисленные и противоречивые отклики. Обобщая все негативное, что было высказано в адрес комедии, издатель журнала «Московский телеграф» Н. А. Полевой писал в 1842 году в журнале «Русский вестник»: «…«Ревизор» его – фарс, который нравится именно тем, что в нем нет ни драмы, ни цели, ни завязки, ни развязки, ни определённых характеров. Язык в нём неправильный, лица – уродливые гротески, а характеры – китайские тени, происшествие – несбыточное и нелепое…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5 ноября 1851 года в кругу литераторов на Суворовском бульваре в Москве Гоголь читает «Ревизора»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Содержимое 3" descr="[LI8RK_6-01]_[IL_05]-k.jpg"/>
          <p:cNvPicPr/>
          <p:nvPr/>
        </p:nvPicPr>
        <p:blipFill>
          <a:blip r:embed="rId1"/>
          <a:stretch/>
        </p:blipFill>
        <p:spPr>
          <a:xfrm>
            <a:off x="1452600" y="1600200"/>
            <a:ext cx="6238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9:00:44Z</dcterms:created>
  <dc:creator>1</dc:creator>
  <dc:description/>
  <dc:language>en-US</dc:language>
  <cp:lastModifiedBy>User</cp:lastModifiedBy>
  <dcterms:modified xsi:type="dcterms:W3CDTF">2012-12-06T14:04:51Z</dcterms:modified>
  <cp:revision>45</cp:revision>
  <dc:subject/>
  <dc:title>Н.В.Гоголь</dc:title>
</cp:coreProperties>
</file>