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242-546A-4493-BF17-8A76F4C4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C8A-289C-4DF8-8906-C98F5D4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385-E727-48EC-AB4B-0ECE1C3C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BC6-4B82-4027-AA83-129B83FA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F72-B292-435D-932E-06033FB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98-BB23-456C-9111-17513E7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4B5-5245-400C-8C93-D8F23AE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62A-F423-4F90-8F26-56095C91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0CC-C6E2-4383-BC18-C4AF406B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47B-B411-4C47-B44D-62B6311E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280-D48D-4926-B8DA-BF09582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A3A-ABB9-48EE-87CD-E027DBC5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C636-D915-4B5B-B30E-25EB984A62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дготовила Никонор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063-6650-4E9A-AFF8-B5C0F4724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Admin\МОМВД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Озеро Хан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2143080" y="521496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Маликова По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зере организован международный российско-китайский Ханкайский заповедник. Общая площадь охраняемых территорий более 110000 га. Здесь зарегистрировано около 330 видов птиц, многие из которых на грани исчезновения, 44 занесены в Красную книгу. По количеству представителей пернатых бассейн озера занимает ведущее место не только в России, но и во всех умеренных широтах ми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онок, вы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Users\Admin\МОМВД\Desktop\Рисунок17.jpg"/>
          <p:cNvPicPr/>
          <p:nvPr/>
        </p:nvPicPr>
        <p:blipFill>
          <a:blip r:embed="rId1"/>
          <a:stretch/>
        </p:blipFill>
        <p:spPr>
          <a:xfrm>
            <a:off x="857160" y="1857240"/>
            <a:ext cx="3706920" cy="377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Admin\МОМВД\Desktop\Рисунок18.jpg"/>
          <p:cNvPicPr/>
          <p:nvPr/>
        </p:nvPicPr>
        <p:blipFill>
          <a:blip r:embed="rId2"/>
          <a:stretch/>
        </p:blipFill>
        <p:spPr>
          <a:xfrm>
            <a:off x="4929120" y="1857240"/>
            <a:ext cx="37623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датра,       косу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C:\Users\Admin\МОМВД\Desktop\Рисунок20.jpg"/>
          <p:cNvPicPr/>
          <p:nvPr/>
        </p:nvPicPr>
        <p:blipFill>
          <a:blip r:embed="rId1"/>
          <a:stretch/>
        </p:blipFill>
        <p:spPr>
          <a:xfrm>
            <a:off x="500040" y="1428840"/>
            <a:ext cx="3997440" cy="436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dmin\МОМВД\Desktop\Рисунок21.jpg"/>
          <p:cNvPicPr/>
          <p:nvPr/>
        </p:nvPicPr>
        <p:blipFill>
          <a:blip r:embed="rId2"/>
          <a:stretch/>
        </p:blipFill>
        <p:spPr>
          <a:xfrm>
            <a:off x="4786200" y="1500120"/>
            <a:ext cx="385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53200" y="1050840"/>
            <a:ext cx="2844720" cy="165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798480" y="765000"/>
            <a:ext cx="284796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828720" y="3716280"/>
            <a:ext cx="285444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221440" y="3808440"/>
            <a:ext cx="3143160" cy="2284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5346720" y="34383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шилох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971640" y="3254400"/>
            <a:ext cx="27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чирок-треск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826920" y="301680"/>
            <a:ext cx="45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кас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932360" y="549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сви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Admin\МОМВД\Desktop\Рисунок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292280"/>
            <a:ext cx="8856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Лотосы – это настоящая жемчужина Дальнего Востока, занесенная в Красную Книгу – они растут в бассейне Амура по нижнему течению реки Уссури, в озере Ханка, на острове Путятин, в Шмаковке. В нашем крае растет разновидность лотоса, названная «Лотос Комарова». Цветок сохранился здесь как третичный реликт, живое ископаемое прошлых геологических эпох, когда климат в этом районе был более тепл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Admin\МОМВД\Desktop\Рисунок26.jpg"/>
          <p:cNvPicPr/>
          <p:nvPr/>
        </p:nvPicPr>
        <p:blipFill>
          <a:blip r:embed="rId1"/>
          <a:stretch/>
        </p:blipFill>
        <p:spPr>
          <a:xfrm>
            <a:off x="700200" y="782640"/>
            <a:ext cx="77436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085760" y="706320"/>
            <a:ext cx="7326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нка (Большая Ханка) — озеро на границе Приморского края России и провинции Хэйлунцзян Кита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Users\Admin\МОМВД\Desktop\Рисунок2.jpg"/>
          <p:cNvPicPr/>
          <p:nvPr/>
        </p:nvPicPr>
        <p:blipFill>
          <a:blip r:embed="rId1"/>
          <a:stretch/>
        </p:blipFill>
        <p:spPr>
          <a:xfrm>
            <a:off x="1643040" y="857160"/>
            <a:ext cx="6120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нка — самый крупный пресноводный водоём на Дальнем Востоке. Площадь 4070 км² (при среднем уровне воды), длина 95 км, преобладают глубины 1—3 м, наибольшая — 10,6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Users\Admin\МОМВД\Desktop\Рисунок3.jpg"/>
          <p:cNvPicPr/>
          <p:nvPr/>
        </p:nvPicPr>
        <p:blipFill>
          <a:blip r:embed="rId1"/>
          <a:stretch/>
        </p:blipFill>
        <p:spPr>
          <a:xfrm>
            <a:off x="500040" y="1571760"/>
            <a:ext cx="3484440" cy="413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Admin\МОМВД\Desktop\Рисунок4.jpg"/>
          <p:cNvPicPr/>
          <p:nvPr/>
        </p:nvPicPr>
        <p:blipFill>
          <a:blip r:embed="rId2"/>
          <a:stretch/>
        </p:blipFill>
        <p:spPr>
          <a:xfrm>
            <a:off x="4572000" y="1357200"/>
            <a:ext cx="41972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Admin\МОМВД\Desktop\Рисунок5.jpg"/>
          <p:cNvPicPr/>
          <p:nvPr/>
        </p:nvPicPr>
        <p:blipFill>
          <a:blip r:embed="rId1"/>
          <a:stretch/>
        </p:blipFill>
        <p:spPr>
          <a:xfrm>
            <a:off x="642960" y="214200"/>
            <a:ext cx="412596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Admin\МОМВД\Desktop\Рисунок6.png"/>
          <p:cNvPicPr/>
          <p:nvPr/>
        </p:nvPicPr>
        <p:blipFill>
          <a:blip r:embed="rId2"/>
          <a:stretch/>
        </p:blipFill>
        <p:spPr>
          <a:xfrm>
            <a:off x="571680" y="3286080"/>
            <a:ext cx="4251240" cy="328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Admin\МОМВД\Desktop\Рисунок7.jpg"/>
          <p:cNvPicPr/>
          <p:nvPr/>
        </p:nvPicPr>
        <p:blipFill>
          <a:blip r:embed="rId3"/>
          <a:stretch/>
        </p:blipFill>
        <p:spPr>
          <a:xfrm>
            <a:off x="4929120" y="1214280"/>
            <a:ext cx="38005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зеро впадают 16 рек, в частности Илистая, Мельгуновка, Комиссаровка; вытекает река Сунгача, приток Уссури (бассейн Аму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Users\Admin\МОМВД\Desktop\Рисунок8.jpg"/>
          <p:cNvPicPr/>
          <p:nvPr/>
        </p:nvPicPr>
        <p:blipFill>
          <a:blip r:embed="rId1"/>
          <a:stretch/>
        </p:blipFill>
        <p:spPr>
          <a:xfrm>
            <a:off x="357120" y="1214280"/>
            <a:ext cx="8523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одной из версий название «Ханка» произошло от слова «ханхай», что означает «впадина». И действительно, водоем представляет собой впадину, так что название ему вполне соответ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Admin\МОМВД\Desktop\Рисунок9.jpg"/>
          <p:cNvPicPr/>
          <p:nvPr/>
        </p:nvPicPr>
        <p:blipFill>
          <a:blip r:embed="rId1"/>
          <a:stretch/>
        </p:blipFill>
        <p:spPr>
          <a:xfrm>
            <a:off x="428760" y="1571760"/>
            <a:ext cx="83041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 водоем и прилегающие территории являются уникальным природным комплексом, где гнездятся и делают стоянки на пролете разнообразные птицы, обитают редкие растения. Фауна озера поражает разнообразием биологического состава – огромное количество рыбы и других водных жителей. Всего здесь насчитывается 75 видов рыб, из которых 20 – промысловые. Рыбалка на озере Ханка всегда приносит хороший у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Users\Admin\МОМВД\Desktop\Рисунок10.jpg"/>
          <p:cNvPicPr/>
          <p:nvPr/>
        </p:nvPicPr>
        <p:blipFill>
          <a:blip r:embed="rId1"/>
          <a:stretch/>
        </p:blipFill>
        <p:spPr>
          <a:xfrm>
            <a:off x="785880" y="2357280"/>
            <a:ext cx="2678040" cy="246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Admin\МОМВД\Desktop\Рисунок11.jpg"/>
          <p:cNvPicPr/>
          <p:nvPr/>
        </p:nvPicPr>
        <p:blipFill>
          <a:blip r:embed="rId2"/>
          <a:stretch/>
        </p:blipFill>
        <p:spPr>
          <a:xfrm>
            <a:off x="3500280" y="2143080"/>
            <a:ext cx="52041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6012000" y="5176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ый 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116000" y="418932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мее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826920" y="517680"/>
            <a:ext cx="45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урский 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093080" y="56674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Admin\МОМВД\Desktop\Рисунок12.jpg"/>
          <p:cNvPicPr/>
          <p:nvPr/>
        </p:nvPicPr>
        <p:blipFill>
          <a:blip r:embed="rId1"/>
          <a:stretch/>
        </p:blipFill>
        <p:spPr>
          <a:xfrm>
            <a:off x="928800" y="1143000"/>
            <a:ext cx="341928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Admin\МОМВД\Desktop\Рисунок13.jpg"/>
          <p:cNvPicPr/>
          <p:nvPr/>
        </p:nvPicPr>
        <p:blipFill>
          <a:blip r:embed="rId2"/>
          <a:stretch/>
        </p:blipFill>
        <p:spPr>
          <a:xfrm>
            <a:off x="5214960" y="1143000"/>
            <a:ext cx="3238560" cy="21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Admin\МОМВД\Desktop\Рисунок14.jpg"/>
          <p:cNvPicPr/>
          <p:nvPr/>
        </p:nvPicPr>
        <p:blipFill>
          <a:blip r:embed="rId3"/>
          <a:stretch/>
        </p:blipFill>
        <p:spPr>
          <a:xfrm>
            <a:off x="642960" y="4643280"/>
            <a:ext cx="4581360" cy="167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Admin\МОМВД\Desktop\Рисунок15.jpg"/>
          <p:cNvPicPr/>
          <p:nvPr/>
        </p:nvPicPr>
        <p:blipFill>
          <a:blip r:embed="rId4"/>
          <a:stretch/>
        </p:blipFill>
        <p:spPr>
          <a:xfrm>
            <a:off x="5643720" y="3571920"/>
            <a:ext cx="2590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Users\Admin\МОМВД\Desktop\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7:16:15Z</dcterms:created>
  <dc:creator>Никонорова</dc:creator>
  <dc:description/>
  <dc:language>en-US</dc:language>
  <cp:lastModifiedBy>Admin</cp:lastModifiedBy>
  <dcterms:modified xsi:type="dcterms:W3CDTF">2013-03-24T23:49:27Z</dcterms:modified>
  <cp:revision>51</cp:revision>
  <dc:subject/>
  <dc:title>12 апреля 2011 года –  50 лет первого полета человека в космос</dc:title>
</cp:coreProperties>
</file>