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D85D-C82F-4696-98F3-360354669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FCC3-1DE1-4931-B9BB-F7D7A736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E12D-97E8-47DA-81D9-03721DEE0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2AB4-0B5E-4230-9484-F4BDF019B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5C34-81DE-40AE-A7F5-9072EAC3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A26F-B6AF-4E9E-9845-3DFD9A9A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74A7-E186-466E-BB63-C7ED4A7E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F00F-D103-46E5-A1A7-49B5412C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A93C-DFE1-4D90-A2A7-BB2C7B9C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69B0-8A62-4F16-9004-A4A00A60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5D02-1391-4F75-AE66-C0E857D0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8E30-4DAF-4B28-A2F7-857FAD31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2296-7F9E-4303-9217-A352C421EAC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одготовила Никонорова О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002E-64AB-4FF3-96F7-BAEED76C71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:\Users\Admin\МОМВД\Desktop\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994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Озеро Ханк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Нижний колонтитул 5"/>
          <p:cNvSpPr/>
          <p:nvPr/>
        </p:nvSpPr>
        <p:spPr>
          <a:xfrm>
            <a:off x="2143080" y="5214960"/>
            <a:ext cx="57150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Calibri"/>
              </a:rPr>
              <a:t>Маликова Пол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Calibri"/>
              </a:rPr>
              <a:t>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озере организован международный российско-китайский Ханкайский заповедник. Общая площадь охраняемых территорий более 110000 га. Здесь зарегистрировано около 330 видов птиц, многие из которых на грани исчезновения, 44 занесены в Красную книгу. По количеству представителей пернатых бассейн озера занимает ведущее место не только в России, но и во всех умеренных широтах мира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лонок, выд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6" descr="C:\Users\Admin\МОМВД\Desktop\Рисунок17.jpg"/>
          <p:cNvPicPr/>
          <p:nvPr/>
        </p:nvPicPr>
        <p:blipFill>
          <a:blip r:embed="rId1"/>
          <a:stretch/>
        </p:blipFill>
        <p:spPr>
          <a:xfrm>
            <a:off x="857160" y="1857240"/>
            <a:ext cx="3706920" cy="3775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C:\Users\Admin\МОМВД\Desktop\Рисунок18.jpg"/>
          <p:cNvPicPr/>
          <p:nvPr/>
        </p:nvPicPr>
        <p:blipFill>
          <a:blip r:embed="rId2"/>
          <a:stretch/>
        </p:blipFill>
        <p:spPr>
          <a:xfrm>
            <a:off x="4929120" y="1857240"/>
            <a:ext cx="376236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6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ндатра,       косул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C:\Users\Admin\МОМВД\Desktop\Рисунок20.jpg"/>
          <p:cNvPicPr/>
          <p:nvPr/>
        </p:nvPicPr>
        <p:blipFill>
          <a:blip r:embed="rId1"/>
          <a:stretch/>
        </p:blipFill>
        <p:spPr>
          <a:xfrm>
            <a:off x="500040" y="1428840"/>
            <a:ext cx="3997440" cy="4362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C:\Users\Admin\МОМВД\Desktop\Рисунок21.jpg"/>
          <p:cNvPicPr/>
          <p:nvPr/>
        </p:nvPicPr>
        <p:blipFill>
          <a:blip r:embed="rId2"/>
          <a:stretch/>
        </p:blipFill>
        <p:spPr>
          <a:xfrm>
            <a:off x="4786200" y="1500120"/>
            <a:ext cx="38563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5353200" y="1050840"/>
            <a:ext cx="2844720" cy="1657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798480" y="765000"/>
            <a:ext cx="2847960" cy="1943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3"/>
          <a:stretch/>
        </p:blipFill>
        <p:spPr>
          <a:xfrm>
            <a:off x="828720" y="3716280"/>
            <a:ext cx="2854440" cy="244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4"/>
          <a:stretch/>
        </p:blipFill>
        <p:spPr>
          <a:xfrm>
            <a:off x="5221440" y="3808440"/>
            <a:ext cx="3143160" cy="228456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2"/>
          <p:cNvSpPr/>
          <p:nvPr/>
        </p:nvSpPr>
        <p:spPr>
          <a:xfrm>
            <a:off x="5346720" y="343836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ка шилох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971640" y="3254400"/>
            <a:ext cx="27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ка чирок-треску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4"/>
          <p:cNvSpPr/>
          <p:nvPr/>
        </p:nvSpPr>
        <p:spPr>
          <a:xfrm>
            <a:off x="826920" y="301680"/>
            <a:ext cx="45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ка каса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5"/>
          <p:cNvSpPr/>
          <p:nvPr/>
        </p:nvSpPr>
        <p:spPr>
          <a:xfrm>
            <a:off x="4932360" y="549360"/>
            <a:ext cx="32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ка сви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C:\Users\Admin\МОМВД\Desktop\Рисунок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8000" y="4292280"/>
            <a:ext cx="885672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Лотосы – это настоящая жемчужина Дальнего Востока, занесенная в Красную Книгу – они растут в бассейне Амура по нижнему течению реки Уссури, в озере Ханка, на острове Путятин, в Шмаковке. В нашем крае растет разновидность лотоса, названная «Лотос Комарова». Цветок сохранился здесь как третичный реликт, живое ископаемое прошлых геологических эпох, когда климат в этом районе был более теплы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C:\Users\Admin\МОМВД\Desktop\Рисунок26.jpg"/>
          <p:cNvPicPr/>
          <p:nvPr/>
        </p:nvPicPr>
        <p:blipFill>
          <a:blip r:embed="rId1"/>
          <a:stretch/>
        </p:blipFill>
        <p:spPr>
          <a:xfrm>
            <a:off x="700200" y="782640"/>
            <a:ext cx="774360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Прямоугольник 3" descr=""/>
          <p:cNvPicPr/>
          <p:nvPr/>
        </p:nvPicPr>
        <p:blipFill>
          <a:blip r:embed="rId1"/>
          <a:stretch/>
        </p:blipFill>
        <p:spPr>
          <a:xfrm>
            <a:off x="1085760" y="706320"/>
            <a:ext cx="732636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анка (Большая Ханка) — озеро на границе Приморского края России и провинции Хэйлунцзян Китая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5" descr="C:\Users\Admin\МОМВД\Desktop\Рисунок2.jpg"/>
          <p:cNvPicPr/>
          <p:nvPr/>
        </p:nvPicPr>
        <p:blipFill>
          <a:blip r:embed="rId1"/>
          <a:stretch/>
        </p:blipFill>
        <p:spPr>
          <a:xfrm>
            <a:off x="1643040" y="857160"/>
            <a:ext cx="612000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анка — самый крупный пресноводный водоём на Дальнем Востоке. Площадь 4070 км² (при среднем уровне воды), длина 95 км, преобладают глубины 1—3 м, наибольшая — 10,6 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C:\Users\Admin\МОМВД\Desktop\Рисунок3.jpg"/>
          <p:cNvPicPr/>
          <p:nvPr/>
        </p:nvPicPr>
        <p:blipFill>
          <a:blip r:embed="rId1"/>
          <a:stretch/>
        </p:blipFill>
        <p:spPr>
          <a:xfrm>
            <a:off x="500040" y="1571760"/>
            <a:ext cx="3484440" cy="4132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C:\Users\Admin\МОМВД\Desktop\Рисунок4.jpg"/>
          <p:cNvPicPr/>
          <p:nvPr/>
        </p:nvPicPr>
        <p:blipFill>
          <a:blip r:embed="rId2"/>
          <a:stretch/>
        </p:blipFill>
        <p:spPr>
          <a:xfrm>
            <a:off x="4572000" y="1357200"/>
            <a:ext cx="4197240" cy="52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C:\Users\Admin\МОМВД\Desktop\Рисунок5.jpg"/>
          <p:cNvPicPr/>
          <p:nvPr/>
        </p:nvPicPr>
        <p:blipFill>
          <a:blip r:embed="rId1"/>
          <a:stretch/>
        </p:blipFill>
        <p:spPr>
          <a:xfrm>
            <a:off x="642960" y="214200"/>
            <a:ext cx="4125960" cy="3071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C:\Users\Admin\МОМВД\Desktop\Рисунок6.png"/>
          <p:cNvPicPr/>
          <p:nvPr/>
        </p:nvPicPr>
        <p:blipFill>
          <a:blip r:embed="rId2"/>
          <a:stretch/>
        </p:blipFill>
        <p:spPr>
          <a:xfrm>
            <a:off x="571680" y="3286080"/>
            <a:ext cx="4251240" cy="3286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C:\Users\Admin\МОМВД\Desktop\Рисунок7.jpg"/>
          <p:cNvPicPr/>
          <p:nvPr/>
        </p:nvPicPr>
        <p:blipFill>
          <a:blip r:embed="rId3"/>
          <a:stretch/>
        </p:blipFill>
        <p:spPr>
          <a:xfrm>
            <a:off x="4929120" y="1214280"/>
            <a:ext cx="380052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озеро впадают 16 рек, в частности Илистая, Мельгуновка, Комиссаровка; вытекает река Сунгача, приток Уссури (бассейн Амур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C:\Users\Admin\МОМВД\Desktop\Рисунок8.jpg"/>
          <p:cNvPicPr/>
          <p:nvPr/>
        </p:nvPicPr>
        <p:blipFill>
          <a:blip r:embed="rId1"/>
          <a:stretch/>
        </p:blipFill>
        <p:spPr>
          <a:xfrm>
            <a:off x="357120" y="1214280"/>
            <a:ext cx="852336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 одной из версий название «Ханка» произошло от слова «ханхай», что означает «впадина». И действительно, водоем представляет собой впадину, так что название ему вполне соответствуе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C:\Users\Admin\МОМВД\Desktop\Рисунок9.jpg"/>
          <p:cNvPicPr/>
          <p:nvPr/>
        </p:nvPicPr>
        <p:blipFill>
          <a:blip r:embed="rId1"/>
          <a:stretch/>
        </p:blipFill>
        <p:spPr>
          <a:xfrm>
            <a:off x="428760" y="1571760"/>
            <a:ext cx="830412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м водоем и прилегающие территории являются уникальным природным комплексом, где гнездятся и делают стоянки на пролете разнообразные птицы, обитают редкие растения. Фауна озера поражает разнообразием биологического состава – огромное количество рыбы и других водных жителей. Всего здесь насчитывается 75 видов рыб, из которых 20 – промысловые. Рыбалка на озере Ханка всегда приносит хороший ул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C:\Users\Admin\МОМВД\Desktop\Рисунок10.jpg"/>
          <p:cNvPicPr/>
          <p:nvPr/>
        </p:nvPicPr>
        <p:blipFill>
          <a:blip r:embed="rId1"/>
          <a:stretch/>
        </p:blipFill>
        <p:spPr>
          <a:xfrm>
            <a:off x="785880" y="2357280"/>
            <a:ext cx="2678040" cy="2468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C:\Users\Admin\МОМВД\Desktop\Рисунок11.jpg"/>
          <p:cNvPicPr/>
          <p:nvPr/>
        </p:nvPicPr>
        <p:blipFill>
          <a:blip r:embed="rId2"/>
          <a:stretch/>
        </p:blipFill>
        <p:spPr>
          <a:xfrm>
            <a:off x="3500280" y="2143080"/>
            <a:ext cx="520416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2"/>
          <p:cNvSpPr/>
          <p:nvPr/>
        </p:nvSpPr>
        <p:spPr>
          <a:xfrm>
            <a:off x="6012000" y="51768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ебряный кара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1116000" y="4189320"/>
            <a:ext cx="39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меего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"/>
          <p:cNvSpPr/>
          <p:nvPr/>
        </p:nvSpPr>
        <p:spPr>
          <a:xfrm>
            <a:off x="826920" y="517680"/>
            <a:ext cx="45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мурский с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7093080" y="56674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л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1" descr="C:\Users\Admin\МОМВД\Desktop\Рисунок12.jpg"/>
          <p:cNvPicPr/>
          <p:nvPr/>
        </p:nvPicPr>
        <p:blipFill>
          <a:blip r:embed="rId1"/>
          <a:stretch/>
        </p:blipFill>
        <p:spPr>
          <a:xfrm>
            <a:off x="928800" y="1143000"/>
            <a:ext cx="3419280" cy="2162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C:\Users\Admin\МОМВД\Desktop\Рисунок13.jpg"/>
          <p:cNvPicPr/>
          <p:nvPr/>
        </p:nvPicPr>
        <p:blipFill>
          <a:blip r:embed="rId2"/>
          <a:stretch/>
        </p:blipFill>
        <p:spPr>
          <a:xfrm>
            <a:off x="5214960" y="1143000"/>
            <a:ext cx="3238560" cy="2184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C:\Users\Admin\МОМВД\Desktop\Рисунок14.jpg"/>
          <p:cNvPicPr/>
          <p:nvPr/>
        </p:nvPicPr>
        <p:blipFill>
          <a:blip r:embed="rId3"/>
          <a:stretch/>
        </p:blipFill>
        <p:spPr>
          <a:xfrm>
            <a:off x="642960" y="4643280"/>
            <a:ext cx="4581360" cy="1675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C:\Users\Admin\МОМВД\Desktop\Рисунок15.jpg"/>
          <p:cNvPicPr/>
          <p:nvPr/>
        </p:nvPicPr>
        <p:blipFill>
          <a:blip r:embed="rId4"/>
          <a:stretch/>
        </p:blipFill>
        <p:spPr>
          <a:xfrm>
            <a:off x="5643720" y="3571920"/>
            <a:ext cx="25905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C:\Users\Admin\МОМВД\Desktop\Рисунок16.jpg"/>
          <p:cNvPicPr/>
          <p:nvPr/>
        </p:nvPicPr>
        <p:blipFill>
          <a:blip r:embed="rId1"/>
          <a:stretch/>
        </p:blipFill>
        <p:spPr>
          <a:xfrm>
            <a:off x="0" y="0"/>
            <a:ext cx="9294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9T17:16:15Z</dcterms:created>
  <dc:creator>Никонорова</dc:creator>
  <dc:description/>
  <dc:language>en-US</dc:language>
  <cp:lastModifiedBy>Admin</cp:lastModifiedBy>
  <dcterms:modified xsi:type="dcterms:W3CDTF">2013-03-24T23:49:27Z</dcterms:modified>
  <cp:revision>51</cp:revision>
  <dc:subject/>
  <dc:title>12 апреля 2011 года –  50 лет первого полета человека в космос</dc:title>
</cp:coreProperties>
</file>