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CC7-CC94-4566-BBE0-BF6A0A1D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763-4061-480C-B870-CDFFAB46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561E-F13A-446C-91F5-0B4EFD64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706F-AF24-43D7-BCDB-67FC729C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38B3-D551-4E7B-A8BA-B742C361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6B64-BF53-4B5E-9598-A511FB0C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A292-EBF9-48A2-905C-EC9EFE01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BC66-84F9-4DCF-8126-B82BDBCF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E78D-244C-4F6E-B054-80F87F03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A9EA-2C7B-4892-9125-DCCA28C0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23FE-39BC-4CA0-B836-347DB153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7534-6899-4D06-9715-1DD39C36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80E9-625A-4E03-87ED-C4123AF4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6C7E-625A-4868-88D6-02B0BBAD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9140-7201-497A-8B74-5CD59607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9D2A-1B68-4063-ABEA-E5AA06F7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ECF9-B845-47F5-A1F0-CF8F37D6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03D9-FBBD-4AEB-9B3B-3C2F070F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4C18-3C8B-4C7E-801D-66057860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B060-2C90-48DF-9C27-38964DEC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12C-864D-4EAB-99FC-11F77D9F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62F2-AC93-42E8-AF55-CF00A801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7D17-E9E0-43EA-ACA0-E73A2031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51E6-1BE6-447B-91E1-8846E1E7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DF7B-2A04-4902-92DA-D659396F339F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26F6-DDAC-417F-9947-911DD79CCF7D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9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6ff"/>
                </a:solidFill>
                <a:latin typeface="Times New Roman"/>
              </a:rPr>
              <a:t>Исследование температурной зависимости поверхностного натяжения растворов синтетических моющих средств</a:t>
            </a:r>
            <a:endParaRPr b="0" lang="en-US" sz="41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9280" y="38862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Карпук Андрей Валентинович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Ученик 10 «Б» класса, МОУ СОШ №2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Ст. Каневска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При проведении экспериментов, изменялись: 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температура (по шкале, рекомендуемой для стирки: 30, 60, 90°C)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концентрация (0,25;0,5 и 1 грамм стирального порошка на 120 грамм воды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Алгоритм измерения поверхностного натяжения методом отрыва капель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378560" cy="47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Приготовить оборудовани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Измерить внутренний диаметр трубки, массу емкости для сбора капель с точностью до 0,01г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Настроить с помощью зажимов скорость падения капель раствора (30-40 капель в минуту.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Поставить пустой стакан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Отсчитать 200 капель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Взвесить стакан и вычислить массу вылившейся воды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00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370160" y="333000"/>
            <a:ext cx="7378560" cy="54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Посчитать поверхностное натяжение по формуле: σ=Mg/NπD,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где  M – масса вылившейся воды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g – модуль ускорения свободного падения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N – число капель раствора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D – внутренний диаметр стеклянной трубки-наконечник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N=200; D=4,85·10-³м; g=9,81м/с²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Все расчеты выполнены в системе С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260280"/>
          <a:ext cx="4968720" cy="38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496872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788000" y="3087720"/>
          <a:ext cx="4356000" cy="3770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3087720"/>
                    <a:ext cx="435600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результаты исследований показывают, что увеличение концентрации и температуры незначительно уменьшают поверхностное натяжение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Рекомендации: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более экономное использование электроэнергии на нагревание растворов (в большинстве случаев исключить кипячение)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уменьшение количества порошка для получения растворов СМС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1989000"/>
            <a:ext cx="7777080" cy="24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Синтетические моющие средства (СМС)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– натуральные и синтетические вещества с очищающим действием, применяемые в быту, промышленности и сфере обслуживания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Сырье для производства СМС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622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Продукты переработки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Нефти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Газ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Каменного угл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Цель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01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изучение  зависимости коэффициента  поверхностного натяжения растворах синтетических моющих средств от температуры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01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проанализировать измерение физических свойств синтетических моющих средств в зависимости от температуры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отследить диагностические исследования, полученные практическим путем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сделать вывод о проделанной работ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17236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19640" y="3213000"/>
            <a:ext cx="3348000" cy="3319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835280" y="333360"/>
            <a:ext cx="367164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69800" y="836280"/>
            <a:ext cx="380988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Верхняя часть пластиковой бутылк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Трубка с регулируемыми зажимам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Тонкие трубк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Нагреватель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Емкость для сбора капель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2320" y="1676520"/>
            <a:ext cx="381024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113440" y="1268280"/>
            <a:ext cx="3771720" cy="3946320"/>
            <a:chOff x="5113440" y="1268280"/>
            <a:chExt cx="3771720" cy="3946320"/>
          </a:xfrm>
        </p:grpSpPr>
        <p:grpSp>
          <p:nvGrpSpPr>
            <p:cNvPr id="107" name=""/>
            <p:cNvGrpSpPr/>
            <p:nvPr/>
          </p:nvGrpSpPr>
          <p:grpSpPr>
            <a:xfrm>
              <a:off x="5113440" y="1268280"/>
              <a:ext cx="3771720" cy="3946320"/>
              <a:chOff x="5113440" y="1268280"/>
              <a:chExt cx="3771720" cy="394632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5760360" y="1514880"/>
                <a:ext cx="571320" cy="3206880"/>
                <a:chOff x="5760360" y="1514880"/>
                <a:chExt cx="571320" cy="320688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5760360" y="1514880"/>
                  <a:ext cx="571320" cy="2005200"/>
                  <a:chOff x="5760360" y="1514880"/>
                  <a:chExt cx="571320" cy="20052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 rot="5400000">
                    <a:off x="5484600" y="1790640"/>
                    <a:ext cx="1122840" cy="571320"/>
                  </a:xfrm>
                  <a:prstGeom prst="flowChartDelay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5887800" y="2557440"/>
                    <a:ext cx="316080" cy="240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6014160" y="2798280"/>
                    <a:ext cx="63360" cy="400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V="1">
                    <a:off x="6014160" y="3198960"/>
                    <a:ext cx="63360" cy="1605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6014160" y="3359880"/>
                    <a:ext cx="63360" cy="160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" name=""/>
                <p:cNvSpPr/>
                <p:nvPr/>
              </p:nvSpPr>
              <p:spPr>
                <a:xfrm>
                  <a:off x="6014160" y="3519360"/>
                  <a:ext cx="43920" cy="120240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7703640" y="1514880"/>
                <a:ext cx="571320" cy="3206880"/>
                <a:chOff x="7703640" y="1514880"/>
                <a:chExt cx="571320" cy="320688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7703640" y="1514880"/>
                  <a:ext cx="571320" cy="2005200"/>
                  <a:chOff x="7703640" y="1514880"/>
                  <a:chExt cx="571320" cy="200520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 rot="5400000">
                    <a:off x="7427880" y="1790640"/>
                    <a:ext cx="1122840" cy="571320"/>
                  </a:xfrm>
                  <a:prstGeom prst="flowChartDelay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831080" y="2557440"/>
                    <a:ext cx="316080" cy="240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7957440" y="2798280"/>
                    <a:ext cx="63360" cy="400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V="1">
                    <a:off x="7957440" y="3198960"/>
                    <a:ext cx="63360" cy="1605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7957440" y="3359880"/>
                    <a:ext cx="63360" cy="160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7957440" y="3519360"/>
                  <a:ext cx="43920" cy="120240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5875200" y="1761480"/>
                <a:ext cx="342720" cy="24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5875200" y="1268280"/>
                <a:ext cx="0" cy="49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6217920" y="1268280"/>
                <a:ext cx="720" cy="49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65920" y="1391400"/>
                <a:ext cx="380880" cy="24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-30240" y="43200"/>
                    </a:moveTo>
                    <a:lnTo>
                      <a:pt x="-4320" y="1080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37320" y="2254680"/>
                <a:ext cx="380880" cy="24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-30240" y="-32400"/>
                    </a:moveTo>
                    <a:lnTo>
                      <a:pt x="-4320" y="1080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637320" y="2994840"/>
                <a:ext cx="266400" cy="37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-52457" y="21600"/>
                    </a:moveTo>
                    <a:lnTo>
                      <a:pt x="-6171" y="720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27800" y="4084200"/>
                <a:ext cx="380880" cy="36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-18360" y="1200"/>
                    </a:moveTo>
                    <a:lnTo>
                      <a:pt x="-4320" y="720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646600" y="4844880"/>
                <a:ext cx="914400" cy="246600"/>
              </a:xfrm>
              <a:custGeom>
                <a:avLst/>
                <a:gdLst>
                  <a:gd name="textAreaLeft" fmla="*/ 200880 w 914400"/>
                  <a:gd name="textAreaRight" fmla="*/ 713520 w 914400"/>
                  <a:gd name="textAreaTop" fmla="*/ 54000 h 246600"/>
                  <a:gd name="textAreaBottom" fmla="*/ 192600 h 24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589880" y="4844880"/>
                <a:ext cx="914400" cy="246600"/>
              </a:xfrm>
              <a:custGeom>
                <a:avLst/>
                <a:gdLst>
                  <a:gd name="textAreaLeft" fmla="*/ 200880 w 914400"/>
                  <a:gd name="textAreaRight" fmla="*/ 713520 w 914400"/>
                  <a:gd name="textAreaTop" fmla="*/ 54000 h 246600"/>
                  <a:gd name="textAreaBottom" fmla="*/ 192600 h 24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60760" y="4320720"/>
                <a:ext cx="342720" cy="36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32400" y="30600"/>
                    </a:moveTo>
                    <a:lnTo>
                      <a:pt x="26400" y="720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227560" y="5091480"/>
                <a:ext cx="1714320" cy="1231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170840" y="5091480"/>
                <a:ext cx="1714320" cy="123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13440" y="3488040"/>
                <a:ext cx="3771720" cy="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827760" y="3364920"/>
                <a:ext cx="22824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5341680" y="3488040"/>
                <a:ext cx="0" cy="1603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8656560" y="3488040"/>
                <a:ext cx="360" cy="1603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7399440" y="3488040"/>
                <a:ext cx="360" cy="1603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6713280" y="3488040"/>
                <a:ext cx="360" cy="1603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70840" y="1638000"/>
                <a:ext cx="571320" cy="2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69800" y="549000"/>
            <a:ext cx="680220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Дени «Сода эффект»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Ариель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Сорти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Миф «Морозная свежесть» (ручной)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Миф «Морозная свежесть» (автомат)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Бинго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(автомат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Хозяйственное мыло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580000" y="3660840"/>
            <a:ext cx="3313080" cy="2695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580000" y="1484280"/>
            <a:ext cx="2876760" cy="4762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614920" y="3328920"/>
            <a:ext cx="3529080" cy="3529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516720" y="549360"/>
            <a:ext cx="2068560" cy="2952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5580000" y="1557360"/>
            <a:ext cx="2952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0:04:16Z</dcterms:created>
  <dc:creator>Жукова </dc:creator>
  <dc:description/>
  <dc:language>en-US</dc:language>
  <cp:lastModifiedBy>User</cp:lastModifiedBy>
  <dcterms:modified xsi:type="dcterms:W3CDTF">2008-05-05T12:19:53Z</dcterms:modified>
  <cp:revision>8</cp:revision>
  <dc:subject/>
  <dc:title>Исследование температурной зависимости поверхностного натяжения растворов синтетических моющих средств</dc:title>
</cp:coreProperties>
</file>