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BBB-79C5-4AF2-AF0A-329FB015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1DB-46DE-4624-AA58-A6FF0E49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E6D-241E-4C19-8FD1-76C0DE75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02B-D670-4742-A9B2-3657F9C6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33B-2C1A-4F6F-BA10-2F4272CB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F9E5-A622-4A24-862E-43CEA48D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77E4-D6D1-45C8-B1F1-DB1941D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412A-5771-46A2-911D-1FF642C1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A52-A24A-4580-87D1-95A5A1C4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3BE-2E29-4ED5-B701-38D8751B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5899-246C-4239-B2E8-3658AE6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5E0-0DD5-423A-B99C-819970C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89C-2B71-4105-9AFD-BDB544E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BFCD-A86F-441F-9562-DBD274D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FFBE-6AEC-4746-B08B-6998BEE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8B62-086E-4EEF-B8E0-B4DF227F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0F96-E331-4E65-A7CD-E0D3C024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6939-6CE3-463B-80A6-6DF8DF65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C361-C63B-4A6A-99A8-8E50750F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3953-57E9-42D2-82D0-559878D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C10E-2697-4402-A26D-6E99B94F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EFC7D-5647-43B4-80A0-5F6EA44D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15D-3A4C-49E4-9D5D-063D3836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035B-AF2F-4CD2-AD48-A9DB21B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ABFF-FD07-4AE4-8CF2-EC0F044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9DEC-3FC4-4BFC-B3FF-9BB6E07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8CA4-F00C-43B3-B8FC-1DD4F0A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4310-BD76-4720-904E-1FEC46C8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4BE9-C136-463E-87FE-BD2B4F7D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EED5-E3E5-4BAF-8ECD-9C5B2FBD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9E01-9396-4925-8EBF-2C19D40E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89F3-C118-456A-8027-7D7CDF27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A5ED-21EB-459B-8DD9-0030A1D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ED2-1C62-42D2-8A73-B528D45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BF87-6CF1-4216-9168-6575D7D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E1130-33EA-4420-B273-F01C874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0C7C-6246-4FD2-849B-D7D2961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FD28-6A8B-4CC8-9170-CA4DBF0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761D-ABDE-4362-8662-8F6252D4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37ED-3FE8-446D-84FA-92DBE49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9DDF-15B8-4141-9FC3-76A10320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26C0-38C1-45C3-BF7C-194CC906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8267-3354-4D78-8E24-EE5226F1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11E-4949-42C9-A1D8-B6D2A6F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063-4D40-47D4-A756-99A7D275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39A-D5AD-4C53-A695-001ACBC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2DC-6B33-4B49-A11B-13725CE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8E4-4D7D-4FCA-83D2-65F52D90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E44-7D81-4B66-BFDB-55FDECB2D6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07C6-09B5-4277-94AE-D71B856252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7562-26AA-45A9-A094-FA4D0D2C043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0D64-257D-47C4-8D6F-C54BC2B1D38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Презентация к уроку русского языка в 7 классе по теме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            «Слова категории состояния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752120" y="44956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Выполнила Бобырева Елена Павлов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МОУ «Малобичинская СОШ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Усть-Ишимского райо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Ом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45684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Анализ предлож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6765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447920"/>
            <a:ext cx="7010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Утром море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Ученик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рабо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в зимнем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657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581280"/>
            <a:ext cx="8153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1 предлож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: обозначает признак предмета, в краткой форме, среднего рода, единственного числа, изменяемое слово, сказуемое в двусоставном предложении,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имя прилагательно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2 предлож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: обозначает признак действия, связано со сказуемым, неизменяемое слово, обстоятельство,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нареч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DSC00017"/>
          <p:cNvPicPr/>
          <p:nvPr/>
        </p:nvPicPr>
        <p:blipFill>
          <a:blip r:embed="rId1"/>
          <a:stretch/>
        </p:blipFill>
        <p:spPr>
          <a:xfrm>
            <a:off x="6781680" y="1295280"/>
            <a:ext cx="18972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Таблица для самопровер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057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762120"/>
          <a:ext cx="8458200" cy="6103800"/>
        </p:xfrm>
        <a:graphic>
          <a:graphicData uri="http://schemas.openxmlformats.org/drawingml/2006/table">
            <a:tbl>
              <a:tblPr/>
              <a:tblGrid>
                <a:gridCol w="2057400"/>
                <a:gridCol w="2210040"/>
                <a:gridCol w="1904760"/>
                <a:gridCol w="2286000"/>
              </a:tblGrid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мя 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тегория состоя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ов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ово? 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остояние окружающ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зменя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зменяется, может иметь степень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еизменяем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еизменяемое слово, может иметь степень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интаксическая 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казуемое в двусоставном предложении, связано с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стоятельство, зависит от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казуемое в односоставном безличном предложении, независима, может сочетаться с глаголами </a:t>
                      </a: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быть, становиться, делать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380880"/>
            <a:ext cx="86868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Georgia"/>
              </a:rPr>
              <a:t>Продолжите ряд слов, которые могут выражать...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состояние природы, окружающей среды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ветрено, жарк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физическое состояние живых существ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больно, дур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душевное состояние человека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 – грустно, стра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оценку какого-либо состояния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легко, хорош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модальное знач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надо, нельз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Georgia"/>
              </a:rPr>
              <a:t>Могут ли имена существительные по форме совпадать со словами категории состояни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44792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Скоро настанет весенняя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пора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Охота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– мое любимое ув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Лень 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до добра не дов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21M2"/>
          <p:cNvPicPr/>
          <p:nvPr/>
        </p:nvPicPr>
        <p:blipFill>
          <a:blip r:embed="rId1"/>
          <a:stretch/>
        </p:blipFill>
        <p:spPr>
          <a:xfrm>
            <a:off x="2971800" y="3581280"/>
            <a:ext cx="300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Закончите предлож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Сегодня на занятии мне удалось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Самым интересным для меня было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Особенно трудным мне показалось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4" name="Picture 7" descr="partykid"/>
          <p:cNvPicPr/>
          <p:nvPr/>
        </p:nvPicPr>
        <p:blipFill>
          <a:blip r:embed="rId1"/>
          <a:stretch/>
        </p:blipFill>
        <p:spPr>
          <a:xfrm>
            <a:off x="6324480" y="3429000"/>
            <a:ext cx="25797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09T15:28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