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gif" ContentType="image/gif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EABE0-350B-4EF0-A7FF-450ECF7E5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6F13B-567F-45D2-A94B-EA3A25BCD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94650-8EA5-4F9E-BCD8-BE9E0A6F1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0D1AF-A243-4578-937A-6A01D335F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055E9-2505-4BBA-99A8-FC5F45E5F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FB2B8-BC93-4470-9C4E-F86107763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0CD5B-1C95-4663-A629-31507817C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C300A-8BF1-4F83-B117-6E24760FB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8385C-60F7-4CD1-B7E5-3937DB4AB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ADB7A-FAC1-4055-9B3D-2EDC36F99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4A065-0D4E-4CD1-97B0-D924087A1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7E625-2FEA-4D5C-A6DB-C49AE7655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82C3F-EB73-4061-A912-8BEF1B60F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5F46B-0983-4979-A9C2-9BFA81544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24A17-E7EB-4F5F-8EDF-5CE1DFB43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90AD1-18BE-4368-AF13-2C0D4F366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A553C-52DA-4F88-93AD-B7E17E739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96D550-D3A4-4573-97E0-1C6D50F7C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8739E8-9ED9-4CBE-8A21-233C986C6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67507A-469D-4246-8CB1-53F7F774F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A9C56C-25E5-4271-83F6-6DA0C90FD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2F8CEA-8CF0-4D08-9349-DE1B2138A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B439E-78E2-4A21-A788-4C5AAB634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32E7DD-D1D3-41EB-955B-CE316B18F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E15E13-1435-4942-A946-A00562D80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9DE5A8-834F-4454-9846-0FB8E9F9C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583816-426A-455F-B922-7FE847FA8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D57E7B-6C1A-434E-B988-A063726CF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1AA1AA-2E19-4F86-BDFC-448782FCC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784581-5453-4901-8B63-7354E890E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A12A06-292F-484E-B015-9C9885BB1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6675B4-013A-42D2-889C-D1710157F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AA12AD-7C61-47DE-850F-65A37BDF8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328DC-A63E-491B-98D5-56B9E22FE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6E4C64-042D-4942-A5AD-1A02A1160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ED737B-4FDF-4002-AC3D-862593A6A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F1D375-4FA5-4E09-9447-F91A3C31E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E46DB1-4110-4A37-AFD9-2AF8D9282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66182A-47B9-4DF1-A2B3-F61E0B9EA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46F448-9670-493C-95D2-888A34301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D612AA-89BE-415B-8779-DF69AB2FD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B2EE05-2ED2-4CA8-B59D-7CA678F84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BAE104-3DA3-4A7E-BAF1-465FE036B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3E124-555A-46C5-BCD1-75FA3DCEC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7D3FE-7BBF-4D5B-A942-EDED1BDA0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ED6A0-11F3-42C9-86B7-0EE9F13C9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56FCE-A675-49F6-97B1-BE4073D47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2EBA3-6492-4D59-BA2F-3C0F0D623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14A65-28E1-4A28-8067-849933EC987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159D7-FBBA-4451-B7C8-7E50278AC3A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9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9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9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0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0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11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11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D480E-9ECA-4862-8CA6-7483A894A7E8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17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17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9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9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9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20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20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BD9E2-C6A7-4941-8396-8E6B50180FB9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43000" y="3805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imes New Roman"/>
              </a:rPr>
              <a:t>Презентация к уроку русского языка в 7 классе по теме</a:t>
            </a:r>
            <a:br>
              <a:rPr sz="3200"/>
            </a:br>
            <a:r>
              <a:rPr b="1" lang="en-US" sz="3200" spc="-1" strike="noStrike">
                <a:solidFill>
                  <a:srgbClr val="006666"/>
                </a:solidFill>
                <a:latin typeface="Times New Roman"/>
              </a:rPr>
              <a:t>             «Слова категории состояния»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1752120" y="4495680"/>
            <a:ext cx="6782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00cc"/>
                </a:solidFill>
                <a:latin typeface="Verdana"/>
              </a:rPr>
              <a:t>                                         </a:t>
            </a:r>
            <a:r>
              <a:rPr b="0" lang="en-US" sz="1400" spc="-1" strike="noStrike">
                <a:solidFill>
                  <a:srgbClr val="9900cc"/>
                </a:solidFill>
                <a:latin typeface="Verdana"/>
              </a:rPr>
              <a:t>Выполнила Бобырева Елена Павловна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00cc"/>
                </a:solidFill>
                <a:latin typeface="Verdana"/>
              </a:rPr>
              <a:t>                                          </a:t>
            </a:r>
            <a:r>
              <a:rPr b="0" lang="en-US" sz="1400" spc="-1" strike="noStrike">
                <a:solidFill>
                  <a:srgbClr val="9900cc"/>
                </a:solidFill>
                <a:latin typeface="Verdana"/>
              </a:rPr>
              <a:t>учитель русского языка и литературы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00cc"/>
                </a:solidFill>
                <a:latin typeface="Verdana"/>
              </a:rPr>
              <a:t>                                          </a:t>
            </a:r>
            <a:r>
              <a:rPr b="0" lang="en-US" sz="1400" spc="-1" strike="noStrike">
                <a:solidFill>
                  <a:srgbClr val="9900cc"/>
                </a:solidFill>
                <a:latin typeface="Verdana"/>
              </a:rPr>
              <a:t>МОУ «Малобичинская СОШ»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00cc"/>
                </a:solidFill>
                <a:latin typeface="Verdana"/>
              </a:rPr>
              <a:t>                                          </a:t>
            </a:r>
            <a:r>
              <a:rPr b="0" lang="en-US" sz="1400" spc="-1" strike="noStrike">
                <a:solidFill>
                  <a:srgbClr val="9900cc"/>
                </a:solidFill>
                <a:latin typeface="Verdana"/>
              </a:rPr>
              <a:t>Усть-Ишимского района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00cc"/>
                </a:solidFill>
                <a:latin typeface="Verdana"/>
              </a:rPr>
              <a:t>                                          </a:t>
            </a:r>
            <a:r>
              <a:rPr b="0" lang="en-US" sz="1400" spc="-1" strike="noStrike">
                <a:solidFill>
                  <a:srgbClr val="9900cc"/>
                </a:solidFill>
                <a:latin typeface="Verdana"/>
              </a:rPr>
              <a:t>Омской области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42800" y="456840"/>
            <a:ext cx="82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ff"/>
                </a:solidFill>
                <a:latin typeface="Times New Roman"/>
              </a:rPr>
              <a:t>Анализ предложений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59" name=""/>
          <p:cNvSpPr/>
          <p:nvPr/>
        </p:nvSpPr>
        <p:spPr>
          <a:xfrm>
            <a:off x="914400" y="1676520"/>
            <a:ext cx="74674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990720" y="1447920"/>
            <a:ext cx="701028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6699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Georgia"/>
              </a:rPr>
              <a:t>Утром море </a:t>
            </a:r>
            <a:r>
              <a:rPr b="1" lang="en-US" sz="2800" spc="-1" strike="noStrike">
                <a:solidFill>
                  <a:srgbClr val="ff0066"/>
                </a:solidFill>
                <a:latin typeface="Georgia"/>
              </a:rPr>
              <a:t>спокойно</a:t>
            </a:r>
            <a:r>
              <a:rPr b="1" lang="en-US" sz="2800" spc="-1" strike="noStrike">
                <a:solidFill>
                  <a:srgbClr val="006699"/>
                </a:solidFill>
                <a:latin typeface="Georgi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6699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Georgia"/>
              </a:rPr>
              <a:t>Ученик </a:t>
            </a:r>
            <a:r>
              <a:rPr b="1" lang="en-US" sz="2800" spc="-1" strike="noStrike">
                <a:solidFill>
                  <a:srgbClr val="ff0066"/>
                </a:solidFill>
                <a:latin typeface="Georgia"/>
              </a:rPr>
              <a:t>спокойно</a:t>
            </a:r>
            <a:r>
              <a:rPr b="1" lang="en-US" sz="2800" spc="-1" strike="noStrike">
                <a:solidFill>
                  <a:srgbClr val="006699"/>
                </a:solidFill>
                <a:latin typeface="Georgia"/>
              </a:rPr>
              <a:t> работа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6699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Georgia"/>
              </a:rPr>
              <a:t> </a:t>
            </a:r>
            <a:r>
              <a:rPr b="1" lang="en-US" sz="2800" spc="-1" strike="noStrike">
                <a:solidFill>
                  <a:srgbClr val="ff0066"/>
                </a:solidFill>
                <a:latin typeface="Georgia"/>
              </a:rPr>
              <a:t>Спокойно</a:t>
            </a:r>
            <a:r>
              <a:rPr b="1" lang="en-US" sz="2800" spc="-1" strike="noStrike">
                <a:solidFill>
                  <a:srgbClr val="006699"/>
                </a:solidFill>
                <a:latin typeface="Georgia"/>
              </a:rPr>
              <a:t> в зимнем лес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3657600"/>
            <a:ext cx="7925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85800" y="3581280"/>
            <a:ext cx="8153280" cy="32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Georgia"/>
              </a:rPr>
              <a:t>1 предложение</a:t>
            </a:r>
            <a:r>
              <a:rPr b="1" lang="en-US" sz="2400" spc="-1" strike="noStrike">
                <a:solidFill>
                  <a:srgbClr val="006699"/>
                </a:solidFill>
                <a:latin typeface="Georgia"/>
              </a:rPr>
              <a:t>: обозначает признак предмета, в краткой форме, среднего рода, единственного числа, изменяемое слово, сказуемое в двусоставном предложении, </a:t>
            </a:r>
            <a:r>
              <a:rPr b="1" lang="en-US" sz="2400" spc="-1" strike="noStrike">
                <a:solidFill>
                  <a:srgbClr val="ff0066"/>
                </a:solidFill>
                <a:latin typeface="Georgia"/>
              </a:rPr>
              <a:t>имя прилагательное</a:t>
            </a:r>
            <a:r>
              <a:rPr b="1" lang="en-US" sz="2400" spc="-1" strike="noStrike">
                <a:solidFill>
                  <a:srgbClr val="006699"/>
                </a:solidFill>
                <a:latin typeface="Georgia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Georgia"/>
              </a:rPr>
              <a:t>2 предложение</a:t>
            </a:r>
            <a:r>
              <a:rPr b="1" lang="en-US" sz="2400" spc="-1" strike="noStrike">
                <a:solidFill>
                  <a:srgbClr val="006699"/>
                </a:solidFill>
                <a:latin typeface="Georgia"/>
              </a:rPr>
              <a:t>: обозначает признак действия, связано со сказуемым, неизменяемое слово, обстоятельство, </a:t>
            </a:r>
            <a:r>
              <a:rPr b="1" lang="en-US" sz="2400" spc="-1" strike="noStrike">
                <a:solidFill>
                  <a:srgbClr val="ff0066"/>
                </a:solidFill>
                <a:latin typeface="Georgia"/>
              </a:rPr>
              <a:t>наречие</a:t>
            </a:r>
            <a:r>
              <a:rPr b="1" lang="en-US" sz="2400" spc="-1" strike="noStrike">
                <a:solidFill>
                  <a:srgbClr val="006699"/>
                </a:solidFill>
                <a:latin typeface="Georgia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Picture 21" descr="DSC00017"/>
          <p:cNvPicPr/>
          <p:nvPr/>
        </p:nvPicPr>
        <p:blipFill>
          <a:blip r:embed="rId1"/>
          <a:stretch/>
        </p:blipFill>
        <p:spPr>
          <a:xfrm>
            <a:off x="6781680" y="1295280"/>
            <a:ext cx="1897200" cy="2133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ff"/>
                </a:solidFill>
                <a:latin typeface="Times New Roman"/>
              </a:rPr>
              <a:t>Таблица для самопроверки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057400"/>
            <a:ext cx="601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cc"/>
                </a:solidFill>
                <a:latin typeface="Times New Roman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6" name=""/>
          <p:cNvGraphicFramePr/>
          <p:nvPr/>
        </p:nvGraphicFramePr>
        <p:xfrm>
          <a:off x="380880" y="762120"/>
          <a:ext cx="8458200" cy="6103800"/>
        </p:xfrm>
        <a:graphic>
          <a:graphicData uri="http://schemas.openxmlformats.org/drawingml/2006/table">
            <a:tbl>
              <a:tblPr/>
              <a:tblGrid>
                <a:gridCol w="2057400"/>
                <a:gridCol w="2210040"/>
                <a:gridCol w="1904760"/>
                <a:gridCol w="2286000"/>
              </a:tblGrid>
              <a:tr h="88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Georgia"/>
                        </a:rPr>
                        <a:t>Призна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Georgia"/>
                        </a:rPr>
                        <a:t>Имя прилагательн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Georgia"/>
                        </a:rPr>
                        <a:t>Нареч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Georgia"/>
                        </a:rPr>
                        <a:t>Категория состоя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88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Georgia"/>
                        </a:rPr>
                        <a:t>Вопро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Georgia"/>
                        </a:rPr>
                        <a:t>Каково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Georgia"/>
                        </a:rPr>
                        <a:t>Как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Georgia"/>
                        </a:rPr>
                        <a:t>Каково? Как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Georgia"/>
                        </a:rPr>
                        <a:t>Общее знач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Georgia"/>
                        </a:rPr>
                        <a:t>Признак предме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Georgia"/>
                        </a:rPr>
                        <a:t>Признак действ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Georgia"/>
                        </a:rPr>
                        <a:t>Состояние окружающей сред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Georgia"/>
                        </a:rPr>
                        <a:t>Изменяем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Georgia"/>
                        </a:rPr>
                        <a:t>Изменяется, может иметь степень сравн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Georgia"/>
                        </a:rPr>
                        <a:t>Неизменяемое слов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Georgia"/>
                        </a:rPr>
                        <a:t>Неизменяемое слово, может иметь степень сравн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201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Georgia"/>
                        </a:rPr>
                        <a:t>Синтаксическая рол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Georgia"/>
                        </a:rPr>
                        <a:t>Сказуемое в двусоставном предложении, связано с подлежащи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Georgia"/>
                        </a:rPr>
                        <a:t>Обстоятельство, зависит от сказуемог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Georgia"/>
                        </a:rPr>
                        <a:t>Сказуемое в односоставном безличном предложении, независима, может сочетаться с глаголами </a:t>
                      </a:r>
                      <a:r>
                        <a:rPr b="1" i="1" lang="en-US" sz="1400" spc="-1" strike="noStrike">
                          <a:solidFill>
                            <a:srgbClr val="0000ff"/>
                          </a:solidFill>
                          <a:latin typeface="Georgia"/>
                        </a:rPr>
                        <a:t>быть, становиться, делаться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304920" y="380880"/>
            <a:ext cx="8686800" cy="50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ff"/>
                </a:solidFill>
                <a:latin typeface="Georgia"/>
              </a:rPr>
              <a:t>Продолжите ряд слов, которые могут выражать...</a:t>
            </a:r>
            <a:r>
              <a:rPr b="1" lang="en-US" sz="2400" spc="-1" strike="noStrike">
                <a:solidFill>
                  <a:srgbClr val="ff0066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Georgia"/>
              </a:rPr>
              <a:t>состояние природы, окружающей среды</a:t>
            </a:r>
            <a:r>
              <a:rPr b="1" lang="en-US" sz="2400" spc="-1" strike="noStrike">
                <a:solidFill>
                  <a:srgbClr val="006699"/>
                </a:solidFill>
                <a:latin typeface="Georgia"/>
              </a:rPr>
              <a:t> –</a:t>
            </a:r>
            <a:r>
              <a:rPr b="1" lang="en-US" sz="2400" spc="-1" strike="noStrike">
                <a:solidFill>
                  <a:srgbClr val="ff0066"/>
                </a:solidFill>
                <a:latin typeface="Georgia"/>
              </a:rPr>
              <a:t>ветрено, жарко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Georgia"/>
              </a:rPr>
              <a:t>физическое состояние живых существ</a:t>
            </a:r>
            <a:r>
              <a:rPr b="1" lang="en-US" sz="2400" spc="-1" strike="noStrike">
                <a:solidFill>
                  <a:srgbClr val="006699"/>
                </a:solidFill>
                <a:latin typeface="Georgia"/>
              </a:rPr>
              <a:t> – </a:t>
            </a:r>
            <a:r>
              <a:rPr b="1" lang="en-US" sz="2400" spc="-1" strike="noStrike">
                <a:solidFill>
                  <a:srgbClr val="ff0066"/>
                </a:solidFill>
                <a:latin typeface="Georgia"/>
              </a:rPr>
              <a:t>больно, дурно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Georgia"/>
              </a:rPr>
              <a:t>душевное состояние человека</a:t>
            </a:r>
            <a:r>
              <a:rPr b="1" lang="en-US" sz="2400" spc="-1" strike="noStrike">
                <a:solidFill>
                  <a:srgbClr val="ff0066"/>
                </a:solidFill>
                <a:latin typeface="Georgia"/>
              </a:rPr>
              <a:t> – грустно, странно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Georgia"/>
              </a:rPr>
              <a:t>оценку какого-либо состояния</a:t>
            </a:r>
            <a:r>
              <a:rPr b="1" lang="en-US" sz="2400" spc="-1" strike="noStrike">
                <a:solidFill>
                  <a:srgbClr val="006699"/>
                </a:solidFill>
                <a:latin typeface="Georgia"/>
              </a:rPr>
              <a:t> – </a:t>
            </a:r>
            <a:r>
              <a:rPr b="1" lang="en-US" sz="2400" spc="-1" strike="noStrike">
                <a:solidFill>
                  <a:srgbClr val="ff0066"/>
                </a:solidFill>
                <a:latin typeface="Georgia"/>
              </a:rPr>
              <a:t>легко, хорошо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Georgia"/>
              </a:rPr>
              <a:t>модальное значение</a:t>
            </a:r>
            <a:r>
              <a:rPr b="1" lang="en-US" sz="2400" spc="-1" strike="noStrike">
                <a:solidFill>
                  <a:srgbClr val="006699"/>
                </a:solidFill>
                <a:latin typeface="Georgia"/>
              </a:rPr>
              <a:t> – </a:t>
            </a:r>
            <a:r>
              <a:rPr b="1" lang="en-US" sz="2400" spc="-1" strike="noStrike">
                <a:solidFill>
                  <a:srgbClr val="ff0066"/>
                </a:solidFill>
                <a:latin typeface="Georgia"/>
              </a:rPr>
              <a:t>надо, нельзя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Georgia"/>
              </a:rPr>
              <a:t>Могут ли имена существительные по форме совпадать со словами категории состояния?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763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0" name=""/>
          <p:cNvSpPr/>
          <p:nvPr/>
        </p:nvSpPr>
        <p:spPr>
          <a:xfrm>
            <a:off x="152280" y="1447920"/>
            <a:ext cx="838224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6699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Georgia"/>
              </a:rPr>
              <a:t> </a:t>
            </a:r>
            <a:r>
              <a:rPr b="1" lang="en-US" sz="3200" spc="-1" strike="noStrike">
                <a:solidFill>
                  <a:srgbClr val="006699"/>
                </a:solidFill>
                <a:latin typeface="Georgia"/>
              </a:rPr>
              <a:t>Скоро настанет весенняя </a:t>
            </a:r>
            <a:r>
              <a:rPr b="1" lang="en-US" sz="3200" spc="-1" strike="noStrike">
                <a:solidFill>
                  <a:srgbClr val="ff0066"/>
                </a:solidFill>
                <a:latin typeface="Georgia"/>
              </a:rPr>
              <a:t>пора</a:t>
            </a:r>
            <a:r>
              <a:rPr b="1" lang="en-US" sz="3200" spc="-1" strike="noStrike">
                <a:solidFill>
                  <a:srgbClr val="006699"/>
                </a:solidFill>
                <a:latin typeface="Georgi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6699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Georgia"/>
              </a:rPr>
              <a:t> </a:t>
            </a:r>
            <a:r>
              <a:rPr b="1" lang="en-US" sz="3200" spc="-1" strike="noStrike">
                <a:solidFill>
                  <a:srgbClr val="ff0066"/>
                </a:solidFill>
                <a:latin typeface="Georgia"/>
              </a:rPr>
              <a:t>Охота</a:t>
            </a:r>
            <a:r>
              <a:rPr b="1" lang="en-US" sz="3200" spc="-1" strike="noStrike">
                <a:solidFill>
                  <a:srgbClr val="006699"/>
                </a:solidFill>
                <a:latin typeface="Georgia"/>
              </a:rPr>
              <a:t> – мое любимое увлеч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6699"/>
              </a:buClr>
              <a:buFont typeface="Georgi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Georgia"/>
              </a:rPr>
              <a:t> </a:t>
            </a:r>
            <a:r>
              <a:rPr b="1" lang="en-US" sz="3200" spc="-1" strike="noStrike">
                <a:solidFill>
                  <a:srgbClr val="ff0066"/>
                </a:solidFill>
                <a:latin typeface="Georgia"/>
              </a:rPr>
              <a:t>Лень </a:t>
            </a:r>
            <a:r>
              <a:rPr b="1" lang="en-US" sz="3200" spc="-1" strike="noStrike">
                <a:solidFill>
                  <a:srgbClr val="006699"/>
                </a:solidFill>
                <a:latin typeface="Georgia"/>
              </a:rPr>
              <a:t>до добра не довод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6" descr="21M2"/>
          <p:cNvPicPr/>
          <p:nvPr/>
        </p:nvPicPr>
        <p:blipFill>
          <a:blip r:embed="rId1"/>
          <a:stretch/>
        </p:blipFill>
        <p:spPr>
          <a:xfrm>
            <a:off x="2971800" y="3581280"/>
            <a:ext cx="3000240" cy="31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42800" y="380520"/>
            <a:ext cx="82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cc"/>
                </a:solidFill>
                <a:latin typeface="Times New Roman"/>
              </a:rPr>
              <a:t>Закончите предложения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imes New Roman"/>
              </a:rPr>
              <a:t>Сегодня на занятии мне удалось….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imes New Roman"/>
              </a:rPr>
              <a:t>Самым интересным для меня было….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imes New Roman"/>
              </a:rPr>
              <a:t>Особенно трудным мне показалось….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74" name="Picture 7" descr="partykid"/>
          <p:cNvPicPr/>
          <p:nvPr/>
        </p:nvPicPr>
        <p:blipFill>
          <a:blip r:embed="rId1"/>
          <a:stretch/>
        </p:blipFill>
        <p:spPr>
          <a:xfrm>
            <a:off x="6324480" y="3429000"/>
            <a:ext cx="2579760" cy="28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1-02-09T15:28:28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