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8.wmf" ContentType="image/x-wmf"/>
  <Override PartName="/ppt/media/image12.gif" ContentType="image/gif"/>
  <Override PartName="/ppt/media/image7.gif" ContentType="image/gif"/>
  <Override PartName="/ppt/media/image18.wmf" ContentType="image/x-wmf"/>
  <Override PartName="/ppt/media/image20.wmf" ContentType="image/x-wmf"/>
  <Override PartName="/ppt/media/image11.gif" ContentType="image/gif"/>
  <Override PartName="/ppt/media/image9.wmf" ContentType="image/x-wmf"/>
  <Override PartName="/ppt/media/image22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16.wmf" ContentType="image/x-wmf"/>
  <Override PartName="/ppt/media/image14.gif" ContentType="image/gif"/>
  <Override PartName="/ppt/media/image2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7.wmf" ContentType="image/x-wmf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76D-B917-4D3C-9D24-F077CA1D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4DF-3675-4597-AD9E-CF0FAEF6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446-68F3-4DF5-B692-4CE43C07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754-D105-4B94-934E-21C519FD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6E5-DB0D-4590-A0DD-DB39B4B0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C48-C44C-44FC-A7E2-B3F46278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8C0B-2B67-43FC-BB8D-40363501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C92-E59D-4D2C-A61E-8363611F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0B1-51DD-4948-8C49-6CAB394D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84E-E0A1-4A0B-AE3A-D8A154F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646-5CCE-4097-BE5D-293EF260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D27-0AB2-4B24-8FEC-4D35DFE9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1E05-6212-4F78-BEAB-E6FF3B8F1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./Local%20Settings/Application%20Data/Opera/Opera/profile/cache4/temporary_download/&#1055;&#1088;&#1080;&#1083;&#1086;&#1078;&#1077;&#1085;&#1080;&#1077;5.pub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Компьютер -друг или враг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658120" y="5934240"/>
            <a:ext cx="34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: ученица 6 «а»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СОШ №1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орина Екатер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684360" y="946080"/>
          <a:ext cx="8028000" cy="46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46080"/>
                    <a:ext cx="802800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539640" y="996840"/>
          <a:ext cx="8064720" cy="466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96840"/>
                    <a:ext cx="806472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 всё-таки мы прав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11280" y="141300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выдвинутая нами гипотеза оказалась верна, так как выяснилось, чт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ний стаж работы старшеклассников на ПК – 6 ле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мптомы КЗС наблюдаются у 33% опрошенны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мптомы скелетно-мышечных расстройств после и во время работы                за ПК периодически появляются примерно у 45% опрошенны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17,5%  в результате работы на ПК появились расстройства   рефракции (близорукость и астигматиз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авляющее большинство старшеклассников (50%) проводит за ПК              менее 2-х часов в день, что соответствует норм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мы и правила работы на ПК полностью соблюдают только 50% опрошенных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ев появления аллергии, учащения её приступов и снижения иммунитета в результате использования ПК не выявлен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и соблюдающих нормы и правила работы на ПК только у 1 человека периодически появляется головная бо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835280" y="6021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екомендации врачей для работы за компьютер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7093080" y="6093000"/>
            <a:ext cx="1152360" cy="360360"/>
          </a:xfrm>
          <a:prstGeom prst="leftArrow">
            <a:avLst>
              <a:gd name="adj1" fmla="val 50000"/>
              <a:gd name="adj2" fmla="val 7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9"/>
          <p:cNvSpPr/>
          <p:nvPr/>
        </p:nvSpPr>
        <p:spPr>
          <a:xfrm flipH="1">
            <a:off x="539640" y="6093000"/>
            <a:ext cx="1152720" cy="360360"/>
          </a:xfrm>
          <a:prstGeom prst="leftArrow">
            <a:avLst>
              <a:gd name="adj1" fmla="val 50000"/>
              <a:gd name="adj2" fmla="val 7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Итог наших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иско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5280" y="1125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 можете заменить, починить пришедший в негодность компьютер, но с организмом такое не проходит. Поэтому, покупая очередной ПК, задумайтесь, что вам дороже и помимо производительности своего электронного помощника, позаботьтесь и о себ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ультируясь у врачей, верьте не пиарщикам от медицины, а тем специалистам, в результате деятельности которых получаются       здоровые люд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щем, успешного вам пользования компьютером и крепкого здоровь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j0286930"/>
          <p:cNvPicPr/>
          <p:nvPr/>
        </p:nvPicPr>
        <p:blipFill>
          <a:blip r:embed="rId1"/>
          <a:stretch/>
        </p:blipFill>
        <p:spPr>
          <a:xfrm>
            <a:off x="684360" y="4005360"/>
            <a:ext cx="2131920" cy="216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j0237284"/>
          <p:cNvPicPr/>
          <p:nvPr/>
        </p:nvPicPr>
        <p:blipFill>
          <a:blip r:embed="rId2"/>
          <a:stretch/>
        </p:blipFill>
        <p:spPr>
          <a:xfrm>
            <a:off x="6588000" y="4437000"/>
            <a:ext cx="188136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92360" y="26028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доровый человек - сам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рагоценное произведе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роды. Т.Картей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9640" y="400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Times New Roman"/>
              </a:rPr>
              <a:t>Нарушение санитарных норм работы за компьютером                     наносит вред здоровью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j0205582"/>
          <p:cNvPicPr/>
          <p:nvPr/>
        </p:nvPicPr>
        <p:blipFill>
          <a:blip r:embed="rId1"/>
          <a:stretch/>
        </p:blipFill>
        <p:spPr>
          <a:xfrm>
            <a:off x="6659640" y="465300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j0292020"/>
          <p:cNvPicPr/>
          <p:nvPr/>
        </p:nvPicPr>
        <p:blipFill>
          <a:blip r:embed="rId2"/>
          <a:stretch/>
        </p:blipFill>
        <p:spPr>
          <a:xfrm>
            <a:off x="611280" y="458136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j0254422"/>
          <p:cNvPicPr/>
          <p:nvPr/>
        </p:nvPicPr>
        <p:blipFill>
          <a:blip r:embed="rId3"/>
          <a:stretch/>
        </p:blipFill>
        <p:spPr>
          <a:xfrm>
            <a:off x="7093080" y="1844640"/>
            <a:ext cx="1314360" cy="933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j0254425"/>
          <p:cNvPicPr/>
          <p:nvPr/>
        </p:nvPicPr>
        <p:blipFill>
          <a:blip r:embed="rId4"/>
          <a:stretch/>
        </p:blipFill>
        <p:spPr>
          <a:xfrm>
            <a:off x="539640" y="2060640"/>
            <a:ext cx="1428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611280" y="900000"/>
            <a:ext cx="828180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уг или враг, или как?.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8" descr="j0189219"/>
          <p:cNvPicPr/>
          <p:nvPr/>
        </p:nvPicPr>
        <p:blipFill>
          <a:blip r:embed="rId3"/>
          <a:stretch/>
        </p:blipFill>
        <p:spPr>
          <a:xfrm>
            <a:off x="611280" y="4437000"/>
            <a:ext cx="1199880" cy="1038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0189225"/>
          <p:cNvPicPr/>
          <p:nvPr/>
        </p:nvPicPr>
        <p:blipFill>
          <a:blip r:embed="rId4"/>
          <a:stretch/>
        </p:blipFill>
        <p:spPr>
          <a:xfrm>
            <a:off x="7020000" y="4437000"/>
            <a:ext cx="1400040" cy="866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2400480" y="2565360"/>
            <a:ext cx="505116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поставили пробле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исследовали те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 компьютер или враг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-то против? Что не та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1"/>
          <p:cNvSpPr/>
          <p:nvPr/>
        </p:nvSpPr>
        <p:spPr>
          <a:xfrm>
            <a:off x="324000" y="26028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971640" y="40320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крытая угроза – проблема наших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13"/>
          <p:cNvSpPr txBox="1"/>
          <p:nvPr/>
        </p:nvSpPr>
        <p:spPr>
          <a:xfrm>
            <a:off x="684360" y="1347840"/>
            <a:ext cx="7885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пьютер – польза или вред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15" descr="j0346859"/>
          <p:cNvPicPr/>
          <p:nvPr/>
        </p:nvPicPr>
        <p:blipFill>
          <a:blip r:embed="rId1"/>
          <a:stretch/>
        </p:blipFill>
        <p:spPr>
          <a:xfrm>
            <a:off x="512640" y="2925720"/>
            <a:ext cx="2497320" cy="230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j0346861"/>
          <p:cNvPicPr/>
          <p:nvPr/>
        </p:nvPicPr>
        <p:blipFill>
          <a:blip r:embed="rId2"/>
          <a:stretch/>
        </p:blipFill>
        <p:spPr>
          <a:xfrm>
            <a:off x="6132600" y="2938320"/>
            <a:ext cx="2444760" cy="2257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j0178313"/>
          <p:cNvPicPr/>
          <p:nvPr/>
        </p:nvPicPr>
        <p:blipFill>
          <a:blip r:embed="rId3"/>
          <a:stretch/>
        </p:blipFill>
        <p:spPr>
          <a:xfrm>
            <a:off x="4221000" y="3660840"/>
            <a:ext cx="107964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49280" y="1844640"/>
            <a:ext cx="896472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Ознакомление со специальной литературой по нашей проблем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Составление анкет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Проведение опроса учащихся 8-9 классов нашей школы по этой анкет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Обработка данных опрос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Оформление данных в виде диаграмм и таблиц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Анализ полученных результа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Рекомендации специалист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j0283761"/>
          <p:cNvPicPr/>
          <p:nvPr/>
        </p:nvPicPr>
        <p:blipFill>
          <a:blip r:embed="rId1"/>
          <a:stretch/>
        </p:blipFill>
        <p:spPr>
          <a:xfrm>
            <a:off x="1692360" y="4869000"/>
            <a:ext cx="914400" cy="952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558"/>
          <p:cNvPicPr/>
          <p:nvPr/>
        </p:nvPicPr>
        <p:blipFill>
          <a:blip r:embed="rId2"/>
          <a:stretch/>
        </p:blipFill>
        <p:spPr>
          <a:xfrm>
            <a:off x="7451640" y="3860640"/>
            <a:ext cx="714600" cy="79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j0296945"/>
          <p:cNvPicPr/>
          <p:nvPr/>
        </p:nvPicPr>
        <p:blipFill>
          <a:blip r:embed="rId3"/>
          <a:stretch/>
        </p:blipFill>
        <p:spPr>
          <a:xfrm>
            <a:off x="826920" y="620640"/>
            <a:ext cx="714600" cy="561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j0295184"/>
          <p:cNvPicPr/>
          <p:nvPr/>
        </p:nvPicPr>
        <p:blipFill>
          <a:blip r:embed="rId4"/>
          <a:stretch/>
        </p:blipFill>
        <p:spPr>
          <a:xfrm>
            <a:off x="7308720" y="692280"/>
            <a:ext cx="762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627280" y="2060640"/>
            <a:ext cx="4896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готовили анк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 раздали всем букл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ы итоги подв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лучилось что, смо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j0290846"/>
          <p:cNvPicPr/>
          <p:nvPr/>
        </p:nvPicPr>
        <p:blipFill>
          <a:blip r:embed="rId1"/>
          <a:stretch/>
        </p:blipFill>
        <p:spPr>
          <a:xfrm>
            <a:off x="6732720" y="3573360"/>
            <a:ext cx="1704960" cy="253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j0290891"/>
          <p:cNvPicPr/>
          <p:nvPr/>
        </p:nvPicPr>
        <p:blipFill>
          <a:blip r:embed="rId2"/>
          <a:stretch/>
        </p:blipFill>
        <p:spPr>
          <a:xfrm>
            <a:off x="1144440" y="4689360"/>
            <a:ext cx="1698840" cy="14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281101"/>
          <p:cNvPicPr/>
          <p:nvPr/>
        </p:nvPicPr>
        <p:blipFill>
          <a:blip r:embed="rId3"/>
          <a:stretch/>
        </p:blipFill>
        <p:spPr>
          <a:xfrm>
            <a:off x="395280" y="404640"/>
            <a:ext cx="2370240" cy="204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j0280746"/>
          <p:cNvPicPr/>
          <p:nvPr/>
        </p:nvPicPr>
        <p:blipFill>
          <a:blip r:embed="rId4"/>
          <a:stretch/>
        </p:blipFill>
        <p:spPr>
          <a:xfrm>
            <a:off x="6827760" y="620640"/>
            <a:ext cx="17766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97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 пути к исти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197000"/>
          <a:ext cx="8497800" cy="5346720"/>
        </p:xfrm>
        <a:graphic>
          <a:graphicData uri="http://schemas.openxmlformats.org/drawingml/2006/table">
            <a:tbl>
              <a:tblPr/>
              <a:tblGrid>
                <a:gridCol w="5835600"/>
                <a:gridCol w="2117520"/>
                <a:gridCol w="5446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ы от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Есть ли у вас дома компьюте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Как вы думаете нужен ли компьютер в жизни челов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Могли бы вы отказаться от работы на компьютер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Как давно вы пользуетесь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3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Сколько времени вы проводите за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2 часов в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5 часов в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5 часов в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)Как вы работаете за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свещённой комна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мно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тусклом св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)Посещаете ли вы игровые сало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Согласились бы вы всё ваше свободное время уделять иг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зна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1099"/>
          <p:cNvSpPr/>
          <p:nvPr/>
        </p:nvSpPr>
        <p:spPr>
          <a:xfrm>
            <a:off x="1476360" y="73332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социологического опроса среди 8-9 кла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17600" y="247680"/>
          <a:ext cx="8435880" cy="6357960"/>
        </p:xfrm>
        <a:graphic>
          <a:graphicData uri="http://schemas.openxmlformats.org/drawingml/2006/table">
            <a:tbl>
              <a:tblPr/>
              <a:tblGrid>
                <a:gridCol w="6113520"/>
                <a:gridCol w="1788840"/>
                <a:gridCol w="533520"/>
              </a:tblGrid>
              <a:tr h="333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)Может ли компьютер заменить вам дру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зна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)После работы за компьютером затуманивается ли у вас з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ик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)Вызывает ли у вас работа за компьютером раздражение гла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ик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)Появляется ли у вас головная боль во время работы за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ик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)Имеются ли у вас нарушения з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)Если имеются, то связано ли их появление с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)Появляется ли у вас головная боль и усталость плеч и спи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ик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Таблица «Частота появления симптомов компьютерно-зрительного синдрома и заболеваний скелетно-мышечной                                      системы во время работы на П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844640"/>
          <a:ext cx="7246800" cy="4178160"/>
        </p:xfrm>
        <a:graphic>
          <a:graphicData uri="http://schemas.openxmlformats.org/drawingml/2006/table">
            <a:tbl>
              <a:tblPr/>
              <a:tblGrid>
                <a:gridCol w="3303720"/>
                <a:gridCol w="1314360"/>
                <a:gridCol w="1314360"/>
                <a:gridCol w="1314360"/>
              </a:tblGrid>
              <a:tr h="627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 появления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ная б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ражение гл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краснение, жжение, зу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з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 и усталость плеч и сп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6:18:08Z</dcterms:created>
  <dc:creator>Ученик</dc:creator>
  <dc:description/>
  <dc:language>en-US</dc:language>
  <cp:lastModifiedBy>Елена</cp:lastModifiedBy>
  <dcterms:modified xsi:type="dcterms:W3CDTF">2013-03-28T17:25:49Z</dcterms:modified>
  <cp:revision>20</cp:revision>
  <dc:subject/>
  <dc:title>Слайд 1</dc:title>
</cp:coreProperties>
</file>