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404-3266-493F-A9AB-D7528F50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AF5-6638-40ED-9C4F-7D787895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052-B7E6-4E00-8B6B-264DCB99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26E-7BAC-4B44-8D94-E68A1CEE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FEFB0-5CAF-46A6-9196-8692E8FD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58D96-FA3E-4E86-867E-D04AD2CD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BA3B1-A5B4-446A-8965-49E6C7E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77551-DE60-4E9F-9D6F-E56C540C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DF3D0-8CCE-49B3-BCF2-38C28541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CC033-E232-4AB2-A737-036F3AB5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B5C05-0C40-4850-9C70-5D9954A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C89-5964-40AF-9B96-CFF2DD98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B13A9-2A5B-47E4-AFCA-DE9D8E75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54D1A-6772-403D-BB2E-E582A17D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3E285-908A-4997-AD14-62486DDA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29F22-D256-4205-A9A9-F41DFCB6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02876-2C80-448D-BD06-F4C8241E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C23B-DBB9-4BD1-8498-FCA1DF91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87DD-0452-4855-BFCF-9087A21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EAB1-7F32-4A32-A1D3-35540526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49C6-4D04-476F-AFC5-6BD1437E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A26CB-F109-4A04-BC6F-3B0E648B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7E3-C18C-4D17-919A-167E3167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B45E-D562-448C-AC4A-CCDDBB61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7185-AC9F-4792-87C3-4F25AF4E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ACF7-C5D8-4332-8B55-C7A7F69D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29F1-A4E5-43A6-9C7B-01C9CE91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0484-18F1-45BF-92C4-75D01904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9ED0-FAB2-40DD-9B0F-3F6CEE3A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F037-D5E1-4AB5-80D9-33A1796F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3BB85-8504-46AE-884F-B494331B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513B2-7E40-43DF-B78E-6FBD4BD5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1429-0041-4127-97DD-1DB5A503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F91-84E0-4330-B8A6-001C14F5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50A8F-47D8-4984-8890-C941BA35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E9285-4DA8-46AD-B6EF-C8EBA35A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C2E0A-E5F7-4A45-A4ED-1C0D457D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7224B-E6E9-4472-884F-08A35237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964E-6130-4DC7-8124-93C2C66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A47C-D858-4A29-A16A-EBAB24B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A54A-E793-490F-8C57-37CFA356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EB7F-A4DE-4046-AE7F-91804FDA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8225-F7B1-4383-96EC-84D80E13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2BD-0B57-49CF-88BE-BF14F7B9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330-F0D1-4DDD-972A-B1EFF97D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EF6-8109-4CFC-A1A9-D8B02BCC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F1C-C365-44B9-9863-571115F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046-7985-46D2-9989-A9AA90B2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2696-384C-498C-BC16-C5EF03E86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4D7D-CA0C-4535-9F81-2D04D2B5547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0F04-31C9-4C16-BF48-C342568028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75A0-DA04-4E28-A83A-8C27E60D660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753080" cy="981000"/>
          </a:xfrm>
          <a:prstGeom prst="rect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Tahoma"/>
              </a:rPr>
              <a:t>Летний сад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47" name="Picture 4" descr="x_8bd2274a"/>
          <p:cNvPicPr/>
          <p:nvPr/>
        </p:nvPicPr>
        <p:blipFill>
          <a:blip r:embed="rId1"/>
          <a:stretch/>
        </p:blipFill>
        <p:spPr>
          <a:xfrm>
            <a:off x="1519200" y="1569960"/>
            <a:ext cx="5805360" cy="4103640"/>
          </a:xfrm>
          <a:prstGeom prst="rect">
            <a:avLst/>
          </a:prstGeom>
          <a:ln w="79200">
            <a:solidFill>
              <a:srgbClr val="ff0000"/>
            </a:solidFill>
            <a:miter/>
          </a:ln>
        </p:spPr>
      </p:pic>
      <p:sp>
        <p:nvSpPr>
          <p:cNvPr id="248" name="TextBox 1"/>
          <p:cNvSpPr/>
          <p:nvPr/>
        </p:nvSpPr>
        <p:spPr>
          <a:xfrm>
            <a:off x="324000" y="5877000"/>
            <a:ext cx="864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Работа ученика 6-в класса ГБОУ школы 594 Санкт-Петербург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Телебаева Владислава; учитель – Махова А.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551640" cy="863640"/>
          </a:xfrm>
          <a:prstGeom prst="rect">
            <a:avLst/>
          </a:prstGeom>
          <a:noFill/>
          <a:ln w="50760">
            <a:solidFill>
              <a:srgbClr val="ff9900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Интерьеры Летнего дворца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9" name="Picture 4" descr="ef7f5f0b03b1"/>
          <p:cNvPicPr/>
          <p:nvPr/>
        </p:nvPicPr>
        <p:blipFill>
          <a:blip r:embed="rId1"/>
          <a:stretch/>
        </p:blipFill>
        <p:spPr>
          <a:xfrm>
            <a:off x="1116000" y="1341360"/>
            <a:ext cx="7053120" cy="529128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346800" cy="800280"/>
          </a:xfrm>
          <a:prstGeom prst="rect">
            <a:avLst/>
          </a:prstGeom>
          <a:noFill/>
          <a:ln w="38160">
            <a:solidFill>
              <a:srgbClr val="ffcc00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Зелёный кабинет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1" name="Picture 4" descr="4563"/>
          <p:cNvPicPr/>
          <p:nvPr/>
        </p:nvPicPr>
        <p:blipFill>
          <a:blip r:embed="rId1"/>
          <a:stretch/>
        </p:blipFill>
        <p:spPr>
          <a:xfrm>
            <a:off x="1258920" y="1413000"/>
            <a:ext cx="6765840" cy="5075280"/>
          </a:xfrm>
          <a:prstGeom prst="rect">
            <a:avLst/>
          </a:prstGeom>
          <a:ln w="12384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040360" cy="927000"/>
          </a:xfrm>
          <a:prstGeom prst="rect">
            <a:avLst/>
          </a:prstGeom>
          <a:noFill/>
          <a:ln w="76320">
            <a:solidFill>
              <a:srgbClr val="ff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льня Петра I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3" name="Picture 4" descr="951"/>
          <p:cNvPicPr/>
          <p:nvPr/>
        </p:nvPicPr>
        <p:blipFill>
          <a:blip r:embed="rId1"/>
          <a:stretch/>
        </p:blipFill>
        <p:spPr>
          <a:xfrm>
            <a:off x="2484360" y="1268280"/>
            <a:ext cx="4281480" cy="535644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96000" cy="738360"/>
          </a:xfrm>
          <a:prstGeom prst="rect">
            <a:avLst/>
          </a:prstGeom>
          <a:noFill/>
          <a:ln w="76320">
            <a:solidFill>
              <a:srgbClr val="ff9999"/>
            </a:solidFill>
            <a:prstDash val="lg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льня Екатерины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5" name="Picture 4" descr="4569"/>
          <p:cNvPicPr/>
          <p:nvPr/>
        </p:nvPicPr>
        <p:blipFill>
          <a:blip r:embed="rId1"/>
          <a:stretch/>
        </p:blipFill>
        <p:spPr>
          <a:xfrm>
            <a:off x="1092240" y="1268280"/>
            <a:ext cx="7103880" cy="532944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905335_russia_pic"/>
          <p:cNvPicPr/>
          <p:nvPr/>
        </p:nvPicPr>
        <p:blipFill>
          <a:blip r:embed="rId1"/>
          <a:stretch/>
        </p:blipFill>
        <p:spPr>
          <a:xfrm>
            <a:off x="4643280" y="3716280"/>
            <a:ext cx="4319640" cy="295272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3240000"/>
          </a:xfrm>
          <a:prstGeom prst="rect">
            <a:avLst/>
          </a:prstGeom>
          <a:noFill/>
          <a:ln w="76320">
            <a:solidFill>
              <a:srgbClr val="ff9900"/>
            </a:solidFill>
            <a:prstDash val="lg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Ограда Летнего сада</a:t>
            </a: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Рассказывают, что однажды приплыл из Англии один знатный человек. Его корабль бросил якорь на Неве у Летнего сада. Всю ночь путешественник любовался чудесной оградой. А утром отправился домой, сказав, что самое прекрасное в Петербурге он уже видел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8" name="Picture 5" descr="115477_700"/>
          <p:cNvPicPr/>
          <p:nvPr/>
        </p:nvPicPr>
        <p:blipFill>
          <a:blip r:embed="rId2"/>
          <a:stretch/>
        </p:blipFill>
        <p:spPr>
          <a:xfrm>
            <a:off x="200160" y="3681360"/>
            <a:ext cx="5184720" cy="2411640"/>
          </a:xfrm>
          <a:prstGeom prst="rect">
            <a:avLst/>
          </a:prstGeom>
          <a:ln w="7308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2448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По тематике </a:t>
            </a:r>
            <a:r>
              <a:rPr b="1" i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скульптуру Летнего сада 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(статуи и бюсты) можно разделить на три большие группы: исторического , аллегорического и мифологического содержан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99640" y="3141360"/>
            <a:ext cx="302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стор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Александр Македон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4" descr="Piter065"/>
          <p:cNvPicPr/>
          <p:nvPr/>
        </p:nvPicPr>
        <p:blipFill>
          <a:blip r:embed="rId1"/>
          <a:stretch/>
        </p:blipFill>
        <p:spPr>
          <a:xfrm>
            <a:off x="6002280" y="2879640"/>
            <a:ext cx="2890800" cy="3862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067880" cy="1224000"/>
          </a:xfrm>
          <a:prstGeom prst="rect">
            <a:avLst/>
          </a:prstGeom>
          <a:noFill/>
          <a:ln w="76320">
            <a:solidFill>
              <a:srgbClr val="ff99cc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Аллегорические 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–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 Аллегория Искренности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3" name="Picture 4" descr="94494825834408"/>
          <p:cNvPicPr/>
          <p:nvPr/>
        </p:nvPicPr>
        <p:blipFill>
          <a:blip r:embed="rId1"/>
          <a:stretch/>
        </p:blipFill>
        <p:spPr>
          <a:xfrm>
            <a:off x="179280" y="2349360"/>
            <a:ext cx="5327640" cy="3870360"/>
          </a:xfrm>
          <a:prstGeom prst="rect">
            <a:avLst/>
          </a:prstGeom>
          <a:ln w="73080">
            <a:solidFill>
              <a:srgbClr val="996633"/>
            </a:solidFill>
            <a:miter/>
          </a:ln>
        </p:spPr>
      </p:pic>
      <p:pic>
        <p:nvPicPr>
          <p:cNvPr id="284" name="Picture 5" descr="1324584226_014"/>
          <p:cNvPicPr/>
          <p:nvPr/>
        </p:nvPicPr>
        <p:blipFill>
          <a:blip r:embed="rId2"/>
          <a:stretch/>
        </p:blipFill>
        <p:spPr>
          <a:xfrm>
            <a:off x="5724360" y="1844640"/>
            <a:ext cx="3183120" cy="475308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683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Мифологические</a:t>
            </a: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 – 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Амур и Психе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6" name="Picture 4" descr="foto2"/>
          <p:cNvPicPr/>
          <p:nvPr/>
        </p:nvPicPr>
        <p:blipFill>
          <a:blip r:embed="rId1"/>
          <a:stretch/>
        </p:blipFill>
        <p:spPr>
          <a:xfrm>
            <a:off x="1978200" y="1773360"/>
            <a:ext cx="4833720" cy="485928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767640" cy="574920"/>
          </a:xfrm>
          <a:prstGeom prst="rect">
            <a:avLst/>
          </a:prstGeom>
          <a:noFill/>
          <a:ln w="57240">
            <a:solidFill>
              <a:srgbClr val="ff9900"/>
            </a:solidFill>
            <a:prstDash val="lgDash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Памятник И.А. Крылов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8" name="Picture 4" descr="krylov-peterbyrg02"/>
          <p:cNvPicPr/>
          <p:nvPr/>
        </p:nvPicPr>
        <p:blipFill>
          <a:blip r:embed="rId1"/>
          <a:stretch/>
        </p:blipFill>
        <p:spPr>
          <a:xfrm>
            <a:off x="2411280" y="981000"/>
            <a:ext cx="4267440" cy="5688000"/>
          </a:xfrm>
          <a:prstGeom prst="rect">
            <a:avLst/>
          </a:prstGeom>
          <a:ln w="7308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2663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На одной из площадок Летнего сада в 1855 году был установлен памятник Ивану Андреевичу Крылову, созданный скульптором П.К. Клодтом. Великий русский баснописец изображён сидящим в окружении своих персонажей с раскрытой книгой в руках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90" name="Picture 4" descr="i-3888"/>
          <p:cNvPicPr/>
          <p:nvPr/>
        </p:nvPicPr>
        <p:blipFill>
          <a:blip r:embed="rId1"/>
          <a:stretch/>
        </p:blipFill>
        <p:spPr>
          <a:xfrm>
            <a:off x="1979640" y="3032280"/>
            <a:ext cx="4824360" cy="3617640"/>
          </a:xfrm>
          <a:prstGeom prst="rect">
            <a:avLst/>
          </a:prstGeom>
          <a:ln w="73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771280" y="2830320"/>
            <a:ext cx="626436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Летний сад - один из самых интересных и поэтических уголков города. Он был создан Петром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сего через год после основания Санкт-Петербурга - в 1704 году. Сейчас Летний сад выглядит совсем не так, как во время созд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4" descr="76434760_5864"/>
          <p:cNvPicPr/>
          <p:nvPr/>
        </p:nvPicPr>
        <p:blipFill>
          <a:blip r:embed="rId1"/>
          <a:stretch/>
        </p:blipFill>
        <p:spPr>
          <a:xfrm>
            <a:off x="179280" y="3284640"/>
            <a:ext cx="2521080" cy="32842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251" name="Picture 5" descr="Letnij%20Sad%201"/>
          <p:cNvPicPr/>
          <p:nvPr/>
        </p:nvPicPr>
        <p:blipFill>
          <a:blip r:embed="rId2"/>
          <a:stretch/>
        </p:blipFill>
        <p:spPr>
          <a:xfrm>
            <a:off x="3419640" y="189000"/>
            <a:ext cx="5438520" cy="26287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Летний сад по праву считается одним из символов города. Этот сад хранит историю не одного поколения горожан. Узнав о его возникновении и изменениях, в нём происходивших, мы смогли приблизиться к пониманию эпохи Петра I , его основным идеям и реформам, увидеть как зарождался, рос и изменялся город, а вместе с ним и са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68360"/>
          </a:xfrm>
          <a:prstGeom prst="rect">
            <a:avLst/>
          </a:prstGeom>
          <a:noFill/>
          <a:ln w="76320">
            <a:solidFill>
              <a:srgbClr val="ff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Использованные источники информации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Воскобойников. Санкт-Петербург. Иллюстрированная история для дет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митриева Е.В. СПб Выпуск первый. Пособие по истории гор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урс – ВикипедиЯ Свободная энциклопед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урс – Яндекс. Картин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616720" cy="630360"/>
          </a:xfrm>
          <a:prstGeom prst="rect">
            <a:avLst/>
          </a:prstGeom>
          <a:noFill/>
          <a:ln w="54000">
            <a:solidFill>
              <a:srgbClr val="ff6600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История Летнего сад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- Летний сад был создан в 1704 году. Нынешний сад выглядит совсем не так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как в петровские времена. Раньше он был гораздо больше и состоял  из трёх частей: Первого , Второго и Третьего Летнего са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ервый Летний сад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располагался от Невы до Поперечного канала (канал от Лебяжьей канавки в сторону Фонтанки- сейчас его не существует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FC1707F8-BEF7-4982-801A-9DB50D9FCAC3_w640_r1_s"/>
          <p:cNvPicPr/>
          <p:nvPr/>
        </p:nvPicPr>
        <p:blipFill>
          <a:blip r:embed="rId1"/>
          <a:stretch/>
        </p:blipFill>
        <p:spPr>
          <a:xfrm>
            <a:off x="250920" y="1413000"/>
            <a:ext cx="8613720" cy="4641840"/>
          </a:xfrm>
          <a:prstGeom prst="rect">
            <a:avLst/>
          </a:prstGeom>
          <a:ln w="60480">
            <a:solidFill>
              <a:srgbClr val="ffcc00"/>
            </a:solidFill>
            <a:prstDash val="lgDash"/>
            <a:miter/>
          </a:ln>
        </p:spPr>
      </p:pic>
      <p:sp>
        <p:nvSpPr>
          <p:cNvPr id="255" name="Rectangle 5"/>
          <p:cNvSpPr/>
          <p:nvPr/>
        </p:nvSpPr>
        <p:spPr>
          <a:xfrm>
            <a:off x="1116000" y="476280"/>
            <a:ext cx="6769080" cy="6426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Эта часть сада была парад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7920" y="188640"/>
            <a:ext cx="8686800" cy="2863800"/>
          </a:xfrm>
          <a:prstGeom prst="rect">
            <a:avLst/>
          </a:prstGeom>
          <a:noFill/>
          <a:ln w="50760">
            <a:solidFill>
              <a:srgbClr val="ffcc00"/>
            </a:solidFill>
            <a:prstDash val="dash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Здесь проводились ассамблеи- собрания и балы, во время которых можно было вести серьёзные беседы и развлекатьс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7" name="Picture 4" descr="09265b9705b34d42b230db0666701d04"/>
          <p:cNvPicPr/>
          <p:nvPr/>
        </p:nvPicPr>
        <p:blipFill>
          <a:blip r:embed="rId1"/>
          <a:stretch/>
        </p:blipFill>
        <p:spPr>
          <a:xfrm>
            <a:off x="179280" y="3860640"/>
            <a:ext cx="3888000" cy="2630520"/>
          </a:xfrm>
          <a:prstGeom prst="rect">
            <a:avLst/>
          </a:prstGeom>
          <a:ln w="60480">
            <a:solidFill>
              <a:srgbClr val="ffcc99"/>
            </a:solidFill>
            <a:miter/>
          </a:ln>
        </p:spPr>
      </p:pic>
      <p:pic>
        <p:nvPicPr>
          <p:cNvPr id="258" name="Picture 5" descr="ballroom-dance"/>
          <p:cNvPicPr/>
          <p:nvPr/>
        </p:nvPicPr>
        <p:blipFill>
          <a:blip r:embed="rId2"/>
          <a:stretch/>
        </p:blipFill>
        <p:spPr>
          <a:xfrm>
            <a:off x="4284720" y="3284640"/>
            <a:ext cx="4680000" cy="3403440"/>
          </a:xfrm>
          <a:prstGeom prst="rect">
            <a:avLst/>
          </a:prstGeom>
          <a:ln w="792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Meyveler_JPG"/>
          <p:cNvPicPr/>
          <p:nvPr/>
        </p:nvPicPr>
        <p:blipFill>
          <a:blip r:embed="rId1"/>
          <a:stretch/>
        </p:blipFill>
        <p:spPr>
          <a:xfrm>
            <a:off x="1547640" y="2840040"/>
            <a:ext cx="6027840" cy="3828960"/>
          </a:xfrm>
          <a:prstGeom prst="rect">
            <a:avLst/>
          </a:prstGeom>
          <a:ln w="82440">
            <a:solidFill>
              <a:srgbClr val="ff6600"/>
            </a:solidFill>
            <a:miter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24720" cy="26812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Второй Летний сад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 при Петре I получил название «царский огород». В саду выращивали яблони, груши, вишни, смородину, сажали овощ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28638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Здесь был вырыт Карпиев пруд, в котором, кроме карпов, плавали, доставленные с Дона и Волги, редкие породы рыб, утки, гуси и лебед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2" name="Picture 4" descr="5927d225-d322-45a9-981b-4d42fe5b525d"/>
          <p:cNvPicPr/>
          <p:nvPr/>
        </p:nvPicPr>
        <p:blipFill>
          <a:blip r:embed="rId1"/>
          <a:stretch/>
        </p:blipFill>
        <p:spPr>
          <a:xfrm>
            <a:off x="1619280" y="3062160"/>
            <a:ext cx="5689440" cy="3606840"/>
          </a:xfrm>
          <a:prstGeom prst="rect">
            <a:avLst/>
          </a:prstGeom>
          <a:ln w="792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2952720"/>
          </a:xfrm>
          <a:prstGeom prst="rect">
            <a:avLst/>
          </a:prstGeom>
          <a:noFill/>
          <a:ln w="79200">
            <a:solidFill>
              <a:srgbClr val="ff66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Третий Летний сад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 находился южнее реки Мойки (ныне территория вокруг Инженерного замка). Он простирался почти до Невского проспекта. Здесь находились оранжереи, в которых выращивали бананы и ананасы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4" name="Picture 4" descr="f_1"/>
          <p:cNvPicPr/>
          <p:nvPr/>
        </p:nvPicPr>
        <p:blipFill>
          <a:blip r:embed="rId1"/>
          <a:stretch/>
        </p:blipFill>
        <p:spPr>
          <a:xfrm>
            <a:off x="1692360" y="3284640"/>
            <a:ext cx="5543640" cy="35067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251784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Летний дворец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 был построен для царя Петра I, его жены Екатерины и их детей. Строил дворец любимый архитектор царя Доменико Трезини. Из окон дворца можно было увидеть домик Петра I на другом берегу Невы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6" name="Picture 4" descr="3191929_large"/>
          <p:cNvPicPr/>
          <p:nvPr/>
        </p:nvPicPr>
        <p:blipFill>
          <a:blip r:embed="rId1"/>
          <a:stretch/>
        </p:blipFill>
        <p:spPr>
          <a:xfrm>
            <a:off x="1403280" y="3581280"/>
            <a:ext cx="7416720" cy="3276720"/>
          </a:xfrm>
          <a:prstGeom prst="rect">
            <a:avLst/>
          </a:prstGeom>
          <a:ln w="85680">
            <a:solidFill>
              <a:srgbClr val="ff9900"/>
            </a:solidFill>
            <a:miter/>
          </a:ln>
        </p:spPr>
      </p:pic>
      <p:sp>
        <p:nvSpPr>
          <p:cNvPr id="267" name="Rectangle 5"/>
          <p:cNvSpPr/>
          <p:nvPr/>
        </p:nvSpPr>
        <p:spPr>
          <a:xfrm>
            <a:off x="250920" y="2996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шний вид (экстерьер) дворца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4:58:19Z</dcterms:created>
  <dc:creator>User</dc:creator>
  <dc:description/>
  <dc:language>en-US</dc:language>
  <cp:lastModifiedBy>Александра</cp:lastModifiedBy>
  <dcterms:modified xsi:type="dcterms:W3CDTF">2013-03-28T04:42:50Z</dcterms:modified>
  <cp:revision>13</cp:revision>
  <dc:subject/>
  <dc:title>Летний сад!</dc:title>
</cp:coreProperties>
</file>