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79E-54A5-456E-AFFC-508EA875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87BB-AC57-4286-8DFF-DD0AD138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623-FE56-4014-A1AF-BE68AD74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0EA-6992-43C2-897C-D5B4F624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75DDB-F49A-4C3D-A2A9-A68E0D99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0EAEC-5CA0-4950-A91B-4D071EF3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1D800-7CC2-4142-9A01-9CBAED60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6BF73-9AAA-496D-975A-86C2CDB2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8731E-9EE0-4291-A0AA-695D9A35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1F3D6-1849-40F2-9FFF-9A38642D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A7F79-103D-445D-BACF-242D3445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A89-4034-405B-ACAA-57D6085D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05847-AFA2-4CBA-AE08-86CFB3EA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D2EA0-5B26-42DE-B3C3-3E53AB44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891DE-DEC8-4548-897A-36CE7ECD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970AB-D7ED-460A-98D2-3A9A24CB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F22A5-E7DF-4C46-A97C-8369DD75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81144-1A6F-4788-936D-188519A6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A20F3-22EB-4AB5-946A-C4FADB65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2B372-208F-456E-A699-78E31BA9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AE167-5985-4EC2-880E-4EC20B3B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FD8FD-EE11-4D37-AB74-D59D5E09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494-0888-426D-9181-47B4DC90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A0690-227B-467F-83C8-BD3D5858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86714-F083-420F-99E7-14438F6B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7A847-D56F-4A12-BD8F-B3F27F5A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2CB71-8FAF-4C8B-B332-BBFF6820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531D1-33DD-4B24-858F-4531AB8D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29B0A-7E50-4936-9669-F1E1EEDF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DD68B-69F6-4A08-A6C4-92C04873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4ABA8-4FD7-4907-A283-B437B48D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D4748-342B-4CC8-BDC2-4701FD54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B894C-F5E0-45F0-82DD-05ABA3AB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913-9158-4635-8A5B-4352FD3F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CE641-EF7C-4C47-B2E4-E338ABB4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AD343-7DC7-4D32-9CCB-B3947586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CDAF0-0CDC-49B0-852B-9338A782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35F73-0B7D-4051-90AD-B38FA793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E5BBC-B9ED-4E5A-9BC9-EC20CF59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FE189-4A78-4744-A348-A828301A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E256E-2E6F-4179-92D7-0CDF01E7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FD255-D709-49D3-B531-9598C2F3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0B9EE-B04E-46CA-8DEF-0AC8C763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056-4424-443A-9D0B-85833AC8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DE3-70D5-4120-8983-90C9C701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50C2-20AF-4D28-B887-EA7178FE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F809-A380-4C2F-90E6-E9783344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99D-C22A-4382-A7DA-632F0616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9161-49AD-458B-A6A7-A0C65ECD27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2C2A-3F12-4403-9924-A3D44062AFA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5535-7D46-4CA8-9A6E-B69545B669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AFEC-F9BA-4A5C-A0C1-B3C78A24AB5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050560" y="333000"/>
            <a:ext cx="4753080" cy="981000"/>
          </a:xfrm>
          <a:prstGeom prst="rect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cc"/>
                </a:solidFill>
                <a:latin typeface="Tahoma"/>
              </a:rPr>
              <a:t>Летний сад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47" name="Picture 4" descr="x_8bd2274a"/>
          <p:cNvPicPr/>
          <p:nvPr/>
        </p:nvPicPr>
        <p:blipFill>
          <a:blip r:embed="rId1"/>
          <a:stretch/>
        </p:blipFill>
        <p:spPr>
          <a:xfrm>
            <a:off x="1519200" y="1569960"/>
            <a:ext cx="5805360" cy="4103640"/>
          </a:xfrm>
          <a:prstGeom prst="rect">
            <a:avLst/>
          </a:prstGeom>
          <a:ln w="79200">
            <a:solidFill>
              <a:srgbClr val="ff0000"/>
            </a:solidFill>
            <a:miter/>
          </a:ln>
        </p:spPr>
      </p:pic>
      <p:sp>
        <p:nvSpPr>
          <p:cNvPr id="248" name="TextBox 1"/>
          <p:cNvSpPr/>
          <p:nvPr/>
        </p:nvSpPr>
        <p:spPr>
          <a:xfrm>
            <a:off x="324000" y="5877000"/>
            <a:ext cx="864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Работа ученика 6-в класса ГБОУ школы 594 Санкт-Петербург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Телебаева Владислава; учитель – Махова А.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6551640" cy="863640"/>
          </a:xfrm>
          <a:prstGeom prst="rect">
            <a:avLst/>
          </a:prstGeom>
          <a:noFill/>
          <a:ln w="50760">
            <a:solidFill>
              <a:srgbClr val="ff9900"/>
            </a:solidFill>
            <a:prstDash val="dash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Интерьеры Летнего дворца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9" name="Picture 4" descr="ef7f5f0b03b1"/>
          <p:cNvPicPr/>
          <p:nvPr/>
        </p:nvPicPr>
        <p:blipFill>
          <a:blip r:embed="rId1"/>
          <a:stretch/>
        </p:blipFill>
        <p:spPr>
          <a:xfrm>
            <a:off x="1116000" y="1341360"/>
            <a:ext cx="7053120" cy="5291280"/>
          </a:xfrm>
          <a:prstGeom prst="rect">
            <a:avLst/>
          </a:prstGeom>
          <a:ln w="73080">
            <a:solidFill>
              <a:srgbClr val="ff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346800" cy="800280"/>
          </a:xfrm>
          <a:prstGeom prst="rect">
            <a:avLst/>
          </a:prstGeom>
          <a:noFill/>
          <a:ln w="38160">
            <a:solidFill>
              <a:srgbClr val="ffcc00"/>
            </a:solidFill>
            <a:prstDash val="dash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Зелёный кабинет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1" name="Picture 4" descr="4563"/>
          <p:cNvPicPr/>
          <p:nvPr/>
        </p:nvPicPr>
        <p:blipFill>
          <a:blip r:embed="rId1"/>
          <a:stretch/>
        </p:blipFill>
        <p:spPr>
          <a:xfrm>
            <a:off x="1258920" y="1413000"/>
            <a:ext cx="6765840" cy="5075280"/>
          </a:xfrm>
          <a:prstGeom prst="rect">
            <a:avLst/>
          </a:prstGeom>
          <a:ln w="123840">
            <a:solidFill>
              <a:srgbClr val="ff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5040360" cy="927000"/>
          </a:xfrm>
          <a:prstGeom prst="rect">
            <a:avLst/>
          </a:prstGeom>
          <a:noFill/>
          <a:ln w="76320">
            <a:solidFill>
              <a:srgbClr val="ff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Спальня Петра I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3" name="Picture 4" descr="951"/>
          <p:cNvPicPr/>
          <p:nvPr/>
        </p:nvPicPr>
        <p:blipFill>
          <a:blip r:embed="rId1"/>
          <a:stretch/>
        </p:blipFill>
        <p:spPr>
          <a:xfrm>
            <a:off x="2484360" y="1268280"/>
            <a:ext cx="4281480" cy="5356440"/>
          </a:xfrm>
          <a:prstGeom prst="rect">
            <a:avLst/>
          </a:prstGeom>
          <a:ln w="73080">
            <a:solidFill>
              <a:srgbClr val="ff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6696000" cy="738360"/>
          </a:xfrm>
          <a:prstGeom prst="rect">
            <a:avLst/>
          </a:prstGeom>
          <a:noFill/>
          <a:ln w="76320">
            <a:solidFill>
              <a:srgbClr val="ff9999"/>
            </a:solidFill>
            <a:prstDash val="lgDash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Спальня Екатерины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5" name="Picture 4" descr="4569"/>
          <p:cNvPicPr/>
          <p:nvPr/>
        </p:nvPicPr>
        <p:blipFill>
          <a:blip r:embed="rId1"/>
          <a:stretch/>
        </p:blipFill>
        <p:spPr>
          <a:xfrm>
            <a:off x="1092240" y="1268280"/>
            <a:ext cx="7103880" cy="5329440"/>
          </a:xfrm>
          <a:prstGeom prst="rect">
            <a:avLst/>
          </a:prstGeom>
          <a:ln w="73080">
            <a:solidFill>
              <a:srgbClr val="ff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905335_russia_pic"/>
          <p:cNvPicPr/>
          <p:nvPr/>
        </p:nvPicPr>
        <p:blipFill>
          <a:blip r:embed="rId1"/>
          <a:stretch/>
        </p:blipFill>
        <p:spPr>
          <a:xfrm>
            <a:off x="4643280" y="3716280"/>
            <a:ext cx="4319640" cy="2952720"/>
          </a:xfrm>
          <a:prstGeom prst="rect">
            <a:avLst/>
          </a:prstGeom>
          <a:ln w="73080">
            <a:solidFill>
              <a:srgbClr val="ff9999"/>
            </a:solidFill>
            <a:miter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3240000"/>
          </a:xfrm>
          <a:prstGeom prst="rect">
            <a:avLst/>
          </a:prstGeom>
          <a:noFill/>
          <a:ln w="76320">
            <a:solidFill>
              <a:srgbClr val="ff9900"/>
            </a:solidFill>
            <a:prstDash val="lgDash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eec94"/>
                </a:solidFill>
                <a:uFillTx/>
                <a:latin typeface="Times New Roman"/>
              </a:rPr>
              <a:t>Ограда Летнего сада</a:t>
            </a: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br>
              <a:rPr sz="2800"/>
            </a:b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Рассказывают, что однажды приплыл из Англии один знатный человек. Его корабль бросил якорь на Неве у Летнего сада. Всю ночь путешественник любовался чудесной оградой. А утром отправился домой, сказав, что самое прекрасное в Петербурге он уже видел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8" name="Picture 5" descr="115477_700"/>
          <p:cNvPicPr/>
          <p:nvPr/>
        </p:nvPicPr>
        <p:blipFill>
          <a:blip r:embed="rId2"/>
          <a:stretch/>
        </p:blipFill>
        <p:spPr>
          <a:xfrm>
            <a:off x="200160" y="3681360"/>
            <a:ext cx="5184720" cy="2411640"/>
          </a:xfrm>
          <a:prstGeom prst="rect">
            <a:avLst/>
          </a:prstGeom>
          <a:ln w="7308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820360" cy="2448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По тематике </a:t>
            </a:r>
            <a:r>
              <a:rPr b="1" i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скульптуру Летнего сада </a:t>
            </a: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(статуи и бюсты) можно разделить на три большие группы: исторического , аллегорического и мифологического содержания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99640" y="3141360"/>
            <a:ext cx="3024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Историческ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Александр Македон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Picture 4" descr="Piter065"/>
          <p:cNvPicPr/>
          <p:nvPr/>
        </p:nvPicPr>
        <p:blipFill>
          <a:blip r:embed="rId1"/>
          <a:stretch/>
        </p:blipFill>
        <p:spPr>
          <a:xfrm>
            <a:off x="6002280" y="2879640"/>
            <a:ext cx="2890800" cy="3862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067880" cy="1224000"/>
          </a:xfrm>
          <a:prstGeom prst="rect">
            <a:avLst/>
          </a:prstGeom>
          <a:noFill/>
          <a:ln w="76320">
            <a:solidFill>
              <a:srgbClr val="ff99cc"/>
            </a:solidFill>
            <a:prstDash val="dash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eec94"/>
                </a:solidFill>
                <a:uFillTx/>
                <a:latin typeface="Times New Roman"/>
              </a:rPr>
              <a:t>Аллегорические </a:t>
            </a: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–</a:t>
            </a:r>
            <a:br>
              <a:rPr sz="4000"/>
            </a:b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 Аллегория Искренности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83" name="Picture 4" descr="94494825834408"/>
          <p:cNvPicPr/>
          <p:nvPr/>
        </p:nvPicPr>
        <p:blipFill>
          <a:blip r:embed="rId1"/>
          <a:stretch/>
        </p:blipFill>
        <p:spPr>
          <a:xfrm>
            <a:off x="179280" y="2349360"/>
            <a:ext cx="5327640" cy="3870360"/>
          </a:xfrm>
          <a:prstGeom prst="rect">
            <a:avLst/>
          </a:prstGeom>
          <a:ln w="73080">
            <a:solidFill>
              <a:srgbClr val="996633"/>
            </a:solidFill>
            <a:miter/>
          </a:ln>
        </p:spPr>
      </p:pic>
      <p:pic>
        <p:nvPicPr>
          <p:cNvPr id="284" name="Picture 5" descr="1324584226_014"/>
          <p:cNvPicPr/>
          <p:nvPr/>
        </p:nvPicPr>
        <p:blipFill>
          <a:blip r:embed="rId2"/>
          <a:stretch/>
        </p:blipFill>
        <p:spPr>
          <a:xfrm>
            <a:off x="5724360" y="1844640"/>
            <a:ext cx="3183120" cy="4753080"/>
          </a:xfrm>
          <a:prstGeom prst="rect">
            <a:avLst/>
          </a:prstGeom>
          <a:ln w="73080">
            <a:solidFill>
              <a:srgbClr val="ff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6836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eec94"/>
                </a:solidFill>
                <a:uFillTx/>
                <a:latin typeface="Times New Roman"/>
              </a:rPr>
              <a:t>Мифологические</a:t>
            </a: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 – </a:t>
            </a:r>
            <a:br>
              <a:rPr sz="4400"/>
            </a:b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Амур и Психея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86" name="Picture 4" descr="foto2"/>
          <p:cNvPicPr/>
          <p:nvPr/>
        </p:nvPicPr>
        <p:blipFill>
          <a:blip r:embed="rId1"/>
          <a:stretch/>
        </p:blipFill>
        <p:spPr>
          <a:xfrm>
            <a:off x="1978200" y="1773360"/>
            <a:ext cx="4833720" cy="4859280"/>
          </a:xfrm>
          <a:prstGeom prst="rect">
            <a:avLst/>
          </a:prstGeom>
          <a:ln w="73080">
            <a:solidFill>
              <a:srgbClr val="ff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6767640" cy="574920"/>
          </a:xfrm>
          <a:prstGeom prst="rect">
            <a:avLst/>
          </a:prstGeom>
          <a:noFill/>
          <a:ln w="57240">
            <a:solidFill>
              <a:srgbClr val="ff9900"/>
            </a:solidFill>
            <a:prstDash val="lgDash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Памятник И.А. Крылову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88" name="Picture 4" descr="krylov-peterbyrg02"/>
          <p:cNvPicPr/>
          <p:nvPr/>
        </p:nvPicPr>
        <p:blipFill>
          <a:blip r:embed="rId1"/>
          <a:stretch/>
        </p:blipFill>
        <p:spPr>
          <a:xfrm>
            <a:off x="2411280" y="981000"/>
            <a:ext cx="4267440" cy="5688000"/>
          </a:xfrm>
          <a:prstGeom prst="rect">
            <a:avLst/>
          </a:prstGeom>
          <a:ln w="7308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2663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На одной из площадок Летнего сада в 1855 году был установлен памятник Ивану Андреевичу Крылову, созданный скульптором П.К. Клодтом. Великий русский баснописец изображён сидящим в окружении своих персонажей с раскрытой книгой в руках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90" name="Picture 4" descr="i-3888"/>
          <p:cNvPicPr/>
          <p:nvPr/>
        </p:nvPicPr>
        <p:blipFill>
          <a:blip r:embed="rId1"/>
          <a:stretch/>
        </p:blipFill>
        <p:spPr>
          <a:xfrm>
            <a:off x="1979640" y="3032280"/>
            <a:ext cx="4824360" cy="3617640"/>
          </a:xfrm>
          <a:prstGeom prst="rect">
            <a:avLst/>
          </a:prstGeom>
          <a:ln w="730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771280" y="2830320"/>
            <a:ext cx="626436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Летний сад - один из самых интересных и поэтических уголков города. Он был создан Петром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сего через год после основания Санкт-Петербурга - в 1704 году. Сейчас Летний сад выглядит совсем не так, как во время созда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4" descr="76434760_5864"/>
          <p:cNvPicPr/>
          <p:nvPr/>
        </p:nvPicPr>
        <p:blipFill>
          <a:blip r:embed="rId1"/>
          <a:stretch/>
        </p:blipFill>
        <p:spPr>
          <a:xfrm>
            <a:off x="179280" y="3284640"/>
            <a:ext cx="2521080" cy="3284280"/>
          </a:xfrm>
          <a:prstGeom prst="rect">
            <a:avLst/>
          </a:prstGeom>
          <a:ln w="50760">
            <a:solidFill>
              <a:srgbClr val="ff9900"/>
            </a:solidFill>
            <a:miter/>
          </a:ln>
        </p:spPr>
      </p:pic>
      <p:pic>
        <p:nvPicPr>
          <p:cNvPr id="251" name="Picture 5" descr="Letnij%20Sad%201"/>
          <p:cNvPicPr/>
          <p:nvPr/>
        </p:nvPicPr>
        <p:blipFill>
          <a:blip r:embed="rId2"/>
          <a:stretch/>
        </p:blipFill>
        <p:spPr>
          <a:xfrm>
            <a:off x="3419640" y="189000"/>
            <a:ext cx="5438520" cy="262872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Летний сад по праву считается одним из символов города. Этот сад хранит историю не одного поколения горожан. Узнав о его возникновении и изменениях, в нём происходивших, мы смогли приблизиться к пониманию эпохи Петра I , его основным идеям и реформам, увидеть как зарождался, рос и изменялся город, а вместе с ним и сад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68360"/>
          </a:xfrm>
          <a:prstGeom prst="rect">
            <a:avLst/>
          </a:prstGeom>
          <a:noFill/>
          <a:ln w="76320">
            <a:solidFill>
              <a:srgbClr val="ff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Arial"/>
              </a:rPr>
              <a:t>Использованные источники информации: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Воскобойников. Санкт-Петербург. Иллюстрированная история для дет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митриева Е.В. СПб Выпуск первый. Пособие по истории гор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нет ресурс – ВикипедиЯ Свободная энциклопед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нет ресурс – Яндекс. Картин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616720" cy="630360"/>
          </a:xfrm>
          <a:prstGeom prst="rect">
            <a:avLst/>
          </a:prstGeom>
          <a:noFill/>
          <a:ln w="54000">
            <a:solidFill>
              <a:srgbClr val="ff6600"/>
            </a:solidFill>
            <a:prstDash val="dash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История Летнего сада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- Летний сад был создан в 1704 году. Нынешний сад выглядит совсем не так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как в петровские времена. Раньше он был гораздо больше и состоял  из трёх частей: Первого , Второго и Третьего Летнего са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ервый Летний сад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располагался от Невы до Поперечного канала (канал от Лебяжьей канавки в сторону Фонтанки- сейчас его не существует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FC1707F8-BEF7-4982-801A-9DB50D9FCAC3_w640_r1_s"/>
          <p:cNvPicPr/>
          <p:nvPr/>
        </p:nvPicPr>
        <p:blipFill>
          <a:blip r:embed="rId1"/>
          <a:stretch/>
        </p:blipFill>
        <p:spPr>
          <a:xfrm>
            <a:off x="250920" y="1413000"/>
            <a:ext cx="8613720" cy="4641840"/>
          </a:xfrm>
          <a:prstGeom prst="rect">
            <a:avLst/>
          </a:prstGeom>
          <a:ln w="60480">
            <a:solidFill>
              <a:srgbClr val="ffcc00"/>
            </a:solidFill>
            <a:prstDash val="lgDash"/>
            <a:miter/>
          </a:ln>
        </p:spPr>
      </p:pic>
      <p:sp>
        <p:nvSpPr>
          <p:cNvPr id="255" name="Rectangle 5"/>
          <p:cNvSpPr/>
          <p:nvPr/>
        </p:nvSpPr>
        <p:spPr>
          <a:xfrm>
            <a:off x="1116000" y="476280"/>
            <a:ext cx="6769080" cy="64260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eec94"/>
                </a:solidFill>
                <a:latin typeface="Times New Roman"/>
              </a:rPr>
              <a:t>Эта часть сада была парад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77920" y="188640"/>
            <a:ext cx="8686800" cy="2863800"/>
          </a:xfrm>
          <a:prstGeom prst="rect">
            <a:avLst/>
          </a:prstGeom>
          <a:noFill/>
          <a:ln w="50760">
            <a:solidFill>
              <a:srgbClr val="ffcc00"/>
            </a:solidFill>
            <a:prstDash val="dash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Здесь проводились ассамблеи- собрания и балы, во время которых можно было вести серьёзные беседы и развлекатьс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7" name="Picture 4" descr="09265b9705b34d42b230db0666701d04"/>
          <p:cNvPicPr/>
          <p:nvPr/>
        </p:nvPicPr>
        <p:blipFill>
          <a:blip r:embed="rId1"/>
          <a:stretch/>
        </p:blipFill>
        <p:spPr>
          <a:xfrm>
            <a:off x="179280" y="3860640"/>
            <a:ext cx="3888000" cy="2630520"/>
          </a:xfrm>
          <a:prstGeom prst="rect">
            <a:avLst/>
          </a:prstGeom>
          <a:ln w="60480">
            <a:solidFill>
              <a:srgbClr val="ffcc99"/>
            </a:solidFill>
            <a:miter/>
          </a:ln>
        </p:spPr>
      </p:pic>
      <p:pic>
        <p:nvPicPr>
          <p:cNvPr id="258" name="Picture 5" descr="ballroom-dance"/>
          <p:cNvPicPr/>
          <p:nvPr/>
        </p:nvPicPr>
        <p:blipFill>
          <a:blip r:embed="rId2"/>
          <a:stretch/>
        </p:blipFill>
        <p:spPr>
          <a:xfrm>
            <a:off x="4284720" y="3284640"/>
            <a:ext cx="4680000" cy="3403440"/>
          </a:xfrm>
          <a:prstGeom prst="rect">
            <a:avLst/>
          </a:prstGeom>
          <a:ln w="792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Meyveler_JPG"/>
          <p:cNvPicPr/>
          <p:nvPr/>
        </p:nvPicPr>
        <p:blipFill>
          <a:blip r:embed="rId1"/>
          <a:stretch/>
        </p:blipFill>
        <p:spPr>
          <a:xfrm>
            <a:off x="1547640" y="2840040"/>
            <a:ext cx="6027840" cy="3828960"/>
          </a:xfrm>
          <a:prstGeom prst="rect">
            <a:avLst/>
          </a:prstGeom>
          <a:ln w="82440">
            <a:solidFill>
              <a:srgbClr val="ff6600"/>
            </a:solidFill>
            <a:miter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24720" cy="268128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eec94"/>
                </a:solidFill>
                <a:uFillTx/>
                <a:latin typeface="Times New Roman"/>
              </a:rPr>
              <a:t>Второй Летний сад</a:t>
            </a: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 при Петре I получил название «царский огород». В саду выращивали яблони, груши, вишни, смородину, сажали овощ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28638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Здесь был вырыт Карпиев пруд, в котором, кроме карпов, плавали, доставленные с Дона и Волги, редкие породы рыб, утки, гуси и лебед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2" name="Picture 4" descr="5927d225-d322-45a9-981b-4d42fe5b525d"/>
          <p:cNvPicPr/>
          <p:nvPr/>
        </p:nvPicPr>
        <p:blipFill>
          <a:blip r:embed="rId1"/>
          <a:stretch/>
        </p:blipFill>
        <p:spPr>
          <a:xfrm>
            <a:off x="1619280" y="3062160"/>
            <a:ext cx="5689440" cy="3606840"/>
          </a:xfrm>
          <a:prstGeom prst="rect">
            <a:avLst/>
          </a:prstGeom>
          <a:ln w="7920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640720" cy="2952720"/>
          </a:xfrm>
          <a:prstGeom prst="rect">
            <a:avLst/>
          </a:prstGeom>
          <a:noFill/>
          <a:ln w="79200">
            <a:solidFill>
              <a:srgbClr val="ff6600"/>
            </a:solidFill>
            <a:prstDash val="sys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Третий Летний сад</a:t>
            </a: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 находился южнее реки Мойки (ныне территория вокруг Инженерного замка). Он простирался почти до Невского проспекта. Здесь находились оранжереи, в которых выращивали бананы и ананасы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4" name="Picture 4" descr="f_1"/>
          <p:cNvPicPr/>
          <p:nvPr/>
        </p:nvPicPr>
        <p:blipFill>
          <a:blip r:embed="rId1"/>
          <a:stretch/>
        </p:blipFill>
        <p:spPr>
          <a:xfrm>
            <a:off x="1692360" y="3284640"/>
            <a:ext cx="5543640" cy="35067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928000" cy="2517840"/>
          </a:xfrm>
          <a:prstGeom prst="rect">
            <a:avLst/>
          </a:prstGeom>
          <a:noFill/>
          <a:ln w="38160">
            <a:solidFill>
              <a:srgbClr val="ff6600"/>
            </a:solidFill>
            <a:prstDash val="dash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Летний дворец</a:t>
            </a: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 был построен для царя Петра I, его жены Екатерины и их детей. Строил дворец любимый архитектор царя Доменико Трезини. Из окон дворца можно было увидеть домик Петра I на другом берегу Невы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6" name="Picture 4" descr="3191929_large"/>
          <p:cNvPicPr/>
          <p:nvPr/>
        </p:nvPicPr>
        <p:blipFill>
          <a:blip r:embed="rId1"/>
          <a:stretch/>
        </p:blipFill>
        <p:spPr>
          <a:xfrm>
            <a:off x="1403280" y="3581280"/>
            <a:ext cx="7416720" cy="3276720"/>
          </a:xfrm>
          <a:prstGeom prst="rect">
            <a:avLst/>
          </a:prstGeom>
          <a:ln w="85680">
            <a:solidFill>
              <a:srgbClr val="ff9900"/>
            </a:solidFill>
            <a:miter/>
          </a:ln>
        </p:spPr>
      </p:pic>
      <p:sp>
        <p:nvSpPr>
          <p:cNvPr id="267" name="Rectangle 5"/>
          <p:cNvSpPr/>
          <p:nvPr/>
        </p:nvSpPr>
        <p:spPr>
          <a:xfrm>
            <a:off x="250920" y="29962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ешний вид (экстерьер) дворца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4:58:19Z</dcterms:created>
  <dc:creator>User</dc:creator>
  <dc:description/>
  <dc:language>en-US</dc:language>
  <cp:lastModifiedBy>Александра</cp:lastModifiedBy>
  <dcterms:modified xsi:type="dcterms:W3CDTF">2013-03-28T04:42:50Z</dcterms:modified>
  <cp:revision>13</cp:revision>
  <dc:subject/>
  <dc:title>Летний сад!</dc:title>
</cp:coreProperties>
</file>