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38C-B8AA-4FE4-A347-9A5495BE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80C-03D6-4BD1-9583-DCBEEB9D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7A9-24E7-4427-87EC-C4D27749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5AC-F325-4973-89A3-EBB99E09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75F0-A172-4A9A-9790-7DC7E78A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BBC3-38C3-49D2-9E84-DD8BEBD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6B45-D63B-4FE7-B005-1482ADA5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DD9F-37B2-4480-A6AE-6BE55651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0E7C-C51F-4012-8C6D-03B47A33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0942-4198-4CC6-A086-2BF1D40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A9DD-92E5-486B-86C8-F5999B0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AF8-33A0-4E48-A98A-C6CEFA5D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C901-1065-4737-9562-99B08825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C50C-6C50-40BA-A289-1345F49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27A2-7D15-4338-869C-CBEA0850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ACF-CC34-4529-BDC4-13991ED9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724A-D4FA-46A7-9D82-E5DB6F75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30E-C660-475B-8282-BF5CB6EF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490-D320-4CC4-9A1B-261C3BD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112-42EF-4980-B7E2-FE03D22F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5B1-AD30-48E7-9913-40A04284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F52-E8BF-4621-B046-8FFA445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83C-BFA6-4C0C-B31E-1F69E7F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ADF-0D67-4D8E-B83A-D52D9330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0473-070C-4BAD-BA57-0CF805C134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7367-D36F-4FBC-9E3E-3C8B85EC10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КОНКУРСНАЯ РАБО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4380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РАЙОННОГО КОНКУР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СОЦИАЛЬНОЙ РЕКЛАМ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«НОВОЕ ПОКОЛЕНИ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на те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«Курение глазами биолог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олнила учениц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1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У «Гимназия №3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ятлова Ал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уководитель: Бабич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рянск,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86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Механизм действия никотина на органи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через подожженный и медленно тлеющий табак всасывается воздух, кислород усиливает его горение и возгонку веществ находящихся в табаке, которые поступают в лег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ачный дым содержит  аммиак  - образует нашатырный спирт, раздражающий слизистые оболочки и приводящий к бронхиту куриль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церогенные углеводороды (канцер – рак) - бензпирен и дибензпирен - способствуют возникновению злокачественных опухо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диоактивный полоний (изотоп с атомным числом 210 и периодом полураспада 138 дне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инильную кислоту - усиливает кислородное голодание орган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еровод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ачный дего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Сигаретный фильтр задерживает не более 20 % вредных веществ из табачного дыма, вдыхаемого курильщ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Табачный дым имеет температуру 55 – 60</a:t>
            </a:r>
            <a:r>
              <a:rPr b="1" lang="ru-RU" sz="2000" spc="-1" strike="noStrike" baseline="30000">
                <a:solidFill>
                  <a:srgbClr val="ffff99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С, что  тоже ведет к разрушительному действию на орган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44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80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272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496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44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604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654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-274680"/>
            <a:ext cx="7543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НИКОТИН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Нервный яд. В малых дозах возбуждает нервные клетки, способствует учащению дыхания и сердцебиения, нарушению ритма сердечных сокращений, тошноте и рво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В больших дозах тормозит, а затем парализует деятельность клеток ЦНС в том числе вегетативной. Расстройство нервной системы проявляется понижением трудоспособности, дрожанием рук, ослаблением памя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Никотин воздействует и на железы внутренней секреции, в частности на надпочечники, которые при этом выделяют в кровь гормон - адреналин, вызывающий спазм сосудов, повышение артериального давления и учащение сердечных сокращ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Пагубно влияя на половые железы, никотин способствует развитию у мужчин импот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Никотин увеличивает выделение желудочного сока, что вызывает ноющие боли под ложечкой, тошноту и рвоту. Эти признаки могут быть проявлением и гастрита, язвенной болезни желуд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0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98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98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394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УГЛЕКИСЛЫЙ ГАЗ И ОКИСЬ УГЛЕРОДА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При поступлении в организм окиси углерода развивается кислородное голодание, за счет того, что угарный газ легче соединяется с гемоглобином, чем кислород и доставляется с кровью ко всем тканям и органам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АССИВНОЕ КУР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За последние десятилетия ученые выяснили, что у людей не курящих стали обнаруживаться болезни, присущие курильщик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Причина? Не курящие люди длительное время находились в помещении вместе с курильщи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При курении в организм человека проникает 20-25% ядовитых веществ, а 50% вместе с выдыхаемым дымом поступают в воздух. А им дышат окружающие. Получается, что не курящие «курят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20078" b="0"/>
          <a:stretch/>
        </p:blipFill>
        <p:spPr>
          <a:xfrm>
            <a:off x="1258920" y="1773360"/>
            <a:ext cx="6337440" cy="48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circl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16080"/>
            <a:ext cx="8359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ИНТЕРВЬЮ СО ЗНАМЕНИТЫМИ КУРИЛЬЩИКАМ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2160720" cy="244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50" name=""/>
          <p:cNvSpPr txBox="1"/>
          <p:nvPr/>
        </p:nvSpPr>
        <p:spPr>
          <a:xfrm>
            <a:off x="250920" y="3573360"/>
            <a:ext cx="2952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. Дюма - младш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1916280"/>
            <a:ext cx="544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… я отложил свою сигарету и поклялся, что никогда не буду курить. Эту клятву я твердо сдержал и вполне убежден, что табак вредит мозгу так же определенно, как алкого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514600" cy="3809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826920" y="4653000"/>
            <a:ext cx="1914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.Н. Толст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844640"/>
            <a:ext cx="54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Я стал другим человеком. Просиживаю по пяти часов кряду за работой, встаю совершенно свежим, а прежде, когда курил, чувствовал усталость, головокружения, тошноту, туман в голов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2952720" cy="4032360"/>
          </a:xfrm>
          <a:prstGeom prst="rect">
            <a:avLst/>
          </a:prstGeom>
          <a:ln w="34920">
            <a:solidFill>
              <a:srgbClr val="ffff00"/>
            </a:solidFill>
            <a:miter/>
          </a:ln>
        </p:spPr>
      </p:pic>
      <p:sp>
        <p:nvSpPr>
          <p:cNvPr id="156" name=""/>
          <p:cNvSpPr txBox="1"/>
          <p:nvPr/>
        </p:nvSpPr>
        <p:spPr>
          <a:xfrm>
            <a:off x="826920" y="4941720"/>
            <a:ext cx="1752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П. Ботк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060640"/>
            <a:ext cx="4537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Если бы я не курил, то прожил бы ещ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 – 15 лет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КАК УБЕРЕЧЬСЯ ОТ ПРИСТРАСТИЯ К ТОКСИКОМАНИЧЕСКИМ ВЕЩЕСТВАМ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нать о  вреде наркотических и токсикоманических веще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риентироваться на здоровый образ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анять свое свободно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случае беды не бояться обращаться к квалифицированным специалист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47640" y="-212400"/>
            <a:ext cx="6120000" cy="71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ЗДОРОВЬЕ – ЭТО ЗДОРОВО!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Ну кто же будет спорить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Здоровье – это здорово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И кто иное мнение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Станет утверждать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Вот если бы реклам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Пропели дружно хором вы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- Пора куренье, граждане,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Немедленно бросать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Вы будете красивей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Вы станете умне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Померяетесь силой –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Окажитесь сильне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Мир солнечным покажется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На долгие года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Когда здоровью скажет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Tahoma"/>
              </a:rPr>
              <a:t>Решительное ДА!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ыцин Артем, ученик 9 «В»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54348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У «Гимназия №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771720" cy="544500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ПРЕЗЕНТАЦИЮ ВЫПОЛНИЛ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УЧЕНИЦА 11 «А» КЛАС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ДЯТЛОВА АЛ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РУКОВОДИТЕЛЬ  И КООРДИНА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РАБО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УЧИТЕЛЬ БИ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БАБИЧ ЕЛЕНА ВИКТО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3166920" cy="201600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48000" cy="1944720"/>
          </a:xfrm>
          <a:prstGeom prst="rect">
            <a:avLst/>
          </a:prstGeom>
          <a:ln w="34920">
            <a:solidFill>
              <a:srgbClr val="ff0066"/>
            </a:solidFill>
            <a:prstDash val="sysDot"/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1915920"/>
            <a:ext cx="5508360" cy="2881080"/>
          </a:xfrm>
          <a:prstGeom prst="rect">
            <a:avLst/>
          </a:prstGeom>
          <a:noFill/>
          <a:ln w="44280">
            <a:solidFill>
              <a:srgbClr val="ff0000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КУРЕНИЕ </a:t>
            </a:r>
            <a:br>
              <a:rPr sz="6000"/>
            </a:b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ГЛАЗАМИ </a:t>
            </a:r>
            <a:br>
              <a:rPr sz="6000"/>
            </a:br>
            <a:r>
              <a:rPr b="1" lang="en-US" sz="6000" spc="-1" strike="noStrike">
                <a:solidFill>
                  <a:srgbClr val="ffff66"/>
                </a:solidFill>
                <a:latin typeface="Tahoma"/>
              </a:rPr>
              <a:t>БИОЛОГА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-959040"/>
            <a:ext cx="73137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Трудно себе представить то благотворное изменение, которое произошло бы во всей жизни людской, если бы люди перестали одурманивать и отравлять себя водкой, вином, табаком и опиум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Monotype Corsiva"/>
              </a:rPr>
              <a:t>Л. Н. Толстой.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1421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В медицине состояние временной или хронической интоксикации, вызываемое употреблением натуральных или синтетических токсичных веществ называется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НАРКОМАНИЕЙ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(потребление веществ официально признанных наркотиками – героин, опиум, ЛСД, кокаин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ТОКСИКОМАНИЯ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- распространена гораздо шире – нюхание бензина, клея, ядовитых средств, злоупотребление лекарственными препаратами, алкоголем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никотином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Вещество признается наркотическим и токсикоманическим по трем критериям: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медицинскому, социальному и правовому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. Т.е. оказывает действие на ЦНС, изменяет поведение человека, их употребление принимает опасные для общества масштаб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72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«Высадившись на берег, мы отправились в глубь острова. Нас встретило множество почти голых людей, очень стройных и сильных, которые шли из своих деревень с горящими головешками в руках и травой, дым которой они пили. Иные несли одну большую сигару и при каждой остановке зажигали ее. Затем каждый делал из нее 3 - 4 тяжки, выпуская дым через ноздр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Туземцы угощали путешественников табаком, причем сначала курили сами, потом передавали трубку гостям. Отказ от «трубки мира» хозяева рассматривали как недружелюбные действия. Испанцы же не хотели портить отношения с туземцами. Вероятно, эти испанцы и были первыми европейцами, пристрастившимися к курен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2951280" cy="3527280"/>
          </a:xfrm>
          <a:prstGeom prst="rect">
            <a:avLst/>
          </a:prstGeom>
          <a:ln w="41400">
            <a:solidFill>
              <a:srgbClr val="ffff00"/>
            </a:solidFill>
            <a:prstDash val="sysDot"/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780000" y="189000"/>
            <a:ext cx="5113080" cy="439236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4249800" cy="2592360"/>
          </a:xfrm>
          <a:prstGeom prst="rect">
            <a:avLst/>
          </a:prstGeom>
          <a:ln w="38160">
            <a:solidFill>
              <a:srgbClr val="ffff00"/>
            </a:solidFill>
            <a:prstDash val="sysDot"/>
            <a:miter/>
          </a:ln>
        </p:spPr>
      </p:pic>
      <p:sp>
        <p:nvSpPr>
          <p:cNvPr id="120" name=""/>
          <p:cNvSpPr/>
          <p:nvPr/>
        </p:nvSpPr>
        <p:spPr>
          <a:xfrm>
            <a:off x="493236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Экспедиция Х.Колумб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в Амери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1557360"/>
            <a:ext cx="43671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урильщики завезли семена табака и стали его культивиров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1120" y="259920"/>
            <a:ext cx="8642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аспространение табака встречало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транах сильное противодействие.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урции курение табак рассматрив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как нарушение законов Корана,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иноватых сажали на ко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Персидский шах Аббас приказ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жечь торговца, который завез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абак в военный лагер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имский папа Урбан VII отлучал от церк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ех, кто курил или нюхал табак, а однаж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 курение сигар монахов жив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муровал в сте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871640" cy="280836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</p:spTree>
  </p:cSld>
  <p:transition spd="slow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921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В Россию табак, по-видимому, попал в конце XVI век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тоже был встречен не очень приветливо. За ку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лагалось весьма серьезное наказание - от палоч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ударов и порки кнутом до отрезания носа и ушей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сылки в Сибир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Торговцев табаком ждала смертная казн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Но постепенно запрет на кур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отменялся в одной за другой стран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 годами к вредной привычке приобщил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мужчины, женщины, молодые люд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дростки и даже де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Возникла мода на курение: сигареты, мо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ридают девушкам особую элегантность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а юношам мужествен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Обязательно принадлежностью теле- и киногероев ст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игар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3486240" cy="439236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736720" cy="187164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279520" cy="3024360"/>
          </a:xfrm>
          <a:prstGeom prst="rect">
            <a:avLst/>
          </a:prstGeom>
          <a:ln w="38160">
            <a:solidFill>
              <a:srgbClr val="ff0066"/>
            </a:solidFill>
            <a:prstDash val="sysDot"/>
            <a:miter/>
          </a:ln>
        </p:spPr>
      </p:pic>
    </p:spTree>
  </p:cSld>
  <p:transition spd="slow">
    <p:circl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Никотин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– яд растительного происхожде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Птицы (воробьи, голуби) погибают, если к их клюву всего лишь поднести стеклянную палочку, смоченную никотином. Кролик погибает от 1/4 капли никотина, собака - от 1/2 капли. Для человека смертельная доза никотина составляет от 50 до 100 мг, или 2-3 кап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Именно такая доза поступает ежедневно в кровь после выкуривания 20-25 сигарет (в одной сигарете содержится примерно 6-8 мг никотина, из которых 3-4 мг попадает в кров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773360"/>
            <a:ext cx="7850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Курильщик не погибает по тому, что доза вводиться постепенно, не в один прием. К тому же, часть никотина нейтрализует формальдегид - другой яд, содержащийся в табаке. В течение 30 лет такой курильщик выкуривает примерно 20000 сигарет, или 160 кг табака, поглощая в среднем 800 г никот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Систематическое поглощение небольших, не смертельных доз никотина вызывает привычку, пристрастие к кур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Никотин включает в процессы обмена, происходящие в организме человека, и становиться необходимым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851920"/>
            <a:ext cx="91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Капля никотина убивает лошад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2952720" cy="28083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p:transition spd="slow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ТАТИСТИЧЕСКИЕ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ДАННЫ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2314080"/>
            <a:ext cx="8209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По сравнению 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некурящими длительно курящие люд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20 раз чаще страдают от рака легк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13 раз чаще имеют стенокард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12 раз чаще умирают от инфаркта миокар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В 10 раз чаще имеют язву желу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Каждый седьмой страдает от облитерирующего эндартери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024360" cy="2663640"/>
          </a:xfrm>
          <a:prstGeom prst="rect">
            <a:avLst/>
          </a:prstGeom>
          <a:ln w="41400">
            <a:solidFill>
              <a:srgbClr val="ff0066"/>
            </a:solidFill>
            <a:prstDash val="sysDot"/>
            <a:miter/>
          </a:ln>
        </p:spPr>
      </p:pic>
    </p:spTree>
  </p:cSld>
  <p:transition spd="slow">
    <p:circl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820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Химический состав табачного дыма и физиологическое влияние его на организм человек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852280"/>
            <a:ext cx="835344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В дыме таба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содержится боле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30 ядовитых вещест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3:18:25Z</dcterms:created>
  <dc:creator/>
  <dc:description/>
  <dc:language>en-US</dc:language>
  <cp:lastModifiedBy>Елена</cp:lastModifiedBy>
  <dcterms:modified xsi:type="dcterms:W3CDTF">2013-03-28T19:03:12Z</dcterms:modified>
  <cp:revision>5</cp:revision>
  <dc:subject/>
  <dc:title>КОНКУРСНАЯ РАБОТА</dc:title>
</cp:coreProperties>
</file>