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AE7-4C37-49E6-9313-5AFD4C5B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0C8-E758-443D-BE2B-136E1357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67E-F834-4A9C-B62D-3A1D4CA7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F61-8259-4022-8D6E-7052C19E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1A84-FAB7-4779-A8AB-A7B5C927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E13C-1689-4316-AA29-47FF29E3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49DC-6FEE-430C-95D4-62CEE1BD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0DCC-A7C8-416C-B447-5E59C67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2206-6D0F-47DA-80FE-36031F7E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3873-5274-4E43-AFCB-CA8FEE4A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E45C-BC9E-4880-AD52-669F0C2E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2B2-0CC8-434C-922F-BB809504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3442-06C8-4B65-A3D2-6E67F06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6389-E49A-45E5-AE61-D2D563CD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7F03-55CE-4B0B-9499-867B5C64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D45D-59A9-4E99-A76B-18437D44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CB83-E27E-45CB-B17F-0743685C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D3739-B6DE-4EF0-96E3-08E56B63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466E-D4F6-441F-AF47-CF38EC8C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94F7-49A7-4856-AB49-FA43A5FE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0C93-63D5-43EF-A366-030C02C6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7AC5-EEE7-427C-8978-7D914B99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A9B-35AE-46A0-A9D2-1270C722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C117-4C56-42CE-853D-3A14A1D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5824-3D69-4A7C-98DE-AF639A2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DE9F-D971-42D5-AF06-2099DAA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8ABD-E184-4BDD-A80D-1F4384B9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A050-95B1-44A5-B7E4-C9EB4E79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D63C-C186-4E7D-BF58-C141CB83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90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776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0732-FFCA-4079-967C-CE730032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095-D315-4268-AF0C-6B911433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356-31B7-417E-8854-CFB5205E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39D-583D-4689-B52E-979C0B6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773-F34F-4E7A-A74E-8569E63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014-7718-410A-8A22-53D3F52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F20-5A0D-4146-ABEC-0CF1F6A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E8B-EB0A-42CB-81AD-7BA988AD0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6723-19B4-4A75-AF66-55BEC7B5E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5966-28DB-46BB-B0E5-750B3C5B8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81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cc"/>
                </a:solidFill>
                <a:latin typeface="Arial"/>
              </a:rPr>
              <a:t>Лабораторная работа</a:t>
            </a:r>
            <a:br>
              <a:rPr sz="4400"/>
            </a:br>
            <a:r>
              <a:rPr b="0" lang="ru-RU" sz="4400" spc="-1" strike="noStrike">
                <a:solidFill>
                  <a:srgbClr val="ffcccc"/>
                </a:solidFill>
                <a:latin typeface="Arial"/>
              </a:rPr>
              <a:t>«Определение названия растений»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11280" y="5445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оведение 5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cc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комиться с многообразием растени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ь растения по различным признак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1. Определите название растений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1981080" cy="2692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87640" y="2276640"/>
            <a:ext cx="576360" cy="576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194472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80000" y="2349360"/>
            <a:ext cx="43200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2349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87640" y="3357720"/>
            <a:ext cx="1897200" cy="280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40000" y="4724280"/>
            <a:ext cx="503280" cy="576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859280" y="3500280"/>
            <a:ext cx="1778040" cy="2665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77080" y="4797360"/>
            <a:ext cx="431640" cy="503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2. Определение органов растений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019320" cy="410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77800" y="1484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5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2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042560" y="4508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440" y="424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40000" y="2205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32560" y="200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21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7160" y="301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3645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2520" y="382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971640" y="50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941720"/>
            <a:ext cx="3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64000" y="1989000"/>
            <a:ext cx="2725920" cy="403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86160" y="1557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148000" y="530064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48560" y="549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24720" y="3499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55360" y="33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020000" y="198900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425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948360" y="3141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77600" y="293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812000" y="501336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288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3280" y="5805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42040" y="582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256536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7920" y="242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4365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8876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3. Назовите растения, занесенные в красную книгу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865160" cy="25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771640" y="1484280"/>
            <a:ext cx="167796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1617840" cy="254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763640" y="4005360"/>
            <a:ext cx="158904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211640" y="3789360"/>
            <a:ext cx="178740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804000" y="3860640"/>
            <a:ext cx="1644840" cy="244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42920" y="3716280"/>
            <a:ext cx="360360" cy="289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5877000"/>
            <a:ext cx="360360" cy="288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357720"/>
            <a:ext cx="360360" cy="358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84720" y="587700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4000" y="5950080"/>
            <a:ext cx="288720" cy="358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2722680" cy="20415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4. Назовите лекарственные растения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1280" y="981000"/>
            <a:ext cx="2665440" cy="20019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627280" y="2060640"/>
            <a:ext cx="1685880" cy="2333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2641680" cy="19843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859280" y="2060640"/>
            <a:ext cx="1785960" cy="2376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5724360" y="4437000"/>
            <a:ext cx="2808360" cy="19591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3419640" y="4437000"/>
            <a:ext cx="2049120" cy="195264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11280" y="263700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602136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01080" y="256536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400536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72360" y="602136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602136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440" y="6491160"/>
            <a:ext cx="56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ие из них встречаются на вашем огород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ходе лабораторной работы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8:33:19Z</dcterms:created>
  <dc:creator>Танечка</dc:creator>
  <dc:description/>
  <dc:language>en-US</dc:language>
  <cp:lastModifiedBy>Танечка</cp:lastModifiedBy>
  <dcterms:modified xsi:type="dcterms:W3CDTF">2013-03-20T20:11:52Z</dcterms:modified>
  <cp:revision>2</cp:revision>
  <dc:subject/>
  <dc:title>Лабораторная работа «Определение названия растений»</dc:title>
</cp:coreProperties>
</file>