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07E-3C26-4D21-935C-B917D842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489-440C-46B5-9DB6-B9BB7548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B35A-5630-437A-A8F7-B80B624B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679-290F-4494-85E0-6D80E065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B50E-69D8-4D7C-9455-6CAB855B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6F75-6C64-4771-99DC-E735DB6C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4A5C-09D9-41E5-9D77-2FCCEB56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7B0E-54CA-451E-862B-43C379A3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A850-619B-47A4-A8D2-6A7D0A29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3835-1A93-4EB5-9A38-8FF88639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220D-2BCB-4DD5-9B9B-1687063E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775-5458-4081-960C-895837B6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33A9-83E0-4FB7-BF85-E83C2E9A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F3DA-08F5-425A-9547-4DCD6B7E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E2CA-B441-477B-B2CD-B77BB1CF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DC2F-940E-4B53-B3BB-246B3C00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E879-2D03-4528-B310-AC40BF26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0E517-D603-42C1-A527-54258F20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BF7B6-0502-4B86-910D-9A4CB291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5E4D7-2A53-4DDC-9CC8-171E5FBB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71370-0E27-48AC-B666-1C3DCC88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F35EA-2B2D-4D2F-AC4F-12DF70E2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4F9-256E-4185-AF49-27FBDA71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A5490-DAF4-4C85-8188-6286333A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9779A-ED52-46A8-8888-150C993E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4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003FF-2C56-4DEB-9628-B6C2AF6C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6BDE4-780D-4024-AE1A-B65271A6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D7626-4D46-4F43-A543-D0045A84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4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3952A-348B-4412-AC11-15624874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9012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776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3AF6A-CEE5-4919-9796-1D1D2942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1596-A05C-423A-B59B-ED341174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199-5D3F-4A3D-B2B5-CCB3B179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B92-1452-4568-83C2-8121095C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4F3-93AA-4E50-B215-5FC598C2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F1D-02E0-45E3-9A0D-F9C8BB7B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D70-2D2F-4574-ACC7-95C44CF8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0237-3AC5-4301-838B-F00BBBC89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341E-60B3-4C78-AE9D-98F671E61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9DF0-7B85-401F-B159-4944E25930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9818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cc"/>
                </a:solidFill>
                <a:latin typeface="Arial"/>
              </a:rPr>
              <a:t>Лабораторная работа</a:t>
            </a:r>
            <a:br>
              <a:rPr sz="4400"/>
            </a:br>
            <a:r>
              <a:rPr b="0" lang="ru-RU" sz="4400" spc="-1" strike="noStrike">
                <a:solidFill>
                  <a:srgbClr val="ffcccc"/>
                </a:solidFill>
                <a:latin typeface="Arial"/>
              </a:rPr>
              <a:t>«Определение названия растений»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411280" y="5445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родоведение 5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cc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накомиться с многообразием растени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ределить растения по различным признака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1. Определите название растений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1981080" cy="2692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87640" y="2276640"/>
            <a:ext cx="576360" cy="576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227640" y="1052640"/>
            <a:ext cx="1944720" cy="2592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580000" y="2349360"/>
            <a:ext cx="432000" cy="5050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80000" y="2349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987640" y="3357720"/>
            <a:ext cx="1897200" cy="280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340000" y="4724280"/>
            <a:ext cx="503280" cy="576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859280" y="3500280"/>
            <a:ext cx="1778040" cy="2665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77080" y="4797360"/>
            <a:ext cx="431640" cy="503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2. Определение органов растений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3019320" cy="4103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77800" y="1484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99"/>
                </a:solidFill>
                <a:latin typeface="Arial"/>
              </a:rPr>
              <a:t>1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4581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216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042560" y="450828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440" y="4241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340000" y="220500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32560" y="2004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16360" y="321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7160" y="3017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1280" y="3645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32520" y="3822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971640" y="50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4941720"/>
            <a:ext cx="3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64000" y="1989000"/>
            <a:ext cx="2725920" cy="4032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086160" y="15573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99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148000" y="530064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48560" y="549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524720" y="349992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55360" y="3327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020000" y="198900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4252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948360" y="3141720"/>
            <a:ext cx="1008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77600" y="293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812000" y="501336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10288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643280" y="5805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42040" y="582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059280" y="2565360"/>
            <a:ext cx="504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7920" y="242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88000" y="436572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88760" y="416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3. Назовите растения, занесенные в красную книгу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865160" cy="259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771640" y="1484280"/>
            <a:ext cx="1677960" cy="24480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580000" y="1484280"/>
            <a:ext cx="1617840" cy="2548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1763640" y="4005360"/>
            <a:ext cx="1589040" cy="2305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4211640" y="3789360"/>
            <a:ext cx="1787400" cy="24480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6804000" y="3860640"/>
            <a:ext cx="1644840" cy="244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042920" y="3716280"/>
            <a:ext cx="360360" cy="2890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3640" y="5877000"/>
            <a:ext cx="360360" cy="288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357720"/>
            <a:ext cx="360360" cy="358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84720" y="5877000"/>
            <a:ext cx="358920" cy="36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44000" y="5950080"/>
            <a:ext cx="288720" cy="358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796000" y="907920"/>
            <a:ext cx="2722680" cy="204156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4. Назовите лекарственные растения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11280" y="981000"/>
            <a:ext cx="2665440" cy="200196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627280" y="2060640"/>
            <a:ext cx="1685880" cy="233352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539640" y="4437000"/>
            <a:ext cx="2641680" cy="198432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4859280" y="2060640"/>
            <a:ext cx="1785960" cy="237636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5724360" y="4437000"/>
            <a:ext cx="2808360" cy="195912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3419640" y="4437000"/>
            <a:ext cx="2049120" cy="195264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611280" y="2637000"/>
            <a:ext cx="358560" cy="36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6021360"/>
            <a:ext cx="358560" cy="36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01080" y="2565360"/>
            <a:ext cx="358560" cy="36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9280" y="4076640"/>
            <a:ext cx="358920" cy="36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4005360"/>
            <a:ext cx="358920" cy="36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172360" y="6021360"/>
            <a:ext cx="358920" cy="36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6021360"/>
            <a:ext cx="358560" cy="36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440" y="6491160"/>
            <a:ext cx="56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кие из них встречаются на вашем огород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ходе лабораторной работы 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8:33:19Z</dcterms:created>
  <dc:creator>Танечка</dc:creator>
  <dc:description/>
  <dc:language>en-US</dc:language>
  <cp:lastModifiedBy>Танечка</cp:lastModifiedBy>
  <dcterms:modified xsi:type="dcterms:W3CDTF">2013-03-20T20:11:52Z</dcterms:modified>
  <cp:revision>2</cp:revision>
  <dc:subject/>
  <dc:title>Лабораторная работа «Определение названия растений»</dc:title>
</cp:coreProperties>
</file>