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3.jpeg" ContentType="image/jpeg"/>
  <Override PartName="/ppt/media/image12.png" ContentType="image/png"/>
  <Override PartName="/ppt/media/image27.jpeg" ContentType="image/jpeg"/>
  <Override PartName="/ppt/media/image33.jpeg" ContentType="image/jpeg"/>
  <Override PartName="/ppt/media/image6.jpeg" ContentType="image/jpeg"/>
  <Override PartName="/ppt/media/image25.gif" ContentType="image/gif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24.gif" ContentType="image/gif"/>
  <Override PartName="/ppt/media/image32.jpeg" ContentType="image/jpe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1F3-3B53-4113-8B1A-B9601A43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7F4-9E8F-482F-B1F7-05988F59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E9366-DC5E-408D-B0EF-F268A28D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99858-35A7-46C8-A588-BDA51DAE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64058-E50D-4B89-AC65-F41EDE77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62E69-A9C4-4C71-B976-1F1AFB95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B662C-CCC3-46A4-AE14-1916A693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3EADA-1F12-4F82-B734-E4A3D00E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A7FBE-7B30-4747-98C4-ABB50A4A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69D8A-E143-4A02-A82D-8C628E26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10F4B-65F6-4B07-82AC-6D11C71E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90C20-9A81-4C96-81CE-229BB56F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8716-DACB-4426-BD04-9FB08A27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EC78E-7A20-4EAB-890F-14674A90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7B6C1-D50B-47A8-B379-13F4A2BB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EF492-9703-421E-AA2F-594BBD0B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CBCBE-686B-4EBC-91C4-08225196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67FA8-1B2C-4D29-A81A-59EEFBB6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8E5D8-D45E-4468-8051-E70063D9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24FD6-8F7E-4156-947F-A223DFE8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BD153-A442-4834-AC47-50AEF785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E7887-0DED-48EC-BFA4-09BC7D40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ECC98-5B15-4763-B5C9-D50A1D7C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257-5615-4E76-895E-C8A74902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6C6B9-B4DB-49F6-96FE-14273424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EF863-BF4A-4B3B-8C6E-4E68340B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44F3F-D59D-4E7E-9A23-848E063B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DB7D4-7E1F-4F78-B2F3-F6D4C491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668A5-D078-4079-94A3-BEC3E75C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9612D-7489-499C-9379-F221BF9C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78E97-A103-4B55-810B-383BAF37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FF2BE-A880-4E21-BCAF-260E6EDC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E32FA-891B-42A8-90D6-A1ABA525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23DB4-2C2F-46A8-93DD-A65200CC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B642-7D16-4DD6-B023-9080F579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CBFAC-60D0-4754-AEAB-CCC9D84C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4504D-0E0E-4B26-923B-6CF8230A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82CF1-4E6E-46F9-B766-BEDDE596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187E-D44F-4725-BBDD-95A58480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897E-2416-483B-A6F5-FF461A96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7A31-5411-48E9-9E43-6F1AD249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5194-05EF-4F72-861D-574BA44A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A8A1-5195-4FCF-AD77-F4869303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69F7-E8FD-453F-AF91-694B0062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1DF-A5EC-4BF8-AEEA-1237FA70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D968-1409-4E42-A5BE-0139D995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6071-E341-4AB5-8D23-0BF99F5E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0290-3A98-423D-B791-33B4DEBF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8361-BFED-42FF-BD90-1B7307B9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E1F2-022A-4FC3-9F6C-308B9A02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18B8F-92AB-41AE-A77E-722AEAA0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D62FC-4350-4643-BAB4-0BE5B632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4C479-B906-40F4-A42A-30A0E6D9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CCB19-8E5A-489D-B72D-440A371E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B3C22-BC44-4D29-966C-F608B9BE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23B-94A3-4697-8D47-36A362E2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D01DF-1DFC-41F8-9715-EF25A322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69E25-DE81-4350-8DB1-B9134778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A87B4-92B5-4F18-9063-5C54386B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54BAA-E5B8-4201-B366-7E63AE8F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71726-A5FB-4404-94A3-6FE1BD4D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65CEC-E8C2-4AFC-86AC-6DCEAB2F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885C8-1074-4C2A-8233-91A32A68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FF70A-580B-46FA-9BAC-F24F051D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D7BE8-9141-486D-94B6-63829787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5BF42-DEC7-4100-AE64-14E24CF4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6BCB-2A81-4F50-B6E5-FB1119A3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12DCE-10EF-4998-82D3-98CA0992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697F3-1A1E-460C-8CC4-1490B756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7A89B-06C5-4E18-86AA-70E680E2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51502-7C7E-45B1-A164-5EC445D0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36107-AA34-4974-9970-DE1F1343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A40AF-894C-4CFB-8A6A-F9F4E2BA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5CB0A-8C67-4C6B-B959-83243FAC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7334D-EFD3-4EAA-95FA-4BFB87C7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04B33-FD87-4D99-82DC-BC62266C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B0F8E-8C7E-4EE3-9896-78B76384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AA8-3017-4E01-97F4-981EA362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03C56-A68E-4D03-BEAA-13EB31E5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70B3F-A16D-4AE9-9B8E-F07DA11A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93BC3-23A6-418F-B61B-6574227A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52A2A-1615-4B68-8139-B9417A09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9E930-3131-4D16-B78A-DA8AC0F3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00E45-D6B4-4950-9A87-69A039F2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08F76-5263-4128-AE8F-431D52D0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94A34-489E-4303-BACB-AF939ED4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4FC0B-F4EE-40C1-9C38-401D15C9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462B8-51F5-4BEE-AB1B-1698D626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166-A692-4F4B-8894-63A5A004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9716E-5631-42DF-90FA-CA648165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9583B-6EB4-4F0F-A2D2-7AC737D7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D00AF-9928-4B2A-B680-76C78921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31D00-FDB0-4901-AA8A-A483EA66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79C3D-7741-4FB1-97E7-FAAFCF66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DF20D-95DC-4C0E-BE9D-0747E577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1407C-88FD-45BE-884D-CB7E6E02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868EE-9B58-441B-B361-AF07B586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347D5-45A3-4285-8A6B-A36C95D9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4D180-FCBC-4FD7-AB49-B7287974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F05-AFA4-4CA0-A29F-CD7D42C7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73198-DE98-41D8-9EA3-4BA132C1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FADB1-74AC-42FA-B2A3-9A0637B9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DCC90-E6CA-483B-AF2E-C910CCC3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66FE0-C27E-412C-AC30-73C8AB98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026D0-85EC-4B0F-A418-2AE3BD5F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940C6-1D59-40E8-9BDD-74BF429D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6F603-B247-4589-A598-192AEC3C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89441-E6CD-41BE-B3A0-BDB7AA75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E1480-8C31-410E-84C1-90AD322A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B0F01-6D23-4771-BD86-D212319D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46F-8647-4278-912C-147FA0F8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B46B8-6888-4A99-93A6-534CEFFC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C3C7F-77ED-4A7C-B88F-575DD4CE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C101E-1DA8-44C1-B273-0BBB728A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36F93-DA84-432D-8E6E-211138B1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188F9-BB89-4AEA-8A46-B31D6868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B0CBD-7019-4C8F-BD70-35EF3E3F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9BCD5-9574-4950-9F22-0B9254DA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DD9FD-3617-466E-8121-9E2D52A4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FC962-3DC1-417B-A61E-43B164D9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9CCA8-4DDA-4F60-957B-7777A36C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DB3-C44D-4E14-ACF5-71556009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10142-41D5-438A-9007-0CF4F75D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8A4F0-D78B-4DEC-86E5-F4DF584C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E181C-0144-4D9D-AD6E-45980650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3D0CA-C75E-4D9C-A4C9-BBE7B4BE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7E8AC-0800-44A1-AFC8-C7EAF278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508D2-D652-4C3A-A222-D5F9834E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F9445-F205-47D6-B9AC-F95F0B6B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A2E69-DC3B-4D94-AD8B-B8DD274C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D8D71-EA2E-4ADD-9E29-7B129FA2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9A1DD-5B56-4C6D-A18E-A4A04BCC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73.xml"/><Relationship Id="rId32" Type="http://schemas.openxmlformats.org/officeDocument/2006/relationships/slideLayout" Target="../slideLayouts/slideLayout74.xml"/><Relationship Id="rId33" Type="http://schemas.openxmlformats.org/officeDocument/2006/relationships/slideLayout" Target="../slideLayouts/slideLayout75.xml"/><Relationship Id="rId34" Type="http://schemas.openxmlformats.org/officeDocument/2006/relationships/slideLayout" Target="../slideLayouts/slideLayout76.xml"/><Relationship Id="rId35" Type="http://schemas.openxmlformats.org/officeDocument/2006/relationships/slideLayout" Target="../slideLayouts/slideLayout77.xml"/><Relationship Id="rId36" Type="http://schemas.openxmlformats.org/officeDocument/2006/relationships/slideLayout" Target="../slideLayouts/slideLayout78.xml"/><Relationship Id="rId37" Type="http://schemas.openxmlformats.org/officeDocument/2006/relationships/slideLayout" Target="../slideLayouts/slideLayout79.xml"/><Relationship Id="rId38" Type="http://schemas.openxmlformats.org/officeDocument/2006/relationships/slideLayout" Target="../slideLayouts/slideLayout80.xml"/><Relationship Id="rId39" Type="http://schemas.openxmlformats.org/officeDocument/2006/relationships/slideLayout" Target="../slideLayouts/slideLayout81.xml"/><Relationship Id="rId40" Type="http://schemas.openxmlformats.org/officeDocument/2006/relationships/slideLayout" Target="../slideLayouts/slideLayout82.xml"/><Relationship Id="rId41" Type="http://schemas.openxmlformats.org/officeDocument/2006/relationships/slideLayout" Target="../slideLayouts/slideLayout83.xml"/><Relationship Id="rId4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B69E-82A3-448A-87E4-0D21B69D0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555A-5E17-4AFA-A2E4-76621B4377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05AC-27DC-482E-A820-5A7B48E718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BA2F-A2E7-4258-8684-3A2C7C63B31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9DA0-C86F-465E-A943-A5919BA96BE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36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38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04CA-029A-4C1C-BA57-84C351A8A1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83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85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5644-DEB1-442E-BD42-EDFCFE20AF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3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3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4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7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E7CD-B6E8-423B-9D01-16B2815743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2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3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4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5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5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7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A824-4E38-4B12-8033-A84D07D3B4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1"/>
    <p:sldLayoutId id="2147483728" r:id="rId32"/>
    <p:sldLayoutId id="2147483729" r:id="rId33"/>
    <p:sldLayoutId id="2147483730" r:id="rId34"/>
    <p:sldLayoutId id="2147483731" r:id="rId35"/>
    <p:sldLayoutId id="2147483732" r:id="rId36"/>
    <p:sldLayoutId id="2147483733" r:id="rId37"/>
    <p:sldLayoutId id="2147483734" r:id="rId38"/>
    <p:sldLayoutId id="2147483735" r:id="rId39"/>
    <p:sldLayoutId id="2147483736" r:id="rId40"/>
    <p:sldLayoutId id="2147483737" r:id="rId41"/>
    <p:sldLayoutId id="2147483738" r:id="rId4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B7B5-E94D-42FC-B5FE-BE11E05CE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8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10B7-1BF3-455D-B73B-766AF3A3F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4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8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6.jpeg"/><Relationship Id="rId4" Type="http://schemas.openxmlformats.org/officeDocument/2006/relationships/image" Target="../media/image1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14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9999"/>
                </a:solidFill>
                <a:latin typeface="Arial"/>
              </a:rPr>
              <a:t>Леса нашего края</a:t>
            </a:r>
            <a:r>
              <a:rPr b="1" lang="en-US" sz="4800" spc="-1" strike="noStrike">
                <a:solidFill>
                  <a:srgbClr val="ccffcc"/>
                </a:solidFill>
                <a:latin typeface="Arial"/>
              </a:rPr>
              <a:t> </a:t>
            </a:r>
            <a:br>
              <a:rPr sz="4800"/>
            </a:b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окружающий мир </a:t>
            </a:r>
            <a:br>
              <a:rPr sz="3200"/>
            </a:b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241128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Учитель </a:t>
            </a:r>
            <a:br>
              <a:rPr sz="3200"/>
            </a:b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МБОУ «Нижнетигинская ООШ» Юферова Т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684360" y="765000"/>
            <a:ext cx="8135640" cy="5180400"/>
          </a:xfrm>
          <a:prstGeom prst="rect">
            <a:avLst/>
          </a:prstGeom>
          <a:solidFill>
            <a:srgbClr val="ff33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e00"/>
                </a:solidFill>
                <a:latin typeface="Arial"/>
              </a:rPr>
              <a:t>Любите лес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e00"/>
                </a:solidFill>
                <a:latin typeface="Arial"/>
              </a:rPr>
              <a:t>Будьте его другом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e00"/>
                </a:solidFill>
                <a:latin typeface="Arial"/>
              </a:rPr>
              <a:t>Берегите наш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e00"/>
                </a:solidFill>
                <a:latin typeface="Arial"/>
              </a:rPr>
              <a:t>богатство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rot="19584600">
            <a:off x="7813800" y="5229360"/>
            <a:ext cx="1014120" cy="546120"/>
          </a:xfrm>
          <a:custGeom>
            <a:avLst/>
            <a:gdLst>
              <a:gd name="textAreaLeft" fmla="*/ 253440 w 1014120"/>
              <a:gd name="textAreaRight" fmla="*/ 760680 w 1014120"/>
              <a:gd name="textAreaTop" fmla="*/ 136440 h 546120"/>
              <a:gd name="textAreaBottom" fmla="*/ 530280 h 546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и и задачи: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33cc33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Arial"/>
              </a:rPr>
              <a:t>Охарактеризовать растительность ле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cc33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Arial"/>
              </a:rPr>
              <a:t>Научить распознавать растения ле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cc33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Arial"/>
              </a:rPr>
              <a:t>Сформировать представление о необычайной красоте леса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Ярусы лес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1471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ре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стар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старни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939960" cy="107964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3564000" y="1989000"/>
            <a:ext cx="1309680" cy="104328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3"/>
          <a:stretch/>
        </p:blipFill>
        <p:spPr>
          <a:xfrm>
            <a:off x="5076720" y="2924280"/>
            <a:ext cx="1077840" cy="14954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4"/>
          <a:stretch/>
        </p:blipFill>
        <p:spPr>
          <a:xfrm>
            <a:off x="6300720" y="4076640"/>
            <a:ext cx="1241640" cy="144144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5"/>
          <a:stretch/>
        </p:blipFill>
        <p:spPr>
          <a:xfrm>
            <a:off x="7667640" y="5373720"/>
            <a:ext cx="1260360" cy="10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6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6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6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6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3564000" y="1197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Дерев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116000" y="3429000"/>
            <a:ext cx="2600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a00"/>
                    </a:gs>
                    <a:gs pos="50000">
                      <a:srgbClr val="00c400"/>
                    </a:gs>
                    <a:gs pos="100000">
                      <a:srgbClr val="005a00"/>
                    </a:gs>
                  </a:gsLst>
                  <a:lin ang="5400000"/>
                </a:gradFill>
                <a:latin typeface="Arial"/>
              </a:rPr>
              <a:t>ЛЕТ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a00"/>
                  </a:gs>
                  <a:gs pos="50000">
                    <a:srgbClr val="00c400"/>
                  </a:gs>
                  <a:gs pos="100000">
                    <a:srgbClr val="005a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067280" y="2565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400"/>
                </a:solidFill>
                <a:latin typeface="Arial"/>
              </a:rPr>
              <a:t>ЛИ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877080" y="256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400"/>
                </a:solidFill>
                <a:latin typeface="Arial"/>
              </a:rPr>
              <a:t>ХВ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4427640" y="3141720"/>
            <a:ext cx="1358640" cy="158256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7093080" y="3141720"/>
            <a:ext cx="1204920" cy="160956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 txBox="1"/>
          <p:nvPr/>
        </p:nvSpPr>
        <p:spPr>
          <a:xfrm>
            <a:off x="1187280" y="5084640"/>
            <a:ext cx="2305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ИМО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4"/>
          <a:stretch/>
        </p:blipFill>
        <p:spPr>
          <a:xfrm>
            <a:off x="7093080" y="5013360"/>
            <a:ext cx="1231920" cy="16365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 "/>
          <p:cNvPicPr/>
          <p:nvPr/>
        </p:nvPicPr>
        <p:blipFill>
          <a:blip r:embed="rId5"/>
          <a:stretch/>
        </p:blipFill>
        <p:spPr>
          <a:xfrm>
            <a:off x="4500720" y="4869000"/>
            <a:ext cx="1295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" autoRev="1" fill="hold"/>
                                        <p:tgtEl>
                                          <p:spTgt spid="6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6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6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250" autoRev="1" fill="hold"/>
                                        <p:tgtEl>
                                          <p:spTgt spid="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" autoRev="1" fill="hold"/>
                                        <p:tgtEl>
                                          <p:spTgt spid="6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6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"/>
          <p:cNvPicPr/>
          <p:nvPr/>
        </p:nvPicPr>
        <p:blipFill>
          <a:blip r:embed="rId1"/>
          <a:srcRect l="0" t="5064" r="0" b="0"/>
          <a:stretch/>
        </p:blipFill>
        <p:spPr>
          <a:xfrm>
            <a:off x="3708360" y="5229360"/>
            <a:ext cx="2158920" cy="133956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00"/>
                </a:solidFill>
                <a:latin typeface="Times New Roman"/>
              </a:rPr>
              <a:t>Типы лес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1400040" y="2870280"/>
            <a:ext cx="2092320" cy="135396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5889600" y="2854440"/>
            <a:ext cx="2211480" cy="139680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971640" y="1989000"/>
            <a:ext cx="2735280" cy="5205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254a00"/>
                </a:solidFill>
                <a:latin typeface="Arial"/>
              </a:rPr>
              <a:t>Хвой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508720" y="1989000"/>
            <a:ext cx="3311280" cy="520560"/>
          </a:xfrm>
          <a:prstGeom prst="rect">
            <a:avLst/>
          </a:prstGeom>
          <a:solidFill>
            <a:srgbClr val="00fe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тв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987640" y="4437000"/>
            <a:ext cx="3529080" cy="520560"/>
          </a:xfrm>
          <a:prstGeom prst="rect">
            <a:avLst/>
          </a:prstGeom>
          <a:gradFill rotWithShape="0">
            <a:gsLst>
              <a:gs pos="0">
                <a:srgbClr val="00c400"/>
              </a:gs>
              <a:gs pos="50000">
                <a:srgbClr val="005a00"/>
              </a:gs>
              <a:gs pos="100000">
                <a:srgbClr val="00c400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cb66b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5cb66b"/>
                </a:solidFill>
                <a:latin typeface="Arial"/>
              </a:rPr>
              <a:t>Смеш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9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6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7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6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5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2000" fill="hold"/>
                                        <p:tgtEl>
                                          <p:spTgt spid="6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6084720" y="836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стар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227640" y="24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ре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588000" y="4076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443640" y="5589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2"/>
          <a:stretch/>
        </p:blipFill>
        <p:spPr>
          <a:xfrm>
            <a:off x="4356000" y="2006640"/>
            <a:ext cx="1728720" cy="12780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3"/>
          <a:stretch/>
        </p:blipFill>
        <p:spPr>
          <a:xfrm>
            <a:off x="4356000" y="404640"/>
            <a:ext cx="1728720" cy="12607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4"/>
          <a:stretch/>
        </p:blipFill>
        <p:spPr>
          <a:xfrm>
            <a:off x="4356000" y="3681360"/>
            <a:ext cx="1728720" cy="125892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 txBox="1"/>
          <p:nvPr/>
        </p:nvSpPr>
        <p:spPr>
          <a:xfrm rot="5400000">
            <a:off x="-2664360" y="3248640"/>
            <a:ext cx="6264360" cy="43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Расставить растения по ярусам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3" name="" descr=" "/>
          <p:cNvPicPr/>
          <p:nvPr/>
        </p:nvPicPr>
        <p:blipFill>
          <a:blip r:embed="rId5"/>
          <a:stretch/>
        </p:blipFill>
        <p:spPr>
          <a:xfrm>
            <a:off x="4356000" y="5373720"/>
            <a:ext cx="17287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4798E-006 L -0.36615 -0.23584 E">
                                      <p:cBhvr>
                                        <p:cTn id="135" dur="2000" fill="hold"/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0.04462 L -0.36215 0.26474 E">
                                      <p:cBhvr>
                                        <p:cTn id="139" dur="20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73988E-006 L -0.36216 -0.25271 E">
                                      <p:cBhvr>
                                        <p:cTn id="143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9.82659E-007 L -0.36754 0.18381 E">
                                      <p:cBhvr>
                                        <p:cTn id="147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8.67052E-007 L -0.17309 -0.19052 E">
                                      <p:cBhvr>
                                        <p:cTn id="15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79769E-006 L -0.16928 0.24995 E">
                                      <p:cBhvr>
                                        <p:cTn id="155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5607E-006 L -0.2125 -0.24301 E">
                                      <p:cBhvr>
                                        <p:cTn id="159" dur="2000" fill="hold"/>
                                        <p:tgtEl>
                                          <p:spTgt spid="6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77457E-006 L -0.22448 0.20786 E">
                                      <p:cBhvr>
                                        <p:cTn id="163" dur="2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826920" y="189000"/>
            <a:ext cx="831708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предели тип лес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258920" y="198900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Смешанный л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332000" y="3213000"/>
            <a:ext cx="26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Лиственный л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403280" y="5013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Хвойный л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3"/>
          <a:stretch/>
        </p:blipFill>
        <p:spPr>
          <a:xfrm>
            <a:off x="6588000" y="1628640"/>
            <a:ext cx="2289240" cy="136872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4"/>
          <a:stretch/>
        </p:blipFill>
        <p:spPr>
          <a:xfrm>
            <a:off x="4211640" y="3068640"/>
            <a:ext cx="2160720" cy="139716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5"/>
          <a:stretch/>
        </p:blipFill>
        <p:spPr>
          <a:xfrm>
            <a:off x="6588000" y="4941720"/>
            <a:ext cx="230508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132000" y="2637000"/>
            <a:ext cx="266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тгадай лист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4"/>
          <a:stretch/>
        </p:blipFill>
        <p:spPr>
          <a:xfrm>
            <a:off x="6443640" y="4780080"/>
            <a:ext cx="2016000" cy="15174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5"/>
          <a:stretch/>
        </p:blipFill>
        <p:spPr>
          <a:xfrm>
            <a:off x="6443640" y="476280"/>
            <a:ext cx="2006640" cy="150804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 txBox="1"/>
          <p:nvPr/>
        </p:nvSpPr>
        <p:spPr>
          <a:xfrm>
            <a:off x="2700360" y="5445000"/>
            <a:ext cx="12762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ина</a:t>
            </a:r>
            <a:endParaRPr b="0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6659640" y="3789360"/>
            <a:ext cx="18000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емляника</a:t>
            </a:r>
            <a:endParaRPr b="0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5003640" y="907920"/>
            <a:ext cx="119088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рёза</a:t>
            </a:r>
            <a:endParaRPr b="0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4360" y="2492280"/>
            <a:ext cx="18763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мородина</a:t>
            </a:r>
            <a:endParaRPr b="0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6"/>
          <a:stretch/>
        </p:blipFill>
        <p:spPr>
          <a:xfrm>
            <a:off x="395280" y="4832280"/>
            <a:ext cx="2008080" cy="151308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7"/>
          <a:stretch/>
        </p:blipFill>
        <p:spPr>
          <a:xfrm>
            <a:off x="539640" y="476280"/>
            <a:ext cx="20876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5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7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148360" y="5084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3276720" y="5013360"/>
            <a:ext cx="952560" cy="151128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4"/>
          <a:stretch/>
        </p:blipFill>
        <p:spPr>
          <a:xfrm>
            <a:off x="1116000" y="5013360"/>
            <a:ext cx="1511280" cy="158436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 txBox="1"/>
          <p:nvPr/>
        </p:nvSpPr>
        <p:spPr>
          <a:xfrm>
            <a:off x="611280" y="549360"/>
            <a:ext cx="6913440" cy="77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весить плоды на растения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5"/>
          <a:stretch/>
        </p:blipFill>
        <p:spPr>
          <a:xfrm>
            <a:off x="971640" y="1989000"/>
            <a:ext cx="1655640" cy="237672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6"/>
          <a:stretch/>
        </p:blipFill>
        <p:spPr>
          <a:xfrm>
            <a:off x="3203640" y="4941720"/>
            <a:ext cx="1154160" cy="165600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7"/>
          <a:stretch/>
        </p:blipFill>
        <p:spPr>
          <a:xfrm>
            <a:off x="7236000" y="2060640"/>
            <a:ext cx="1723680" cy="230508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 "/>
          <p:cNvPicPr/>
          <p:nvPr/>
        </p:nvPicPr>
        <p:blipFill>
          <a:blip r:embed="rId8"/>
          <a:stretch/>
        </p:blipFill>
        <p:spPr>
          <a:xfrm>
            <a:off x="2916360" y="1989000"/>
            <a:ext cx="1800000" cy="235764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 "/>
          <p:cNvPicPr/>
          <p:nvPr/>
        </p:nvPicPr>
        <p:blipFill>
          <a:blip r:embed="rId9"/>
          <a:stretch/>
        </p:blipFill>
        <p:spPr>
          <a:xfrm>
            <a:off x="7365960" y="5013360"/>
            <a:ext cx="1166760" cy="158436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 "/>
          <p:cNvPicPr/>
          <p:nvPr/>
        </p:nvPicPr>
        <p:blipFill>
          <a:blip r:embed="rId10"/>
          <a:stretch/>
        </p:blipFill>
        <p:spPr>
          <a:xfrm>
            <a:off x="5076720" y="1989000"/>
            <a:ext cx="1860480" cy="237672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 "/>
          <p:cNvPicPr/>
          <p:nvPr/>
        </p:nvPicPr>
        <p:blipFill>
          <a:blip r:embed="rId11"/>
          <a:stretch/>
        </p:blipFill>
        <p:spPr>
          <a:xfrm>
            <a:off x="5076720" y="5013360"/>
            <a:ext cx="1582920" cy="158436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12"/>
          <a:stretch/>
        </p:blipFill>
        <p:spPr>
          <a:xfrm>
            <a:off x="1042920" y="4941720"/>
            <a:ext cx="16574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21387E-006 C 0.00399 -0.01757 0.00034 -0.01202 0.0085 -0.01988 C 0.01284 -0.03884 0.02795 -0.0467 0.04166 -0.04694 C 0.13177 -0.04948 0.22205 -0.05017 0.31215 -0.05179 C 0.35156 -0.06821 0.39132 -0.06821 0.43246 -0.07144 C 0.4493 -0.08115 0.46389 -0.08485 0.48142 -0.09156 C 0.48993 -0.09965 0.49948 -0.09942 0.5092 -0.10358 C 0.5184 -0.10774 0.5283 -0.11306 0.53732 -0.11838 C 0.54409 -0.12254 0.54948 -0.12948 0.55642 -0.13318 C 0.55972 -0.13526 0.56337 -0.13641 0.56684 -0.13803 C 0.56857 -0.13896 0.57205 -0.14058 0.57205 -0.14035 C 0.58298 -0.1563 0.5934 -0.17133 0.60347 -0.18751 C 0.60399 -0.18844 0.6151 -0.20393 0.61736 -0.20717 C 0.61857 -0.20878 0.62083 -0.21225 0.62083 -0.21202 C 0.62257 -0.22104 0.62413 -0.23029 0.62621 -0.23931 C 0.62673 -0.24485 0.62673 -0.25087 0.62795 -0.25641 C 0.62899 -0.26196 0.63194 -0.26589 0.63298 -0.27121 C 0.63576 -0.28416 0.63576 -0.29318 0.64357 -0.30104 C 0.64409 -0.30428 0.64409 -0.30774 0.64531 -0.31075 C 0.646 -0.31283 0.64809 -0.31352 0.64896 -0.31584 C 0.65642 -0.33618 0.64357 -0.31514 0.65573 -0.33295 C 0.6592 -0.34774 0.67708 -0.37225 0.68906 -0.37225 E">
                                      <p:cBhvr>
                                        <p:cTn id="283" dur="20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3.00578E-006 C -0.00105 -0.06405 -0.00157 -0.12833 -0.00313 -0.19237 C -0.0033 -0.20116 -0.00591 -0.21064 -0.00955 -0.21781 C -0.01355 -0.23376 -0.0106 -0.22705 -0.01737 -0.23885 C -0.02101 -0.25249 -0.02084 -0.26636 -0.02848 -0.277 C -0.03525 -0.30035 -0.03056 -0.28902 -0.04289 -0.31075 C -0.04462 -0.31376 -0.04462 -0.31815 -0.04601 -0.32139 C -0.04827 -0.32694 -0.05087 -0.32994 -0.054 -0.33411 C -0.05782 -0.34682 -0.06303 -0.35353 -0.0698 -0.3637 C -0.07622 -0.37341 -0.079 -0.38474 -0.0889 -0.3889 C -0.09237 -0.40301 -0.10383 -0.41387 -0.11424 -0.4185 C -0.12327 -0.42659 -0.11737 -0.4215 -0.13178 -0.4333 C -0.13768 -0.43815 -0.14219 -0.44509 -0.14914 -0.44809 C -0.15018 -0.44948 -0.15105 -0.45156 -0.15244 -0.45249 C -0.15539 -0.45457 -0.16181 -0.45665 -0.16181 -0.45665 C -0.17396 -0.45596 -0.18629 -0.45572 -0.19844 -0.45457 C -0.2066 -0.45387 -0.20296 -0.45318 -0.20799 -0.44809 C -0.21094 -0.44509 -0.21737 -0.43977 -0.21737 -0.43977 C -0.21841 -0.42081 -0.22067 -0.40162 -0.22067 -0.38266 E">
                                      <p:cBhvr>
                                        <p:cTn id="287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31214E-006 C -0.00486 -0.00601 -0.00452 -0.00971 -0.01111 -0.01272 C -0.0132 -0.02289 -0.01719 -0.03006 -0.02396 -0.03584 C -0.02847 -0.04532 -0.03351 -0.0541 -0.0382 -0.06335 C -0.03924 -0.06543 -0.03976 -0.06821 -0.04132 -0.06983 C -0.04566 -0.07399 -0.05313 -0.08069 -0.05556 -0.0867 C -0.06007 -0.09803 -0.06354 -0.11214 -0.07309 -0.1163 C -0.07465 -0.11838 -0.07639 -0.12023 -0.07778 -0.12254 C -0.07969 -0.12578 -0.08056 -0.12994 -0.08264 -0.13318 C -0.08386 -0.13503 -0.08594 -0.13549 -0.08733 -0.13734 C -0.09115 -0.14243 -0.09809 -0.15884 -0.1 -0.16277 C -0.10347 -0.16994 -0.11285 -0.18173 -0.11285 -0.18173 C -0.11806 -0.19815 -0.12535 -0.21364 -0.13507 -0.22613 C -0.13663 -0.23029 -0.13768 -0.23491 -0.13976 -0.23884 C -0.14202 -0.243 -0.14774 -0.24948 -0.14774 -0.24948 C -0.15243 -0.26798 -0.14479 -0.23977 -0.15399 -0.26428 C -0.15886 -0.27699 -0.16059 -0.29433 -0.1684 -0.30428 C -0.17274 -0.32162 -0.17101 -0.3126 -0.17309 -0.33179 C -0.17257 -0.34173 -0.17274 -0.35167 -0.17153 -0.36139 C -0.17118 -0.36393 -0.16927 -0.36555 -0.1684 -0.36786 C -0.16268 -0.38266 -0.15834 -0.38636 -0.14774 -0.39537 C -0.13837 -0.40347 -0.13143 -0.41295 -0.12066 -0.41641 C -0.11094 -0.42289 -0.1033 -0.4252 -0.09219 -0.42705 C -0.05834 -0.4252 -0.02448 -0.42289 0.00937 -0.4185 C 0.01528 -0.4111 0.02222 -0.40393 0.02847 -0.39746 C 0.03142 -0.39422 0.03802 -0.3889 0.03802 -0.3889 C 0.0375 -0.38543 0.03819 -0.38104 0.03646 -0.37826 C 0.03038 -0.36809 0.02673 -0.36994 0.01892 -0.36994 E">
                                      <p:cBhvr>
                                        <p:cTn id="291" dur="2000" fill="hold"/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52601E-006 C -0.00174 -0.01665 -0.00191 -0.03076 -0.01285 -0.04 C -0.01667 -0.05596 -0.01111 -0.03723 -0.0191 -0.05064 C -0.02014 -0.05226 -0.01962 -0.05503 -0.02066 -0.05688 C -0.02292 -0.06081 -0.02604 -0.06405 -0.02865 -0.06752 C -0.04462 -0.08902 -0.02483 -0.06289 -0.03663 -0.07815 C -0.0382 -0.08024 -0.04132 -0.0844 -0.04132 -0.0844 C -0.0434 -0.0955 -0.04844 -0.10128 -0.05399 -0.10983 C -0.06181 -0.12209 -0.06927 -0.13434 -0.07778 -0.14567 C -0.07917 -0.14752 -0.07951 -0.15052 -0.08108 -0.15214 C -0.08403 -0.15538 -0.0875 -0.15769 -0.09063 -0.16047 C -0.09219 -0.16185 -0.09531 -0.16486 -0.09531 -0.16486 C -0.09948 -0.17318 -0.10382 -0.17295 -0.10955 -0.17966 C -0.11233 -0.18289 -0.11493 -0.18659 -0.11754 -0.19006 C -0.1191 -0.19214 -0.12222 -0.19654 -0.12222 -0.19654 C -0.12483 -0.20625 -0.12951 -0.2111 -0.13507 -0.21758 C -0.14392 -0.22798 -0.1474 -0.23353 -0.15729 -0.24301 C -0.15972 -0.24532 -0.16111 -0.24925 -0.16354 -0.25157 C -0.1684 -0.25642 -0.17431 -0.25966 -0.17951 -0.26405 C -0.1882 -0.27168 -0.1901 -0.28694 -0.19688 -0.29596 C -0.20052 -0.30081 -0.2059 -0.30359 -0.20955 -0.30844 C -0.21615 -0.31723 -0.22344 -0.32555 -0.22865 -0.33596 C -0.23177 -0.34914 -0.22778 -0.33573 -0.23507 -0.34867 C -0.23698 -0.35191 -0.23785 -0.35607 -0.23976 -0.35931 C -0.2434 -0.36509 -0.2507 -0.36995 -0.25556 -0.37411 C -0.26146 -0.38544 -0.2691 -0.39052 -0.27778 -0.39723 C -0.28385 -0.40185 -0.28889 -0.40787 -0.29531 -0.41203 C -0.29635 -0.41411 -0.29705 -0.41688 -0.29844 -0.4185 C -0.30122 -0.42174 -0.30799 -0.42683 -0.30799 -0.42683 C -0.31354 -0.43839 -0.32083 -0.44093 -0.33021 -0.44602 C -0.33333 -0.44763 -0.33976 -0.45018 -0.33976 -0.45018 C -0.35799 -0.44856 -0.36441 -0.44925 -0.37778 -0.43746 C -0.38125 -0.43076 -0.38385 -0.42729 -0.38889 -0.42266 C -0.3941 -0.41272 -0.39757 -0.4118 -0.40642 -0.40787 C -0.41215 -0.40532 -0.4099 -0.40324 -0.41441 -0.39954 C -0.4184 -0.3963 -0.42674 -0.39584 -0.43021 -0.39515 C -0.43698 -0.38613 -0.44271 -0.37688 -0.44931 -0.36763 C -0.44983 -0.36555 -0.45208 -0.36301 -0.45087 -0.36139 C -0.44965 -0.35977 -0.44618 -0.36347 -0.44618 -0.36347 E">
                                      <p:cBhvr>
                                        <p:cTn id="295" dur="2000" fill="hold"/>
                                        <p:tgtEl>
                                          <p:spTgt spid="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00:55:32Z</dcterms:created>
  <dc:creator>SC</dc:creator>
  <dc:description/>
  <dc:language>en-US</dc:language>
  <cp:lastModifiedBy>Loner-XP</cp:lastModifiedBy>
  <dcterms:modified xsi:type="dcterms:W3CDTF">2013-03-28T11:14:42Z</dcterms:modified>
  <cp:revision>14</cp:revision>
  <dc:subject/>
  <dc:title>Растения нашего края  </dc:title>
</cp:coreProperties>
</file>