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3.jpeg" ContentType="image/jpeg"/>
  <Override PartName="/ppt/media/image12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B37-D2B5-4F3B-A01A-12AE8F96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97C-45CF-46AC-A0B5-992C7180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9AE48-F827-4514-997A-840668B2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43E37-3522-4318-934E-DECA2B0A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C90A4-CB5B-45D3-9D07-3FA9D514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FAF69-3A58-438A-BAB4-22111705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EAD56-7D02-4EA4-B9DE-CC890F9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0D5E2-F771-48A0-B54E-3608966C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9DE1D-D0D1-4D87-BE5B-5E95128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C830C-89E0-4A93-812B-3D79EC74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C741C-4354-4EE6-9200-34380D33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BC93D-C0CB-4EFA-BC4B-A605E950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D2D-92FE-4100-91DC-19465FFA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2B772-F9E5-4EC4-9A5E-2D4DD85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A1BCC-5FA4-4D5E-8E2A-9BE4689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80B8D-698A-4402-9795-06AB5F5B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50A66-624D-4A3B-B033-B8CC9F73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320DA-3EAF-4A66-99BB-20E94FE3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0977B-4693-4D5B-B39A-840F9C00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9A72B-7004-4681-A316-D02F0C9D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22744-256A-46F6-A608-E21BF9E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242D8-22F8-4B96-AE4D-375F405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B23F4-A9A4-4675-9FE9-160B124F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E48-BA82-481D-B9C7-44C4BAFD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72F9C-69C4-47E6-9833-1B9C08A1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53DF-3AB7-448C-AEE6-8B14D372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05535-1CF2-4692-AE41-32466838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6CA02-0F65-415A-BEAD-DA120EC7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BD40-9739-4487-94DB-29F6E68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E28A3-B2B2-4849-A9D6-969BD00D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B74E2-4632-4809-A7E1-1EE64456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F82A8-F485-4127-A1C1-DC5D0995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6ECA3-823D-4F90-AEB2-4B668FC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2D6BA-01C1-412D-97F9-9DC1E64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15F9-2A84-4E09-808C-BE414AFC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E2D83-C53C-45E5-A75D-049B0407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6160-75BA-4A1F-AB77-EE84A6B3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FE176-0538-4B54-99ED-7F37BCFA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1042-D764-43A5-A0F3-84D257D9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EE0-8DDF-4EF1-819E-0B7BE7EC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4874-59D4-4262-BFEE-B4A8E262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B320-03EE-43B3-BCA0-0127BA3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DEDE-AF7F-43A6-9031-A4EAD3E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2BA4-B7C4-461A-AB64-EB2DDF54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38A-B481-4508-8117-36F7F66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0676-A25B-4502-9BB8-18230FA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D114-6851-4E2E-848C-F71E006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CDEE-5F85-4B69-8F28-30E809D7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476-09E6-43F0-84DC-43CA8EEC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3397-EF25-4833-81F5-19AC8480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55D50-0884-4711-B4D2-37E6A937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7F27-2A1C-4A24-9CD1-E896DD8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6ACF-1068-454D-9222-CAA31BC0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C824-FCC7-435A-BD56-ADBCADEB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8B05-5C8D-49F0-8377-E79CDAE7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6BA-E77D-4F69-BF1B-347CC286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7A1A-BFE6-439E-AADA-3AFD8AA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D0D0-15D8-47FB-9BE4-BFFF6B1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8463-BFEB-4490-BDCE-8DDC8E5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5637-77DA-4425-B5B5-1FC1B0F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F2B3-0072-4E5D-85C0-0BEFBB1E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CF07-18A0-4451-AB3F-E2AD3507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BF8F-1EFC-419F-A946-4778E32E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F87F-33BC-4E4F-B630-ABA645D9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105E-CB08-429E-90F3-6DADBF08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2DB0-E234-4B06-B6D1-48281BA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30F-19C3-40C2-8074-ABE9AAAD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3E21F-40C3-44C0-93DF-A4A96EC8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4276-6E5D-4EE5-8B70-F79CD06E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26B4-EAAC-4929-941D-E2D70FFC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9E2C-D14E-4CED-B7A5-D1978057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D0F7-67BE-485B-8C3A-75461F0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E450-C7D6-439F-8566-D2861BB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1140-D6BA-45B2-BD33-85FA4026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560F-DF00-447E-A0FF-F435AD05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2395-7BBB-473C-9EF1-8DEDCED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573F-9743-4405-AEB6-7239FE02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FCB-869A-4ECA-ABC4-3780355E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AC4E9-007D-44B6-86D6-EAFE5067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0970-EE8F-4622-9726-821D6006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4CF8-104E-4A83-A9F0-8D86293A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008D-4769-4F7D-B622-8B91E15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5448-7F27-40FF-8ECD-DE285693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85F98-019D-49FA-93D3-6DF2F8C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0952-0934-4A92-BD3A-E42D026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C432-3737-4661-AA13-EF4FC0A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E700-432C-49A9-84F5-7BC44C0D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20421-5185-45FE-9C19-D68CCC4C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AA4-64C2-4848-97E5-F690CFBC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B06F-1B4E-4C5F-B5D7-1AB014C3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3303B-4E3A-44BF-991A-3E30B8B5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C7840-AED1-43A6-A8F7-F1372E97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EAB30-8412-482D-BBEC-ABB728AC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D477-415F-4E3C-87BD-2431EB41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840D6-9EBA-40E4-B0F1-DA25B7F3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EB68-C121-437F-9642-53329BDC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6FF19-6C9D-4C1F-8C80-77E42EA3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3731F-CF3C-482E-859D-28031D10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34A5A-0CE0-4D68-8E05-EC86BF4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9E3-13AA-4060-932D-516D4910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AE70F-AA42-4CA4-9A86-ED367E69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4D29-3671-4C20-9AEF-7C202AFB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54306-1DBF-4865-9BD5-3C367886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99015-9AAF-4AD1-96A5-68063CCE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4070-EA53-41C7-A6DC-94B02CD9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4FEFC-6760-4133-9634-00D8ADB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3960B-C0AD-49DE-AC3A-A06D1E2B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71448-5190-4C68-8C6E-1029025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5D5F-92CB-46DE-B840-89A98B89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188EA-021A-4A5D-B045-DCAFCD01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9B5-AEF3-46FB-A809-CC7AA4CB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B15B8-8721-4AF1-884B-16A44E8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ECD11-0CF1-4390-B566-EEFD4E1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5D3B-B87B-4A31-B819-79A903A5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61E92-059C-40DD-9ABB-4CA6F75E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7CFAC-C6AF-4C30-B693-D04E69C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94DF-43A3-4F0A-8C39-C48D7AC8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47C3-8FF0-4E7D-BDB9-3224DD14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AC59-E45F-4CA5-90A7-B8785074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6AE1D-5DFE-4F93-BC9E-ECE1BD3F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5E7B3-8695-47F0-84F6-EDC794A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C14-16E5-4785-8A34-AA87C2C4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9A8F1-8D2E-4714-A6E3-9DA842D6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3973-8F19-4971-8C02-D1F7DD7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C6899-6495-4331-B54A-7C833AA9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C26F3-1EF1-4638-9408-BA76E3E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F07F7-0950-4223-84A1-54C6739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A9E0-8924-4C49-AC08-A8C84C7F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E4CB2-0E5C-4288-9201-B1E0EC4B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C74A7-4DC4-4C14-97E2-EB921379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F3E30-4362-4504-BEA2-C4836972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3F9A2-2D57-4CD5-AC7D-8F5BE37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4999-E12C-49AA-9E4F-7FE06F022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2DFB-4326-4347-B78E-A629BC6BDD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338F-B50D-4CA2-9B74-56F63CBF52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44E2-0AB6-473D-A0F0-AB4A8D2EE1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F18-5F0C-4282-B759-AF552B1A889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AE8C-0F98-4BF1-AE1D-3C0C994C4C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8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8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0DB5-CEEE-4C4C-B084-F10F2D0B23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B764-E259-4173-8559-B4983E9128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2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4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5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7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B2C3-FE52-4C77-90F7-16ED9682F1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40DA-C81E-4C80-B4B1-8EBE9E268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8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FB82-FC3D-4900-8109-4EE474B7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6.jpeg"/><Relationship Id="rId4" Type="http://schemas.openxmlformats.org/officeDocument/2006/relationships/image" Target="../media/image1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14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Леса нашего края</a:t>
            </a:r>
            <a:r>
              <a:rPr b="1" lang="en-US" sz="4800" spc="-1" strike="noStrike">
                <a:solidFill>
                  <a:srgbClr val="ccffcc"/>
                </a:solidFill>
                <a:latin typeface="Arial"/>
              </a:rPr>
              <a:t> </a:t>
            </a:r>
            <a:br>
              <a:rPr sz="4800"/>
            </a:b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окружающий мир </a:t>
            </a:r>
            <a:br>
              <a:rPr sz="3200"/>
            </a:b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2411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Учитель </a:t>
            </a: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МБОУ «Нижнетигинская ООШ» Юферова Т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684360" y="765000"/>
            <a:ext cx="8135640" cy="5180400"/>
          </a:xfrm>
          <a:prstGeom prst="rect">
            <a:avLst/>
          </a:prstGeom>
          <a:solidFill>
            <a:srgbClr val="ff33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Любите лес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Будьте его друго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Берегите наш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e00"/>
                </a:solidFill>
                <a:latin typeface="Arial"/>
              </a:rPr>
              <a:t>богатств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rot="19584600">
            <a:off x="7813800" y="5229360"/>
            <a:ext cx="1014120" cy="546120"/>
          </a:xfrm>
          <a:custGeom>
            <a:avLst/>
            <a:gdLst>
              <a:gd name="textAreaLeft" fmla="*/ 253440 w 1014120"/>
              <a:gd name="textAreaRight" fmla="*/ 760680 w 1014120"/>
              <a:gd name="textAreaTop" fmla="*/ 136440 h 546120"/>
              <a:gd name="textAreaBottom" fmla="*/ 530280 h 546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и и задачи: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33cc33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Arial"/>
              </a:rPr>
              <a:t>Охарактеризовать растительность л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Arial"/>
              </a:rPr>
              <a:t>Научить распознавать растения л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Arial"/>
              </a:rPr>
              <a:t>Сформировать представление о необычайной красоте леса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Ярусы лес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14716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тарни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939960" cy="107964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1309680" cy="104328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5076720" y="2924280"/>
            <a:ext cx="1077840" cy="14954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1241640" cy="144144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7667640" y="5373720"/>
            <a:ext cx="126036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3564000" y="119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116000" y="3429000"/>
            <a:ext cx="2600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a00"/>
                    </a:gs>
                    <a:gs pos="50000">
                      <a:srgbClr val="00c400"/>
                    </a:gs>
                    <a:gs pos="100000">
                      <a:srgbClr val="005a00"/>
                    </a:gs>
                  </a:gsLst>
                  <a:lin ang="5400000"/>
                </a:gradFill>
                <a:latin typeface="Arial"/>
              </a:rPr>
              <a:t>ЛЕ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a00"/>
                  </a:gs>
                  <a:gs pos="50000">
                    <a:srgbClr val="00c400"/>
                  </a:gs>
                  <a:gs pos="100000">
                    <a:srgbClr val="005a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6728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400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77080" y="256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400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1358640" cy="15825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7093080" y="3141720"/>
            <a:ext cx="1204920" cy="16095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1187280" y="5084640"/>
            <a:ext cx="2305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ИМ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4"/>
          <a:stretch/>
        </p:blipFill>
        <p:spPr>
          <a:xfrm>
            <a:off x="7093080" y="5013360"/>
            <a:ext cx="1231920" cy="16365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 "/>
          <p:cNvPicPr/>
          <p:nvPr/>
        </p:nvPicPr>
        <p:blipFill>
          <a:blip r:embed="rId5"/>
          <a:stretch/>
        </p:blipFill>
        <p:spPr>
          <a:xfrm>
            <a:off x="4500720" y="4869000"/>
            <a:ext cx="1295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6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250" autoRev="1" fill="hold"/>
                                        <p:tgtEl>
                                          <p:spTgt spid="6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rcRect l="0" t="5064" r="0" b="0"/>
          <a:stretch/>
        </p:blipFill>
        <p:spPr>
          <a:xfrm>
            <a:off x="3708360" y="5229360"/>
            <a:ext cx="2158920" cy="133956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00"/>
                </a:solidFill>
                <a:latin typeface="Times New Roman"/>
              </a:rPr>
              <a:t>Типы лес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1400040" y="2870280"/>
            <a:ext cx="2092320" cy="13539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5889600" y="2854440"/>
            <a:ext cx="2211480" cy="139680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971640" y="1989000"/>
            <a:ext cx="2735280" cy="5205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254a00"/>
                </a:solidFill>
                <a:latin typeface="Arial"/>
              </a:rPr>
              <a:t>Хвой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508720" y="1989000"/>
            <a:ext cx="3311280" cy="520560"/>
          </a:xfrm>
          <a:prstGeom prst="rect">
            <a:avLst/>
          </a:prstGeom>
          <a:solidFill>
            <a:srgbClr val="00fe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87640" y="4437000"/>
            <a:ext cx="3529080" cy="520560"/>
          </a:xfrm>
          <a:prstGeom prst="rect">
            <a:avLst/>
          </a:prstGeom>
          <a:gradFill rotWithShape="0">
            <a:gsLst>
              <a:gs pos="0">
                <a:srgbClr val="00c400"/>
              </a:gs>
              <a:gs pos="50000">
                <a:srgbClr val="005a00"/>
              </a:gs>
              <a:gs pos="100000">
                <a:srgbClr val="00c400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cb66b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5cb66b"/>
                </a:solidFill>
                <a:latin typeface="Arial"/>
              </a:rPr>
              <a:t>Смеш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7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084720" y="83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стар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227640" y="24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е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588000" y="407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43640" y="5589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4356000" y="2006640"/>
            <a:ext cx="1728720" cy="12780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4356000" y="404640"/>
            <a:ext cx="1728720" cy="1260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4356000" y="3681360"/>
            <a:ext cx="1728720" cy="12589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 txBox="1"/>
          <p:nvPr/>
        </p:nvSpPr>
        <p:spPr>
          <a:xfrm rot="5400000">
            <a:off x="-2664360" y="3248640"/>
            <a:ext cx="6264360" cy="4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Расставить растения по ярусам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3" name="" descr=" "/>
          <p:cNvPicPr/>
          <p:nvPr/>
        </p:nvPicPr>
        <p:blipFill>
          <a:blip r:embed="rId5"/>
          <a:stretch/>
        </p:blipFill>
        <p:spPr>
          <a:xfrm>
            <a:off x="4356000" y="5373720"/>
            <a:ext cx="1728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4798E-006 L -0.36615 -0.23584 E">
                                      <p:cBhvr>
                                        <p:cTn id="135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0.04462 L -0.36215 0.26474 E">
                                      <p:cBhvr>
                                        <p:cTn id="139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73988E-006 L -0.36216 -0.25271 E">
                                      <p:cBhvr>
                                        <p:cTn id="143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82659E-007 L -0.36754 0.18381 E">
                                      <p:cBhvr>
                                        <p:cTn id="147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67052E-007 L -0.17309 -0.19052 E">
                                      <p:cBhvr>
                                        <p:cTn id="15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79769E-006 L -0.16928 0.24995 E">
                                      <p:cBhvr>
                                        <p:cTn id="155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5607E-006 L -0.2125 -0.24301 E">
                                      <p:cBhvr>
                                        <p:cTn id="159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77457E-006 L -0.22448 0.20786 E">
                                      <p:cBhvr>
                                        <p:cTn id="163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826920" y="189000"/>
            <a:ext cx="83170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предели тип лес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58920" y="1989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Смешан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332000" y="32130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Листвен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03280" y="501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Хвойный 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6588000" y="1628640"/>
            <a:ext cx="2289240" cy="13687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4211640" y="3068640"/>
            <a:ext cx="2160720" cy="139716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5"/>
          <a:stretch/>
        </p:blipFill>
        <p:spPr>
          <a:xfrm>
            <a:off x="6588000" y="4941720"/>
            <a:ext cx="23050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132000" y="2637000"/>
            <a:ext cx="266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гадай лист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6443640" y="4780080"/>
            <a:ext cx="2016000" cy="15174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6443640" y="476280"/>
            <a:ext cx="2006640" cy="150804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 txBox="1"/>
          <p:nvPr/>
        </p:nvSpPr>
        <p:spPr>
          <a:xfrm>
            <a:off x="2700360" y="5445000"/>
            <a:ext cx="1276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лин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659640" y="3789360"/>
            <a:ext cx="1800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емляник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5003640" y="907920"/>
            <a:ext cx="119088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ёз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4360" y="2492280"/>
            <a:ext cx="1876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мородина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6"/>
          <a:stretch/>
        </p:blipFill>
        <p:spPr>
          <a:xfrm>
            <a:off x="395280" y="4832280"/>
            <a:ext cx="2008080" cy="15130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7"/>
          <a:stretch/>
        </p:blipFill>
        <p:spPr>
          <a:xfrm>
            <a:off x="539640" y="476280"/>
            <a:ext cx="20876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48360" y="5084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3276720" y="501336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4"/>
          <a:stretch/>
        </p:blipFill>
        <p:spPr>
          <a:xfrm>
            <a:off x="1116000" y="50133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611280" y="549360"/>
            <a:ext cx="691344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весить плоды на растени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5"/>
          <a:stretch/>
        </p:blipFill>
        <p:spPr>
          <a:xfrm>
            <a:off x="971640" y="198900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tretch/>
        </p:blipFill>
        <p:spPr>
          <a:xfrm>
            <a:off x="3203640" y="4941720"/>
            <a:ext cx="1154160" cy="16560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tretch/>
        </p:blipFill>
        <p:spPr>
          <a:xfrm>
            <a:off x="7236000" y="2060640"/>
            <a:ext cx="1723680" cy="23050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 "/>
          <p:cNvPicPr/>
          <p:nvPr/>
        </p:nvPicPr>
        <p:blipFill>
          <a:blip r:embed="rId8"/>
          <a:stretch/>
        </p:blipFill>
        <p:spPr>
          <a:xfrm>
            <a:off x="2916360" y="1989000"/>
            <a:ext cx="1800000" cy="235764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 "/>
          <p:cNvPicPr/>
          <p:nvPr/>
        </p:nvPicPr>
        <p:blipFill>
          <a:blip r:embed="rId9"/>
          <a:stretch/>
        </p:blipFill>
        <p:spPr>
          <a:xfrm>
            <a:off x="7365960" y="5013360"/>
            <a:ext cx="1166760" cy="158436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 "/>
          <p:cNvPicPr/>
          <p:nvPr/>
        </p:nvPicPr>
        <p:blipFill>
          <a:blip r:embed="rId10"/>
          <a:stretch/>
        </p:blipFill>
        <p:spPr>
          <a:xfrm>
            <a:off x="5076720" y="1989000"/>
            <a:ext cx="1860480" cy="23767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 "/>
          <p:cNvPicPr/>
          <p:nvPr/>
        </p:nvPicPr>
        <p:blipFill>
          <a:blip r:embed="rId11"/>
          <a:stretch/>
        </p:blipFill>
        <p:spPr>
          <a:xfrm>
            <a:off x="5076720" y="5013360"/>
            <a:ext cx="1582920" cy="158436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12"/>
          <a:stretch/>
        </p:blipFill>
        <p:spPr>
          <a:xfrm>
            <a:off x="1042920" y="4941720"/>
            <a:ext cx="16574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1387E-006 C 0.00399 -0.01757 0.00034 -0.01202 0.0085 -0.01988 C 0.01284 -0.03884 0.02795 -0.0467 0.04166 -0.04694 C 0.13177 -0.04948 0.22205 -0.05017 0.31215 -0.05179 C 0.35156 -0.06821 0.39132 -0.06821 0.43246 -0.07144 C 0.4493 -0.08115 0.46389 -0.08485 0.48142 -0.09156 C 0.48993 -0.09965 0.49948 -0.09942 0.5092 -0.10358 C 0.5184 -0.10774 0.5283 -0.11306 0.53732 -0.11838 C 0.54409 -0.12254 0.54948 -0.12948 0.55642 -0.13318 C 0.55972 -0.13526 0.56337 -0.13641 0.56684 -0.13803 C 0.56857 -0.13896 0.57205 -0.14058 0.57205 -0.14035 C 0.58298 -0.1563 0.5934 -0.17133 0.60347 -0.18751 C 0.60399 -0.18844 0.6151 -0.20393 0.61736 -0.20717 C 0.61857 -0.20878 0.62083 -0.21225 0.62083 -0.21202 C 0.62257 -0.22104 0.62413 -0.23029 0.62621 -0.23931 C 0.62673 -0.24485 0.62673 -0.25087 0.62795 -0.25641 C 0.62899 -0.26196 0.63194 -0.26589 0.63298 -0.27121 C 0.63576 -0.28416 0.63576 -0.29318 0.64357 -0.30104 C 0.64409 -0.30428 0.64409 -0.30774 0.64531 -0.31075 C 0.646 -0.31283 0.64809 -0.31352 0.64896 -0.31584 C 0.65642 -0.33618 0.64357 -0.31514 0.65573 -0.33295 C 0.6592 -0.34774 0.67708 -0.37225 0.68906 -0.37225 E">
                                      <p:cBhvr>
                                        <p:cTn id="283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00578E-006 C -0.00105 -0.06405 -0.00157 -0.12833 -0.00313 -0.19237 C -0.0033 -0.20116 -0.00591 -0.21064 -0.00955 -0.21781 C -0.01355 -0.23376 -0.0106 -0.22705 -0.01737 -0.23885 C -0.02101 -0.25249 -0.02084 -0.26636 -0.02848 -0.277 C -0.03525 -0.30035 -0.03056 -0.28902 -0.04289 -0.31075 C -0.04462 -0.31376 -0.04462 -0.31815 -0.04601 -0.32139 C -0.04827 -0.32694 -0.05087 -0.32994 -0.054 -0.33411 C -0.05782 -0.34682 -0.06303 -0.35353 -0.0698 -0.3637 C -0.07622 -0.37341 -0.079 -0.38474 -0.0889 -0.3889 C -0.09237 -0.40301 -0.10383 -0.41387 -0.11424 -0.4185 C -0.12327 -0.42659 -0.11737 -0.4215 -0.13178 -0.4333 C -0.13768 -0.43815 -0.14219 -0.44509 -0.14914 -0.44809 C -0.15018 -0.44948 -0.15105 -0.45156 -0.15244 -0.45249 C -0.15539 -0.45457 -0.16181 -0.45665 -0.16181 -0.45665 C -0.17396 -0.45596 -0.18629 -0.45572 -0.19844 -0.45457 C -0.2066 -0.45387 -0.20296 -0.45318 -0.20799 -0.44809 C -0.21094 -0.44509 -0.21737 -0.43977 -0.21737 -0.43977 C -0.21841 -0.42081 -0.22067 -0.40162 -0.22067 -0.38266 E">
                                      <p:cBhvr>
                                        <p:cTn id="287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31214E-006 C -0.00486 -0.00601 -0.00452 -0.00971 -0.01111 -0.01272 C -0.0132 -0.02289 -0.01719 -0.03006 -0.02396 -0.03584 C -0.02847 -0.04532 -0.03351 -0.0541 -0.0382 -0.06335 C -0.03924 -0.06543 -0.03976 -0.06821 -0.04132 -0.06983 C -0.04566 -0.07399 -0.05313 -0.08069 -0.05556 -0.0867 C -0.06007 -0.09803 -0.06354 -0.11214 -0.07309 -0.1163 C -0.07465 -0.11838 -0.07639 -0.12023 -0.07778 -0.12254 C -0.07969 -0.12578 -0.08056 -0.12994 -0.08264 -0.13318 C -0.08386 -0.13503 -0.08594 -0.13549 -0.08733 -0.13734 C -0.09115 -0.14243 -0.09809 -0.15884 -0.1 -0.16277 C -0.10347 -0.16994 -0.11285 -0.18173 -0.11285 -0.18173 C -0.11806 -0.19815 -0.12535 -0.21364 -0.13507 -0.22613 C -0.13663 -0.23029 -0.13768 -0.23491 -0.13976 -0.23884 C -0.14202 -0.243 -0.14774 -0.24948 -0.14774 -0.24948 C -0.15243 -0.26798 -0.14479 -0.23977 -0.15399 -0.26428 C -0.15886 -0.27699 -0.16059 -0.29433 -0.1684 -0.30428 C -0.17274 -0.32162 -0.17101 -0.3126 -0.17309 -0.33179 C -0.17257 -0.34173 -0.17274 -0.35167 -0.17153 -0.36139 C -0.17118 -0.36393 -0.16927 -0.36555 -0.1684 -0.36786 C -0.16268 -0.38266 -0.15834 -0.38636 -0.14774 -0.39537 C -0.13837 -0.40347 -0.13143 -0.41295 -0.12066 -0.41641 C -0.11094 -0.42289 -0.1033 -0.4252 -0.09219 -0.42705 C -0.05834 -0.4252 -0.02448 -0.42289 0.00937 -0.4185 C 0.01528 -0.4111 0.02222 -0.40393 0.02847 -0.39746 C 0.03142 -0.39422 0.03802 -0.3889 0.03802 -0.3889 C 0.0375 -0.38543 0.03819 -0.38104 0.03646 -0.37826 C 0.03038 -0.36809 0.02673 -0.36994 0.01892 -0.36994 E">
                                      <p:cBhvr>
                                        <p:cTn id="291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52601E-006 C -0.00174 -0.01665 -0.00191 -0.03076 -0.01285 -0.04 C -0.01667 -0.05596 -0.01111 -0.03723 -0.0191 -0.05064 C -0.02014 -0.05226 -0.01962 -0.05503 -0.02066 -0.05688 C -0.02292 -0.06081 -0.02604 -0.06405 -0.02865 -0.06752 C -0.04462 -0.08902 -0.02483 -0.06289 -0.03663 -0.07815 C -0.0382 -0.08024 -0.04132 -0.0844 -0.04132 -0.0844 C -0.0434 -0.0955 -0.04844 -0.10128 -0.05399 -0.10983 C -0.06181 -0.12209 -0.06927 -0.13434 -0.07778 -0.14567 C -0.07917 -0.14752 -0.07951 -0.15052 -0.08108 -0.15214 C -0.08403 -0.15538 -0.0875 -0.15769 -0.09063 -0.16047 C -0.09219 -0.16185 -0.09531 -0.16486 -0.09531 -0.16486 C -0.09948 -0.17318 -0.10382 -0.17295 -0.10955 -0.17966 C -0.11233 -0.18289 -0.11493 -0.18659 -0.11754 -0.19006 C -0.1191 -0.19214 -0.12222 -0.19654 -0.12222 -0.19654 C -0.12483 -0.20625 -0.12951 -0.2111 -0.13507 -0.21758 C -0.14392 -0.22798 -0.1474 -0.23353 -0.15729 -0.24301 C -0.15972 -0.24532 -0.16111 -0.24925 -0.16354 -0.25157 C -0.1684 -0.25642 -0.17431 -0.25966 -0.17951 -0.26405 C -0.1882 -0.27168 -0.1901 -0.28694 -0.19688 -0.29596 C -0.20052 -0.30081 -0.2059 -0.30359 -0.20955 -0.30844 C -0.21615 -0.31723 -0.22344 -0.32555 -0.22865 -0.33596 C -0.23177 -0.34914 -0.22778 -0.33573 -0.23507 -0.34867 C -0.23698 -0.35191 -0.23785 -0.35607 -0.23976 -0.35931 C -0.2434 -0.36509 -0.2507 -0.36995 -0.25556 -0.37411 C -0.26146 -0.38544 -0.2691 -0.39052 -0.27778 -0.39723 C -0.28385 -0.40185 -0.28889 -0.40787 -0.29531 -0.41203 C -0.29635 -0.41411 -0.29705 -0.41688 -0.29844 -0.4185 C -0.30122 -0.42174 -0.30799 -0.42683 -0.30799 -0.42683 C -0.31354 -0.43839 -0.32083 -0.44093 -0.33021 -0.44602 C -0.33333 -0.44763 -0.33976 -0.45018 -0.33976 -0.45018 C -0.35799 -0.44856 -0.36441 -0.44925 -0.37778 -0.43746 C -0.38125 -0.43076 -0.38385 -0.42729 -0.38889 -0.42266 C -0.3941 -0.41272 -0.39757 -0.4118 -0.40642 -0.40787 C -0.41215 -0.40532 -0.4099 -0.40324 -0.41441 -0.39954 C -0.4184 -0.3963 -0.42674 -0.39584 -0.43021 -0.39515 C -0.43698 -0.38613 -0.44271 -0.37688 -0.44931 -0.36763 C -0.44983 -0.36555 -0.45208 -0.36301 -0.45087 -0.36139 C -0.44965 -0.35977 -0.44618 -0.36347 -0.44618 -0.36347 E">
                                      <p:cBhvr>
                                        <p:cTn id="295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0:55:32Z</dcterms:created>
  <dc:creator>SC</dc:creator>
  <dc:description/>
  <dc:language>en-US</dc:language>
  <cp:lastModifiedBy>Loner-XP</cp:lastModifiedBy>
  <dcterms:modified xsi:type="dcterms:W3CDTF">2013-03-28T11:14:42Z</dcterms:modified>
  <cp:revision>14</cp:revision>
  <dc:subject/>
  <dc:title>Растения нашего края  </dc:title>
</cp:coreProperties>
</file>