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camera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5CE-8A89-44D7-AE43-A603D5FB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498-8E5B-45C4-8F08-A668AD3D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B08-138F-4493-AA30-3DC8F12D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00C-CEB9-418C-AE7B-95332013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7E36-B9F2-4766-84C6-7E61F274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8AF9-10ED-4263-B6F0-706E2AB9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545F-7B37-4DCF-8955-889A829A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5885-6721-402C-98B0-AA84ED32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5C11-A73F-4F52-B784-7F37A66B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F9C4-775E-41DF-B4D2-54ABD020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ACD1-CAD7-43B7-B07F-4664F10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60D-C3D5-4B81-85C8-B4662164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ADCF-0226-4736-8AC1-21089723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7FDD-0AF8-4365-A266-FE8D4201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C708-C413-4DB9-A251-3AA842C7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AE7B-0700-4177-BE73-6621AE24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EBEC-EF01-4EF5-A7AF-5960A892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A531-0943-4996-B7FB-7D7F26D4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CE19-F487-49C0-BE30-B7DC997B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5F5F-C71A-4624-BDA1-2DCA584E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148A-7DA6-425D-8B52-49711891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EA30-9690-4085-8F0F-288A0365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B08-68EC-4920-9C87-EDC9B45C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5282-5031-4EF8-A44B-6A816AC0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ECD70-06F3-479E-9366-5F8BD389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AF38-9DD3-421E-AE6F-AF36D1FA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410F-8D56-49A4-A69D-EE9745CB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B98C-E42B-4EF3-B25D-72DD29BF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5E1C-BF37-4F13-B7D1-ACE44C31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F093-3AE0-4E9C-B0D8-69219DFE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C0D2-53DA-4C89-8118-19FF1226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780EC-5C33-47F2-90DD-ED0D72B0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7D7D-606B-428A-8C93-D162037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D71F-DF0C-46FD-9E0B-1D93B336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CEAF-1043-4923-A72A-440D7D4F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DDB7-D398-474A-A57E-C7FDAE4E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7910-E6EF-471B-9E7E-49F4DA47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2D3B-7373-4831-891C-12D7CB1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CD99-5D0B-40EC-9678-06CB57BB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BCF27-39D5-4502-A540-54F01768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BEAEC-5680-4798-A242-8E7B0237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685C-AA44-4E8D-982D-79260883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1AC7-914E-4ACF-8F25-DFC92E88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A1D16-A5B4-4F63-8450-A0D2DA63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FB7-6885-4524-9E01-EACB59BB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D00D5-1374-4CA1-9A05-E41E6A30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930BF-677F-480D-B90A-9B700D9A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13EA3-FFCF-4F10-A1E1-8EBC65DD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82A9-BCCD-4835-ABFB-D0368096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D2EA-734A-468F-A392-2DE325F8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3C01-EE6F-4B79-A1F8-13292D1A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E9396-2E2A-4867-8536-068A2D91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77DB1-4586-46D9-B633-7412512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124E-E30E-41FB-86BA-77C6295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8734-2139-4C09-8858-0B0FCCCF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7C9-FD69-4BFE-8BC6-8D84EA6D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6BF9-CB62-436D-BF67-403371E2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D1319-29E4-4B6A-A0D3-5E206352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5AE77-881C-4FB3-AC98-3C1D4AAE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2565-B248-4A96-B7D9-546A3F43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04C57-B11F-484C-BAEC-A2F38A64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F131-BC04-4A28-A6FF-D299250E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62DE-EE53-4565-99C2-ED592027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C4F4A-A35E-4A04-9631-6A94E797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37818-5660-48AF-B4CB-0E0FF2C4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AA82C-A1CF-4655-B84A-DAF064CF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9A7-B616-410E-954F-7564940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0733-B14E-4FB2-8722-DE2AE890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E2C6A-C0D7-4116-AFDA-3CFC5FE2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C4B30-D056-47FA-A7F4-AB6F5D28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2A982-12B4-4449-8911-DF234724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20103-A3B0-48A8-B6FB-9137F74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9ADA8-8381-4840-A5BA-1AB79BF9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3BA44-686A-4599-83AA-D01A0D16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146AA-6263-45CB-A8D3-756BA8BB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6C638-9D4D-40E7-9D56-5A16A968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5F5CE-71A3-4BE9-B8A9-A143F67E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374-BA0C-487E-84B8-F151215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20D5E-15B9-4E04-B081-CD3092E3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8A030-7711-4AA4-B42E-9D5A1D31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FB38D-FBCC-401E-B368-1EB441B3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11100-DCEE-47C1-850C-6F5D7BC4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0E4D8-70CA-4A28-B95C-844C612C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9A447-F2E0-4C14-9F81-610D678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E780A-3B21-4AA9-8E45-2CE634F9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9C27C-567A-453A-A41F-F10A361D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045AF-6ADE-4FB5-A212-C2F95BCA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74AB2-C4B9-4B49-A44F-949BB587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325-B1F7-40E0-8DD0-D274C196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AEAD4-19B7-49CB-83A2-003CA951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8D824-3747-4404-A762-02B0D6B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52D4C-C76C-4C18-84A2-899C7E6E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3881-5EB0-4119-9C93-33E05CA2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09BC9-DA30-4AF2-819B-5A3CF6CC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C88FA-2B18-44D2-AE3B-32C508A7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5D7B5-FAD6-47F6-9F2F-4D44CE7F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5730-DCDC-4483-86C2-053DF53E03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3869-12FD-4F52-9026-423D63BE45A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0B7A-5F79-4CBF-8082-F522D68576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CDF7-BD20-4C15-9D28-28405F61B9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581-ABCA-40C4-972B-262BEC01B1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3BF7-6AA7-4737-A5E3-08514E63EE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6035-FF02-47B2-980A-EF7544C63C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E7E6-C0BC-4FF0-AB1F-1ABE1D3CA3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6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661240" cy="11509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7"/>
          <p:cNvSpPr/>
          <p:nvPr/>
        </p:nvSpPr>
        <p:spPr>
          <a:xfrm>
            <a:off x="796320" y="15001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4028040" y="15001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ЛЕДСТВИ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7001280" y="15001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TextBox 10"/>
          <p:cNvSpPr/>
          <p:nvPr/>
        </p:nvSpPr>
        <p:spPr>
          <a:xfrm>
            <a:off x="47880" y="2286000"/>
            <a:ext cx="28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Изменчивос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«уклонение от нормы»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TextBox 11"/>
          <p:cNvSpPr/>
          <p:nvPr/>
        </p:nvSpPr>
        <p:spPr>
          <a:xfrm>
            <a:off x="71640" y="31431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Наследственность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TextBox 12"/>
          <p:cNvSpPr/>
          <p:nvPr/>
        </p:nvSpPr>
        <p:spPr>
          <a:xfrm>
            <a:off x="-28440" y="3714840"/>
            <a:ext cx="35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Интенсивность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ножения  организмо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геометрической прогресси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Правая фигурная скобка 13"/>
          <p:cNvSpPr/>
          <p:nvPr/>
        </p:nvSpPr>
        <p:spPr>
          <a:xfrm>
            <a:off x="3357720" y="2286000"/>
            <a:ext cx="369720" cy="2428920"/>
          </a:xfrm>
          <a:custGeom>
            <a:avLst/>
            <a:gdLst>
              <a:gd name="textAreaLeft" fmla="*/ 0 w 369720"/>
              <a:gd name="textAreaRight" fmla="*/ 133560 w 369720"/>
              <a:gd name="textAreaTop" fmla="*/ 0 h 2428920"/>
              <a:gd name="textAreaBottom" fmla="*/ 2429280 h 24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extBox 15"/>
          <p:cNvSpPr/>
          <p:nvPr/>
        </p:nvSpPr>
        <p:spPr>
          <a:xfrm>
            <a:off x="56880" y="5072040"/>
            <a:ext cx="37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.Органиченность ресурс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ля  жизни (территория, пища)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Штриховая стрелка вправо 16"/>
          <p:cNvSpPr/>
          <p:nvPr/>
        </p:nvSpPr>
        <p:spPr>
          <a:xfrm>
            <a:off x="3571920" y="2714760"/>
            <a:ext cx="357120" cy="28548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Штриховая стрелка вправо 17"/>
          <p:cNvSpPr/>
          <p:nvPr/>
        </p:nvSpPr>
        <p:spPr>
          <a:xfrm>
            <a:off x="3714840" y="5000760"/>
            <a:ext cx="357120" cy="28548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TextBox 18"/>
          <p:cNvSpPr/>
          <p:nvPr/>
        </p:nvSpPr>
        <p:spPr>
          <a:xfrm>
            <a:off x="3855240" y="264312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орьба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 существован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19"/>
          <p:cNvSpPr/>
          <p:nvPr/>
        </p:nvSpPr>
        <p:spPr>
          <a:xfrm>
            <a:off x="4128840" y="378612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Естественный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тбо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Стрелка вниз 20"/>
          <p:cNvSpPr/>
          <p:nvPr/>
        </p:nvSpPr>
        <p:spPr>
          <a:xfrm>
            <a:off x="4714920" y="32860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21"/>
          <p:cNvSpPr/>
          <p:nvPr/>
        </p:nvSpPr>
        <p:spPr>
          <a:xfrm>
            <a:off x="6631200" y="200016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Формирован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испособленност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22"/>
          <p:cNvSpPr/>
          <p:nvPr/>
        </p:nvSpPr>
        <p:spPr>
          <a:xfrm>
            <a:off x="6941160" y="300024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Многообраз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ид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TextBox 23"/>
          <p:cNvSpPr/>
          <p:nvPr/>
        </p:nvSpPr>
        <p:spPr>
          <a:xfrm>
            <a:off x="6450480" y="4143240"/>
            <a:ext cx="28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Сосуществован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изших 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ысокоорганизованных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м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Штриховая стрелка вправо 24"/>
          <p:cNvSpPr/>
          <p:nvPr/>
        </p:nvSpPr>
        <p:spPr>
          <a:xfrm>
            <a:off x="5929200" y="3500280"/>
            <a:ext cx="642960" cy="21456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1:01:45Z</dcterms:created>
  <dc:creator>imac02</dc:creator>
  <dc:description/>
  <dc:language>en-US</dc:language>
  <cp:lastModifiedBy>imac02</cp:lastModifiedBy>
  <dcterms:modified xsi:type="dcterms:W3CDTF">2007-10-26T12:04:10Z</dcterms:modified>
  <cp:revision>7</cp:revision>
  <dc:subject/>
  <dc:title>Логическая схема дарвинизма</dc:title>
</cp:coreProperties>
</file>