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camera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490-309C-4908-9742-FC2816AB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CBE-1B0B-4BA5-8F4F-C118C82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B34-3CCC-4356-800C-4415890F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1DE-B6F9-4385-B0B6-6AC26563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1982-FD69-4AF6-A782-86758ECE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F79-7F9F-4230-9CD7-6C37292D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5788-C7B1-4A11-AA44-0F3AD183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F0F8-D3CD-42D5-B601-484094B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1078-A50D-4022-A12D-E17C683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80B-CFDD-4984-A39E-8901DA7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5B82-833B-4694-BEE8-2BA4B0E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8CC-B144-4D19-8C40-9677541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815-5672-4E26-8C28-57FF6FA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4422-8E51-43B8-9595-DC232EC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C8B4-0C46-475B-AC9E-08532545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68DE-9B2F-4281-950D-6B5CC99D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3BB-4F25-4B23-87DB-A86750ED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B110B-8C55-483A-BB69-AACF3D3D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A256-B7FB-497D-B53A-5BCD86C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0016-58B6-4C23-A2CC-BD4963B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791A-520B-4E2E-AD42-2B845A61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76CF-11B0-4EA6-A480-49650F27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D4B-A9B0-4418-8DB4-E94BD21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2E23-F49B-497C-9BA2-5A2BB73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3CF1-5DF8-4863-808B-4B2A80B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A8A5-50A3-494B-9BF7-F496899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D550E-C4DB-4BB6-976A-3CE3B74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D325-384C-4F6B-A302-420C0CA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F06D-BCB5-4F36-9F0C-B76DDD1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579F-C906-4BE9-A9FA-A34DF4DE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9573-B2C7-4AFF-ACE8-94BCC32B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1ED7-CFB0-42E9-8095-A0DA5F7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CDAE-E09D-490D-B170-C8C8BAF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315-CDC2-43CF-9DB9-7D73F874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348B-B884-4F01-9944-5F391E7B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6C2F-B0B3-47F1-B0E5-CC5BCAE4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D454-D518-4F04-99B1-83CC7710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C127-E56A-4435-89EA-6538E82C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7DE4-EEF5-4013-9FD8-944065A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6253-90B5-420B-ABF8-98FF1E5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8673-F772-4B7D-BF95-E4364E9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A8B82-1DF3-4D93-A2E9-0CBC7021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3C71-8105-4AB1-8481-BFAD067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8796-181F-4955-BC1B-CA73C5E5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D5D-EEF5-49D0-9B5D-F380B7B6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BBAB-868C-4393-9689-4DE31EC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4610-335E-4BCF-A06B-74783B1F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7779A-2835-4E09-BDE5-303DDB0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2ED6B-DAF5-430D-ABE2-99291436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B00C-94A8-4847-AAB0-35E0F9C8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E4FB-C052-4555-8991-0C9EC19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42F08-1C84-44AF-9F0C-9C2919BD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4D3B-ACA9-4D2E-B118-4E470F4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B83C-E8F5-4EE2-98C2-07001F3F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7F80-A98E-45F2-9E8D-1E576FB9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07F-5BC5-4ADB-90D0-652FE03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6BCF-B39A-447B-9D7D-00CEED22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88679-30C0-494C-A0A1-2D1C68BA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C9635-C8BB-4AF2-BE17-4453BCB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99C8-8B2D-474F-8F8A-CAAE598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ED549-6062-4D66-83F1-6C471FD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3EAC8-67AC-4C1F-85A5-ED4E253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B2A9-8D4B-4238-9E9F-1528FB6B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291C-0FC3-4430-A40D-824EE2D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FA41-DFA3-4296-9E77-5B5D866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B6F7-3C1A-42B7-A3B2-2B2FB3E5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268-C103-4DA8-A61E-A925D37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C374-84BC-431F-A4EB-B45AA1A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2CA3-8E2A-4B39-B110-001776E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7E23-698A-476B-B499-A0BD39CE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7443-5A11-4D07-904D-1F43EF5F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E9B46-BCF9-475A-BC6E-E38F9E3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99AA-3BB1-4C56-AA12-4A6A27E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AB31-8772-46F6-B245-9CC9231A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3826B-AC41-4A72-B560-79F484FE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9B6B9-8CFB-4E19-A7D3-AC731FD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494E-238A-4D8E-BD0C-F0BF8F5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854-EA43-4FAE-AEE1-48197EA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4AF48-3EDA-440E-B996-A77180E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9229-7123-44E7-96A8-8A35134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DD3CD-AA08-49D7-87C3-87BB85FD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75B9C-28D2-427D-9AE6-8CC18E76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DA6F-EA3D-4A60-B356-A676FD5C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79BFA-72C7-49A2-B52E-4A4EBC3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D5E41-6EDA-49A0-8B35-8392146E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41AB-E0C9-4B8E-9872-F562274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3CFB3-5022-459B-91DC-2181AFB6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DD1DD-A931-4FFF-B844-36457F64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525-AFDF-43BC-91E0-E834ECE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AC54-36F8-40DA-93BE-4768371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83217-76BB-47D3-994A-EFF4EC28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AF56B-6121-46EE-8784-F12B5918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C9EA7-BCC4-40CE-9806-896B882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2A516-F4BD-4A15-8CE8-AC328FBB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92CB1-F739-4E60-A368-3259AE6A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51E5B-6D89-4365-BBE8-D89CC743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E9B-631E-4683-9AEF-7D11DF0C6D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BB4-FA95-48A9-A9B0-FB517207DE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9DAB-F71E-4532-AAB9-1C116F515D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5C5-CBC8-4096-971D-4CBCC12683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28AA-2D49-4384-84DE-F464413985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63A8-A363-4B72-8F2C-6B7C2C5EDA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6B1-B4CE-4C4E-9AC3-059EF1EC45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5C34-3A08-4CDB-AC73-C581C77176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6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61240" cy="1150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796320" y="15001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4028040" y="15001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7001280" y="15001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47880" y="2286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Изменчив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«уклонение от нормы»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Box 11"/>
          <p:cNvSpPr/>
          <p:nvPr/>
        </p:nvSpPr>
        <p:spPr>
          <a:xfrm>
            <a:off x="71640" y="31431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Наследственн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-28440" y="3714840"/>
            <a:ext cx="35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Интенсивность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ножения  организм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геометрической прогресси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Правая фигурная скобка 13"/>
          <p:cNvSpPr/>
          <p:nvPr/>
        </p:nvSpPr>
        <p:spPr>
          <a:xfrm>
            <a:off x="3357720" y="2286000"/>
            <a:ext cx="369720" cy="2428920"/>
          </a:xfrm>
          <a:custGeom>
            <a:avLst/>
            <a:gdLst>
              <a:gd name="textAreaLeft" fmla="*/ 0 w 369720"/>
              <a:gd name="textAreaRight" fmla="*/ 133560 w 36972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Box 15"/>
          <p:cNvSpPr/>
          <p:nvPr/>
        </p:nvSpPr>
        <p:spPr>
          <a:xfrm>
            <a:off x="56880" y="5072040"/>
            <a:ext cx="37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Органиченность ресурс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ля  жизни (территория, пища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Штриховая стрелка вправо 16"/>
          <p:cNvSpPr/>
          <p:nvPr/>
        </p:nvSpPr>
        <p:spPr>
          <a:xfrm>
            <a:off x="3571920" y="2714760"/>
            <a:ext cx="357120" cy="285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Штриховая стрелка вправо 17"/>
          <p:cNvSpPr/>
          <p:nvPr/>
        </p:nvSpPr>
        <p:spPr>
          <a:xfrm>
            <a:off x="3714840" y="5000760"/>
            <a:ext cx="357120" cy="285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18"/>
          <p:cNvSpPr/>
          <p:nvPr/>
        </p:nvSpPr>
        <p:spPr>
          <a:xfrm>
            <a:off x="3855240" y="26431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орьб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 существ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19"/>
          <p:cNvSpPr/>
          <p:nvPr/>
        </p:nvSpPr>
        <p:spPr>
          <a:xfrm>
            <a:off x="4128840" y="37861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стественны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тб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Стрелка вниз 20"/>
          <p:cNvSpPr/>
          <p:nvPr/>
        </p:nvSpPr>
        <p:spPr>
          <a:xfrm>
            <a:off x="4714920" y="32860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21"/>
          <p:cNvSpPr/>
          <p:nvPr/>
        </p:nvSpPr>
        <p:spPr>
          <a:xfrm>
            <a:off x="6631200" y="200016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Формир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способленно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22"/>
          <p:cNvSpPr/>
          <p:nvPr/>
        </p:nvSpPr>
        <p:spPr>
          <a:xfrm>
            <a:off x="6941160" y="3000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Многообраз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ид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6450480" y="4143240"/>
            <a:ext cx="28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Сосуществ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изших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ысокоорганизованных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м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Штриховая стрелка вправо 24"/>
          <p:cNvSpPr/>
          <p:nvPr/>
        </p:nvSpPr>
        <p:spPr>
          <a:xfrm>
            <a:off x="5929200" y="3500280"/>
            <a:ext cx="642960" cy="21456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01:45Z</dcterms:created>
  <dc:creator>imac02</dc:creator>
  <dc:description/>
  <dc:language>en-US</dc:language>
  <cp:lastModifiedBy>imac02</cp:lastModifiedBy>
  <dcterms:modified xsi:type="dcterms:W3CDTF">2007-10-26T12:04:10Z</dcterms:modified>
  <cp:revision>7</cp:revision>
  <dc:subject/>
  <dc:title>Логическая схема дарвинизма</dc:title>
</cp:coreProperties>
</file>