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99A-97FC-4878-84CC-EE4A8D9E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57E-288B-47DC-B08F-753C5A0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14D-2F96-41BE-B8EE-9B944606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060-5021-4F02-83CC-ECE4092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392-D89F-4044-895F-79404B6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E43-5E9E-4E66-A488-661928A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676-0C46-4ABC-BB88-2F0B5BD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320-5E8D-45DE-9E3F-E8E9998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F40-A289-4905-91F7-C87EED3B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4E4-7D9C-4278-8AB5-A84384F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920-76B6-4474-8E02-1C5A98F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724-D5E9-4035-9E39-678E3750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52A-7100-4F3B-94A5-99A727AB2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66680" y="1219320"/>
            <a:ext cx="74678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Минутка чистопис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p:transition spd="slow">
    <p:strips dir="r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ый, кругл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ь из ды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мы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усный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809880" cy="415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сьмо наклонных пал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хой – кл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крый – б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о 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ятки гл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язаны к гря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т ряд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лены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10240" cy="44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а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что-то страшное в воде мелькну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лывет зубаста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80988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л цветок и вдруг проснулс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спать не захот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охнулся, встрепену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вился вверх и уле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в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Захо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сенка Винни-Пух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тучка, тучка, ту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все не медв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как приятно Ту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ебу лете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в синем-синем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и 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се Ту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весело по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102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сьмо строчной и заглавной букв е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всегда в лес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ш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йдем гулять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т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колючая, как ёж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ю в платье летн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 на компот насу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блоки, сливы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3809880" cy="4991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ьмо строчной буквы 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сиж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воздух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жу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т уж вдовол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ужжж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whoosh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Сергей</cp:lastModifiedBy>
  <dcterms:modified xsi:type="dcterms:W3CDTF">2013-03-24T23:51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