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17A-CF4B-474F-AF0E-916D1653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11B-FC97-4A39-B159-E7B0CF23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829-40BB-4F0A-9953-B3DBC4AE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E82-D964-4EEC-A82E-70E94F0D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B4C-02C2-4C9D-91D7-56E529FE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FFA-D3BA-45D2-ACF7-59066DF4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222-D7D0-4AAA-BDB4-D121C6A9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CF2-2B19-47C4-820B-1E454113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499-7E33-4AC0-AE5A-04923042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061-5C74-403B-BC15-BC3919B8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0DB-4593-4464-95F2-7CDFA20F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323-EBE3-4BF0-8409-51E6249A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d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38A2-C896-4E66-8279-918A8279A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66680" y="1219320"/>
            <a:ext cx="74678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Минутка чистопис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</p:spTree>
  </p:cSld>
  <p:transition spd="slow">
    <p:strips dir="rd"/>
    <p:sndAc>
      <p:stSnd>
        <p:snd r:embed="rId1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о строчной буквы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ый, кругл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ь из ды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ят м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усный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809880" cy="4152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исьмо наклонных пал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хой – кл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крый – бл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сьмо строчной и заглавной букв о 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ятки гл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язаны к гряд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ат ряд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лены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ур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810240" cy="4457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сьмо строчной и заглавной букв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что-то страшное в воде мелькну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лывет зубаста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809880" cy="4406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о строчной буквы 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л цветок и вдруг проснулс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спать не захоте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лохнулся, встрепенул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вился вверх и уле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4190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сьмо строчной и заглавной букв в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Заход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сенка Винни-Пух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тучка, тучка, ту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овсе не медве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х, как приятно Ту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ебу лете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х, в синем-синем 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и 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все Ту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весело по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102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сьмо строчной и заглавной букв е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всегда в лес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еш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йдем гулять 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т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т колючая, как ёж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ою в платье летн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о строчной буквы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 на компот насу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блоки, сливы 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809880" cy="4991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о строчной буквы 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жужжу, когда сиж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жужжу, когда хо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 воздух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жу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т уж вдовол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ужжж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4216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gey</dc:creator>
  <dc:description/>
  <dc:language>en-US</dc:language>
  <cp:lastModifiedBy>Сергей</cp:lastModifiedBy>
  <dcterms:modified xsi:type="dcterms:W3CDTF">2013-03-24T23:51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