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1A1-F195-4621-B9E4-702E0938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C2D-B358-4A3C-BE89-D2D59B33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8B7-B763-48F2-A646-CE65FA85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F04-13B4-46FB-86F8-C50B4C00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7D8C-1C75-4CD7-B156-3ED46B52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A24-3EF8-4A59-BF12-0AAF81AC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555A-704E-46EF-B3DE-1AED954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1E7B-CB14-485C-8E86-8DFF809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5661-D47B-4A2C-8349-6D6ED3B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1A89-B5DF-4F8D-A6CF-3BFEA141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B9D3-F2B7-4411-96F1-61CDB5D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137-79FA-432D-B813-215545B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F84-61ED-404C-ABBD-ADA8F00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4552-87EB-4D8A-8113-869388D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30B-1570-40A4-9286-87A3C717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BA2E-EE21-4ED9-96A0-351D737B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E298-4ADD-483D-B815-1262F2FC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B9F-2FD4-4A72-8A5A-4353C08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860-C56E-4AAE-86CB-0DBAB7E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206-8806-4B4A-81E5-247A1838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909-2C7C-4CC6-A469-A5AE5A7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4DC-3034-485F-88B2-98BB9FD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866-4D18-4EBA-8782-918BD04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EA1-A78F-4753-8E32-D4FF4A3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053-DFFB-4172-9133-883BD82903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B52-1F19-4331-AAB0-C28773F5C4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ventions that shook the Worl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bile tele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8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656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I think it is the</a:t>
            </a:r>
            <a:r>
              <a:rPr b="1" lang="en-US" sz="4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most useful invention that we can imag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459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 don’t know when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a mobile telephone had been invented, but I am sure that it is a very useful and invaluable thing nowada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First, I can take it anywhere I li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t’s fantastic to be able to call anybody up while you’re driving up the motorway or walk in the for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Then, a mobile telephone is used more often than other kinds of telephones and it’s used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    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Comic Sans MS"/>
              </a:rPr>
              <a:t>very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oft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50000">
              <a:srgbClr val="cc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mobile telephone is pleasant to u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fe is dull withou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is a waste of money, but it saves a lot of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suits everyone whatever his or her 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 mobile telephone has it own good and bad sid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060280"/>
            <a:ext cx="7846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 can receive or make ca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t is very compact and I can go anywhere with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 agree with people who think that the rays may cause headaches and even more dangerous diseases, but for me my telephone is really invaluable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Somebody thinks that it is rather a necessity than a luxu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The price and desig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ain advantage is the price. It’s reasonable for most people and different tas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esign is very moder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5000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Functions of a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mobile telephon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342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dials the last numbe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us to make/ answer call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justs the ringer volume and select the receiver volu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s a clear channe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s that batteries must be recharg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ts a call on hol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justs the speaker volu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to store phone numbers in memory and 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l them automatical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8:48:03Z</dcterms:created>
  <dc:creator>Customer</dc:creator>
  <dc:description/>
  <dc:language>en-US</dc:language>
  <cp:lastModifiedBy>Admin</cp:lastModifiedBy>
  <dcterms:modified xsi:type="dcterms:W3CDTF">2013-03-28T15:47:17Z</dcterms:modified>
  <cp:revision>5</cp:revision>
  <dc:subject/>
  <dc:title>Inventions, that shook the World</dc:title>
</cp:coreProperties>
</file>