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691-6A24-4201-9BE3-EB6FA268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2F8-000F-4152-BDDA-EA20F86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C20-0B70-46F8-8652-D37B4C0B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517-F950-41FB-9D28-4127F718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8F14-5FF1-4213-B2D3-1C00F024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41BA-4793-4499-BEC0-8ADEECF8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B6F4-0EE2-452A-AAED-CE84B3E7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5183-B045-4E0C-909B-E9A4FFCD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DD18-0369-4271-A144-138A3A1E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2EA9-36EE-4FEB-A25A-D2E902F2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A3AB-C0D0-4016-8F51-684797A9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176-9D24-4216-9333-DD0C59BD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2C5A-2A14-44C1-9787-C2E44CE7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AC1E-FEF7-4F18-B392-BA8E98D6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F557-A65C-4015-99E3-CF84B648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1AFF-8811-41AB-8532-69ECB38F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8787-80ED-4BE2-B427-9F336969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2A5-B590-4320-AF8A-DB2D8E73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EE8-2883-4A43-8E4C-043BDB72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C8B-F5AA-4BF9-BB8A-2D71C991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0C7-D5B9-4D8D-AE5B-041B9F1E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2D5-867D-4186-ABB4-CFDFBAC9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A72-BEBA-498F-A2CC-B4596785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175-C50F-4609-8624-9C6E626D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3B63-13F9-407D-BA1D-FD8BD51E16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52F8-03D9-4C61-9F03-889BF9D02B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ventions that shook the Worl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bile teleph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88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6564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I think it is the</a:t>
            </a:r>
            <a:r>
              <a:rPr b="1" lang="en-US" sz="44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Comic Sans MS"/>
              </a:rPr>
              <a:t>most useful invention that we can imag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459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I don’t know when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a mobile telephone had been invented, but I am sure that it is a very useful and invaluable thing nowada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First, I can take it anywhere I lik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It’s fantastic to be able to call anybody up while you’re driving up the motorway or walk in the for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Then, a mobile telephone is used more often than other kinds of telephones and it’s used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     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Comic Sans MS"/>
              </a:rPr>
              <a:t>very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 oft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33"/>
            </a:gs>
            <a:gs pos="50000">
              <a:srgbClr val="ccffcc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mobile telephone is pleasant to us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64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fe is dull without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is a waste of money, but it saves a lot of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suits everyone whatever his or her 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A mobile telephone has it own good and bad sid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060280"/>
            <a:ext cx="78469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I can receive or make ca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It is very compact and I can go anywhere with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I agree with people who think that the rays may cause headaches and even more dangerous diseases, but for me my telephone is really invaluable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Somebody thinks that it is rather a necessity than a luxu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687096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The price and desig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ain advantage is the price. It’s reasonable for most people and different tas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esign is very moder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99"/>
            </a:gs>
            <a:gs pos="50000">
              <a:srgbClr val="ccffcc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Functions of a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mobile telephon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1342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dials the last number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lps us to make/ answer call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justs the ringer volume and select the receiver volu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ects a clear channel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ws that batteries must be recharged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uts a call on hold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justs the speaker volu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lps to store phone numbers in memory and t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al them automaticall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08:48:03Z</dcterms:created>
  <dc:creator>Customer</dc:creator>
  <dc:description/>
  <dc:language>en-US</dc:language>
  <cp:lastModifiedBy>Admin</cp:lastModifiedBy>
  <dcterms:modified xsi:type="dcterms:W3CDTF">2013-03-28T15:47:17Z</dcterms:modified>
  <cp:revision>5</cp:revision>
  <dc:subject/>
  <dc:title>Inventions, that shook the World</dc:title>
</cp:coreProperties>
</file>