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32.wmf" ContentType="image/x-wmf"/>
  <Override PartName="/ppt/media/image19.png" ContentType="image/png"/>
  <Override PartName="/ppt/media/image20.jpeg" ContentType="image/jpeg"/>
  <Override PartName="/ppt/media/image8.png" ContentType="image/png"/>
  <Override PartName="/ppt/media/image14.jpeg" ContentType="image/jpeg"/>
  <Override PartName="/ppt/media/image33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9.png" ContentType="image/png"/>
  <Override PartName="/ppt/media/image11.png" ContentType="image/pn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36.jpeg" ContentType="image/jpeg"/>
  <Override PartName="/ppt/media/image2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6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999D-D47C-4139-AC76-7EE0D7F2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42D2-C423-4813-BC2D-87CFD80F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189E-048E-4BED-8D5E-27508F1A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6881-C67A-4CF9-865E-0427189C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F36A-009A-49EF-A60C-7AD90788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11BB-21ED-4CA7-BF0E-9B8B9B9B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F61C-40A2-4DAA-97BE-227D8A8A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B6BD-3E11-4323-9BB0-DCB4C578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8CDE-5644-4E51-910B-0DB5B896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F86F-342B-42A4-818B-27A1AFCC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753F-C4C8-468A-82F1-3A2E2342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3591-9778-4ED6-85DE-8A2135A4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435E-3D9B-4567-A39B-BC5AEEF3F3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6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униципальное казенное общеобразовательное учреждение </a:t>
            </a: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«МКОУ  СОШ №4 г.Лиски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50920" y="1485000"/>
            <a:ext cx="86040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Verdana"/>
              </a:rPr>
              <a:t>«ФОРМИРОВАНИЕ МОТИВ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Verdana"/>
              </a:rPr>
              <a:t>К ИЗУЧЕНИЮ МАТЕМАТИКИ»</a:t>
            </a:r>
            <a:r>
              <a:rPr b="1" lang="ru-RU" sz="1800" spc="-1" strike="noStrike">
                <a:solidFill>
                  <a:srgbClr val="0099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211640" y="3606480"/>
            <a:ext cx="475308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Verdana"/>
              </a:rPr>
              <a:t>Ворон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Verdana"/>
              </a:rPr>
              <a:t>Инесса Ива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ЕРВО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ЕДАГОГИЧЕСКИЙ СТАЖ 24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3403440" cy="34243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PB280057"/>
          <p:cNvPicPr/>
          <p:nvPr/>
        </p:nvPicPr>
        <p:blipFill>
          <a:blip r:embed="rId1"/>
          <a:stretch/>
        </p:blipFill>
        <p:spPr>
          <a:xfrm>
            <a:off x="755640" y="1341360"/>
            <a:ext cx="3368520" cy="2525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B280055"/>
          <p:cNvPicPr/>
          <p:nvPr/>
        </p:nvPicPr>
        <p:blipFill>
          <a:blip r:embed="rId2"/>
          <a:stretch/>
        </p:blipFill>
        <p:spPr>
          <a:xfrm>
            <a:off x="3419640" y="4005360"/>
            <a:ext cx="3371760" cy="2527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PB120129"/>
          <p:cNvPicPr/>
          <p:nvPr/>
        </p:nvPicPr>
        <p:blipFill>
          <a:blip r:embed="rId3"/>
          <a:stretch/>
        </p:blipFill>
        <p:spPr>
          <a:xfrm>
            <a:off x="5076720" y="1341360"/>
            <a:ext cx="3368880" cy="25272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0"/>
          <p:cNvSpPr/>
          <p:nvPr/>
        </p:nvSpPr>
        <p:spPr>
          <a:xfrm>
            <a:off x="611280" y="95040"/>
            <a:ext cx="784836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Verdana"/>
                <a:ea typeface="Times New Roman"/>
              </a:rPr>
              <a:t>Внеклассная работа по предме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«Математику уже потому учить необходим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что она ум в порядок приводит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М.В. Ломоносов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-114480" y="8730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-114480" y="8730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-112680" y="872280"/>
            <a:ext cx="42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025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8000" y="4149360"/>
            <a:ext cx="3457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ружок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«Наглядная геометрия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истанционные олимпиад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деля математик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онкурсы, чемпиона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H:\Documents and Settings\Aida\Рабочий стол\текстуры и фоны, клипарты\Scool_objekts\scool (45).png"/>
          <p:cNvPicPr/>
          <p:nvPr/>
        </p:nvPicPr>
        <p:blipFill>
          <a:blip r:embed="rId4"/>
          <a:stretch/>
        </p:blipFill>
        <p:spPr>
          <a:xfrm>
            <a:off x="7308720" y="4292640"/>
            <a:ext cx="1314720" cy="17287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105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Обучение и воспитание – единый процесс.</a:t>
            </a:r>
            <a:br>
              <a:rPr sz="2800"/>
            </a:b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Работа в лагере «Золотой коло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IMG_0535"/>
          <p:cNvPicPr/>
          <p:nvPr/>
        </p:nvPicPr>
        <p:blipFill>
          <a:blip r:embed="rId1"/>
          <a:stretch/>
        </p:blipFill>
        <p:spPr>
          <a:xfrm rot="20496600">
            <a:off x="468360" y="1844640"/>
            <a:ext cx="2881440" cy="2162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IMG_0543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771640" y="328464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IMG_0542"/>
          <p:cNvPicPr/>
          <p:nvPr/>
        </p:nvPicPr>
        <p:blipFill>
          <a:blip r:embed="rId3">
            <a:lum contrast="12000"/>
          </a:blip>
          <a:stretch/>
        </p:blipFill>
        <p:spPr>
          <a:xfrm rot="1437600">
            <a:off x="5651640" y="1989000"/>
            <a:ext cx="2971800" cy="23050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3132000" y="1700280"/>
            <a:ext cx="280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5 пото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щения с детьм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059280" y="595008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то тоже мои де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Уровень подготовки моих уче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250920" y="1268280"/>
          <a:ext cx="8569080" cy="483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268280"/>
                    <a:ext cx="856908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8" name="Group 6"/>
          <p:cNvGrpSpPr/>
          <p:nvPr/>
        </p:nvGrpSpPr>
        <p:grpSpPr>
          <a:xfrm>
            <a:off x="6156360" y="1557360"/>
            <a:ext cx="2016000" cy="2305080"/>
            <a:chOff x="6156360" y="1557360"/>
            <a:chExt cx="2016000" cy="2305080"/>
          </a:xfrm>
        </p:grpSpPr>
        <p:grpSp>
          <p:nvGrpSpPr>
            <p:cNvPr id="119" name="Group 7"/>
            <p:cNvGrpSpPr/>
            <p:nvPr/>
          </p:nvGrpSpPr>
          <p:grpSpPr>
            <a:xfrm>
              <a:off x="6156360" y="1557360"/>
              <a:ext cx="2016000" cy="2305080"/>
              <a:chOff x="6156360" y="1557360"/>
              <a:chExt cx="2016000" cy="2305080"/>
            </a:xfrm>
          </p:grpSpPr>
          <p:pic>
            <p:nvPicPr>
              <p:cNvPr id="120" name="Picture 3" descr="H:\Documents and Settings\Aida\Рабочий стол\МОИ шаблоны ЭКСПЕРИМЕНТы\30040876.jpg"/>
              <p:cNvPicPr/>
              <p:nvPr/>
            </p:nvPicPr>
            <p:blipFill>
              <a:blip r:embed="rId3"/>
              <a:stretch/>
            </p:blipFill>
            <p:spPr>
              <a:xfrm>
                <a:off x="6156360" y="1557360"/>
                <a:ext cx="2016000" cy="23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Picture 4" descr="H:\Documents and Settings\Aida\Рабочий стол\МОИ шаблоны ЭКСПЕРИМЕНТы\18112_0-550-700-1.jpg"/>
              <p:cNvPicPr/>
              <p:nvPr/>
            </p:nvPicPr>
            <p:blipFill>
              <a:blip r:embed="rId4"/>
              <a:stretch/>
            </p:blipFill>
            <p:spPr>
              <a:xfrm>
                <a:off x="6719400" y="1753920"/>
                <a:ext cx="931680" cy="700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2" name="Picture 8" descr="H:\Documents and Settings\Aida\Рабочий стол\текстуры и фоны, клипарты\новеньки картинки\addition 2 plus 2 ha.gif"/>
            <p:cNvPicPr/>
            <p:nvPr/>
          </p:nvPicPr>
          <p:blipFill>
            <a:blip r:embed="rId5"/>
            <a:stretch/>
          </p:blipFill>
          <p:spPr>
            <a:xfrm>
              <a:off x="6842520" y="3412440"/>
              <a:ext cx="619920" cy="410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Поступление выпускников 2010-2011 учебного года в высшие учебные заведения на технические и экономические специ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2276640"/>
          <a:ext cx="7859880" cy="2685960"/>
        </p:xfrm>
        <a:graphic>
          <a:graphicData uri="http://schemas.openxmlformats.org/drawingml/2006/table">
            <a:tbl>
              <a:tblPr/>
              <a:tblGrid>
                <a:gridCol w="2619360"/>
                <a:gridCol w="2621160"/>
                <a:gridCol w="2619360"/>
              </a:tblGrid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о – математический профил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о – экономический профи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образова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ьный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% уча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% уча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% уча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43280" y="836280"/>
            <a:ext cx="345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Verdana"/>
              </a:rPr>
              <a:t>Мои дости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P1010840"/>
          <p:cNvPicPr/>
          <p:nvPr/>
        </p:nvPicPr>
        <p:blipFill>
          <a:blip r:embed="rId1">
            <a:lum contrast="18000"/>
          </a:blip>
          <a:stretch/>
        </p:blipFill>
        <p:spPr>
          <a:xfrm rot="20783400">
            <a:off x="539280" y="549000"/>
            <a:ext cx="2159280" cy="287964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127" name="Picture 5" descr="P1010855"/>
          <p:cNvPicPr/>
          <p:nvPr/>
        </p:nvPicPr>
        <p:blipFill>
          <a:blip r:embed="rId2"/>
          <a:stretch/>
        </p:blipFill>
        <p:spPr>
          <a:xfrm rot="924000">
            <a:off x="6372360" y="549360"/>
            <a:ext cx="2157120" cy="287964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128" name="Text Box 9"/>
          <p:cNvSpPr/>
          <p:nvPr/>
        </p:nvSpPr>
        <p:spPr>
          <a:xfrm>
            <a:off x="614880" y="4797360"/>
            <a:ext cx="82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ётная грамота Министерства образования РСФСР и ЦК профсою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бедитель школьного этапа конкурса «Учитель г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P1010797"/>
          <p:cNvPicPr/>
          <p:nvPr/>
        </p:nvPicPr>
        <p:blipFill>
          <a:blip r:embed="rId3"/>
          <a:stretch/>
        </p:blipFill>
        <p:spPr>
          <a:xfrm>
            <a:off x="3059280" y="2421000"/>
            <a:ext cx="2879640" cy="21589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69800" y="6300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Verdana"/>
              </a:rPr>
              <a:t>«Цель обучения ребенка</a:t>
            </a:r>
            <a:r>
              <a:rPr b="1" lang="en-US" sz="20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9999"/>
                </a:solidFill>
                <a:latin typeface="Verdana"/>
              </a:rPr>
              <a:t>состоит в том, </a:t>
            </a:r>
            <a:br>
              <a:rPr sz="2000"/>
            </a:br>
            <a:r>
              <a:rPr b="1" lang="ru-RU" sz="2000" spc="-1" strike="noStrike">
                <a:solidFill>
                  <a:srgbClr val="009999"/>
                </a:solidFill>
                <a:latin typeface="Verdana"/>
              </a:rPr>
              <a:t>чтобы сделать его способным развиваться </a:t>
            </a:r>
            <a:br>
              <a:rPr sz="2000"/>
            </a:br>
            <a:r>
              <a:rPr b="1" lang="ru-RU" sz="2000" spc="-1" strike="noStrike">
                <a:solidFill>
                  <a:srgbClr val="009999"/>
                </a:solidFill>
                <a:latin typeface="Verdana"/>
              </a:rPr>
              <a:t>дальше без помощи учителя». </a:t>
            </a:r>
            <a:br>
              <a:rPr sz="2000"/>
            </a:br>
            <a:r>
              <a:rPr b="1" lang="ru-RU" sz="2000" spc="-1" strike="noStrike">
                <a:solidFill>
                  <a:srgbClr val="009999"/>
                </a:solidFill>
                <a:latin typeface="Verdana"/>
              </a:rPr>
              <a:t>Э. Хабба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P1010777"/>
          <p:cNvPicPr/>
          <p:nvPr/>
        </p:nvPicPr>
        <p:blipFill>
          <a:blip r:embed="rId1"/>
          <a:stretch/>
        </p:blipFill>
        <p:spPr>
          <a:xfrm>
            <a:off x="468360" y="1484280"/>
            <a:ext cx="3017880" cy="2317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P1010781"/>
          <p:cNvPicPr/>
          <p:nvPr/>
        </p:nvPicPr>
        <p:blipFill>
          <a:blip r:embed="rId2"/>
          <a:stretch/>
        </p:blipFill>
        <p:spPr>
          <a:xfrm>
            <a:off x="5292720" y="2349360"/>
            <a:ext cx="3382920" cy="25387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"/>
          <p:cNvSpPr/>
          <p:nvPr/>
        </p:nvSpPr>
        <p:spPr>
          <a:xfrm>
            <a:off x="3132000" y="5300640"/>
            <a:ext cx="410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евиз моей работы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«Каждый ребенок успешен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0"/>
          <p:cNvGrpSpPr/>
          <p:nvPr/>
        </p:nvGrpSpPr>
        <p:grpSpPr>
          <a:xfrm>
            <a:off x="755640" y="3933720"/>
            <a:ext cx="2322360" cy="2577960"/>
            <a:chOff x="755640" y="3933720"/>
            <a:chExt cx="2322360" cy="2577960"/>
          </a:xfrm>
        </p:grpSpPr>
        <p:grpSp>
          <p:nvGrpSpPr>
            <p:cNvPr id="50" name="Group 19"/>
            <p:cNvGrpSpPr/>
            <p:nvPr/>
          </p:nvGrpSpPr>
          <p:grpSpPr>
            <a:xfrm>
              <a:off x="755640" y="3933720"/>
              <a:ext cx="2322360" cy="2577960"/>
              <a:chOff x="755640" y="3933720"/>
              <a:chExt cx="2322360" cy="2577960"/>
            </a:xfrm>
          </p:grpSpPr>
          <p:pic>
            <p:nvPicPr>
              <p:cNvPr id="51" name="Picture 3" descr="H:\Documents and Settings\Aida\Рабочий стол\МОИ шаблоны ЭКСПЕРИМЕНТы\30040876.jpg"/>
              <p:cNvPicPr/>
              <p:nvPr/>
            </p:nvPicPr>
            <p:blipFill>
              <a:blip r:embed="rId3"/>
              <a:stretch/>
            </p:blipFill>
            <p:spPr>
              <a:xfrm>
                <a:off x="755640" y="3933720"/>
                <a:ext cx="2322360" cy="257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Picture 4" descr="H:\Documents and Settings\Aida\Рабочий стол\МОИ шаблоны ЭКСПЕРИМЕНТы\18112_0-550-700-1.jpg"/>
              <p:cNvPicPr/>
              <p:nvPr/>
            </p:nvPicPr>
            <p:blipFill>
              <a:blip r:embed="rId4"/>
              <a:stretch/>
            </p:blipFill>
            <p:spPr>
              <a:xfrm>
                <a:off x="1403280" y="4152600"/>
                <a:ext cx="1071360" cy="785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3" name="Picture 8" descr="H:\Documents and Settings\Aida\Рабочий стол\текстуры и фоны, клипарты\новеньки картинки\addition 2 plus 2 ha.gif"/>
            <p:cNvPicPr/>
            <p:nvPr/>
          </p:nvPicPr>
          <p:blipFill>
            <a:blip r:embed="rId5"/>
            <a:stretch/>
          </p:blipFill>
          <p:spPr>
            <a:xfrm>
              <a:off x="1546200" y="6008760"/>
              <a:ext cx="714240" cy="458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Picture 2" descr="H:\Documents and Settings\Aida\Рабочий стол\текстуры и фоны, клипарты\Scool_objekts\scool (30).png"/>
          <p:cNvPicPr/>
          <p:nvPr/>
        </p:nvPicPr>
        <p:blipFill>
          <a:blip r:embed="rId6"/>
          <a:stretch/>
        </p:blipFill>
        <p:spPr>
          <a:xfrm>
            <a:off x="7956720" y="5661000"/>
            <a:ext cx="779400" cy="701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H:\Documents and Settings\Aida\Рабочий стол\текстуры и фоны, клипарты\Scool_objekts\scool (45).png"/>
          <p:cNvPicPr/>
          <p:nvPr/>
        </p:nvPicPr>
        <p:blipFill>
          <a:blip r:embed="rId7"/>
          <a:stretch/>
        </p:blipFill>
        <p:spPr>
          <a:xfrm>
            <a:off x="3995640" y="2565360"/>
            <a:ext cx="701640" cy="922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:\Documents and Settings\Aida\Рабочий стол\текстуры и фоны, клипарты\Scool_objekts\scool (46).png"/>
          <p:cNvPicPr/>
          <p:nvPr/>
        </p:nvPicPr>
        <p:blipFill>
          <a:blip r:embed="rId8"/>
          <a:stretch/>
        </p:blipFill>
        <p:spPr>
          <a:xfrm>
            <a:off x="395280" y="692280"/>
            <a:ext cx="936720" cy="4968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Факторы, определяющие учебную мотивац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тельная система, образовательное учреж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ация образовательного проце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цифика учебного предм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:\Documents and Settings\Aida\Рабочий стол\текстуры и фоны, клипарты\Scool_objekts\scool (30).png"/>
          <p:cNvPicPr/>
          <p:nvPr/>
        </p:nvPicPr>
        <p:blipFill>
          <a:blip r:embed="rId1"/>
          <a:stretch/>
        </p:blipFill>
        <p:spPr>
          <a:xfrm>
            <a:off x="6372360" y="4724280"/>
            <a:ext cx="1296720" cy="1166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H:\Documents and Settings\Aida\Рабочий стол\текстуры и фоны, клипарты\Scool_objekts\scool (45).png"/>
          <p:cNvPicPr/>
          <p:nvPr/>
        </p:nvPicPr>
        <p:blipFill>
          <a:blip r:embed="rId2"/>
          <a:stretch/>
        </p:blipFill>
        <p:spPr>
          <a:xfrm>
            <a:off x="7740720" y="2492280"/>
            <a:ext cx="701640" cy="922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:\Documents and Settings\Aida\Рабочий стол\МОИ шаблоны ЭКСПЕРИМЕНТы\18112_0-550-700-1.jpg"/>
          <p:cNvPicPr/>
          <p:nvPr/>
        </p:nvPicPr>
        <p:blipFill>
          <a:blip r:embed="rId3"/>
          <a:stretch/>
        </p:blipFill>
        <p:spPr>
          <a:xfrm>
            <a:off x="324000" y="765000"/>
            <a:ext cx="1071360" cy="785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:\Documents and Settings\Aida\Рабочий стол\текстуры и фоны, клипарты\Scool_objekts\scool (46).png"/>
          <p:cNvPicPr/>
          <p:nvPr/>
        </p:nvPicPr>
        <p:blipFill>
          <a:blip r:embed="rId4"/>
          <a:stretch/>
        </p:blipFill>
        <p:spPr>
          <a:xfrm>
            <a:off x="1547640" y="4797360"/>
            <a:ext cx="2376720" cy="12607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Verdana"/>
              </a:rPr>
              <a:t>Формирование мотивации </a:t>
            </a:r>
            <a:br>
              <a:rPr sz="3200"/>
            </a:br>
            <a:r>
              <a:rPr b="1" lang="ru-RU" sz="3200" spc="-1" strike="noStrike">
                <a:solidFill>
                  <a:srgbClr val="009999"/>
                </a:solidFill>
                <a:latin typeface="Verdana"/>
              </a:rPr>
              <a:t>через инновационные технологи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817272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ный метод обу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менты методики Прокофьевой О.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остно-ориентированный подх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-коммуникационные техн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Проблемный метод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64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PB280054"/>
          <p:cNvPicPr/>
          <p:nvPr/>
        </p:nvPicPr>
        <p:blipFill>
          <a:blip r:embed="rId1"/>
          <a:stretch/>
        </p:blipFill>
        <p:spPr>
          <a:xfrm>
            <a:off x="395280" y="3500280"/>
            <a:ext cx="3960720" cy="296892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68" name="Rectangle 5"/>
          <p:cNvSpPr/>
          <p:nvPr/>
        </p:nvSpPr>
        <p:spPr>
          <a:xfrm>
            <a:off x="179280" y="4808520"/>
            <a:ext cx="475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P1010816"/>
          <p:cNvPicPr/>
          <p:nvPr/>
        </p:nvPicPr>
        <p:blipFill>
          <a:blip r:embed="rId2"/>
          <a:stretch/>
        </p:blipFill>
        <p:spPr>
          <a:xfrm>
            <a:off x="5435640" y="1557360"/>
            <a:ext cx="3457440" cy="25923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4500720" y="2060640"/>
            <a:ext cx="352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95280" y="1125360"/>
            <a:ext cx="86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Проблемное обучение – «начальная школа»  творче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992920" y="22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-94320" y="1844640"/>
            <a:ext cx="593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проблемной ситу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изучении нов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Создание ситуации успе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Практические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H:\Documents and Settings\Aida\Рабочий стол\текстуры и фоны, клипарты\Scool_objekts\scool (46).png"/>
          <p:cNvPicPr/>
          <p:nvPr/>
        </p:nvPicPr>
        <p:blipFill>
          <a:blip r:embed="rId3"/>
          <a:stretch/>
        </p:blipFill>
        <p:spPr>
          <a:xfrm>
            <a:off x="6372360" y="4724280"/>
            <a:ext cx="2376360" cy="126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H:\Documents and Settings\Aida\Рабочий стол\текстуры и фоны, клипарты\Scool_objekts\scool (45).png"/>
          <p:cNvPicPr/>
          <p:nvPr/>
        </p:nvPicPr>
        <p:blipFill>
          <a:blip r:embed="rId4"/>
          <a:stretch/>
        </p:blipFill>
        <p:spPr>
          <a:xfrm>
            <a:off x="4932360" y="4581360"/>
            <a:ext cx="1150920" cy="15130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Элементы методики Прокофьевой О.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стоятельная деятельность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епление нового материала с использованием метод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рческая деятельность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7"/>
          <p:cNvGrpSpPr/>
          <p:nvPr/>
        </p:nvGrpSpPr>
        <p:grpSpPr>
          <a:xfrm>
            <a:off x="6732720" y="4292640"/>
            <a:ext cx="2016000" cy="2305080"/>
            <a:chOff x="6732720" y="4292640"/>
            <a:chExt cx="2016000" cy="2305080"/>
          </a:xfrm>
        </p:grpSpPr>
        <p:grpSp>
          <p:nvGrpSpPr>
            <p:cNvPr id="79" name="Group 8"/>
            <p:cNvGrpSpPr/>
            <p:nvPr/>
          </p:nvGrpSpPr>
          <p:grpSpPr>
            <a:xfrm>
              <a:off x="6732720" y="4292640"/>
              <a:ext cx="2016000" cy="2305080"/>
              <a:chOff x="6732720" y="4292640"/>
              <a:chExt cx="2016000" cy="2305080"/>
            </a:xfrm>
          </p:grpSpPr>
          <p:pic>
            <p:nvPicPr>
              <p:cNvPr id="80" name="Picture 3" descr="H:\Documents and Settings\Aida\Рабочий стол\МОИ шаблоны ЭКСПЕРИМЕНТы\30040876.jpg"/>
              <p:cNvPicPr/>
              <p:nvPr/>
            </p:nvPicPr>
            <p:blipFill>
              <a:blip r:embed="rId1"/>
              <a:stretch/>
            </p:blipFill>
            <p:spPr>
              <a:xfrm>
                <a:off x="6732720" y="4292640"/>
                <a:ext cx="2016000" cy="23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Picture 4" descr="H:\Documents and Settings\Aida\Рабочий стол\МОИ шаблоны ЭКСПЕРИМЕНТы\18112_0-550-700-1.jpg"/>
              <p:cNvPicPr/>
              <p:nvPr/>
            </p:nvPicPr>
            <p:blipFill>
              <a:blip r:embed="rId2"/>
              <a:stretch/>
            </p:blipFill>
            <p:spPr>
              <a:xfrm>
                <a:off x="7297200" y="4487760"/>
                <a:ext cx="929160" cy="700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2" name="Picture 8" descr="H:\Documents and Settings\Aida\Рабочий стол\текстуры и фоны, клипарты\новеньки картинки\addition 2 plus 2 ha.gif"/>
            <p:cNvPicPr/>
            <p:nvPr/>
          </p:nvPicPr>
          <p:blipFill>
            <a:blip r:embed="rId3"/>
            <a:stretch/>
          </p:blipFill>
          <p:spPr>
            <a:xfrm>
              <a:off x="7418880" y="6147720"/>
              <a:ext cx="619920" cy="410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Picture 2" descr="H:\Documents and Settings\Aida\Рабочий стол\текстуры и фоны, клипарты\Scool_objekts\scool (30).png"/>
          <p:cNvPicPr/>
          <p:nvPr/>
        </p:nvPicPr>
        <p:blipFill>
          <a:blip r:embed="rId4"/>
          <a:stretch/>
        </p:blipFill>
        <p:spPr>
          <a:xfrm>
            <a:off x="971640" y="4508640"/>
            <a:ext cx="1871640" cy="1684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H:\Documents and Settings\Aida\Рабочий стол\текстуры и фоны, клипарты\Scool_objekts\scool (45).png"/>
          <p:cNvPicPr/>
          <p:nvPr/>
        </p:nvPicPr>
        <p:blipFill>
          <a:blip r:embed="rId5"/>
          <a:stretch/>
        </p:blipFill>
        <p:spPr>
          <a:xfrm>
            <a:off x="7451640" y="620640"/>
            <a:ext cx="1150920" cy="15130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684360" y="549360"/>
            <a:ext cx="7848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Verdana"/>
              </a:rPr>
              <a:t>Личностно-ориентированный под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08000" y="4437000"/>
            <a:ext cx="460836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Информационно-коммуникационные 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P1010807"/>
          <p:cNvPicPr/>
          <p:nvPr/>
        </p:nvPicPr>
        <p:blipFill>
          <a:blip r:embed="rId1"/>
          <a:stretch/>
        </p:blipFill>
        <p:spPr>
          <a:xfrm>
            <a:off x="4643280" y="3068640"/>
            <a:ext cx="4211640" cy="30751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8"/>
          <p:cNvSpPr/>
          <p:nvPr/>
        </p:nvSpPr>
        <p:spPr>
          <a:xfrm>
            <a:off x="4356000" y="1628640"/>
            <a:ext cx="4680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еник - главное действующее лиц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разователь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3959280" cy="2970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0"/>
          <p:cNvSpPr/>
          <p:nvPr/>
        </p:nvSpPr>
        <p:spPr>
          <a:xfrm>
            <a:off x="324000" y="5084640"/>
            <a:ext cx="43909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мпьютерные презента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терактивные упражн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ренинг-подготовка к ЕГ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P1010813"/>
          <p:cNvPicPr/>
          <p:nvPr/>
        </p:nvPicPr>
        <p:blipFill>
          <a:blip r:embed="rId1"/>
          <a:stretch/>
        </p:blipFill>
        <p:spPr>
          <a:xfrm>
            <a:off x="4932360" y="177336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P1010814"/>
          <p:cNvPicPr/>
          <p:nvPr/>
        </p:nvPicPr>
        <p:blipFill>
          <a:blip r:embed="rId2"/>
          <a:stretch/>
        </p:blipFill>
        <p:spPr>
          <a:xfrm>
            <a:off x="539640" y="3341520"/>
            <a:ext cx="3745080" cy="29862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395280" y="229320"/>
            <a:ext cx="8280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Verdana"/>
                <a:ea typeface="Times New Roman"/>
              </a:rPr>
              <a:t>Работа с одаренными дет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«Если человек в школе не научился твори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то в жизни он будет только подражать и копирова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Л. Н. Толс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13040" y="1145520"/>
            <a:ext cx="8051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787068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87068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87068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1844640"/>
            <a:ext cx="35290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Центр по работе с одаренными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H:\Documents and Settings\Aida\Рабочий стол\текстуры и фоны, клипарты\Scool_objekts\scool (46).png"/>
          <p:cNvPicPr/>
          <p:nvPr/>
        </p:nvPicPr>
        <p:blipFill>
          <a:blip r:embed="rId3"/>
          <a:stretch/>
        </p:blipFill>
        <p:spPr>
          <a:xfrm>
            <a:off x="5867280" y="5013360"/>
            <a:ext cx="2376720" cy="12603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Победители и призеры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Межрегиональных заочных олимпи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P1010796"/>
          <p:cNvPicPr/>
          <p:nvPr/>
        </p:nvPicPr>
        <p:blipFill>
          <a:blip r:embed="rId1"/>
          <a:stretch/>
        </p:blipFill>
        <p:spPr>
          <a:xfrm>
            <a:off x="1763640" y="1341360"/>
            <a:ext cx="5400720" cy="40514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414000" y="5564160"/>
            <a:ext cx="845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шалкина Валерия, Деревянкина Мария, Сафронов Владими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ужников Антон, Чурилина Валент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08:19:26Z</dcterms:created>
  <dc:creator>USER</dc:creator>
  <dc:description/>
  <dc:language>en-US</dc:language>
  <cp:lastModifiedBy>school</cp:lastModifiedBy>
  <dcterms:modified xsi:type="dcterms:W3CDTF">2013-03-28T08:06:56Z</dcterms:modified>
  <cp:revision>15</cp:revision>
  <dc:subject/>
  <dc:title>Муниципальное общеобразовательное учреждение «Средняя общеобразовательная школа №4 г.Лиски»  </dc:title>
</cp:coreProperties>
</file>