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0343-BF52-4E28-B405-8B83315CD7C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289A-711F-4A89-BC17-78443E86D9A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народная песня "Ах, ты степь широ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т сводный хор п\у А. Горбатенко (СамПД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E3C-89A5-4ECA-A1E6-098544D6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EB5-5A69-405F-9A6E-4CFBCD5F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168-22A8-4EBE-B9F6-83ADF9FC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286-6BED-481D-BADA-0BFF6F65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5F9-BE78-44BF-940A-C0D8F6F6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7A2-F573-418E-B21E-69BA6311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B136-8053-4D9C-807B-596059E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AF7-712E-41D2-9423-0F39F24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080-069F-45D9-AF20-28563C84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487A-6C97-4E01-83A3-56E20BD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01C5-1EAD-4689-8C78-D813F391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9AF-42E7-474B-823D-43D34D7D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8856-9DBD-4BC7-A72F-D817A07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C54A-33EA-4DF6-8515-A2BF019E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9DC5-0AF0-47CA-916B-E9B2698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F8B3-DBD2-48EC-B108-3D3B72B4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D8DF-42BF-44DE-9ABF-3F9205BA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552-4AA7-4C23-A802-8FC38B8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9FC-617C-4074-A9A7-17022DA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1C7-0ED3-477B-BC91-4652DC90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BBC-4810-4942-AE48-CDE88484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F00-C784-408A-81D1-239C636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6AF-3F17-4694-9719-CCBEB37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294-12BA-450A-8BFA-70E1776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EEB3-5FFF-46F1-9CCE-C9E329E21A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59B-8FE2-408C-A61B-34E4BE52A2A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Восьмое сентября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35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существительное и его роль в предлож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105228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 - батюш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 обе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а ни ку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 да вода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шь есть калачи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ода - матуш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ак и в горнице тос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е сиди на печ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гда хлеба н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ужицкая 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28760" y="2142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гра         «КТО БЫСТРЕ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арианты  домашних заданий: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написать небольшое сочинение на тему «Имя существительное – хлеб языка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подготовить сообщение «Роль существительных в предложени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684360" y="1413000"/>
            <a:ext cx="7704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 урок 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87480" y="1431360"/>
            <a:ext cx="896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конкретные предметы (дом, книга, поле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вещества (бензин, железо, молоко, мясо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качества и свойства ( хрупкость, верность, честность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действие или состояние ( бег, ходьба, изумление, восхищение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живые существа и растения (пшеница, кошка, человек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явление природы (вьюга, радуга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общественные явления (праздник, олимпиада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географические названия (Чагра, Байкал,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леб в России пекли с куполами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Чтоб хватило, как неба, на всех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 широкими в доме столами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рошку бросить считали за грех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хлеб-соль- это русский обычай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ловно символ людской доброты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3860280"/>
            <a:ext cx="741204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ослушайте стихотворение и устно дополните ряды существитель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395280" y="19548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бота с текст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покон веков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ыл не простой едой. Он был мерилом не только общественного благосостояния, но и человеческой совести. Хлебом-солью встречали друзей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ились с врагом насмерть. 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Хлебом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ак именем матери, клялись. Хлеб был продуктом, вызывающим особое, можно сказать, святое чувство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За хле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который был нужен умирающим от голода детям Москвы, Ленинграда, Поволжья в годы войны, революции, отдавали свою жизнь сотни людей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е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ы разного рода </a:t>
            </a:r>
            <a:r>
              <a:rPr b="0" i="1" lang="ru-RU" sz="2400" spc="-1" strike="noStrike">
                <a:solidFill>
                  <a:srgbClr val="009900"/>
                </a:solidFill>
                <a:latin typeface="Times New Roman"/>
              </a:rPr>
              <a:t>поверья, легенды, сказки, был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это и </a:t>
            </a:r>
            <a:r>
              <a:rPr b="0" i="1" lang="ru-RU" sz="2400" spc="-1" strike="noStrike">
                <a:solidFill>
                  <a:srgbClr val="009900"/>
                </a:solidFill>
                <a:latin typeface="Times New Roman"/>
              </a:rPr>
              <a:t>рука друг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протянутая в час испытаний. Хлеб –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солдат, дипломат и стро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этому отноше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олжно быть поистине святое. А как бывает горько и обидно, когда видишь в столовой разбросанные на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по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ли втоптанные в грязь куск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052720" y="223920"/>
            <a:ext cx="5038560" cy="396720"/>
            <a:chOff x="2052720" y="223920"/>
            <a:chExt cx="5038560" cy="396720"/>
          </a:xfrm>
        </p:grpSpPr>
        <p:pic>
          <p:nvPicPr>
            <p:cNvPr id="165" name="Picture 3" descr="zavit"/>
            <p:cNvPicPr/>
            <p:nvPr/>
          </p:nvPicPr>
          <p:blipFill>
            <a:blip r:embed="rId1"/>
            <a:stretch/>
          </p:blipFill>
          <p:spPr>
            <a:xfrm>
              <a:off x="2052720" y="342720"/>
              <a:ext cx="158256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zavit"/>
            <p:cNvPicPr/>
            <p:nvPr/>
          </p:nvPicPr>
          <p:blipFill>
            <a:blip r:embed="rId2"/>
            <a:stretch/>
          </p:blipFill>
          <p:spPr>
            <a:xfrm>
              <a:off x="5508720" y="339480"/>
              <a:ext cx="15825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5"/>
            <p:cNvSpPr/>
            <p:nvPr/>
          </p:nvSpPr>
          <p:spPr>
            <a:xfrm>
              <a:off x="3706920" y="223920"/>
              <a:ext cx="1871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8244000" y="6093000"/>
            <a:ext cx="431640" cy="431640"/>
            <a:chOff x="8244000" y="6093000"/>
            <a:chExt cx="431640" cy="431640"/>
          </a:xfrm>
        </p:grpSpPr>
        <p:sp>
          <p:nvSpPr>
            <p:cNvPr id="169" name="Oval 8">
              <a:hlinkClick r:id="rId3" action="ppaction://hlinksldjump"/>
            </p:cNvPr>
            <p:cNvSpPr/>
            <p:nvPr/>
          </p:nvSpPr>
          <p:spPr>
            <a:xfrm>
              <a:off x="8244000" y="60930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9">
              <a:hlinkClick r:id="rId4" action="ppaction://hlinksldjump"/>
            </p:cNvPr>
            <p:cNvSpPr/>
            <p:nvPr/>
          </p:nvSpPr>
          <p:spPr>
            <a:xfrm flipH="1" rot="16200000">
              <a:off x="8279280" y="6202440"/>
              <a:ext cx="289080" cy="2156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Picture 10" descr="И"/>
          <p:cNvPicPr/>
          <p:nvPr/>
        </p:nvPicPr>
        <p:blipFill>
          <a:blip r:embed="rId5"/>
          <a:stretch/>
        </p:blipFill>
        <p:spPr>
          <a:xfrm>
            <a:off x="468360" y="692280"/>
            <a:ext cx="8136000" cy="48528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2" name="Text Box 11"/>
          <p:cNvSpPr/>
          <p:nvPr/>
        </p:nvSpPr>
        <p:spPr>
          <a:xfrm>
            <a:off x="1908000" y="57801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И.И. Шишкин «Рож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zavit"/>
          <p:cNvPicPr/>
          <p:nvPr/>
        </p:nvPicPr>
        <p:blipFill>
          <a:blip r:embed="rId6"/>
          <a:stretch/>
        </p:blipFill>
        <p:spPr>
          <a:xfrm>
            <a:off x="3720960" y="638172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174" name="Ах ты степь широкая.mp3" descr=""/>
          <p:cNvPicPr/>
          <p:nvPr/>
        </p:nvPicPr>
        <p:blipFill>
          <a:blip r:embed="rId7"/>
          <a:stretch/>
        </p:blipFill>
        <p:spPr>
          <a:xfrm>
            <a:off x="142884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Ах ты степь широкая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07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1907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8000" y="28404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…бота у кр…стьян ос…нью заметно убывает; но все же он не ост…ется без дела. В начале осени нужно п…хать и б…ронить и засевать …зимые п…ля; потом надо св…зить хлеб с полей в риги. Свезши хлеб, надобно сушить его в овине, а потом м…л…тить. Удары молотильных цепов с раннего утра до позднего веч…ра слыш…тся осенью на гум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03120" y="3570120"/>
            <a:ext cx="778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пишите слова с пропущенными буквами, объясните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вописа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1"/>
          <p:cNvSpPr/>
          <p:nvPr/>
        </p:nvSpPr>
        <p:spPr>
          <a:xfrm>
            <a:off x="250920" y="333360"/>
            <a:ext cx="8713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 словаря В.И.Да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в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строение для сушки хлеба в снопах топкою. Главная часть его- яма, в которой разводится огонь; над ямой сушило или колосники, где на решетинах надсаживаются сно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иг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молотильный сарай с овином, крытый ток с суши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ручное орудие для молотьбы, состоящее из длинной ручки и прикрепленного к ней ремнем короткого деревянного била (дощечка плоска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ум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место, где ставят хлеб в кладях и где его молот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Учитель\Мои документы\Мои результаты сканировани\2009-11 (ноя)\сканирование0002.jpg"/>
          <p:cNvPicPr/>
          <p:nvPr/>
        </p:nvPicPr>
        <p:blipFill>
          <a:blip r:embed="rId1"/>
          <a:stretch/>
        </p:blipFill>
        <p:spPr>
          <a:xfrm>
            <a:off x="285840" y="1143000"/>
            <a:ext cx="3036960" cy="412272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0" name="Picture 3" descr="C:\Documents and Settings\Учитель\Мои документы\Мои результаты сканировани\2009-11 (ноя)\сканирование0003.jpg"/>
          <p:cNvPicPr/>
          <p:nvPr/>
        </p:nvPicPr>
        <p:blipFill>
          <a:blip r:embed="rId2"/>
          <a:stretch/>
        </p:blipFill>
        <p:spPr>
          <a:xfrm>
            <a:off x="5514840" y="2357280"/>
            <a:ext cx="2820960" cy="3857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1" name="Picture 4" descr="C:\Documents and Settings\Учитель\Мои документы\Мои результаты сканировани\2009-11 (ноя)\сканирование0004.jpg"/>
          <p:cNvPicPr/>
          <p:nvPr/>
        </p:nvPicPr>
        <p:blipFill>
          <a:blip r:embed="rId3"/>
          <a:stretch/>
        </p:blipFill>
        <p:spPr>
          <a:xfrm>
            <a:off x="3500280" y="2286000"/>
            <a:ext cx="1643400" cy="40226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2" name="Picture 5" descr="C:\Documents and Settings\Учитель\Мои документы\Мои результаты сканировани\2009-11 (ноя)\сканирование0005.jpg"/>
          <p:cNvPicPr/>
          <p:nvPr/>
        </p:nvPicPr>
        <p:blipFill>
          <a:blip r:embed="rId4"/>
          <a:stretch/>
        </p:blipFill>
        <p:spPr>
          <a:xfrm>
            <a:off x="4214880" y="357120"/>
            <a:ext cx="3473280" cy="1652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183" name="TextBox 6"/>
          <p:cNvSpPr/>
          <p:nvPr/>
        </p:nvSpPr>
        <p:spPr>
          <a:xfrm>
            <a:off x="18000" y="35712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Адмиралы» по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Гумно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33:43Z</dcterms:created>
  <dc:creator>Лариса А. Адоевская</dc:creator>
  <dc:description/>
  <dc:language>en-US</dc:language>
  <cp:lastModifiedBy>Суворова</cp:lastModifiedBy>
  <dcterms:modified xsi:type="dcterms:W3CDTF">2009-11-16T11:26:44Z</dcterms:modified>
  <cp:revision>10</cp:revision>
  <dc:subject/>
  <dc:title>Восьмое сентября Классная работа</dc:title>
</cp:coreProperties>
</file>