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F7E8-D5D6-4997-8504-FF2D1114069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E2E6-3E3D-436D-9D92-95F380F81F4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народная песня "Ах, ты степь широ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яет сводный хор п\у А. Горбатенко (СамПД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54C-A323-4F74-B8F0-F32D5E39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EA5-4650-4FFD-A73E-4F672E8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C5E-1855-4017-90A9-B679861D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893-B738-4DDB-8AED-6E7062D1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D220-6B27-43A8-9664-550CD3B5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7282-F69D-4D2D-B77D-F42D5E1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435-696B-4528-ACE0-38B40A0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6AC-A376-40CF-8772-3F82C4FC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DF8D-F32A-4F08-A5E8-7B5E07AB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6596-6881-4F3A-A0CC-DC5FA320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DD9-D6EE-48D5-AEC8-DB72586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CC6-273C-4DA5-A68A-116120F1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23B7-E88C-4827-9786-D1019133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165F-EDD5-4EC5-8FF0-3905600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A3B-F0BB-4429-88FB-4D0E267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B50-75E9-4DBD-A2D7-D9A9AC09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C0F9-90E3-4D61-A131-D4B7E47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416-FA71-4FE3-B5A0-3695DB53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C27-BFAA-4EF7-89D0-8D22FA82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CFB-EDA5-44B4-858B-920EC355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D2F-FF4C-4E29-B912-C846042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86B-61AE-43F3-B931-0AF1F2F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0C7-F6F6-4463-9A69-AE06571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050-9CFD-424E-8954-2575C338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FCE4-8B44-4692-BF02-936FA834AED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A54D-C961-4487-B843-7425309515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Восьмое сентября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83528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существительное и его роль в предложен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105228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 - батюш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 обе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а ни ку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леб да вода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шь есть калачи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ода - матуш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ак и в горнице тос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е сиди на печ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гда хлеба н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ужицкая 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28760" y="21420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гра         «КТО БЫСТРЕ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арианты  домашних заданий: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написать небольшое сочинение на тему «Имя существительное – хлеб языка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подготовить сообщение «Роль существительных в предложени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4"/>
          <p:cNvSpPr txBox="1"/>
          <p:nvPr/>
        </p:nvSpPr>
        <p:spPr>
          <a:xfrm>
            <a:off x="684360" y="1413000"/>
            <a:ext cx="7704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 урок 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87480" y="1431360"/>
            <a:ext cx="896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конкретные предметы (дом, книга, поле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вещества (бензин, железо, молоко, мясо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качества и свойства ( хрупкость, верность, честность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действие или состояние ( бег, ходьба, изумление, восхищение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живые существа и растения (пшеница, кошка, человек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явление природы (вьюга, радуга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общественные явления (праздник, олимпиада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3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географические названия (Чагра, Байкал,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леб в России пекли с куполами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Чтоб хватило, как неба, на всех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 широкими в доме столами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рошку бросить считали за грех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 хлеб-соль- это русский обычай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ловно символ людской доброты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3860280"/>
            <a:ext cx="741204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Прослушайте стихотворение и устно дополните ряды существитель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395280" y="19548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бота с текст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покон веков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ыл не простой едой. Он был мерилом не только общественного благосостояния, но и человеческой совести. Хлебом-солью встречали друзей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ились с врагом насмерть. 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Хлебом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ак именем матери, клялись. Хлеб был продуктом, вызывающим особое, можно сказать, святое чувство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За хле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который был нужен умирающим от голода детям Москвы, Ленинграда, Поволжья в годы войны, революции, отдавали свою жизнь сотни людей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е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ы разного рода </a:t>
            </a:r>
            <a:r>
              <a:rPr b="0" i="1" lang="ru-RU" sz="2400" spc="-1" strike="noStrike">
                <a:solidFill>
                  <a:srgbClr val="009900"/>
                </a:solidFill>
                <a:latin typeface="Times New Roman"/>
              </a:rPr>
              <a:t>поверья, легенды, сказки, был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Хлеб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– это и </a:t>
            </a:r>
            <a:r>
              <a:rPr b="0" i="1" lang="ru-RU" sz="2400" spc="-1" strike="noStrike">
                <a:solidFill>
                  <a:srgbClr val="009900"/>
                </a:solidFill>
                <a:latin typeface="Times New Roman"/>
              </a:rPr>
              <a:t>рука друг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протянутая в час испытаний. Хлеб –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солдат, дипломат и стро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этому отноше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должно быть поистине святое. А как бывает горько и обидно, когда видишь в столовой разбросанные на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по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ли втоптанные в грязь куск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хлеб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2052720" y="223920"/>
            <a:ext cx="5038560" cy="396720"/>
            <a:chOff x="2052720" y="223920"/>
            <a:chExt cx="5038560" cy="396720"/>
          </a:xfrm>
        </p:grpSpPr>
        <p:pic>
          <p:nvPicPr>
            <p:cNvPr id="165" name="Picture 3" descr="zavit"/>
            <p:cNvPicPr/>
            <p:nvPr/>
          </p:nvPicPr>
          <p:blipFill>
            <a:blip r:embed="rId1"/>
            <a:stretch/>
          </p:blipFill>
          <p:spPr>
            <a:xfrm>
              <a:off x="2052720" y="342720"/>
              <a:ext cx="158256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zavit"/>
            <p:cNvPicPr/>
            <p:nvPr/>
          </p:nvPicPr>
          <p:blipFill>
            <a:blip r:embed="rId2"/>
            <a:stretch/>
          </p:blipFill>
          <p:spPr>
            <a:xfrm>
              <a:off x="5508720" y="339480"/>
              <a:ext cx="15825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5"/>
            <p:cNvSpPr/>
            <p:nvPr/>
          </p:nvSpPr>
          <p:spPr>
            <a:xfrm>
              <a:off x="3706920" y="223920"/>
              <a:ext cx="1871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8244000" y="6093000"/>
            <a:ext cx="431640" cy="431640"/>
            <a:chOff x="8244000" y="6093000"/>
            <a:chExt cx="431640" cy="431640"/>
          </a:xfrm>
        </p:grpSpPr>
        <p:sp>
          <p:nvSpPr>
            <p:cNvPr id="169" name="Oval 8">
              <a:hlinkClick r:id="rId3" action="ppaction://hlinksldjump"/>
            </p:cNvPr>
            <p:cNvSpPr/>
            <p:nvPr/>
          </p:nvSpPr>
          <p:spPr>
            <a:xfrm>
              <a:off x="8244000" y="60930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9">
              <a:hlinkClick r:id="rId4" action="ppaction://hlinksldjump"/>
            </p:cNvPr>
            <p:cNvSpPr/>
            <p:nvPr/>
          </p:nvSpPr>
          <p:spPr>
            <a:xfrm flipH="1" rot="16200000">
              <a:off x="8279280" y="6202440"/>
              <a:ext cx="289080" cy="21564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Picture 10" descr="И"/>
          <p:cNvPicPr/>
          <p:nvPr/>
        </p:nvPicPr>
        <p:blipFill>
          <a:blip r:embed="rId5"/>
          <a:stretch/>
        </p:blipFill>
        <p:spPr>
          <a:xfrm>
            <a:off x="468360" y="692280"/>
            <a:ext cx="8136000" cy="4852800"/>
          </a:xfrm>
          <a:prstGeom prst="rect">
            <a:avLst/>
          </a:prstGeom>
          <a:ln w="2844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2" name="Text Box 11"/>
          <p:cNvSpPr/>
          <p:nvPr/>
        </p:nvSpPr>
        <p:spPr>
          <a:xfrm>
            <a:off x="1908000" y="57801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И.И. Шишкин «Рож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zavit"/>
          <p:cNvPicPr/>
          <p:nvPr/>
        </p:nvPicPr>
        <p:blipFill>
          <a:blip r:embed="rId6"/>
          <a:stretch/>
        </p:blipFill>
        <p:spPr>
          <a:xfrm>
            <a:off x="3720960" y="638172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174" name="Ах ты степь широкая.mp3" descr=""/>
          <p:cNvPicPr/>
          <p:nvPr/>
        </p:nvPicPr>
        <p:blipFill>
          <a:blip r:embed="rId7"/>
          <a:stretch/>
        </p:blipFill>
        <p:spPr>
          <a:xfrm>
            <a:off x="142884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Ах ты степь широкая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07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1907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8000" y="284040"/>
            <a:ext cx="864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…бота у кр…стьян ос…нью заметно убывает; но все же он не ост…ется без дела. В начале осени нужно п…хать и б…ронить и засевать …зимые п…ля; потом надо св…зить хлеб с полей в риги. Свезши хлеб, надобно сушить его в овине, а потом м…л…тить. Удары молотильных цепов с раннего утра до позднего веч…ра слыш…тся осенью на гум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03120" y="3570120"/>
            <a:ext cx="778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пишите слова с пропущенными буквами, объясните 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вописа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1"/>
          <p:cNvSpPr/>
          <p:nvPr/>
        </p:nvSpPr>
        <p:spPr>
          <a:xfrm>
            <a:off x="250920" y="333360"/>
            <a:ext cx="8713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з словаря В.И.Да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в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строение для сушки хлеба в снопах топкою. Главная часть его- яма, в которой разводится огонь; над ямой сушило или колосники, где на решетинах надсаживаются сно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иг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молотильный сарай с овином, крытый ток с суши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ручное орудие для молотьбы, состоящее из длинной ручки и прикрепленного к ней ремнем короткого деревянного била (дощечка плоска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ум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место, где ставят хлеб в кладях и где его молотя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Учитель\Мои документы\Мои результаты сканировани\2009-11 (ноя)\сканирование0002.jpg"/>
          <p:cNvPicPr/>
          <p:nvPr/>
        </p:nvPicPr>
        <p:blipFill>
          <a:blip r:embed="rId1"/>
          <a:stretch/>
        </p:blipFill>
        <p:spPr>
          <a:xfrm>
            <a:off x="285840" y="1143000"/>
            <a:ext cx="3036960" cy="412272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0" name="Picture 3" descr="C:\Documents and Settings\Учитель\Мои документы\Мои результаты сканировани\2009-11 (ноя)\сканирование0003.jpg"/>
          <p:cNvPicPr/>
          <p:nvPr/>
        </p:nvPicPr>
        <p:blipFill>
          <a:blip r:embed="rId2"/>
          <a:stretch/>
        </p:blipFill>
        <p:spPr>
          <a:xfrm>
            <a:off x="5514840" y="2357280"/>
            <a:ext cx="2820960" cy="3857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1" name="Picture 4" descr="C:\Documents and Settings\Учитель\Мои документы\Мои результаты сканировани\2009-11 (ноя)\сканирование0004.jpg"/>
          <p:cNvPicPr/>
          <p:nvPr/>
        </p:nvPicPr>
        <p:blipFill>
          <a:blip r:embed="rId3"/>
          <a:stretch/>
        </p:blipFill>
        <p:spPr>
          <a:xfrm>
            <a:off x="3500280" y="2286000"/>
            <a:ext cx="1643400" cy="40226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182" name="Picture 5" descr="C:\Documents and Settings\Учитель\Мои документы\Мои результаты сканировани\2009-11 (ноя)\сканирование0005.jpg"/>
          <p:cNvPicPr/>
          <p:nvPr/>
        </p:nvPicPr>
        <p:blipFill>
          <a:blip r:embed="rId4"/>
          <a:stretch/>
        </p:blipFill>
        <p:spPr>
          <a:xfrm>
            <a:off x="4214880" y="357120"/>
            <a:ext cx="3473280" cy="1652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183" name="TextBox 6"/>
          <p:cNvSpPr/>
          <p:nvPr/>
        </p:nvSpPr>
        <p:spPr>
          <a:xfrm>
            <a:off x="18000" y="35712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Адмиралы» по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Гумно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9:33:43Z</dcterms:created>
  <dc:creator>Лариса А. Адоевская</dc:creator>
  <dc:description/>
  <dc:language>en-US</dc:language>
  <cp:lastModifiedBy>Суворова</cp:lastModifiedBy>
  <dcterms:modified xsi:type="dcterms:W3CDTF">2009-11-16T11:26:44Z</dcterms:modified>
  <cp:revision>10</cp:revision>
  <dc:subject/>
  <dc:title>Восьмое сентября Классная работа</dc:title>
</cp:coreProperties>
</file>