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E5AF-EF4A-432A-922B-DCC3D3AD6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8A10-5702-4A94-9984-D5B00F45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9EC4-9EB2-41EF-86C5-DFAE73ECE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5109-F0CE-423E-B954-4C0271F7C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4FF4-5065-417F-860B-35A57D07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B8E8-5EFF-4EBE-8B7E-D61978A3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5933-726A-4CED-A4E1-AEC85C35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5F7A-30AC-4BCB-9F2D-4CC45542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ED9D-ADBC-4B6B-9515-DA5649BC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EB35-F3E9-4092-B298-94AF572D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EFE5-17A2-423E-BA85-8456B4F4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15CF-8752-4E73-84FC-C3453E42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7EE9-75BD-449E-88E1-E382A522F3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424720" cy="39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Bookman Old Style"/>
              </a:rPr>
              <a:t>Обновление начального общего и дошкольного образования по направлению 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66"/>
                </a:solidFill>
                <a:latin typeface="Bookman Old Style"/>
              </a:rPr>
              <a:t>«Безотметочное обучение в начальной школ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24000" y="189000"/>
            <a:ext cx="856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УНИЦИПАЛЬНОЕ ОБЩЕ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РЕДНЯЯ ОБЩЕОБРАЗОВАТЕЛЬНАЯ ШКОЛА 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Bookman Old Style"/>
              </a:rPr>
              <a:t>Результаты деятельности инновационно-экспериментальной площадки за </a:t>
            </a:r>
            <a:br>
              <a:rPr sz="3200"/>
            </a:br>
            <a:r>
              <a:rPr b="0" lang="ru-RU" sz="3200" spc="-1" strike="noStrike">
                <a:solidFill>
                  <a:srgbClr val="000066"/>
                </a:solidFill>
                <a:latin typeface="Bookman Old Style"/>
              </a:rPr>
              <a:t>2008-2009 г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одержание инновационной деятель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ализова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ап (практически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инновационной деятельности приняли участие 25% педагог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учный руководитель – Хамченко З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лученные результа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пробация осуществлялась на базе МОУ СОШ №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ультаты деятельности были опубликованы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борник тезисо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ластных педагогических чтений «Влияние приоритетного национального проекта «Образование» на совершенствование инновационной деятельности в образовательных учреждениях Сахалинской области» 7-8 ноября 2007 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аны: нормативно-правовая база МЭП, мониторинги отслеживания результативности работы, разработана папка-портфолио учащихся и педагог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артнерство в рамках данной инновационной рабо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имназия № 1 им. А.С. Пушкина г. Южно-Сахалин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Bookman Old Style"/>
              </a:rPr>
              <a:t>Анализ работы МЭП </a:t>
            </a:r>
            <a:br>
              <a:rPr sz="3200"/>
            </a:br>
            <a:r>
              <a:rPr b="0" lang="ru-RU" sz="3200" spc="-1" strike="noStrike">
                <a:solidFill>
                  <a:srgbClr val="000066"/>
                </a:solidFill>
                <a:latin typeface="Bookman Old Style"/>
              </a:rPr>
              <a:t>за 2008-2009 учебный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713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0720" indent="-450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—"/>
              <a:tabLst>
                <a:tab algn="l" pos="188136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аны оценочные листы, листы дости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—"/>
              <a:tabLst>
                <a:tab algn="l" pos="188136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аботана методика работы с учащимися по заполнению оценочных листов и листов достижений, опираясь на уже известную детям оценку своих знаний по шкал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—"/>
              <a:tabLst>
                <a:tab algn="l" pos="188136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аны тесты для отслеживания навыков целеполагания, самооценки и самоконтроля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—"/>
              <a:tabLst>
                <a:tab algn="l" pos="188136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та работа по введению балльного оценивания для «безболезненного» перехода к оценочной сис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—"/>
              <a:tabLst>
                <a:tab algn="l" pos="188136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олжена работа по накоплению материалов в папке-портфолио для отслеживается динамика творческой активности учащих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—"/>
              <a:tabLst>
                <a:tab algn="l" pos="188136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олжена работа с родителями по обучению их работе с оценочными листами и др. вопросам безотметочного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Bookman Old Style"/>
              </a:rPr>
              <a:t>III</a:t>
            </a:r>
            <a:r>
              <a:rPr b="0" lang="ru-RU" sz="3200" spc="-1" strike="noStrike">
                <a:solidFill>
                  <a:srgbClr val="000066"/>
                </a:solidFill>
                <a:latin typeface="Bookman Old Style"/>
              </a:rPr>
              <a:t> этап экспери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042920" y="836640"/>
            <a:ext cx="195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А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6011640" y="836640"/>
            <a:ext cx="194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Б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395280" y="1484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олжает экспери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5580000" y="1484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ывает из эксперим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6300720" y="1916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ПРИЧ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5292720" y="2349360"/>
            <a:ext cx="3743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сутствуют реальные результаты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гативное отношение со стороны род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755640" y="19162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ПЛАНИРУ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179280" y="2349360"/>
            <a:ext cx="424836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олжить работу по формированию учебной самостоятельности учащих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слеживание результатов мониторингов и соответствующая корректировка работы с учащими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ществление «безболезненного» перевода учащихся на балльную систему оцени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5651640" y="3789360"/>
            <a:ext cx="3097080" cy="719280"/>
          </a:xfrm>
          <a:prstGeom prst="downArrowCallout">
            <a:avLst>
              <a:gd name="adj1" fmla="val 107495"/>
              <a:gd name="adj2" fmla="val 107585"/>
              <a:gd name="adj3" fmla="val 14889"/>
              <a:gd name="adj4" fmla="val 51838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осуществ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5076720" y="4508640"/>
            <a:ext cx="39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омерный перевод на балльную систему оцен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(в течении полугод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5076720" y="5589720"/>
            <a:ext cx="39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Проведен анализ процесса перевода учащихся на балльную систему оцен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9"/>
          <p:cNvSpPr/>
          <p:nvPr/>
        </p:nvSpPr>
        <p:spPr>
          <a:xfrm rot="658800">
            <a:off x="2414160" y="5619600"/>
            <a:ext cx="2951280" cy="648000"/>
          </a:xfrm>
          <a:prstGeom prst="leftRightArrow">
            <a:avLst>
              <a:gd name="adj1" fmla="val 50000"/>
              <a:gd name="adj2" fmla="val 90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 учетом результ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Bookman Old Style"/>
              </a:rPr>
              <a:t>План рабо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rcRect l="0" t="16460" r="0" b="1623"/>
          <a:stretch/>
        </p:blipFill>
        <p:spPr>
          <a:xfrm>
            <a:off x="611280" y="893880"/>
            <a:ext cx="820872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041800" cy="27068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468360" y="18900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Bookman Old Style"/>
              </a:rPr>
              <a:t>Оценочный лист, лист достиж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solnet-ee-z08a"/>
          <p:cNvPicPr/>
          <p:nvPr/>
        </p:nvPicPr>
        <p:blipFill>
          <a:blip r:embed="rId2"/>
          <a:stretch/>
        </p:blipFill>
        <p:spPr>
          <a:xfrm>
            <a:off x="5724360" y="3860640"/>
            <a:ext cx="1905120" cy="2737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solnet-ee-z20a"/>
          <p:cNvPicPr/>
          <p:nvPr/>
        </p:nvPicPr>
        <p:blipFill>
          <a:blip r:embed="rId3"/>
          <a:stretch/>
        </p:blipFill>
        <p:spPr>
          <a:xfrm>
            <a:off x="1258920" y="3860640"/>
            <a:ext cx="1905120" cy="273852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8"/>
          <p:cNvSpPr/>
          <p:nvPr/>
        </p:nvSpPr>
        <p:spPr>
          <a:xfrm>
            <a:off x="8893080" y="6669000"/>
            <a:ext cx="250920" cy="189000"/>
          </a:xfrm>
          <a:custGeom>
            <a:avLst/>
            <a:gdLst>
              <a:gd name="textAreaLeft" fmla="*/ 12240 w 250920"/>
              <a:gd name="textAreaRight" fmla="*/ 238680 w 25092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28663" h="21600">
                <a:moveTo>
                  <a:pt x="0" y="0"/>
                </a:moveTo>
                <a:lnTo>
                  <a:pt x="28663" y="0"/>
                </a:lnTo>
                <a:lnTo>
                  <a:pt x="28663" y="21600"/>
                </a:lnTo>
                <a:lnTo>
                  <a:pt x="0" y="21600"/>
                </a:lnTo>
                <a:close/>
              </a:path>
              <a:path fill="lightenLess" w="28663" h="21600">
                <a:moveTo>
                  <a:pt x="0" y="0"/>
                </a:moveTo>
                <a:lnTo>
                  <a:pt x="28663" y="0"/>
                </a:lnTo>
                <a:lnTo>
                  <a:pt x="27263" y="1400"/>
                </a:lnTo>
                <a:lnTo>
                  <a:pt x="1400" y="1400"/>
                </a:lnTo>
                <a:close/>
              </a:path>
              <a:path fill="darken" w="28663" h="21600">
                <a:moveTo>
                  <a:pt x="28663" y="0"/>
                </a:moveTo>
                <a:lnTo>
                  <a:pt x="28663" y="21600"/>
                </a:lnTo>
                <a:lnTo>
                  <a:pt x="27263" y="20200"/>
                </a:lnTo>
                <a:lnTo>
                  <a:pt x="27263" y="1400"/>
                </a:lnTo>
                <a:close/>
              </a:path>
              <a:path fill="darkenLess" w="28663" h="21600">
                <a:moveTo>
                  <a:pt x="286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63" y="20200"/>
                </a:lnTo>
                <a:close/>
              </a:path>
              <a:path fill="lighten" w="286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63" h="21600">
                <a:moveTo>
                  <a:pt x="7325" y="7493"/>
                </a:moveTo>
                <a:lnTo>
                  <a:pt x="10833" y="7493"/>
                </a:lnTo>
                <a:lnTo>
                  <a:pt x="10833" y="12828"/>
                </a:lnTo>
                <a:cubicBezTo>
                  <a:pt x="10833" y="13751"/>
                  <a:pt x="11633" y="14482"/>
                  <a:pt x="12669" y="14482"/>
                </a:cubicBezTo>
                <a:lnTo>
                  <a:pt x="14332" y="14482"/>
                </a:lnTo>
                <a:cubicBezTo>
                  <a:pt x="15367" y="14482"/>
                  <a:pt x="16168" y="13751"/>
                  <a:pt x="16168" y="12828"/>
                </a:cubicBezTo>
                <a:lnTo>
                  <a:pt x="16168" y="7493"/>
                </a:lnTo>
                <a:lnTo>
                  <a:pt x="14332" y="7493"/>
                </a:lnTo>
                <a:lnTo>
                  <a:pt x="17839" y="3985"/>
                </a:lnTo>
                <a:lnTo>
                  <a:pt x="21512" y="7493"/>
                </a:lnTo>
                <a:lnTo>
                  <a:pt x="19676" y="7493"/>
                </a:lnTo>
                <a:lnTo>
                  <a:pt x="19676" y="12828"/>
                </a:lnTo>
                <a:cubicBezTo>
                  <a:pt x="19676" y="15596"/>
                  <a:pt x="17099" y="18155"/>
                  <a:pt x="14332" y="18155"/>
                </a:cubicBezTo>
                <a:lnTo>
                  <a:pt x="12669" y="18155"/>
                </a:lnTo>
                <a:cubicBezTo>
                  <a:pt x="9901" y="18155"/>
                  <a:pt x="7325" y="15596"/>
                  <a:pt x="7325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9" descr=""/>
          <p:cNvPicPr/>
          <p:nvPr/>
        </p:nvPicPr>
        <p:blipFill>
          <a:blip r:embed="rId1"/>
          <a:srcRect l="0" t="0" r="28290" b="0"/>
          <a:stretch/>
        </p:blipFill>
        <p:spPr>
          <a:xfrm>
            <a:off x="826920" y="3213000"/>
            <a:ext cx="2519640" cy="3121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"/>
          <p:cNvPicPr/>
          <p:nvPr/>
        </p:nvPicPr>
        <p:blipFill>
          <a:blip r:embed="rId2"/>
          <a:stretch/>
        </p:blipFill>
        <p:spPr>
          <a:xfrm>
            <a:off x="4067280" y="404640"/>
            <a:ext cx="949320" cy="2543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"/>
          <p:cNvPicPr/>
          <p:nvPr/>
        </p:nvPicPr>
        <p:blipFill>
          <a:blip r:embed="rId3"/>
          <a:stretch/>
        </p:blipFill>
        <p:spPr>
          <a:xfrm>
            <a:off x="5148360" y="3213000"/>
            <a:ext cx="3512880" cy="31212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2"/>
          <p:cNvSpPr/>
          <p:nvPr/>
        </p:nvSpPr>
        <p:spPr>
          <a:xfrm>
            <a:off x="8893080" y="6669000"/>
            <a:ext cx="250920" cy="189000"/>
          </a:xfrm>
          <a:custGeom>
            <a:avLst/>
            <a:gdLst>
              <a:gd name="textAreaLeft" fmla="*/ 12240 w 250920"/>
              <a:gd name="textAreaRight" fmla="*/ 238680 w 25092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28663" h="21600">
                <a:moveTo>
                  <a:pt x="0" y="0"/>
                </a:moveTo>
                <a:lnTo>
                  <a:pt x="28663" y="0"/>
                </a:lnTo>
                <a:lnTo>
                  <a:pt x="28663" y="21600"/>
                </a:lnTo>
                <a:lnTo>
                  <a:pt x="0" y="21600"/>
                </a:lnTo>
                <a:close/>
              </a:path>
              <a:path fill="lightenLess" w="28663" h="21600">
                <a:moveTo>
                  <a:pt x="0" y="0"/>
                </a:moveTo>
                <a:lnTo>
                  <a:pt x="28663" y="0"/>
                </a:lnTo>
                <a:lnTo>
                  <a:pt x="27263" y="1400"/>
                </a:lnTo>
                <a:lnTo>
                  <a:pt x="1400" y="1400"/>
                </a:lnTo>
                <a:close/>
              </a:path>
              <a:path fill="darken" w="28663" h="21600">
                <a:moveTo>
                  <a:pt x="28663" y="0"/>
                </a:moveTo>
                <a:lnTo>
                  <a:pt x="28663" y="21600"/>
                </a:lnTo>
                <a:lnTo>
                  <a:pt x="27263" y="20200"/>
                </a:lnTo>
                <a:lnTo>
                  <a:pt x="27263" y="1400"/>
                </a:lnTo>
                <a:close/>
              </a:path>
              <a:path fill="darkenLess" w="28663" h="21600">
                <a:moveTo>
                  <a:pt x="286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63" y="20200"/>
                </a:lnTo>
                <a:close/>
              </a:path>
              <a:path fill="lighten" w="286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63" h="21600">
                <a:moveTo>
                  <a:pt x="7325" y="7493"/>
                </a:moveTo>
                <a:lnTo>
                  <a:pt x="10833" y="7493"/>
                </a:lnTo>
                <a:lnTo>
                  <a:pt x="10833" y="12828"/>
                </a:lnTo>
                <a:cubicBezTo>
                  <a:pt x="10833" y="13751"/>
                  <a:pt x="11633" y="14482"/>
                  <a:pt x="12669" y="14482"/>
                </a:cubicBezTo>
                <a:lnTo>
                  <a:pt x="14332" y="14482"/>
                </a:lnTo>
                <a:cubicBezTo>
                  <a:pt x="15367" y="14482"/>
                  <a:pt x="16168" y="13751"/>
                  <a:pt x="16168" y="12828"/>
                </a:cubicBezTo>
                <a:lnTo>
                  <a:pt x="16168" y="7493"/>
                </a:lnTo>
                <a:lnTo>
                  <a:pt x="14332" y="7493"/>
                </a:lnTo>
                <a:lnTo>
                  <a:pt x="17839" y="3985"/>
                </a:lnTo>
                <a:lnTo>
                  <a:pt x="21512" y="7493"/>
                </a:lnTo>
                <a:lnTo>
                  <a:pt x="19676" y="7493"/>
                </a:lnTo>
                <a:lnTo>
                  <a:pt x="19676" y="12828"/>
                </a:lnTo>
                <a:cubicBezTo>
                  <a:pt x="19676" y="15596"/>
                  <a:pt x="17099" y="18155"/>
                  <a:pt x="14332" y="18155"/>
                </a:cubicBezTo>
                <a:lnTo>
                  <a:pt x="12669" y="18155"/>
                </a:lnTo>
                <a:cubicBezTo>
                  <a:pt x="9901" y="18155"/>
                  <a:pt x="7325" y="15596"/>
                  <a:pt x="7325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03:15:44Z</dcterms:created>
  <dc:creator>учитель</dc:creator>
  <dc:description/>
  <dc:language>en-US</dc:language>
  <cp:lastModifiedBy>Связной</cp:lastModifiedBy>
  <dcterms:modified xsi:type="dcterms:W3CDTF">2013-03-28T02:16:15Z</dcterms:modified>
  <cp:revision>19</cp:revision>
  <dc:subject/>
  <dc:title>Обновление начального общего и дошкольного образования по направлению   «Безотметочное обучение в начальной школе»</dc:title>
</cp:coreProperties>
</file>