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67067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63E41-F4A0-4843-984E-041C74B72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F8EEC-6C21-4611-A9F8-B93DDA44C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CAAB4-643C-4C52-866A-335E6A535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94991-790D-43DA-8419-9E8EB7C17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B479F-D7F4-4DEE-9FF5-DBE1855E8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BBCBE-0A60-44CF-B241-B4721C1B5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7A915-1E5F-48CD-A34E-1C7DF16DC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4E685-7915-4BA8-B11E-7F0067406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9D0B7-4667-44F5-88A2-2FAAA995F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42CD8-7D9B-4E86-9C0E-E14D3FC43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9E22B-863C-4FEF-A9A1-73F11C4EA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B8809-2301-4048-9CEE-2862E0A6D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69E1E-8331-4F7C-9A88-251B5901F9E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280" y="1844640"/>
            <a:ext cx="8424720" cy="395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Bookman Old Style"/>
              </a:rPr>
              <a:t>Обновление начального общего и дошкольного образования по направлению </a:t>
            </a: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000066"/>
                </a:solidFill>
                <a:latin typeface="Bookman Old Style"/>
              </a:rPr>
              <a:t>«Безотметочное обучение в начальной школе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324000" y="189000"/>
            <a:ext cx="8569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МУНИЦИПАЛЬНОЕ ОБЩЕОБРАЗОВАТЕЛЬНОЕ УЧРЕЖД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СРЕДНЯЯ ОБЩЕОБРАЗОВАТЕЛЬНАЯ ШКОЛА №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8920" y="274320"/>
            <a:ext cx="8713800" cy="128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Bookman Old Style"/>
              </a:rPr>
              <a:t>Результаты деятельности инновационно-экспериментальной площадки за </a:t>
            </a:r>
            <a:br>
              <a:rPr sz="3200"/>
            </a:br>
            <a:r>
              <a:rPr b="0" lang="ru-RU" sz="3200" spc="-1" strike="noStrike">
                <a:solidFill>
                  <a:srgbClr val="000066"/>
                </a:solidFill>
                <a:latin typeface="Bookman Old Style"/>
              </a:rPr>
              <a:t>2008-2009 г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78544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Содержание инновационной деятельност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ализован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этап (практический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инновационной деятельности приняли участие 25% педагог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учный руководитель – Хамченко З.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Полученные результат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пробация осуществлялась на базе МОУ СОШ № 1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зультаты деятельности были опубликованы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борник тезисов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X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бластных педагогических чтений «Влияние приоритетного национального проекта «Образование» на совершенствование инновационной деятельности в образовательных учреждениях Сахалинской области» 7-8 ноября 2007 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работаны: нормативно-правовая база МЭП, мониторинги отслеживания результативности работы, разработана папка-портфолио учащихся и педагог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Партнерство в рамках данной инновационной работ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имназия № 1 им. А.С. Пушкина г. Южно-Сахалинс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Bookman Old Style"/>
              </a:rPr>
              <a:t>Анализ работы МЭП </a:t>
            </a:r>
            <a:br>
              <a:rPr sz="3200"/>
            </a:br>
            <a:r>
              <a:rPr b="0" lang="ru-RU" sz="3200" spc="-1" strike="noStrike">
                <a:solidFill>
                  <a:srgbClr val="000066"/>
                </a:solidFill>
                <a:latin typeface="Bookman Old Style"/>
              </a:rPr>
              <a:t>за 2008-2009 учебный г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50560" y="1628280"/>
            <a:ext cx="87138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0720" indent="-4507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—"/>
              <a:tabLst>
                <a:tab algn="l" pos="188136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работаны оценочные листы, листы достиж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0720" indent="-4507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—"/>
              <a:tabLst>
                <a:tab algn="l" pos="188136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работана методика работы с учащимися по заполнению оценочных листов и листов достижений, опираясь на уже известную детям оценку своих знаний по шкала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0720" indent="-4507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—"/>
              <a:tabLst>
                <a:tab algn="l" pos="188136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работаны тесты для отслеживания навыков целеполагания, самооценки и самоконтроля учащих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0720" indent="-4507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—"/>
              <a:tabLst>
                <a:tab algn="l" pos="188136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чата работа по введению балльного оценивания для «безболезненного» перехода к оценочной систем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0720" indent="-4507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—"/>
              <a:tabLst>
                <a:tab algn="l" pos="188136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должена работа по накоплению материалов в папке-портфолио для отслеживается динамика творческой активности учащихс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0720" indent="-4507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—"/>
              <a:tabLst>
                <a:tab algn="l" pos="188136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должена работа с родителями по обучению их работе с оценочными листами и др. вопросам безотметочного обуч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Bookman Old Style"/>
              </a:rPr>
              <a:t>III</a:t>
            </a:r>
            <a:r>
              <a:rPr b="0" lang="ru-RU" sz="3200" spc="-1" strike="noStrike">
                <a:solidFill>
                  <a:srgbClr val="000066"/>
                </a:solidFill>
                <a:latin typeface="Bookman Old Style"/>
              </a:rPr>
              <a:t> этап эксперимен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6"/>
          <p:cNvSpPr/>
          <p:nvPr/>
        </p:nvSpPr>
        <p:spPr>
          <a:xfrm>
            <a:off x="1042920" y="836640"/>
            <a:ext cx="195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 А кл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7"/>
          <p:cNvSpPr/>
          <p:nvPr/>
        </p:nvSpPr>
        <p:spPr>
          <a:xfrm>
            <a:off x="6011640" y="836640"/>
            <a:ext cx="194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 Б кл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8"/>
          <p:cNvSpPr/>
          <p:nvPr/>
        </p:nvSpPr>
        <p:spPr>
          <a:xfrm>
            <a:off x="395280" y="148428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должает экспериме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9"/>
          <p:cNvSpPr/>
          <p:nvPr/>
        </p:nvSpPr>
        <p:spPr>
          <a:xfrm>
            <a:off x="5580000" y="148428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бывает из эксперимен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0"/>
          <p:cNvSpPr/>
          <p:nvPr/>
        </p:nvSpPr>
        <p:spPr>
          <a:xfrm>
            <a:off x="6300720" y="191628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ПРИЧИН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1"/>
          <p:cNvSpPr/>
          <p:nvPr/>
        </p:nvSpPr>
        <p:spPr>
          <a:xfrm>
            <a:off x="5292720" y="2349360"/>
            <a:ext cx="374328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сутствуют реальные результаты деятельност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гативное отношение со стороны родител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2"/>
          <p:cNvSpPr/>
          <p:nvPr/>
        </p:nvSpPr>
        <p:spPr>
          <a:xfrm>
            <a:off x="755640" y="1916280"/>
            <a:ext cx="20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ПЛАНИРУЕТС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3"/>
          <p:cNvSpPr/>
          <p:nvPr/>
        </p:nvSpPr>
        <p:spPr>
          <a:xfrm>
            <a:off x="179280" y="2349360"/>
            <a:ext cx="4248360" cy="33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должить работу по формированию учебной самостоятельности учащихс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слеживание результатов мониторингов и соответствующая корректировка работы с учащимис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уществление «безболезненного» перевода учащихся на балльную систему оценив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14"/>
          <p:cNvSpPr/>
          <p:nvPr/>
        </p:nvSpPr>
        <p:spPr>
          <a:xfrm>
            <a:off x="5651640" y="3789360"/>
            <a:ext cx="3097080" cy="719280"/>
          </a:xfrm>
          <a:prstGeom prst="downArrowCallout">
            <a:avLst>
              <a:gd name="adj1" fmla="val 107495"/>
              <a:gd name="adj2" fmla="val 107585"/>
              <a:gd name="adj3" fmla="val 14889"/>
              <a:gd name="adj4" fmla="val 51838"/>
            </a:avLst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0000"/>
                </a:solidFill>
                <a:latin typeface="Arial"/>
              </a:rPr>
              <a:t>осуществле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5"/>
          <p:cNvSpPr/>
          <p:nvPr/>
        </p:nvSpPr>
        <p:spPr>
          <a:xfrm>
            <a:off x="5076720" y="4508640"/>
            <a:ext cx="3959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ланомерный перевод на балльную систему оцени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(в течении полугодия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6"/>
          <p:cNvSpPr/>
          <p:nvPr/>
        </p:nvSpPr>
        <p:spPr>
          <a:xfrm>
            <a:off x="5076720" y="5589720"/>
            <a:ext cx="3959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0000"/>
                </a:solidFill>
                <a:latin typeface="Arial"/>
              </a:rPr>
              <a:t>Проведен анализ процесса перевода учащихся на балльную систему оцени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19"/>
          <p:cNvSpPr/>
          <p:nvPr/>
        </p:nvSpPr>
        <p:spPr>
          <a:xfrm rot="658800">
            <a:off x="2414160" y="5619600"/>
            <a:ext cx="2951280" cy="648000"/>
          </a:xfrm>
          <a:prstGeom prst="leftRightArrow">
            <a:avLst>
              <a:gd name="adj1" fmla="val 50000"/>
              <a:gd name="adj2" fmla="val 90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С учетом результа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66"/>
                </a:solidFill>
                <a:latin typeface="Bookman Old Style"/>
              </a:rPr>
              <a:t>План работы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"/>
          <p:cNvPicPr/>
          <p:nvPr/>
        </p:nvPicPr>
        <p:blipFill>
          <a:blip r:embed="rId1"/>
          <a:srcRect l="0" t="16460" r="0" b="1623"/>
          <a:stretch/>
        </p:blipFill>
        <p:spPr>
          <a:xfrm>
            <a:off x="611280" y="893880"/>
            <a:ext cx="8208720" cy="58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"/>
          <p:cNvPicPr/>
          <p:nvPr/>
        </p:nvPicPr>
        <p:blipFill>
          <a:blip r:embed="rId1"/>
          <a:stretch/>
        </p:blipFill>
        <p:spPr>
          <a:xfrm>
            <a:off x="1979640" y="907920"/>
            <a:ext cx="5041800" cy="27068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5"/>
          <p:cNvSpPr/>
          <p:nvPr/>
        </p:nvSpPr>
        <p:spPr>
          <a:xfrm>
            <a:off x="468360" y="189000"/>
            <a:ext cx="822960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Bookman Old Style"/>
              </a:rPr>
              <a:t>Оценочный лист, лист достиже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6" descr="solnet-ee-z08a"/>
          <p:cNvPicPr/>
          <p:nvPr/>
        </p:nvPicPr>
        <p:blipFill>
          <a:blip r:embed="rId2"/>
          <a:stretch/>
        </p:blipFill>
        <p:spPr>
          <a:xfrm>
            <a:off x="5724360" y="3860640"/>
            <a:ext cx="1905120" cy="27370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7" descr="solnet-ee-z20a"/>
          <p:cNvPicPr/>
          <p:nvPr/>
        </p:nvPicPr>
        <p:blipFill>
          <a:blip r:embed="rId3"/>
          <a:stretch/>
        </p:blipFill>
        <p:spPr>
          <a:xfrm>
            <a:off x="1258920" y="3860640"/>
            <a:ext cx="1905120" cy="2738520"/>
          </a:xfrm>
          <a:prstGeom prst="rect">
            <a:avLst/>
          </a:prstGeom>
          <a:ln w="0">
            <a:noFill/>
          </a:ln>
        </p:spPr>
      </p:pic>
      <p:sp>
        <p:nvSpPr>
          <p:cNvPr id="66" name="AutoShape 8"/>
          <p:cNvSpPr/>
          <p:nvPr/>
        </p:nvSpPr>
        <p:spPr>
          <a:xfrm>
            <a:off x="8893080" y="6669000"/>
            <a:ext cx="250920" cy="189000"/>
          </a:xfrm>
          <a:custGeom>
            <a:avLst/>
            <a:gdLst>
              <a:gd name="textAreaLeft" fmla="*/ 12240 w 250920"/>
              <a:gd name="textAreaRight" fmla="*/ 238680 w 250920"/>
              <a:gd name="textAreaTop" fmla="*/ 12240 h 189000"/>
              <a:gd name="textAreaBottom" fmla="*/ 176760 h 189000"/>
            </a:gdLst>
            <a:ahLst/>
            <a:rect l="textAreaLeft" t="textAreaTop" r="textAreaRight" b="textAreaBottom"/>
            <a:pathLst>
              <a:path w="28663" h="21600">
                <a:moveTo>
                  <a:pt x="0" y="0"/>
                </a:moveTo>
                <a:lnTo>
                  <a:pt x="28663" y="0"/>
                </a:lnTo>
                <a:lnTo>
                  <a:pt x="28663" y="21600"/>
                </a:lnTo>
                <a:lnTo>
                  <a:pt x="0" y="21600"/>
                </a:lnTo>
                <a:close/>
              </a:path>
              <a:path fill="lightenLess" w="28663" h="21600">
                <a:moveTo>
                  <a:pt x="0" y="0"/>
                </a:moveTo>
                <a:lnTo>
                  <a:pt x="28663" y="0"/>
                </a:lnTo>
                <a:lnTo>
                  <a:pt x="27263" y="1400"/>
                </a:lnTo>
                <a:lnTo>
                  <a:pt x="1400" y="1400"/>
                </a:lnTo>
                <a:close/>
              </a:path>
              <a:path fill="darken" w="28663" h="21600">
                <a:moveTo>
                  <a:pt x="28663" y="0"/>
                </a:moveTo>
                <a:lnTo>
                  <a:pt x="28663" y="21600"/>
                </a:lnTo>
                <a:lnTo>
                  <a:pt x="27263" y="20200"/>
                </a:lnTo>
                <a:lnTo>
                  <a:pt x="27263" y="1400"/>
                </a:lnTo>
                <a:close/>
              </a:path>
              <a:path fill="darkenLess" w="28663" h="21600">
                <a:moveTo>
                  <a:pt x="286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263" y="20200"/>
                </a:lnTo>
                <a:close/>
              </a:path>
              <a:path fill="lighten" w="286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663" h="21600">
                <a:moveTo>
                  <a:pt x="7325" y="7493"/>
                </a:moveTo>
                <a:lnTo>
                  <a:pt x="10833" y="7493"/>
                </a:lnTo>
                <a:lnTo>
                  <a:pt x="10833" y="12828"/>
                </a:lnTo>
                <a:cubicBezTo>
                  <a:pt x="10833" y="13751"/>
                  <a:pt x="11633" y="14482"/>
                  <a:pt x="12669" y="14482"/>
                </a:cubicBezTo>
                <a:lnTo>
                  <a:pt x="14332" y="14482"/>
                </a:lnTo>
                <a:cubicBezTo>
                  <a:pt x="15367" y="14482"/>
                  <a:pt x="16168" y="13751"/>
                  <a:pt x="16168" y="12828"/>
                </a:cubicBezTo>
                <a:lnTo>
                  <a:pt x="16168" y="7493"/>
                </a:lnTo>
                <a:lnTo>
                  <a:pt x="14332" y="7493"/>
                </a:lnTo>
                <a:lnTo>
                  <a:pt x="17839" y="3985"/>
                </a:lnTo>
                <a:lnTo>
                  <a:pt x="21512" y="7493"/>
                </a:lnTo>
                <a:lnTo>
                  <a:pt x="19676" y="7493"/>
                </a:lnTo>
                <a:lnTo>
                  <a:pt x="19676" y="12828"/>
                </a:lnTo>
                <a:cubicBezTo>
                  <a:pt x="19676" y="15596"/>
                  <a:pt x="17099" y="18155"/>
                  <a:pt x="14332" y="18155"/>
                </a:cubicBezTo>
                <a:lnTo>
                  <a:pt x="12669" y="18155"/>
                </a:lnTo>
                <a:cubicBezTo>
                  <a:pt x="9901" y="18155"/>
                  <a:pt x="7325" y="15596"/>
                  <a:pt x="7325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9" descr=""/>
          <p:cNvPicPr/>
          <p:nvPr/>
        </p:nvPicPr>
        <p:blipFill>
          <a:blip r:embed="rId1"/>
          <a:srcRect l="0" t="0" r="28290" b="0"/>
          <a:stretch/>
        </p:blipFill>
        <p:spPr>
          <a:xfrm>
            <a:off x="826920" y="3213000"/>
            <a:ext cx="2519640" cy="31212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0" descr=""/>
          <p:cNvPicPr/>
          <p:nvPr/>
        </p:nvPicPr>
        <p:blipFill>
          <a:blip r:embed="rId2"/>
          <a:stretch/>
        </p:blipFill>
        <p:spPr>
          <a:xfrm>
            <a:off x="4067280" y="404640"/>
            <a:ext cx="949320" cy="25434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1" descr=""/>
          <p:cNvPicPr/>
          <p:nvPr/>
        </p:nvPicPr>
        <p:blipFill>
          <a:blip r:embed="rId3"/>
          <a:stretch/>
        </p:blipFill>
        <p:spPr>
          <a:xfrm>
            <a:off x="5148360" y="3213000"/>
            <a:ext cx="3512880" cy="3121200"/>
          </a:xfrm>
          <a:prstGeom prst="rect">
            <a:avLst/>
          </a:prstGeom>
          <a:ln w="0">
            <a:noFill/>
          </a:ln>
        </p:spPr>
      </p:pic>
      <p:sp>
        <p:nvSpPr>
          <p:cNvPr id="70" name="AutoShape 12"/>
          <p:cNvSpPr/>
          <p:nvPr/>
        </p:nvSpPr>
        <p:spPr>
          <a:xfrm>
            <a:off x="8893080" y="6669000"/>
            <a:ext cx="250920" cy="189000"/>
          </a:xfrm>
          <a:custGeom>
            <a:avLst/>
            <a:gdLst>
              <a:gd name="textAreaLeft" fmla="*/ 12240 w 250920"/>
              <a:gd name="textAreaRight" fmla="*/ 238680 w 250920"/>
              <a:gd name="textAreaTop" fmla="*/ 12240 h 189000"/>
              <a:gd name="textAreaBottom" fmla="*/ 176760 h 189000"/>
            </a:gdLst>
            <a:ahLst/>
            <a:rect l="textAreaLeft" t="textAreaTop" r="textAreaRight" b="textAreaBottom"/>
            <a:pathLst>
              <a:path w="28663" h="21600">
                <a:moveTo>
                  <a:pt x="0" y="0"/>
                </a:moveTo>
                <a:lnTo>
                  <a:pt x="28663" y="0"/>
                </a:lnTo>
                <a:lnTo>
                  <a:pt x="28663" y="21600"/>
                </a:lnTo>
                <a:lnTo>
                  <a:pt x="0" y="21600"/>
                </a:lnTo>
                <a:close/>
              </a:path>
              <a:path fill="lightenLess" w="28663" h="21600">
                <a:moveTo>
                  <a:pt x="0" y="0"/>
                </a:moveTo>
                <a:lnTo>
                  <a:pt x="28663" y="0"/>
                </a:lnTo>
                <a:lnTo>
                  <a:pt x="27263" y="1400"/>
                </a:lnTo>
                <a:lnTo>
                  <a:pt x="1400" y="1400"/>
                </a:lnTo>
                <a:close/>
              </a:path>
              <a:path fill="darken" w="28663" h="21600">
                <a:moveTo>
                  <a:pt x="28663" y="0"/>
                </a:moveTo>
                <a:lnTo>
                  <a:pt x="28663" y="21600"/>
                </a:lnTo>
                <a:lnTo>
                  <a:pt x="27263" y="20200"/>
                </a:lnTo>
                <a:lnTo>
                  <a:pt x="27263" y="1400"/>
                </a:lnTo>
                <a:close/>
              </a:path>
              <a:path fill="darkenLess" w="28663" h="21600">
                <a:moveTo>
                  <a:pt x="286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263" y="20200"/>
                </a:lnTo>
                <a:close/>
              </a:path>
              <a:path fill="lighten" w="286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663" h="21600">
                <a:moveTo>
                  <a:pt x="7325" y="7493"/>
                </a:moveTo>
                <a:lnTo>
                  <a:pt x="10833" y="7493"/>
                </a:lnTo>
                <a:lnTo>
                  <a:pt x="10833" y="12828"/>
                </a:lnTo>
                <a:cubicBezTo>
                  <a:pt x="10833" y="13751"/>
                  <a:pt x="11633" y="14482"/>
                  <a:pt x="12669" y="14482"/>
                </a:cubicBezTo>
                <a:lnTo>
                  <a:pt x="14332" y="14482"/>
                </a:lnTo>
                <a:cubicBezTo>
                  <a:pt x="15367" y="14482"/>
                  <a:pt x="16168" y="13751"/>
                  <a:pt x="16168" y="12828"/>
                </a:cubicBezTo>
                <a:lnTo>
                  <a:pt x="16168" y="7493"/>
                </a:lnTo>
                <a:lnTo>
                  <a:pt x="14332" y="7493"/>
                </a:lnTo>
                <a:lnTo>
                  <a:pt x="17839" y="3985"/>
                </a:lnTo>
                <a:lnTo>
                  <a:pt x="21512" y="7493"/>
                </a:lnTo>
                <a:lnTo>
                  <a:pt x="19676" y="7493"/>
                </a:lnTo>
                <a:lnTo>
                  <a:pt x="19676" y="12828"/>
                </a:lnTo>
                <a:cubicBezTo>
                  <a:pt x="19676" y="15596"/>
                  <a:pt x="17099" y="18155"/>
                  <a:pt x="14332" y="18155"/>
                </a:cubicBezTo>
                <a:lnTo>
                  <a:pt x="12669" y="18155"/>
                </a:lnTo>
                <a:cubicBezTo>
                  <a:pt x="9901" y="18155"/>
                  <a:pt x="7325" y="15596"/>
                  <a:pt x="7325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6T03:15:44Z</dcterms:created>
  <dc:creator>учитель</dc:creator>
  <dc:description/>
  <dc:language>en-US</dc:language>
  <cp:lastModifiedBy>Связной</cp:lastModifiedBy>
  <dcterms:modified xsi:type="dcterms:W3CDTF">2013-03-28T02:16:15Z</dcterms:modified>
  <cp:revision>19</cp:revision>
  <dc:subject/>
  <dc:title>Обновление начального общего и дошкольного образования по направлению   «Безотметочное обучение в начальной школе»</dc:title>
</cp:coreProperties>
</file>