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F59-5057-4E42-95F2-8F170F43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1B9-727C-451F-A030-DC58742C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B4D-AC98-41F0-A897-48A38AF9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DB3-BEE7-4B08-A7C7-E8B90C77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333-A85D-497E-8F13-E7A4C851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DCC6-2273-4974-8897-1532F1AA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C5C9-81FA-4995-8461-94DCE22C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EEA6-B130-44B7-8F7D-B35EE216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C7BF-4B21-4761-A38B-719E4CAD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0699-21F7-44CA-B728-C5E305E5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7222-7868-4579-ACB8-9077D31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EC1-E994-41F4-A638-4A2F77E2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8BDE-A964-4B97-8F52-7E58B19C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371F-39C0-4C69-9088-D393DF00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958C-29E2-4CA9-8525-E1724D9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D158-255C-4B6A-ABF6-171DAC86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00CA-22E1-4ACD-86E8-F1E1D782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6E45-6DD5-48AB-B729-95075847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30A0-DBBD-4F8C-A99C-720CB12B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2EB71-396D-4C9F-9F97-DBE67F33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612F-C9E8-4A0B-8C93-1A4D0AC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F6A8-009D-4018-A5D0-037B3B23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812-3FDD-4192-AA41-309D0996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EA11-7653-40D2-A5D0-D4588F4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B7B6-BB5C-4F67-8C25-2D8AC17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06CE-7598-4ECA-98E8-3CE12F1C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C192-A271-4DFD-88E4-C8C6F08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CE1C-A77F-4096-9918-60509A9F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E0DF-E5B1-47A3-9900-F12A5389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6CCA-6C59-4687-A6E8-B7D1654D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957D7-179F-4B59-9B2E-4FF14D22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1A7D-B236-4456-89BE-EBDFA342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D122-FCB0-42F0-84BB-3A99CBDA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A85-E151-41FC-9386-08B0F9E4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B8450-05D8-40C7-A6F5-970AFAF9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384E-6036-4B23-B094-3F3A872B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37E3-AB8E-4538-B723-E3B2E41A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8F5E-7352-4B2A-A53D-18E55E2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D67F-9B4D-4A5D-9F10-AC82CF6D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5AF9-73A5-4C44-9352-26F9D4AF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3128-3993-47AF-92C6-230F3D6D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6286-63F4-4DF0-81CE-80E82962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11D3-DFE1-44BF-B091-14E9CF46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F6C-5D3F-4141-86E7-1AC80C40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6EC-8525-4286-ACFC-3CFFBA44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4BC-2BD8-4C20-8ED5-3E0D5371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8C8-CF59-465E-9BDF-3BC8D7FB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2FC-2840-4CF7-9145-2B03DCF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5194-0B3D-4626-B305-BE7DAA49CFD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F39D-2D78-49B1-9CFA-6AB5FF4653A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93C6-EB52-4F87-9235-292A703B9E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258F-76D8-49B7-B6C0-A219639DDF9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71520" y="4500720"/>
            <a:ext cx="5614920" cy="18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871560"/>
            <a:ext cx="7804440" cy="284148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5" descr=""/>
          <p:cNvPicPr/>
          <p:nvPr/>
        </p:nvPicPr>
        <p:blipFill>
          <a:blip r:embed="rId2"/>
          <a:stretch/>
        </p:blipFill>
        <p:spPr>
          <a:xfrm>
            <a:off x="2762280" y="4595760"/>
            <a:ext cx="62658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Лист индивидуальных достижений по формированию УУД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935000"/>
          <a:ext cx="7262640" cy="5177160"/>
        </p:xfrm>
        <a:graphic>
          <a:graphicData uri="http://schemas.openxmlformats.org/drawingml/2006/table">
            <a:tbl>
              <a:tblPr/>
              <a:tblGrid>
                <a:gridCol w="2328840"/>
                <a:gridCol w="606600"/>
                <a:gridCol w="608040"/>
                <a:gridCol w="622080"/>
                <a:gridCol w="623880"/>
                <a:gridCol w="665280"/>
                <a:gridCol w="664920"/>
                <a:gridCol w="571680"/>
                <a:gridCol w="571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знаватель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готовка дополнительной литературы к урокам    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ко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явление познавательного интереса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ко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1352520"/>
            <a:ext cx="83217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Administrator\Рабочий стол\Новая папка\S7300964.JPG"/>
          <p:cNvPicPr/>
          <p:nvPr/>
        </p:nvPicPr>
        <p:blipFill>
          <a:blip r:embed="rId1"/>
          <a:stretch/>
        </p:blipFill>
        <p:spPr>
          <a:xfrm>
            <a:off x="1143000" y="164304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857160" y="28584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тдых на свежем воздухе 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Administrator\Рабочий стол\Новая папка\S7300917.JPG"/>
          <p:cNvPicPr/>
          <p:nvPr/>
        </p:nvPicPr>
        <p:blipFill>
          <a:blip r:embed="rId1"/>
          <a:stretch/>
        </p:blipFill>
        <p:spPr>
          <a:xfrm>
            <a:off x="868320" y="1500120"/>
            <a:ext cx="7407360" cy="5143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857160" y="142920"/>
            <a:ext cx="74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ижные иг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обожаю плавать…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C:\Documents and Settings\Administrator\Рабочий стол\Новая папка\S7300982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150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Administrator\Рабочий стол\Новая папка\S7300834.JPG"/>
          <p:cNvPicPr/>
          <p:nvPr/>
        </p:nvPicPr>
        <p:blipFill>
          <a:blip r:embed="rId1"/>
          <a:stretch/>
        </p:blipFill>
        <p:spPr>
          <a:xfrm>
            <a:off x="915840" y="1428840"/>
            <a:ext cx="7312320" cy="5214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928800" y="214200"/>
            <a:ext cx="72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острелять в тир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Documents and Settings\Administrator\Рабочий стол\Новая папка\S7300706.JPG"/>
          <p:cNvPicPr/>
          <p:nvPr/>
        </p:nvPicPr>
        <p:blipFill>
          <a:blip r:embed="rId1"/>
          <a:stretch/>
        </p:blipFill>
        <p:spPr>
          <a:xfrm>
            <a:off x="773280" y="1285920"/>
            <a:ext cx="7597440" cy="53578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14200" y="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лю  покататься верхом на лошадя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2"/>
          <p:cNvSpPr/>
          <p:nvPr/>
        </p:nvSpPr>
        <p:spPr>
          <a:xfrm>
            <a:off x="214200" y="107172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Ё ХОББИ ОРИГАМИ и </a:t>
            </a:r>
            <a:r>
              <a:rPr b="1" i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GO</a:t>
            </a: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3" descr="S7300077.JPG"/>
          <p:cNvPicPr/>
          <p:nvPr/>
        </p:nvPicPr>
        <p:blipFill>
          <a:blip r:embed="rId1"/>
          <a:stretch/>
        </p:blipFill>
        <p:spPr>
          <a:xfrm>
            <a:off x="285840" y="3214800"/>
            <a:ext cx="8286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Documents and Settings\Administrator\Рабочий стол\Новая папка\DSC_0302 (2).jpg"/>
          <p:cNvPicPr/>
          <p:nvPr/>
        </p:nvPicPr>
        <p:blipFill>
          <a:blip r:embed="rId1"/>
          <a:stretch/>
        </p:blipFill>
        <p:spPr>
          <a:xfrm>
            <a:off x="714240" y="1500120"/>
            <a:ext cx="7786800" cy="50720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коле я стараюсь  хорошо уч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Administrator\Рабочий стол\Новая папка\S7300725.JPG"/>
          <p:cNvPicPr/>
          <p:nvPr/>
        </p:nvPicPr>
        <p:blipFill>
          <a:blip r:embed="rId1"/>
          <a:stretch/>
        </p:blipFill>
        <p:spPr>
          <a:xfrm>
            <a:off x="4572000" y="785880"/>
            <a:ext cx="4219560" cy="5626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285840" y="1714680"/>
            <a:ext cx="4071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ринимать участие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istrator\Рабочий стол\Новая папка\S7300966.JPG"/>
          <p:cNvPicPr/>
          <p:nvPr/>
        </p:nvPicPr>
        <p:blipFill>
          <a:blip r:embed="rId1"/>
          <a:stretch/>
        </p:blipFill>
        <p:spPr>
          <a:xfrm>
            <a:off x="4643280" y="1000080"/>
            <a:ext cx="4273560" cy="55720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14200" y="1785960"/>
            <a:ext cx="364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8 лет, я учусь во 2 «Б» класс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Administrator\Рабочий стол\Новая папка\S7300677.JPG"/>
          <p:cNvPicPr/>
          <p:nvPr/>
        </p:nvPicPr>
        <p:blipFill>
          <a:blip r:embed="rId1"/>
          <a:stretch/>
        </p:blipFill>
        <p:spPr>
          <a:xfrm>
            <a:off x="773280" y="1428840"/>
            <a:ext cx="7597440" cy="52149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785880" y="28584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сех мероприятия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3217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Administrator\Рабочий стол\Новая папка\S7300279.JPG"/>
          <p:cNvPicPr/>
          <p:nvPr/>
        </p:nvPicPr>
        <p:blipFill>
          <a:blip r:embed="rId1"/>
          <a:stretch/>
        </p:blipFill>
        <p:spPr>
          <a:xfrm>
            <a:off x="773280" y="1214280"/>
            <a:ext cx="7597440" cy="54295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785880" y="21420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имся к Новому го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istrator\Рабочий стол\Новая папка\S7300271.JPG"/>
          <p:cNvPicPr/>
          <p:nvPr/>
        </p:nvPicPr>
        <p:blipFill>
          <a:blip r:embed="rId1"/>
          <a:stretch/>
        </p:blipFill>
        <p:spPr>
          <a:xfrm>
            <a:off x="928800" y="1357200"/>
            <a:ext cx="7143480" cy="5214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42920" y="214200"/>
            <a:ext cx="90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аем подарки своими рук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500120" y="1857240"/>
            <a:ext cx="60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Прямоугольник 2" descr=""/>
          <p:cNvPicPr/>
          <p:nvPr/>
        </p:nvPicPr>
        <p:blipFill>
          <a:blip r:embed="rId1"/>
          <a:stretch/>
        </p:blipFill>
        <p:spPr>
          <a:xfrm>
            <a:off x="622440" y="2773440"/>
            <a:ext cx="78883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Administrator\Рабочий стол\Новая папка\DSC_0171.jpg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52149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428760" y="21420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е любимые и род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но сказать еще один член семьи, наша кошка Муся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Documents and Settings\Administrator\Рабочий стол\Документы Айнаш\фотографии\фото с карты\отбор фото\_Samsung D70 _ D75 _ S730 _ S750__46.jpg"/>
          <p:cNvPicPr/>
          <p:nvPr/>
        </p:nvPicPr>
        <p:blipFill>
          <a:blip r:embed="rId1"/>
          <a:stretch/>
        </p:blipFill>
        <p:spPr>
          <a:xfrm>
            <a:off x="1357200" y="2071800"/>
            <a:ext cx="6286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30240" y="1779480"/>
            <a:ext cx="8742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Administrator\Рабочий стол\Новая папка\DSC_0139.jpg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5214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428760" y="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сентября 2011 года, я пошел в шк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Лист индивидуальных достижений по русскому язы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93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757600"/>
                <a:gridCol w="785880"/>
                <a:gridCol w="785520"/>
                <a:gridCol w="322200"/>
                <a:gridCol w="320760"/>
                <a:gridCol w="322200"/>
                <a:gridCol w="320760"/>
                <a:gridCol w="679680"/>
                <a:gridCol w="677880"/>
                <a:gridCol w="628560"/>
                <a:gridCol w="628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различ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вуки и 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е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сные и 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лово и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списывать печатный текст и письм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делить слова для пере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в слове ставить у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записывать транскрипцию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Лист индивидуальных достижений по технике чте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3" descr=""/>
          <p:cNvPicPr/>
          <p:nvPr/>
        </p:nvPicPr>
        <p:blipFill>
          <a:blip r:embed="rId1"/>
          <a:stretch/>
        </p:blipFill>
        <p:spPr>
          <a:xfrm>
            <a:off x="384120" y="1859040"/>
            <a:ext cx="83757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00:19Z</dcterms:created>
  <dc:creator>Admin</dc:creator>
  <dc:description/>
  <dc:language>en-US</dc:language>
  <cp:lastModifiedBy>Admin</cp:lastModifiedBy>
  <dcterms:modified xsi:type="dcterms:W3CDTF">2013-03-28T19:42:35Z</dcterms:modified>
  <cp:revision>85</cp:revision>
  <dc:subject/>
  <dc:title>Слайд 1</dc:title>
</cp:coreProperties>
</file>