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27.jpeg" ContentType="image/jpeg"/>
  <Override PartName="/ppt/media/image2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B6B0-8F84-49E3-8109-5B374DCEB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93C8-CA64-4BE2-8D94-F304F918F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AFB1-FD34-4BD3-83DD-FF25BCA06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34A4-E60F-4C4B-8742-20D4BBEF6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97970-966C-42C1-B55C-63F14E784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02A10-8F45-4351-ACF9-65D7220F3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699D0-E7F1-4016-A5A1-92F5D58FE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4CD5C-2657-4A41-BFC8-39906B807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681B2-E40C-444A-AB85-6FA3CD730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B6633-A087-4E42-9BA2-B9750F4A7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232A4-0CDB-4743-8D64-C4DADAFB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54CB-40B6-49D3-BA5F-70B2ACAD7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23906-342D-41EA-9A1B-A18F9E6C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D73DF-9A75-4F69-A0A2-3AB64442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427EF-C88F-4002-B64D-B131E78D2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C7CAA-B196-42D2-82BA-777FA2279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898CB-E159-4EDB-84A0-5358F9EA2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EDA43-5CA1-4795-9E35-8FB3DF7E9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E5662-81A8-471C-93C5-0D6EE45FC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CEB31-EF60-4749-9C5C-8EE0C7028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B6504-0985-49D6-952B-F9FD56BFF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E5F00-93EF-4721-8AE3-90A17D30A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A2D0-1C86-4852-A3DF-04CE52CCD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13CF4-6703-4BCB-8915-AADCE9FCF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83498-B9E2-4FD1-8A48-B21562CC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591E0-AE22-4896-ABAD-C6B9958B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0F802-D2B7-4131-B331-A403A93F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35732-B729-48F8-B60F-D728325D2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AFDE0-910C-4DA9-AE6A-EBFEC57D6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A00CE-9024-4181-9EC8-D600B7FCC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CF29F-C240-4877-88CE-86F00ED53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E352F-5467-44AC-A006-05F80F3C2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F4698-1BF1-454F-B3AF-8D29AE5AD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1846-4E4A-4C95-A2C1-4A66C99FD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880E3-F423-4330-AEB6-8D534BD83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8BE8F-AAD6-49EA-A99E-DD8537D35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D7C41-27FD-496D-8FD4-8D7E77DE9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DA841-4C74-4D5A-82F7-7D7167C9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65A91-1E5B-479D-B6F3-6168D1A2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81F46-B43C-44E0-BB90-CE039DCB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EBF53-B44A-483E-8D54-9DE45FC2A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3B788-F54B-487B-9A77-427B5BE74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82F0E-1C58-4676-B7F8-8AECD0FEE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E367-7ED0-4A86-B933-CC4BF24D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5764-DFCB-4741-95F8-A8FC771D6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B52E-D8A6-471F-8496-D77EF191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1259-3BD4-4BCB-AE35-5C911BB1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E46E-8688-48B8-B30E-39CD0EDA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D7795-1816-48FA-966C-22758253B64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CECA7-23E6-439F-82D9-68BCF54CFE1B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F8725-6BEC-4177-9AAE-574E9ABBF520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22704-68EE-4A7B-9703-57EBAB66CBA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71520" y="4500720"/>
            <a:ext cx="5614920" cy="182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7" name="Прямоугольник 4" descr=""/>
          <p:cNvPicPr/>
          <p:nvPr/>
        </p:nvPicPr>
        <p:blipFill>
          <a:blip r:embed="rId1"/>
          <a:stretch/>
        </p:blipFill>
        <p:spPr>
          <a:xfrm>
            <a:off x="706320" y="871560"/>
            <a:ext cx="7804440" cy="2841480"/>
          </a:xfrm>
          <a:prstGeom prst="rect">
            <a:avLst/>
          </a:prstGeom>
          <a:ln w="0">
            <a:noFill/>
          </a:ln>
        </p:spPr>
      </p:pic>
      <p:pic>
        <p:nvPicPr>
          <p:cNvPr id="198" name="Прямоугольник 5" descr=""/>
          <p:cNvPicPr/>
          <p:nvPr/>
        </p:nvPicPr>
        <p:blipFill>
          <a:blip r:embed="rId2"/>
          <a:stretch/>
        </p:blipFill>
        <p:spPr>
          <a:xfrm>
            <a:off x="2762280" y="4595760"/>
            <a:ext cx="626580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Лист индивидуальных достижений по формированию УУД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457200" y="1935000"/>
          <a:ext cx="7262640" cy="5177160"/>
        </p:xfrm>
        <a:graphic>
          <a:graphicData uri="http://schemas.openxmlformats.org/drawingml/2006/table">
            <a:tbl>
              <a:tblPr/>
              <a:tblGrid>
                <a:gridCol w="2328840"/>
                <a:gridCol w="606600"/>
                <a:gridCol w="608040"/>
                <a:gridCol w="622080"/>
                <a:gridCol w="623880"/>
                <a:gridCol w="665280"/>
                <a:gridCol w="664920"/>
                <a:gridCol w="571680"/>
                <a:gridCol w="57132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Универсальные учебные действ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четвер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четвер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четвер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4 четвер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ознавательные УУ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одготовка дополнительной литературы к урокам            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сег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едк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иког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роявление познавательного интереса        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час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едк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иког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Заголовок 1" descr=""/>
          <p:cNvPicPr/>
          <p:nvPr/>
        </p:nvPicPr>
        <p:blipFill>
          <a:blip r:embed="rId1"/>
          <a:stretch/>
        </p:blipFill>
        <p:spPr>
          <a:xfrm>
            <a:off x="450720" y="1352520"/>
            <a:ext cx="832176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C:\Documents and Settings\Administrator\Рабочий стол\Новая папка\S7300964.JPG"/>
          <p:cNvPicPr/>
          <p:nvPr/>
        </p:nvPicPr>
        <p:blipFill>
          <a:blip r:embed="rId1"/>
          <a:stretch/>
        </p:blipFill>
        <p:spPr>
          <a:xfrm>
            <a:off x="1143000" y="1643040"/>
            <a:ext cx="6858000" cy="50007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2"/>
          <p:cNvSpPr/>
          <p:nvPr/>
        </p:nvSpPr>
        <p:spPr>
          <a:xfrm>
            <a:off x="857160" y="285840"/>
            <a:ext cx="7358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о отдых на свежем воздухе и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C:\Documents and Settings\Administrator\Рабочий стол\Новая папка\S7300917.JPG"/>
          <p:cNvPicPr/>
          <p:nvPr/>
        </p:nvPicPr>
        <p:blipFill>
          <a:blip r:embed="rId1"/>
          <a:stretch/>
        </p:blipFill>
        <p:spPr>
          <a:xfrm>
            <a:off x="868320" y="1500120"/>
            <a:ext cx="7407360" cy="5143680"/>
          </a:xfrm>
          <a:prstGeom prst="rect">
            <a:avLst/>
          </a:prstGeom>
          <a:ln w="0">
            <a:noFill/>
          </a:ln>
        </p:spPr>
      </p:pic>
      <p:sp>
        <p:nvSpPr>
          <p:cNvPr id="220" name="TextBox 2"/>
          <p:cNvSpPr/>
          <p:nvPr/>
        </p:nvSpPr>
        <p:spPr>
          <a:xfrm>
            <a:off x="857160" y="142920"/>
            <a:ext cx="742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…</a:t>
            </a:r>
            <a:r>
              <a:rPr b="1" i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вижные игр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 обожаю плавать…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2" name="Picture 2" descr="C:\Documents and Settings\Administrator\Рабочий стол\Новая папка\S7300982.JPG"/>
          <p:cNvPicPr/>
          <p:nvPr/>
        </p:nvPicPr>
        <p:blipFill>
          <a:blip r:embed="rId1"/>
          <a:stretch/>
        </p:blipFill>
        <p:spPr>
          <a:xfrm>
            <a:off x="1500120" y="1428840"/>
            <a:ext cx="621504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C:\Documents and Settings\Administrator\Рабочий стол\Новая папка\S7300834.JPG"/>
          <p:cNvPicPr/>
          <p:nvPr/>
        </p:nvPicPr>
        <p:blipFill>
          <a:blip r:embed="rId1"/>
          <a:stretch/>
        </p:blipFill>
        <p:spPr>
          <a:xfrm>
            <a:off x="915840" y="1428840"/>
            <a:ext cx="7312320" cy="5214960"/>
          </a:xfrm>
          <a:prstGeom prst="rect">
            <a:avLst/>
          </a:prstGeom>
          <a:ln w="0">
            <a:noFill/>
          </a:ln>
        </p:spPr>
      </p:pic>
      <p:sp>
        <p:nvSpPr>
          <p:cNvPr id="224" name="TextBox 2"/>
          <p:cNvSpPr/>
          <p:nvPr/>
        </p:nvSpPr>
        <p:spPr>
          <a:xfrm>
            <a:off x="928800" y="214200"/>
            <a:ext cx="72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…</a:t>
            </a:r>
            <a:r>
              <a:rPr b="1" i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пострелять в тире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C:\Documents and Settings\Administrator\Рабочий стол\Новая папка\S7300706.JPG"/>
          <p:cNvPicPr/>
          <p:nvPr/>
        </p:nvPicPr>
        <p:blipFill>
          <a:blip r:embed="rId1"/>
          <a:stretch/>
        </p:blipFill>
        <p:spPr>
          <a:xfrm>
            <a:off x="773280" y="1285920"/>
            <a:ext cx="7597440" cy="5357880"/>
          </a:xfrm>
          <a:prstGeom prst="rect">
            <a:avLst/>
          </a:prstGeom>
          <a:ln w="0">
            <a:noFill/>
          </a:ln>
        </p:spPr>
      </p:pic>
      <p:sp>
        <p:nvSpPr>
          <p:cNvPr id="226" name="TextBox 2"/>
          <p:cNvSpPr/>
          <p:nvPr/>
        </p:nvSpPr>
        <p:spPr>
          <a:xfrm>
            <a:off x="214200" y="0"/>
            <a:ext cx="8715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…</a:t>
            </a:r>
            <a:r>
              <a:rPr b="1" i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юблю  покататься верхом на лошадях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2"/>
          <p:cNvSpPr/>
          <p:nvPr/>
        </p:nvSpPr>
        <p:spPr>
          <a:xfrm>
            <a:off x="214200" y="1071720"/>
            <a:ext cx="8715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Ё ХОББИ ОРИГАМИ и </a:t>
            </a:r>
            <a:r>
              <a:rPr b="1" i="1" lang="en-US" sz="6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LEGO</a:t>
            </a:r>
            <a:r>
              <a:rPr b="1" i="1" lang="ru-RU" sz="6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Рисунок 3" descr="S7300077.JPG"/>
          <p:cNvPicPr/>
          <p:nvPr/>
        </p:nvPicPr>
        <p:blipFill>
          <a:blip r:embed="rId1"/>
          <a:stretch/>
        </p:blipFill>
        <p:spPr>
          <a:xfrm>
            <a:off x="285840" y="3214800"/>
            <a:ext cx="828684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C:\Documents and Settings\Administrator\Рабочий стол\Новая папка\DSC_0302 (2).jpg"/>
          <p:cNvPicPr/>
          <p:nvPr/>
        </p:nvPicPr>
        <p:blipFill>
          <a:blip r:embed="rId1"/>
          <a:stretch/>
        </p:blipFill>
        <p:spPr>
          <a:xfrm>
            <a:off x="714240" y="1500120"/>
            <a:ext cx="7786800" cy="5072040"/>
          </a:xfrm>
          <a:prstGeom prst="rect">
            <a:avLst/>
          </a:prstGeom>
          <a:ln w="0">
            <a:noFill/>
          </a:ln>
        </p:spPr>
      </p:pic>
      <p:sp>
        <p:nvSpPr>
          <p:cNvPr id="230" name="TextBox 2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школе я стараюсь  хорошо учиться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C:\Documents and Settings\Administrator\Рабочий стол\Новая папка\S7300725.JPG"/>
          <p:cNvPicPr/>
          <p:nvPr/>
        </p:nvPicPr>
        <p:blipFill>
          <a:blip r:embed="rId1"/>
          <a:stretch/>
        </p:blipFill>
        <p:spPr>
          <a:xfrm>
            <a:off x="4572000" y="785880"/>
            <a:ext cx="4219560" cy="5626080"/>
          </a:xfrm>
          <a:prstGeom prst="rect">
            <a:avLst/>
          </a:prstGeom>
          <a:ln w="0">
            <a:noFill/>
          </a:ln>
        </p:spPr>
      </p:pic>
      <p:sp>
        <p:nvSpPr>
          <p:cNvPr id="232" name="TextBox 2"/>
          <p:cNvSpPr/>
          <p:nvPr/>
        </p:nvSpPr>
        <p:spPr>
          <a:xfrm>
            <a:off x="285840" y="1714680"/>
            <a:ext cx="40719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…</a:t>
            </a:r>
            <a:r>
              <a:rPr b="1" i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принимать участие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C:\Documents and Settings\Administrator\Рабочий стол\Новая папка\S7300966.JPG"/>
          <p:cNvPicPr/>
          <p:nvPr/>
        </p:nvPicPr>
        <p:blipFill>
          <a:blip r:embed="rId1"/>
          <a:stretch/>
        </p:blipFill>
        <p:spPr>
          <a:xfrm>
            <a:off x="4643280" y="1000080"/>
            <a:ext cx="4273560" cy="5572080"/>
          </a:xfrm>
          <a:prstGeom prst="rect">
            <a:avLst/>
          </a:prstGeom>
          <a:ln w="0">
            <a:noFill/>
          </a:ln>
        </p:spPr>
      </p:pic>
      <p:sp>
        <p:nvSpPr>
          <p:cNvPr id="200" name="TextBox 2"/>
          <p:cNvSpPr/>
          <p:nvPr/>
        </p:nvSpPr>
        <p:spPr>
          <a:xfrm>
            <a:off x="214200" y="1785960"/>
            <a:ext cx="36435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не 8 лет, я учусь во 2 «Б» класс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C:\Documents and Settings\Administrator\Рабочий стол\Новая папка\S7300677.JPG"/>
          <p:cNvPicPr/>
          <p:nvPr/>
        </p:nvPicPr>
        <p:blipFill>
          <a:blip r:embed="rId1"/>
          <a:stretch/>
        </p:blipFill>
        <p:spPr>
          <a:xfrm>
            <a:off x="773280" y="1428840"/>
            <a:ext cx="7597440" cy="5214960"/>
          </a:xfrm>
          <a:prstGeom prst="rect">
            <a:avLst/>
          </a:prstGeom>
          <a:ln w="0">
            <a:noFill/>
          </a:ln>
        </p:spPr>
      </p:pic>
      <p:sp>
        <p:nvSpPr>
          <p:cNvPr id="234" name="TextBox 2"/>
          <p:cNvSpPr/>
          <p:nvPr/>
        </p:nvSpPr>
        <p:spPr>
          <a:xfrm>
            <a:off x="785880" y="285840"/>
            <a:ext cx="757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…</a:t>
            </a:r>
            <a:r>
              <a:rPr b="1" i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 всех мероприятиях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450720" y="1706400"/>
            <a:ext cx="832176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C:\Documents and Settings\Administrator\Рабочий стол\Новая папка\S7300279.JPG"/>
          <p:cNvPicPr/>
          <p:nvPr/>
        </p:nvPicPr>
        <p:blipFill>
          <a:blip r:embed="rId1"/>
          <a:stretch/>
        </p:blipFill>
        <p:spPr>
          <a:xfrm>
            <a:off x="773280" y="1214280"/>
            <a:ext cx="7597440" cy="5429520"/>
          </a:xfrm>
          <a:prstGeom prst="rect">
            <a:avLst/>
          </a:prstGeom>
          <a:ln w="0">
            <a:noFill/>
          </a:ln>
        </p:spPr>
      </p:pic>
      <p:sp>
        <p:nvSpPr>
          <p:cNvPr id="237" name="TextBox 2"/>
          <p:cNvSpPr/>
          <p:nvPr/>
        </p:nvSpPr>
        <p:spPr>
          <a:xfrm>
            <a:off x="785880" y="214200"/>
            <a:ext cx="757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товимся к Новому году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C:\Documents and Settings\Administrator\Рабочий стол\Новая папка\S7300271.JPG"/>
          <p:cNvPicPr/>
          <p:nvPr/>
        </p:nvPicPr>
        <p:blipFill>
          <a:blip r:embed="rId1"/>
          <a:stretch/>
        </p:blipFill>
        <p:spPr>
          <a:xfrm>
            <a:off x="928800" y="1357200"/>
            <a:ext cx="7143480" cy="5214960"/>
          </a:xfrm>
          <a:prstGeom prst="rect">
            <a:avLst/>
          </a:prstGeom>
          <a:ln w="0">
            <a:noFill/>
          </a:ln>
        </p:spPr>
      </p:pic>
      <p:sp>
        <p:nvSpPr>
          <p:cNvPr id="239" name="TextBox 2"/>
          <p:cNvSpPr/>
          <p:nvPr/>
        </p:nvSpPr>
        <p:spPr>
          <a:xfrm>
            <a:off x="142920" y="214200"/>
            <a:ext cx="90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лаем подарки своими рукам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Box 1"/>
          <p:cNvSpPr/>
          <p:nvPr/>
        </p:nvSpPr>
        <p:spPr>
          <a:xfrm>
            <a:off x="1500120" y="1857240"/>
            <a:ext cx="6000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асибо за внимание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30592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2" name="Прямоугольник 2" descr=""/>
          <p:cNvPicPr/>
          <p:nvPr/>
        </p:nvPicPr>
        <p:blipFill>
          <a:blip r:embed="rId1"/>
          <a:stretch/>
        </p:blipFill>
        <p:spPr>
          <a:xfrm>
            <a:off x="622440" y="2773440"/>
            <a:ext cx="788832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C:\Documents and Settings\Administrator\Рабочий стол\Новая папка\DSC_0171.jpg"/>
          <p:cNvPicPr/>
          <p:nvPr/>
        </p:nvPicPr>
        <p:blipFill>
          <a:blip r:embed="rId1"/>
          <a:stretch/>
        </p:blipFill>
        <p:spPr>
          <a:xfrm>
            <a:off x="457200" y="1500120"/>
            <a:ext cx="8229600" cy="5214960"/>
          </a:xfrm>
          <a:prstGeom prst="rect">
            <a:avLst/>
          </a:prstGeom>
          <a:ln w="0">
            <a:noFill/>
          </a:ln>
        </p:spPr>
      </p:pic>
      <p:sp>
        <p:nvSpPr>
          <p:cNvPr id="204" name="TextBox 2"/>
          <p:cNvSpPr/>
          <p:nvPr/>
        </p:nvSpPr>
        <p:spPr>
          <a:xfrm>
            <a:off x="428760" y="214200"/>
            <a:ext cx="82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ые любимые и родны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500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жно сказать еще один член семьи, наша кошка Муся.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6" name="Picture 2" descr="C:\Documents and Settings\Administrator\Рабочий стол\Документы Айнаш\фотографии\фото с карты\отбор фото\_Samsung D70 _ D75 _ S730 _ S750__46.jpg"/>
          <p:cNvPicPr/>
          <p:nvPr/>
        </p:nvPicPr>
        <p:blipFill>
          <a:blip r:embed="rId1"/>
          <a:stretch/>
        </p:blipFill>
        <p:spPr>
          <a:xfrm>
            <a:off x="1357200" y="2071800"/>
            <a:ext cx="628668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Заголовок 1" descr=""/>
          <p:cNvPicPr/>
          <p:nvPr/>
        </p:nvPicPr>
        <p:blipFill>
          <a:blip r:embed="rId1"/>
          <a:stretch/>
        </p:blipFill>
        <p:spPr>
          <a:xfrm>
            <a:off x="30240" y="1779480"/>
            <a:ext cx="87422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C:\Documents and Settings\Administrator\Рабочий стол\Новая папка\DSC_0139.jpg"/>
          <p:cNvPicPr/>
          <p:nvPr/>
        </p:nvPicPr>
        <p:blipFill>
          <a:blip r:embed="rId1"/>
          <a:stretch/>
        </p:blipFill>
        <p:spPr>
          <a:xfrm>
            <a:off x="457200" y="1428840"/>
            <a:ext cx="8229600" cy="5214960"/>
          </a:xfrm>
          <a:prstGeom prst="rect">
            <a:avLst/>
          </a:prstGeom>
          <a:ln w="0">
            <a:noFill/>
          </a:ln>
        </p:spPr>
      </p:pic>
      <p:sp>
        <p:nvSpPr>
          <p:cNvPr id="209" name="TextBox 2"/>
          <p:cNvSpPr/>
          <p:nvPr/>
        </p:nvSpPr>
        <p:spPr>
          <a:xfrm>
            <a:off x="428760" y="0"/>
            <a:ext cx="8215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 сентября 2011 года, я пошел в школ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Лист индивидуальных достижений по русскому языку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57200" y="1935000"/>
          <a:ext cx="8229600" cy="5131080"/>
        </p:xfrm>
        <a:graphic>
          <a:graphicData uri="http://schemas.openxmlformats.org/drawingml/2006/table">
            <a:tbl>
              <a:tblPr/>
              <a:tblGrid>
                <a:gridCol w="2757600"/>
                <a:gridCol w="785880"/>
                <a:gridCol w="785520"/>
                <a:gridCol w="322200"/>
                <a:gridCol w="320760"/>
                <a:gridCol w="322200"/>
                <a:gridCol w="320760"/>
                <a:gridCol w="679680"/>
                <a:gridCol w="677880"/>
                <a:gridCol w="628560"/>
                <a:gridCol w="6285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ум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1 четвер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четвер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четвер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4 четвер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Умею различать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Звуки и букв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учени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учи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у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у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у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у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у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у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5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Гласные и соглас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лово и предло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Умею списывать печатный текст и письм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Умею делить слова для перено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Умею в слове ставить удар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Умею записывать транскрипцию сл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Лист индивидуальных достижений по технике чтения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3" name="Содержимое 3" descr=""/>
          <p:cNvPicPr/>
          <p:nvPr/>
        </p:nvPicPr>
        <p:blipFill>
          <a:blip r:embed="rId1"/>
          <a:stretch/>
        </p:blipFill>
        <p:spPr>
          <a:xfrm>
            <a:off x="384120" y="1859040"/>
            <a:ext cx="8375760" cy="39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09:00:19Z</dcterms:created>
  <dc:creator>Admin</dc:creator>
  <dc:description/>
  <dc:language>en-US</dc:language>
  <cp:lastModifiedBy>Admin</cp:lastModifiedBy>
  <dcterms:modified xsi:type="dcterms:W3CDTF">2013-03-28T19:42:35Z</dcterms:modified>
  <cp:revision>85</cp:revision>
  <dc:subject/>
  <dc:title>Слайд 1</dc:title>
</cp:coreProperties>
</file>