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CA9-33A3-42C1-A87F-68F79140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133-B781-4161-9029-4818D626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16A-9264-4DE9-814D-E50B2F09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843-9ED8-49EA-A35A-530AAB49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0CD-28FC-44B3-B6EE-8FD65726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8FB-9F76-4ED6-BD59-CDC137FD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D3E-B7F4-4319-A578-F3401E98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665-4908-4B5D-A861-4138B037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D49-3B59-4AC7-83D1-1DE5C6BD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E49-17E1-4D68-8EE6-D99C92DF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4D5-8846-4EF1-824B-7341CCB9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078-02FF-422F-BA76-C9682774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3A1F-AF99-409B-AB38-F90C5D68A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63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92360" y="189000"/>
            <a:ext cx="55436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ЭТО 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5661000"/>
            <a:ext cx="70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куда мы пришли? Куда свой путь вершим? В чём нашей жизни смысл? Он нам непостижим. Как много чистых душ под колесом лазурным сгорает в пепел, прах, а где, скажите, д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00720" y="645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мар Хай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041 -0.66667 C -0.25781 -0.66551 -0.25503 -0.66505 -0.2526 -0.66319 C -0.2486 -0.65995 -0.24826 -0.65208 -0.246 -0.64907 C -0.24079 -0.64213 -0.23871 -0.64236 -0.23281 -0.64028 C -0.2276 -0.6294 -0.23333 -0.63912 -0.22621 -0.63333 C -0.2177 -0.62662 -0.21076 -0.6162 -0.20121 -0.61227 C -0.19878 -0.60185 -0.2019 -0.61134 -0.196 -0.60347 C -0.19496 -0.60208 -0.19444 -0.59954 -0.1934 -0.59815 C -0.18975 -0.59329 -0.1894 -0.5956 -0.18541 -0.59282 C -0.18124 -0.59005 -0.17951 -0.58611 -0.17499 -0.58426 C -0.16892 -0.57824 -0.16388 -0.57616 -0.15659 -0.57361 C -0.15173 -0.56944 -0.14617 -0.56551 -0.14079 -0.56319 C -0.1361 -0.55648 -0.1276 -0.55602 -0.121 -0.5544 C -0.10937 -0.54676 -0.09548 -0.54236 -0.08281 -0.53866 C -0.000340000000000007 -0.53935 0.09115 -0.49907 0.16459 -0.54907 C 0.16876 -0.55185 0.17188 -0.55417 0.1764 -0.55602 C 0.19167 -0.56944 0.16772 -0.5493 0.1856 -0.56134 C 0.19428 -0.56713 0.20122 -0.57685 0.2106 -0.58055 C 0.22292 -0.5919 0.23699 -0.59722 0.2514 -0.60162 C 0.25817 -0.60648 0.26633 -0.61088 0.27379 -0.61389 C 0.28022 -0.62014 0.29445 -0.62407 0.30261 -0.62801 C 0.31025 -0.63773 0.31824 -0.6375 0.329 -0.63866 C 0.35452 -0.63796 0.37987 -0.63796 0.40539 -0.6368 C 0.41442 -0.63634 0.42223 -0.62569 0.429 -0.61921 C 0.43751 -0.61111 0.44653 -0.60463 0.454 -0.59468 C 0.45695 -0.58333 0.46216 -0.56829 0.46841 -0.55949 C 0.47049 -0.55185 0.4731 -0.54352 0.4764 -0.5368 C 0.47865 -0.52685 0.48247 -0.52222 0.47501 -0.51574 C 0.47466 -0.51343 0.47379 -0.51111 0.47379 -0.5088 C 0.47379 -0.5 0.47796 -0.50625 0.47119 -0.5 C 0.46824 -0.49444 0.46476 -0.49143 0.46181 -0.48588 C 0.45973 -0.47662 0.46164 -0.47847 0.45001 -0.48426 C 0.44636 -0.48611 0.43959 -0.4912 0.43959 -0.4912 C 0.4356 -0.48634 0.43473 -0.48102 0.4316 -0.47546 C 0.42275 -0.45903 0.43213 -0.48194 0.42501 -0.46319 C 0.42327 -0.46435 0.42171 -0.46667 0.4198 -0.46667 C 0.40591 -0.46667 0.41667 -0.4588 0.40799 -0.46667 C 0.40782 -0.46667 0.39966 -0.46389 0.39879 -0.46319 C 0.39063 -0.45648 0.40365 -0.4618 0.39081 -0.45787 C 0.39428 -0.47523 0.38768 -0.45741 0.38039 -0.4544 C 0.37119 -0.44653 0.38247 -0.45532 0.36459 -0.44722 C 0.36094 -0.4456 0.35747 -0.44259 0.354 -0.44028 C 0.34237 -0.43264 0.3323 -0.41829 0.3198 -0.41389 C 0.31199 -0.40718 0.30487 -0.40208 0.29619 -0.39815 C 0.29167 -0.39259 0.27969 -0.38148 0.27379 -0.37893 C 0.26581 -0.37199 0.25869 -0.36852 0.25001 -0.36319 C 0.24393 -0.35949 0.23942 -0.35417 0.23299 -0.35093 C 0.22865 -0.34514 0.22518 -0.34236 0.2198 -0.33866 C 0.21494 -0.33194 0.20643 -0.32338 0.20001 -0.31921 C 0.19619 -0.31389 0.19358 -0.31088 0.1882 -0.3088 C 0.18213 -0.30347 0.17917 -0.2956 0.17379 -0.28935 C 0.16772 -0.28241 0.16963 -0.2868 0.16581 -0.28055 C 0.16442 -0.27824 0.16338 -0.27546 0.16181 -0.27361 C 0.15903 -0.27037 0.15261 -0.26481 0.15261 -0.26481 C 0.15088 -0.26134 0.15001 -0.25671 0.1474 -0.2544 C 0.14272 -0.25046 0.13994 -0.2463 0.13681 -0.24028 C 0.13456 -0.23032 0.12883 -0.2213 0.12501 -0.21227 C 0.11702 -0.19329 0.13004 -0.22106 0.11719 -0.19468 C 0.11459 -0.18935 0.11407 -0.18264 0.11181 -0.17708 C 0.10921 -0.15856 0.11268 -0.17801 0.1066 -0.15949 C 0.10296 -0.14861 0.10244 -0.13634 0.0974 -0.12616 C 0.09428 -0.10856 0.09862 -0.12893 0.09341 -0.11389 C 0.09219 -0.11065 0.09081 -0.10347 0.09081 -0.10347 C 0.09046 -0.1 0.09046 -0.0963 0.08959 -0.09282 C 0.08907 -0.0912 0.08751 -0.09074 0.08681 -0.08935 C 0.0849 -0.08611 0.08299 -0.08264 0.0816 -0.07893 C 0.07778 -0.06852 0.07119 -0.06018 0.06581 -0.05093 C 0.06407 -0.04305 0.05851 -0.03866 0.054 -0.03333 C 0.04601 -0.02384 0.04358 -0.02037 0.03421 -0.01389 C 0.03282 -0.01296 0.0316 -0.01157 0.03039 -0.01042 C 0.02935 -0.00926 0.02865 -0.00787 0.02761 -0.00694 C 0.02258 -0.00301 0.01633 -0.00417 0.0106 -0.00347 C 0.00695 -0.00185 0.00383 -7.40741E-007 5.55556E-006 -7.40741E-007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84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91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 rot="21069600">
            <a:off x="1331640" y="620640"/>
            <a:ext cx="63054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21120600">
            <a:off x="539640" y="764640"/>
            <a:ext cx="4103640" cy="532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 rot="262200">
            <a:off x="5364000" y="549360"/>
            <a:ext cx="3456000" cy="5327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979640" y="6093000"/>
            <a:ext cx="6705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то с нами делают наркотики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77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ЭТО М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751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12944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Скудеет в жилах кровь, скудеют наши силы; ах, мало ли сердец убил ты, рок постылый! Кто в дальний путь ушёл, тот навсегда исчез, нам некого спросить о крае за могило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21026400">
            <a:off x="324000" y="1412640"/>
            <a:ext cx="4284360" cy="460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610800">
            <a:off x="5076360" y="1341000"/>
            <a:ext cx="3598920" cy="4826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835280" y="5950080"/>
            <a:ext cx="518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СТОРОЖНО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818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887640" cy="583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911400">
            <a:off x="5008320" y="649440"/>
            <a:ext cx="34131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rot="20743800">
            <a:off x="611280" y="691920"/>
            <a:ext cx="4140000" cy="511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880800">
            <a:off x="4642920" y="1483920"/>
            <a:ext cx="3865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-281160"/>
            <a:ext cx="9144000" cy="74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7:02:29Z</dcterms:created>
  <dc:creator>User</dc:creator>
  <dc:description/>
  <dc:language>en-US</dc:language>
  <cp:lastModifiedBy>User</cp:lastModifiedBy>
  <dcterms:modified xsi:type="dcterms:W3CDTF">2009-10-07T07:48:46Z</dcterms:modified>
  <cp:revision>2</cp:revision>
  <dc:subject/>
  <dc:title>Слайд 1</dc:title>
</cp:coreProperties>
</file>