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22B0-ACDC-4378-9A04-58A3B445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25BF-40CC-44B1-98F6-898008D2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0AB-2D72-466C-837A-1D95FFEE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BFA-4493-42BF-BFDF-CC82452A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B3E6-3E8F-4F6D-9CBB-D8233139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EEDD-FE2A-44C1-9DF9-7F4C0D51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DF4-B013-4DE9-AC8C-F28A0307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B7B-E574-4798-8FA4-BCD9A891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596-B1A1-43FB-AE2B-FDE04ACB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FDDE-6DA8-4775-B5B4-F85CD446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55EC-032F-4265-B5B2-50B8FB4B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F105-6695-4071-A100-B7F90436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5EC1-1A5D-43D1-826C-58FAF1FB7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hyperlink" Target="http://www.membrana.ru/images/articles/1257951688-5.jpeg" TargetMode="External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hyperlink" Target="http://mycityua.com/upload/import/2009/03/24/304954.jpg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НОСПУТ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лков Никита Владими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«В» МОУ СОШ №2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. Каневской, Каневского района, Краснодарского кр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Схема базовой ячейки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процессор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- шина контроллер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- накопитель энергии (суперконденсатор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функциональные элементы (преобразователи энергии, наноимпульсные двигате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395928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ксперименты для нескольких спутник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рение флуктуаций (пульсаций) магнитного поля в диапазоне периодов 100 сек – 5 Г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ы по радиопросвечиванию ионосферы с помощью радиомая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ы по исследованию условий распространения радиоволн в СВЧ диапазон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имущества использования наноспут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бильность, простота использования и универсаль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тельное снижение стоимости космических полет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риска больших финансовых потерь в случае авар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тельное увеличение числа запус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ь быстрого запуска "по запросу"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ь реализации концепции создания многоспутниковых орбитальных группировок, обеспечивающих непрерывное глобальное покрытие Земли. Такие системы обладают высокой живучестью, надежность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ота у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 наноспут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бласти астрономических наблюде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цизионном мониторинге Земли, инспекции ближнего космос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исково-спасательных операция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нтикриминальной и антитеррорист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диное информационное простр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03280" y="1915920"/>
            <a:ext cx="6624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яз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вигац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иторинг окружающей сред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ача и обработка информ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ача сигналов оповещения и упра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4715280" y="692640"/>
            <a:ext cx="217440" cy="6985080"/>
          </a:xfrm>
          <a:custGeom>
            <a:avLst/>
            <a:gdLst>
              <a:gd name="textAreaLeft" fmla="*/ 0 w 217440"/>
              <a:gd name="textAreaRight" fmla="*/ 78480 w 217440"/>
              <a:gd name="textAreaTop" fmla="*/ 182160 h 6985080"/>
              <a:gd name="textAreaBottom" fmla="*/ 6802920 h 698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125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0920" y="544500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прерывность, глобальность, оперативность и доступность массовому потребител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450864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ассификация спутников по м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н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кро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н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к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2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0 – 5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– 1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–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– 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16286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Масса, 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7002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пут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773360"/>
            <a:ext cx="8713800" cy="396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08360" y="1773360"/>
            <a:ext cx="0" cy="39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2349360"/>
            <a:ext cx="871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Салижан Шарипов совершил исторический бросок"/>
          <p:cNvPicPr/>
          <p:nvPr/>
        </p:nvPicPr>
        <p:blipFill>
          <a:blip r:embed="rId1"/>
          <a:stretch/>
        </p:blipFill>
        <p:spPr>
          <a:xfrm>
            <a:off x="324000" y="4762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708360" y="333360"/>
            <a:ext cx="5076720" cy="3265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5280" y="3213000"/>
            <a:ext cx="3024360" cy="2671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995640" y="3789360"/>
            <a:ext cx="39610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хема основных составных частей наноспутн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- антенна 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- анализатор сигнала 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- прием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- датчики гориз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- передат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- антенна радио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- аккумуля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- инерционная система ори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- штанга научной аппа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- системы ори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- солнечные датч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470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ие наноспутников имеет следующие преимуществ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льно низкая цена и время изготовления космического аппар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зкая цена запуска (ракета-носитель даже легкого класса способна вывести на орбиту сразу несколько таких спутнико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финансовых потерь, например, в случае аварии ракеты-носителя или при неудачном выводе наноспутника на рабочую орб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Картинка 14 из 12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1268280"/>
            <a:ext cx="4111560" cy="4530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716360" y="765000"/>
            <a:ext cx="3959280" cy="2970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Картинка 50 из 12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3280" y="4149720"/>
            <a:ext cx="426564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спективными для космической техники являются наноматериалы, обладающие одновременно высокими твердостью, прочностью и пластичностью, что недостижимо в обычных материала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нешний вид модуля малоразмерного космического аппара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89744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20:05:32Z</dcterms:created>
  <dc:creator>Жуковы</dc:creator>
  <dc:description/>
  <dc:language>en-US</dc:language>
  <cp:lastModifiedBy>Жуковы</cp:lastModifiedBy>
  <dcterms:modified xsi:type="dcterms:W3CDTF">2010-04-08T20:41:14Z</dcterms:modified>
  <cp:revision>2</cp:revision>
  <dc:subject/>
  <dc:title>НАНОСПУТНИКИ</dc:title>
</cp:coreProperties>
</file>