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10B-1B6A-4628-BCBF-B763E75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AA1-2C4E-4EE0-A7EF-57C6A70E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900-73C9-450E-9505-FE8A6B09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F61-6846-43BF-8EB4-B09C1855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21A-C983-4D6F-81FE-F60B0993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02C-E9BC-4C8E-8668-E968907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637-C3C5-4E6C-9143-D25C83C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8F6-AF46-4329-96F7-C1B1F70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02F-8B54-402E-9A4A-B95B88F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96C-11B3-4E65-911A-9000A38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C53-F1F1-414E-AF0F-3E4DF45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9C7-8437-4E8C-9064-D76D3B5C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1D30-8AC6-45F8-8251-9AD5EED17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http://www.membrana.ru/images/articles/1257951688-5.jpeg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hyperlink" Target="http://mycityua.com/upload/import/2009/03/24/304954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НО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лков Никита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«В» МОУ СОШ №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. Каневской, Каневского района, Краснодарско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Схема базовой ячейк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процессо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шина контролле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накопитель энергии (суперконденсатор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функциональные элементы (преобразователи энергии, наноимпульсные двига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95928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сперименты для нескольких спутни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рение флуктуаций (пульсаций) магнитного поля в диапазоне периодов 100 сек – 5 Г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ы по радиопросвечиванию ионосферы с помощью радиомая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ы по исследованию условий распространения радиоволн в СВЧ диапазон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имущества использования наноспут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бильность, простота использования и универсаль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ое снижение стоимости космических поле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риска больших финансовых потерь в случае ава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ое увеличение числа запус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быстрого запуска "по запросу"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реализации концепции создания многоспутниковых орбитальных группировок, обеспечивающих непрерывное глобальное покрытие Земли. Такие системы обладают высокой живучестью, надежность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та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нение наноспут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ласти астрономических наблю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цизионном мониторинге Земли, инспекции ближнего космо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исково-спасательных операция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тикриминальной и антитеррорис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диное информационное 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3280" y="191592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вигац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иторинг окружающей сре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ача и обработка информ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ача сигналов оповещения и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4715280" y="692640"/>
            <a:ext cx="217440" cy="6985080"/>
          </a:xfrm>
          <a:custGeom>
            <a:avLst/>
            <a:gdLst>
              <a:gd name="textAreaLeft" fmla="*/ 0 w 217440"/>
              <a:gd name="textAreaRight" fmla="*/ 78480 w 217440"/>
              <a:gd name="textAreaTop" fmla="*/ 182160 h 6985080"/>
              <a:gd name="textAreaBottom" fmla="*/ 6802920 h 698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12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5445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рерывность, глобальность, оперативность и доступность массовому потребител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0864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ассификация спутников по м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н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кр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0 – 5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– 1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–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– 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1628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Масса,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70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пу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773360"/>
            <a:ext cx="8713800" cy="39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1773360"/>
            <a:ext cx="0" cy="39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349360"/>
            <a:ext cx="871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Салижан Шарипов совершил исторический бросок"/>
          <p:cNvPicPr/>
          <p:nvPr/>
        </p:nvPicPr>
        <p:blipFill>
          <a:blip r:embed="rId1"/>
          <a:stretch/>
        </p:blipFill>
        <p:spPr>
          <a:xfrm>
            <a:off x="324000" y="476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08360" y="333360"/>
            <a:ext cx="5076720" cy="3265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3213000"/>
            <a:ext cx="3024360" cy="2671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995640" y="3789360"/>
            <a:ext cx="3961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основных составных частей наноспутн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антенна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анализатор сигнала 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прием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- датчики гориз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передат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- антенна радио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- аккумуля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- инерционная система ори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- штанга научной аппа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- системы ори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- солнечные дат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470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наноспутников имеет следующие преимуществ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льно низкая цена и время изготовления космического ап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ая цена запуска (ракета-носитель даже легкого класса способна вывести на орбиту сразу несколько таких спутник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финансовых потерь, например, в случае аварии ракеты-носителя или при неудачном выводе наноспутника на рабочую орб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а 14 из 1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1268280"/>
            <a:ext cx="4111560" cy="4530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716360" y="76500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50 из 12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4149720"/>
            <a:ext cx="42656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спективными для космической техники являются наноматериалы, обладающие одновременно высокими твердостью, прочностью и пластичностью, что недостижимо в обычных материал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ий вид модуля малоразмерного космического аппара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89744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0:05:32Z</dcterms:created>
  <dc:creator>Жуковы</dc:creator>
  <dc:description/>
  <dc:language>en-US</dc:language>
  <cp:lastModifiedBy>Жуковы</cp:lastModifiedBy>
  <dcterms:modified xsi:type="dcterms:W3CDTF">2010-04-08T20:41:14Z</dcterms:modified>
  <cp:revision>2</cp:revision>
  <dc:subject/>
  <dc:title>НАНОСПУТНИКИ</dc:title>
</cp:coreProperties>
</file>