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5D72-F3EF-48FC-9B07-88A1BAC6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1F3E-F5AB-4E56-9341-D0A18076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B3A-ACA9-40A0-8831-791A7789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45C-FEE6-4628-8BAB-1E93E0A0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B3D3-7049-4106-B367-982EEF0A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820-647E-4B6B-A797-D9C1BFEB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F64-979C-449B-BB69-78B52484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FDD-E8D9-4BD8-A904-5E84C0BF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9C8-3AC3-4723-86A4-07A9EE8C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67CB-9109-4A83-973F-45140CB4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860-2B84-41D6-9900-FBB3D5D0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77D0-94AA-4AEF-B593-DDFD0DB7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F3D9-AA9F-4518-A8C2-A81D6E7BF5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ststudio.ru/in?t=38&amp;pid=905&amp;slid=3626&amp;tsid=2595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16000" y="2781360"/>
            <a:ext cx="4103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я по курсу «Основы самосовершенствовани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у выполнил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ца 9 «А»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нова Дарь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: Лайс Л.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40360" y="6353280"/>
            <a:ext cx="79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0"/>
            <a:ext cx="784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«Гимназия №2», г. Вышний  Волочё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16000" y="1989000"/>
            <a:ext cx="669780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00cc99"/>
                    </a:gs>
                  </a:gsLst>
                  <a:lin ang="5400000"/>
                </a:gradFill>
                <a:latin typeface="Arial"/>
              </a:rPr>
              <a:t>профессия ПЕРЕВОДЧИК</a:t>
            </a:r>
            <a:endParaRPr b="0" lang="en-US" sz="2400" spc="1" strike="noStrike">
              <a:ln w="324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00cc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Качества, препятствующие эффективности профессиональной деятель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мкнут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грессив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дражитель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убость, невоспитан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вниматель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ссив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коммуникабель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3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8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8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3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Пути пол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9780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ессии переводчика обучают в учреждениях высшего профессионального образования на факультетах иностранного языка. Специальностей, связанных с глубоким изучением иностранного языка, много. И везде своя специфика - где-то готовят преподавателей иностранного языка, где-то - лингвистов-исследователей. А для работодателя важно, чтобы в дипломе у молодого специалиста, который еще не может похвастаться серьезными профессиональными достижениями, в графе «квалификация» было написано: «лингвист, переводчик», иначе гораздо дольше придется доказывать свою компетентность. А такую квалификацию можно получить только на одной специальности и «Перевод и переводоведение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водчиков готовят во многих вузах, среди которых лучш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институт международных отношений (университет) МИД России (МГИМО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сийский университет дружбы народов (РУДН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университет им. М.В. Ломоносова (МГУ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лингвистический университет (МГЛУ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сийский государственный гуманитарный университет (РГГУ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Доминирующие виды деятель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и проведение экскурсий по культурно-историческим местам для иностранных граждан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провождение иностранных граждан во время их визитов в страну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азание помощи в размещении и проживании иностранных граждан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воды на презентациях, деловых встречах, переговорах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ществление письменных переводо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ление информационно-тематических планов, отчето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провождение русскоязычных групп при поездках за границу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ществление переводов иностранных теле- и радиопрограмм, кинофильмо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подавательская деятель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6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6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1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1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6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1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1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Уровень оплаты тру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татный переводчик в конкретной фирме, перевод художественной литературы, высший пилотаж - синхронный перевод. Карьерный рост переводчика определяется степенью сложности, доверяемых ему задан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Тест "Профориентация"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Предлагаю вам пройти увлекательный тест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основание выб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ая характерис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тория профес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ецифика профес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ециализация професс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фессиональные важные каче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бходимые зн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ти получ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минирующие виды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овень оплаты тру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Обоснова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выбо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ек развивающихся международных отношений важно не только знание своего языка, но и иностранных. Переводчики востребованы везде, например, в предпринимательстве без них точно не обойтись. Я считаю, что владение иностранными языками открывает гораздо больше возможностей, позволяет познавать всё новое и ново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люблю путешествовать, мечтаю побывать в Европе. Мне нравится общаться с людьми, но и трудная работа с переводами текстов меня не пугает. Соответственно, профессия переводчика мне подход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Общая характеристик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шинный перевод ещё не скоро, а, может, и никогда, сможет вытеснить ручной. Ошибка в интерпретации текста иногда может стать фатальной. Переводчик — это человек, который профессионально может перевести текст любой сложности с одного языка на другой, сохранив смысл и не искажая факт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История професс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13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фессия переводчика - одна из древнейших. Необходимость в ней возникла, как только сложились национальные языки, отличные друг от друга. Достаточно вспомнить известный библейский сюжет о Вавилонской башне и о том, какими беспомощными стали люди, перестав понимать друг друг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колько раз делались попытки создать и использовать универсальный, всеобщий язык "эсперанто". Однако эти попытки всеобщего признания не получили. Ведь каждый язык, каждое наречие несет национальное своеобразие, отражает историю и культуру каждого народа. Поэтому нужда в переводчиках остается и растет с развитием международного туризма и межнациональных отноше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Специфика профес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569080" cy="47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люсы професс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самореализации в любых областях: письменный перевод, переводчик-синхронист, устный или последовательный перевод, перевод фильмов, книг, журналов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ловека владеющего иностранным языком охотно берут в журналистику, туристические фирмы, PR-компании, менеджмент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ть возможность общаться с разными людьми и изучать культуры других стра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профессионализма переводчика часто зависит благоприятный исход перегово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инусы професс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стабильная загрузка в разные месяцы объем переводов может отличаться в несколько раз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асто гонорары получают не по факту сдачи материала, а когда приходит оплата от заказчик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огда к таким специалистам относятся как к людям второго сорта: переводчики сопровождают делегации по магазинам и барам, а иногда выполняют курьерские поруч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Специализация професс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ные переводч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водчики-синхронис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ьменные переводч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хнические переводч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Юридические переводч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водчики художественной литерату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Профессионально важные каче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1052640"/>
          <a:ext cx="8640720" cy="577044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ные кач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тивные способности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бальные способности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 уровень организаторских способностей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рошие мнемические способности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бкость мыслительных процессов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 уровень распределения внимания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ыстро принимать решения в условиях изменяющейся ситуации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преподносить материал с учетом особенностей каждой конкретной аудитории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и психическая выносливост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жливость, тактичность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нность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ходчивость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троумие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ичность, настойчивость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увство собственного достоинства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рудированность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ядочность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держанност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Необходимые зн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4360" y="1268280"/>
          <a:ext cx="7991280" cy="5211720"/>
        </p:xfrm>
        <a:graphic>
          <a:graphicData uri="http://schemas.openxmlformats.org/drawingml/2006/table">
            <a:tbl>
              <a:tblPr/>
              <a:tblGrid>
                <a:gridCol w="3997080"/>
                <a:gridCol w="3994200"/>
              </a:tblGrid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рофе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одч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минирующий способ мыш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аптация - формализа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асть базовых знаний №1 и их уровен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манитарные науки, уровень 3, высокий (теоретически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асть базовых знаний №2 и их уровен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лология, иностранные языки, уровень 2, средний (практическое использование знаний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фессиональная обла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остранный язы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личностное взаимодейств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дк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минирующий интере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ый интере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приниматель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овия рабо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помещении, вне помещения, моби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3-28T11:25:58Z</dcterms:modified>
  <cp:revision>3</cp:revision>
  <dc:subject/>
  <dc:title>PowerPoint Presentation</dc:title>
</cp:coreProperties>
</file>