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6C6-76BA-4EF6-85CA-47805C0A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317-C69A-49AB-8797-8741E5F8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747-3F13-481B-86E6-80DBDB0F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230-B068-4DB5-B1B2-B15EFCBD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E77-CE02-4560-B191-85C9A406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346-7CDC-414F-86D1-5A25C136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E54-9A08-4166-89B8-B61B355C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602-DE77-43FF-84F9-B65CDD3C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F68-4984-4545-AF43-3302CFCD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F3B-B04D-446A-986E-719EB53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E22-4A5B-4A9E-8A94-14720F76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271-3910-4CD8-BC63-6669BD53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CE25-79CB-4F8D-B72C-177698DC9D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ststudio.ru/in?t=38&amp;pid=905&amp;slid=3626&amp;tsid=2595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16000" y="2781360"/>
            <a:ext cx="410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я по курсу «Основы самосовершенствован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ца 9 «А»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ова Дар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: Лайс Л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40360" y="6353280"/>
            <a:ext cx="79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0"/>
            <a:ext cx="78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Гимназия №2», г. Вышний  Волочё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1989000"/>
            <a:ext cx="669780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профессия ПЕРЕВОДЧИК</a:t>
            </a:r>
            <a:endParaRPr b="0" lang="en-US" sz="2400" spc="1" strike="noStrike">
              <a:ln w="324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Качества, препятствующие эффективности профессиональной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мкнут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грессив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ражитель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бость, невоспитан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ниматель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ссив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ммуникабель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Пути пол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978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и переводчика обучают в учреждениях высшего профессионального образования на факультетах иностранного языка. Специальностей, связанных с глубоким изучением иностранного языка, много. И везде своя специфика - где-то готовят преподавателей иностранного языка, где-то - лингвистов-исследователей. А для работодателя важно, чтобы в дипломе у молодого специалиста, который еще не может похвастаться серьезными профессиональными достижениями, в графе «квалификация» было написано: «лингвист, переводчик», иначе гораздо дольше придется доказывать свою компетентность. А такую квалификацию можно получить только на одной специальности и «Перевод и переводоведение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дчиков готовят во многих вузах, среди которых лучш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институт международных отношений (университет) МИД России (МГИМО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йский университет дружбы народов (РУДН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университет им. М.В. Ломоносова (МГУ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лингвистический университет (МГЛУ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 (РГГУ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Доминирующие виды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и проведение экскурсий по культурно-историческим местам для иностранных гражда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ение иностранных граждан во время их визитов в страну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азание помощи в размещении и проживании иностранных гражда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ы на презентациях, деловых встречах, переговор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ение письменных перевод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ение информационно-тематических планов, отчет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ение русскоязычных групп при поездках за границу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ение переводов иностранных теле- и радиопрограмм, кинофильм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ская деятель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6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Уровень оплаты тру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татный переводчик в конкретной фирме, перевод художественной литературы, высший пилотаж - синхронный перевод. Карьерный рост переводчика определяется степенью сложности, доверяемых ему задан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Тест "Профориентация"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Предлагаю вам пройти увлекательный тест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снование выб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ая характерис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рия профе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цифика профе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циализация професс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ые важные ка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бходимые зн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ти полу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минирующие виды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вень оплаты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Обоснова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выб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ек развивающихся международных отношений важно не только знание своего языка, но и иностранных. Переводчики востребованы везде, например, в предпринимательстве без них точно не обойтись. Я считаю, что владение иностранными языками открывает гораздо больше возможностей, позволяет познавать всё новое и нов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люблю путешествовать, мечтаю побывать в Европе. Мне нравится общаться с людьми, но и трудная работа с переводами текстов меня не пугает. Соответственно, профессия переводчика мне подхо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Общая характерис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шинный перевод ещё не скоро, а, может, и никогда, сможет вытеснить ручной. Ошибка в интерпретации текста иногда может стать фатальной. Переводчик — это человек, который профессионально может перевести текст любой сложности с одного языка на другой, сохранив смысл и не искажая факт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История проф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13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я переводчика - одна из древнейших. Необходимость в ней возникла, как только сложились национальные языки, отличные друг от друга. Достаточно вспомнить известный библейский сюжет о Вавилонской башне и о том, какими беспомощными стали люди, перестав понимать друг друг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о раз делались попытки создать и использовать универсальный, всеобщий язык "эсперанто". Однако эти попытки всеобщего признания не получили. Ведь каждый язык, каждое наречие несет национальное своеобразие, отражает историю и культуру каждого народа. Поэтому нужда в переводчиках остается и растет с развитием международного туризма и межнациональных отноше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Специфика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люсы професс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самореализации в любых областях: письменный перевод, переводчик-синхронист, устный или последовательный перевод, перевод фильмов, книг, журнал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ка владеющего иностранным языком охотно берут в журналистику, туристические фирмы, PR-компании, менеджмент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возможность общаться с разными людьми и изучать культуры других стра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профессионализма переводчика часто зависит благоприятный исход перегово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инусы професс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табильная загрузка в разные месяцы объем переводов может отличаться в несколько раз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о гонорары получают не по факту сдачи материала, а когда приходит оплата от заказчи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огда к таким специалистам относятся как к людям второго сорта: переводчики сопровождают делегации по магазинам и барам, а иногда выполняют курьерские пору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Специализация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ные переводч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водчики-синхронис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енные переводч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ические переводч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ридические переводч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водчики художественной литера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Профессионально важные каче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052640"/>
          <a:ext cx="8640720" cy="577044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ые ка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 способност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бальные способност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 организаторских способностей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шие мнемические способност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кость мыслительных процессов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 распределения внима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ыстро принимать решения в условиях изменяющейся ситуаци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преподносить материал с учетом особенностей каждой конкретной аудитори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и психическая выносливос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жливость, тактичн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дчив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роумие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чность, настойчив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увство собственного достоинства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удированн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ядочн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держаннос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еобходимые зн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1268280"/>
          <a:ext cx="7991280" cy="5211720"/>
        </p:xfrm>
        <a:graphic>
          <a:graphicData uri="http://schemas.openxmlformats.org/drawingml/2006/table">
            <a:tbl>
              <a:tblPr/>
              <a:tblGrid>
                <a:gridCol w="3997080"/>
                <a:gridCol w="3994200"/>
              </a:tblGrid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роф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од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инирующий способ мыш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аптация - формализ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ь базовых знаний №1 и их уров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манитарные науки, уровень 3, высокий (теоретическ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ь базовых знаний №2 и их уров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ология, иностранные языки, уровень 2, средний (практическое использование знан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ессиона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остранны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личностное взаимодейств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дк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инирующий интере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ый интере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принимат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 рабо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омещении, вне помещения, моби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3-28T11:25:58Z</dcterms:modified>
  <cp:revision>3</cp:revision>
  <dc:subject/>
  <dc:title>PowerPoint Presentation</dc:title>
</cp:coreProperties>
</file>