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0ED-878A-4D8B-8D3A-3038B9B5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381-67F8-49F8-B314-FBB83835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7BC-9B4D-4EEC-86AA-547583E2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582-B0FE-4FF5-AEE8-1440BDBF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6FF-E269-4E87-8344-10271280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DB3-7B54-4217-92FB-598EA25E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C78-D781-4FBE-8220-E0A6DC14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544-9B72-43C6-A299-134BDB8D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9DE-8DE1-4368-81D4-BCF2725D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70D-0566-4536-A13C-C804885E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7DD-504B-4762-B3E3-5D89D6E4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7A70-5074-42DB-AE30-99D2A318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CAE9-4580-41BA-A3ED-998002746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68360" y="333360"/>
            <a:ext cx="8424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йзаж -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этическая и музыкальна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опис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24200" y="5013360"/>
            <a:ext cx="5419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Презентацию выполни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учитель ИЗ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омкова Е. 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. Во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4284720" cy="309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4356000" cy="2347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3280" y="3692520"/>
            <a:ext cx="4500720" cy="3165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003640" y="692280"/>
            <a:ext cx="3996000" cy="2874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0" y="83664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лотая осе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хая реч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03640" y="836640"/>
            <a:ext cx="352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енний пейза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588000" y="6334200"/>
            <a:ext cx="1771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тяб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4365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лото осен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85128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. Савра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в зарубежном изобразительном искусстве возникло направл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мпрессиониз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 франц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io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печатление). Импрессионисты фиксировали в своих картинах мимолётные впечатления от реально существующе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учительная и даже забавная история произошла с живописной работой «Вестминстерское аббатство» французского художника – импрессиониста Клода Моне (1840-192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258920" y="189000"/>
            <a:ext cx="60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стминстерское аббат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Нет, не пейзаж влечёт мен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Не краски жадный взор подмет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А то,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что в этих красках свети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Любовь и радость быт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 Бун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96000" y="0"/>
            <a:ext cx="3348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 Тонкие, как свечки, по-девичьи стройные берёзки выглядят как те самые, которые искони воспевались в русских песнях. Отражение берёзок в прозрачной воде как бы составляет их продолжение, их отголосок, мелодическое эхо, они растворяются в воде своими корнями, их розовые ветви сливаются с голубизной неба. Контуры этих гнутыхберёзок звучат подобно нежной и грустно-жалобной свирели, из этого хора вырываются отдельные голоса более могучих стволов, всем им противопоставлен высокий ствол сосны и густая зелень ели»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. Алпат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«Отчего просто русский пейзаж, отчего прогулка летом в России, в деревне, по полям, по лесу, вечером в степи, бывало, приводили меня в такое состояние, что я ложился на землю в каком-то изнеможении от наплыва любви к природе, тех неизъяснимо сладких и опьяняющих впечатлений, которые навевали на меня лес, степь, речка, деревня вдали, скромная церквушка, словом, всё, что составляло убогий русский родимый пейзаж? Отчего всё это?»                     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П. И. Чай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готовить сообщение на тем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«Красота и гармония окружающей природы»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 «Что привлекает композиторов и художников в русской природе?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85128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затейливая красота среднерусской полосы долгое время не привлекала внимания художников. Скучные, однообразные равнинные пейзажи, серое небо, весенняя распутица или пожухлая от жары летняя трава… Что в этом поэтич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. Савра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111560" cy="2748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38520" y="765000"/>
            <a:ext cx="4605480" cy="2908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3913200"/>
            <a:ext cx="3780000" cy="294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278400" y="3357720"/>
            <a:ext cx="2865600" cy="350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79280" y="765000"/>
            <a:ext cx="40291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имний пейзаж. оттеп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40520" y="620640"/>
            <a:ext cx="30034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сенний д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920" y="3789360"/>
            <a:ext cx="41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йзаж с радуг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95640" y="4437000"/>
            <a:ext cx="32004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сновый бо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берегу ре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. Леви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03640" y="907920"/>
            <a:ext cx="4140360" cy="294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4500720" cy="2946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3911760"/>
            <a:ext cx="5076720" cy="2946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583240" y="3938760"/>
            <a:ext cx="3560760" cy="2919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042920" y="981000"/>
            <a:ext cx="31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лотая ос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67280" y="981000"/>
            <a:ext cx="32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росший пру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4076640"/>
            <a:ext cx="3571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резовая рощ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51640" y="4149720"/>
            <a:ext cx="1095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р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. Ши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356000" cy="304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836640"/>
            <a:ext cx="4716360" cy="2930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00720" y="4070520"/>
            <a:ext cx="4643280" cy="2787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4017960"/>
            <a:ext cx="4356000" cy="2840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95280" y="83664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с вечер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64000" y="836640"/>
            <a:ext cx="31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лотая ос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9280" y="4076640"/>
            <a:ext cx="4000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портники в лес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38560" y="4149720"/>
            <a:ext cx="410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рабельная рощ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. Поле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851280" cy="2613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43280" y="907920"/>
            <a:ext cx="4500720" cy="2793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500720" y="3879720"/>
            <a:ext cx="4643280" cy="2978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3686040"/>
            <a:ext cx="3924360" cy="3171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0" y="907920"/>
            <a:ext cx="3851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Водоём в Абрамце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724360" y="981000"/>
            <a:ext cx="3133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Золотая ос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3716280"/>
            <a:ext cx="4114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Московский двор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76720" y="3789360"/>
            <a:ext cx="38005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Старая мель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А. Куинд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08440" cy="3786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4500720" cy="2959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736800"/>
            <a:ext cx="4140360" cy="3121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372360" y="3551400"/>
            <a:ext cx="2587320" cy="3306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50920" y="0"/>
            <a:ext cx="2295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рёзо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щ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300720" y="765000"/>
            <a:ext cx="1476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ду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3933720"/>
            <a:ext cx="1419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л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03640" y="3716280"/>
            <a:ext cx="1781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кра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Ф. Васил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5003640" cy="308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907920"/>
            <a:ext cx="3995640" cy="3125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4186080"/>
            <a:ext cx="4211640" cy="2671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003640" y="4295880"/>
            <a:ext cx="4140360" cy="2562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0" y="4292640"/>
            <a:ext cx="45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Берег Волги после гроз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24000" y="4221000"/>
            <a:ext cx="1542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оп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1052640"/>
            <a:ext cx="245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окрый л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093080" y="1052640"/>
            <a:ext cx="1838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Дерев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. Коро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3995640" cy="276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3995640" cy="297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03640" y="3567240"/>
            <a:ext cx="4140360" cy="329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2700360" cy="3500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95280" y="90792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имой 1894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53200" y="907920"/>
            <a:ext cx="3790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еверная иди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3357720"/>
            <a:ext cx="2943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анняя вес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308720" y="3716280"/>
            <a:ext cx="127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уч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8:18:37Z</dcterms:created>
  <dc:creator>Admin</dc:creator>
  <dc:description/>
  <dc:language>en-US</dc:language>
  <cp:lastModifiedBy>User</cp:lastModifiedBy>
  <dcterms:modified xsi:type="dcterms:W3CDTF">2013-03-28T18:29:03Z</dcterms:modified>
  <cp:revision>4</cp:revision>
  <dc:subject/>
  <dc:title>Слайд 1</dc:title>
</cp:coreProperties>
</file>