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318-CA25-4847-BCBC-EE1EB847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FB-02A9-45E1-AE50-69867B65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D9E-D9AA-4F94-830C-63953C68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0D7-7213-44E3-8447-78E96E76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CAB2-BC6C-42A8-8CF9-6B11AAAC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0AB5-D8BA-4913-869E-13E8E06C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AE1-B7DB-46D7-8FEB-4EE4977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6704-CB6E-4013-B103-919DFC40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1A5-8335-4097-944C-0FCE17E8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7437-716F-4F39-8AAA-CE79FC38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16D6-E748-4A01-9EE3-12B1E248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1B5-B7A5-4A22-8225-C57E9B8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BADD-4600-414B-AD38-0EB9FD4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F06B-39ED-4F6F-99DE-CA4EB03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5FBE-A1F7-4B20-B05A-97925C73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AE9-225A-4A55-988E-462DF0A0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053-0213-4E92-B482-F86D23F9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FDD-0B12-4567-A947-A64B16C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C08-5C39-443D-BAF2-F4D591E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026-3149-410E-A898-AFB4F8A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DE5-E120-43A7-8558-45C402FD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998-E7DE-409C-BA86-736E4CDB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A87-298C-4A1D-A8F4-DE1C2E4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05E-DBDA-4D7B-B0D8-04E32680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195D-7D1E-458A-B4A9-0B919E1A1D1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6F8-7ED0-4374-84FE-FB2014D0315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92720" y="333000"/>
            <a:ext cx="4105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Вокруг</a:t>
            </a:r>
            <a:br>
              <a:rPr sz="4800"/>
            </a:br>
            <a:r>
              <a:rPr b="0" lang="en-US" sz="4800" spc="-1" strike="noStrike">
                <a:solidFill>
                  <a:srgbClr val="660066"/>
                </a:solidFill>
                <a:latin typeface="Tahoma"/>
              </a:rPr>
              <a:t>тебя – мир…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280" y="2852280"/>
            <a:ext cx="10441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  <a:ea typeface="Arial"/>
              </a:rPr>
              <a:t>“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</a:rPr>
              <a:t>ПО ПРИНЦИПУ ГУМАННОСТИ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Tahoma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МЕЖДУНАРОДНОЕ ГУМАНИТАРНОЕ ПРАВ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783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ые люди не участвуют в вооруженном конфликте, они беззащитны и уязвимы. Война несет им не только физические, но и психологические страд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ые люди страдают от последствий вооруженного конфликта (физических и психологических) на протяжении многих лет после окончания вой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Мирное население, особенно дети, испытывает во время войны голод, болезни, угрозу жизни, разлуку с близки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Соблюдение норм международного гуманитарного права служит уменьшению страданий мирных люд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172360" y="6021360"/>
            <a:ext cx="57636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1988640"/>
            <a:ext cx="727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«Где орут барабаны, там молчат законы»</a:t>
            </a:r>
            <a:br>
              <a:rPr sz="4000"/>
            </a:br>
            <a:r>
              <a:rPr b="0" i="1" lang="ru-RU" sz="4000" spc="-1" strike="noStrike">
                <a:solidFill>
                  <a:srgbClr val="660066"/>
                </a:solidFill>
                <a:latin typeface="Tahoma"/>
              </a:rPr>
              <a:t>Т. Фуллер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76000" y="3789360"/>
            <a:ext cx="708804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«Если ты ценишь свою жизнь, то помни, что и другие не меньше ценят свою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Еврипи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152360" cy="115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79640" y="1484280"/>
            <a:ext cx="603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Уважение достоинства, гуманность – вот основа правил, по которым должны строиться отношения между людь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озможно ли проявление гуманности на войне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2511360" cy="200520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067280" y="188640"/>
            <a:ext cx="45432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ГРАЖДАНСКОЕ НАСЕЛ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ица, не входящие в состав вооруженных си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ЖЕРТВЫ ВОЙ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аненые и больные, потерпевшие кораблекрушение, военнопленные, гражданское насел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МЕЖДУНАРОДНОЕ ГУМАНИТАР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ждународные правовые нормы, основанные на принципах гуманности и направленные на ограничение последствий военных конфлик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03280" y="2708280"/>
            <a:ext cx="2664000" cy="1916280"/>
          </a:xfrm>
          <a:prstGeom prst="rect">
            <a:avLst/>
          </a:prstGeom>
          <a:ln w="19080">
            <a:solidFill>
              <a:srgbClr val="ff0066"/>
            </a:solidFill>
            <a:miter/>
          </a:ln>
          <a:effectLst>
            <a:outerShdw dist="107932" dir="8100000" blurRad="0" rotWithShape="0">
              <a:srgbClr val="effbf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017800" cy="280836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549360"/>
          <a:ext cx="8713800" cy="5927760"/>
        </p:xfrm>
        <a:graphic>
          <a:graphicData uri="http://schemas.openxmlformats.org/drawingml/2006/table">
            <a:tbl>
              <a:tblPr/>
              <a:tblGrid>
                <a:gridCol w="2179800"/>
                <a:gridCol w="1781280"/>
                <a:gridCol w="2663640"/>
                <a:gridCol w="20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СОБЫ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СТОРОНЫ КОНФЛИК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ЖЕРТВЫ 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97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Отечественная война 1812 г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йна в Афганистан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Чеченская вой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рагедия в Беслан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йна в Ирак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ооруженный конфликт в Косо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392720" cy="6048360"/>
          </a:xfrm>
          <a:prstGeom prst="rect">
            <a:avLst/>
          </a:prstGeom>
          <a:ln w="1908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 txBox="1"/>
          <p:nvPr/>
        </p:nvSpPr>
        <p:spPr>
          <a:xfrm>
            <a:off x="4932360" y="6021360"/>
            <a:ext cx="316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номарева Е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290520"/>
            <a:ext cx="8569080" cy="6378480"/>
          </a:xfrm>
          <a:prstGeom prst="rect">
            <a:avLst/>
          </a:prstGeom>
          <a:ln w="2556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 txBox="1"/>
          <p:nvPr/>
        </p:nvSpPr>
        <p:spPr>
          <a:xfrm>
            <a:off x="468360" y="6021360"/>
            <a:ext cx="224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расов Г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 txBox="1"/>
          <p:nvPr/>
        </p:nvSpPr>
        <p:spPr>
          <a:xfrm>
            <a:off x="611280" y="6093000"/>
            <a:ext cx="258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ксикова 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/>
          <p:cNvSpPr txBox="1"/>
          <p:nvPr/>
        </p:nvSpPr>
        <p:spPr>
          <a:xfrm>
            <a:off x="1332000" y="5950080"/>
            <a:ext cx="2200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ирюков 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2232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"/>
          <p:cNvSpPr txBox="1"/>
          <p:nvPr/>
        </p:nvSpPr>
        <p:spPr>
          <a:xfrm>
            <a:off x="6732720" y="549360"/>
            <a:ext cx="1809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сина 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04560"/>
            <a:ext cx="7854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«Последнее уничтожение на Бородинском поле»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.Н Гл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786 – 188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29000" y="1916280"/>
            <a:ext cx="5464080" cy="4276440"/>
          </a:xfrm>
          <a:prstGeom prst="rect">
            <a:avLst/>
          </a:prstGeom>
          <a:ln w="2844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5438520" y="623556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Батарея Ра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Судьба человека»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000" y="1412640"/>
            <a:ext cx="381636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.А. Шолохов (1905 – 198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6299" b="8268"/>
          <a:stretch/>
        </p:blipFill>
        <p:spPr>
          <a:xfrm>
            <a:off x="250920" y="1125360"/>
            <a:ext cx="1461960" cy="1906920"/>
          </a:xfrm>
          <a:prstGeom prst="rect">
            <a:avLst/>
          </a:prstGeom>
          <a:ln w="15840">
            <a:solidFill>
              <a:srgbClr val="3366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2016360" cy="2881080"/>
          </a:xfrm>
          <a:prstGeom prst="rect">
            <a:avLst/>
          </a:prstGeom>
          <a:ln w="1584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30560" y="2421000"/>
            <a:ext cx="5113440" cy="3887640"/>
          </a:xfrm>
          <a:prstGeom prst="rect">
            <a:avLst/>
          </a:prstGeom>
          <a:ln w="2232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-243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ahoma"/>
              </a:rPr>
              <a:t>«Памяти Вали»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3672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Анна Ахмат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(1889 – 196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952720" cy="3527280"/>
          </a:xfrm>
          <a:prstGeom prst="rect">
            <a:avLst/>
          </a:prstGeom>
          <a:ln w="25560">
            <a:solidFill>
              <a:srgbClr val="80008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"/>
          <p:cNvSpPr/>
          <p:nvPr/>
        </p:nvSpPr>
        <p:spPr>
          <a:xfrm>
            <a:off x="3348000" y="692280"/>
            <a:ext cx="496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Щели в саду выры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горят ог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терские сир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оньки мо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землей не дыш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 сверлит ви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возь бомбежку слыш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ский голо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учись кулачком – я откр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тебе открывала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теперь за высокой гор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пустыней, за ветром и зн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тебя не предам нико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оего я не слышала ст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леба ты у меня не про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и же мне ветку к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просто травинок зеле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ты прошлой весной прино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еси же мне горсточку чис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ей невской студеной в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 головки твоей золот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кровавые смою сл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2:34:58Z</dcterms:created>
  <dc:creator>Customer</dc:creator>
  <dc:description/>
  <dc:language>en-US</dc:language>
  <cp:lastModifiedBy>Елена</cp:lastModifiedBy>
  <dcterms:modified xsi:type="dcterms:W3CDTF">2013-03-28T19:07:47Z</dcterms:modified>
  <cp:revision>4</cp:revision>
  <dc:subject/>
  <dc:title>«Вокруг  тебя – мир…»</dc:title>
</cp:coreProperties>
</file>