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641-AC73-4559-A9EB-6F9C6EAA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290-BA9D-4C13-9B30-81F1DB42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790-BB7F-4FB0-9041-AC927A57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C6D-A2FA-49D3-B6A1-223A9FB4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5877-DB91-4DE5-91AD-F983A496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1A3D-98B9-4791-B0AD-3DF46734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3E64-E302-4976-857E-2370D14B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E646-DA98-461D-BB83-5653E406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088F-D3BD-4E51-95A5-847E313B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0ED0-1760-4475-B352-BEF57EA4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9A50-7C25-41B2-9C6C-E5112AA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D4D-974E-4F00-9A42-FFF6A6DA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BD42-F979-4215-AAFD-F8B8AA3A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20E6-9EB8-48A7-AF56-086ABE27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C611-1BC3-4C54-A17E-0C9DAFA0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D2AF-C217-40CB-ACC0-255496F4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4264-DBBA-46B2-B359-EE499C92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CBF-B75B-4DD4-9B8F-32C74DDF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885-6F22-4F2F-B35E-ED53C8EB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115-4612-4BE1-B5F0-01044F8E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A67-CE7E-4AB8-A1EE-63D0E19D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419-F07E-452C-A7F2-231CCDFD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A6A-93BE-42B3-A1E5-C48819C4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07A-163D-4E08-931C-134EF658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F012-CADA-475C-9A96-24868A0C62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0BBF-E638-4FAD-A681-D104BAB48F6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92720" y="333000"/>
            <a:ext cx="4105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Вокруг</a:t>
            </a:r>
            <a:br>
              <a:rPr sz="4800"/>
            </a:b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тебя – мир…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9280" y="2852280"/>
            <a:ext cx="10441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Tahoma"/>
                <a:ea typeface="Arial"/>
              </a:rPr>
              <a:t>“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Tahoma"/>
              </a:rPr>
              <a:t>ПО ПРИНЦИПУ ГУМАННОСТИ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Tahoma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МЕЖДУНАРОДНОЕ ГУМАНИТАРНОЕ ПРАВО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783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Мирные люди не участвуют в вооруженном конфликте, они беззащитны и уязвимы. Война несет им не только физические, но и психологические страд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Мирные люди страдают от последствий вооруженного конфликта (физических и психологических) на протяжении многих лет после окончания вой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Мирное население, особенно дети, испытывает во время войны голод, болезни, угрозу жизни, разлуку с близки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Соблюдение норм международного гуманитарного права служит уменьшению страданий мирных люд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172360" y="6021360"/>
            <a:ext cx="57636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1988640"/>
            <a:ext cx="7273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«Где орут барабаны, там молчат законы»</a:t>
            </a:r>
            <a:br>
              <a:rPr sz="4000"/>
            </a:br>
            <a:r>
              <a:rPr b="0" i="1" lang="ru-RU" sz="4000" spc="-1" strike="noStrike">
                <a:solidFill>
                  <a:srgbClr val="660066"/>
                </a:solidFill>
                <a:latin typeface="Tahoma"/>
              </a:rPr>
              <a:t>Т. Фуллер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76000" y="3789360"/>
            <a:ext cx="708804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«Если ты ценишь свою жизнь, то помни, что и другие не меньше ценят свою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Еврипи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1152360" cy="1150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79640" y="1484280"/>
            <a:ext cx="603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Уважение достоинства, гуманность – вот основа правил, по которым должны строиться отношения между людь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озможно ли проявление гуманности на войне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2511360" cy="2005200"/>
          </a:xfrm>
          <a:prstGeom prst="rect">
            <a:avLst/>
          </a:prstGeom>
          <a:ln w="22320">
            <a:solidFill>
              <a:srgbClr val="ff00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067280" y="188640"/>
            <a:ext cx="45432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ГРАЖДАНСКОЕ НАСЕЛ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ица, не входящие в состав вооруженных си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ЖЕРТВЫ ВОЙ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неные и больные, потерпевшие кораблекрушение, военнопленные, гражданское насел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МЕЖДУНАРОДНОЕ ГУМАНИТАРНОЕ ПРА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еждународные правовые нормы, основанные на принципах гуманности и направленные на ограничение последствий военных конфлик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03280" y="2708280"/>
            <a:ext cx="2664000" cy="1916280"/>
          </a:xfrm>
          <a:prstGeom prst="rect">
            <a:avLst/>
          </a:prstGeom>
          <a:ln w="19080">
            <a:solidFill>
              <a:srgbClr val="ff0066"/>
            </a:solidFill>
            <a:miter/>
          </a:ln>
          <a:effectLst>
            <a:outerShdw dist="107932" dir="8100000" blurRad="0" rotWithShape="0">
              <a:srgbClr val="effbf0">
                <a:alpha val="50000"/>
              </a:srgbClr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2017800" cy="2808360"/>
          </a:xfrm>
          <a:prstGeom prst="rect">
            <a:avLst/>
          </a:prstGeom>
          <a:ln w="22320">
            <a:solidFill>
              <a:srgbClr val="ff00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549360"/>
          <a:ext cx="8713800" cy="5927760"/>
        </p:xfrm>
        <a:graphic>
          <a:graphicData uri="http://schemas.openxmlformats.org/drawingml/2006/table">
            <a:tbl>
              <a:tblPr/>
              <a:tblGrid>
                <a:gridCol w="2179800"/>
                <a:gridCol w="1781280"/>
                <a:gridCol w="2663640"/>
                <a:gridCol w="20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СОБЫТ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СТОРОНЫ КОНФЛИК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ЖЕРТВЫ ВОЙ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797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Отечественная война 1812 г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еликая Отечественная вой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ойна в Афганистан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Чеченская вой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рагедия в Беслан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ойна в Ирак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ооруженный конфликт в Косов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392720" cy="6048360"/>
          </a:xfrm>
          <a:prstGeom prst="rect">
            <a:avLst/>
          </a:prstGeom>
          <a:ln w="1908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"/>
          <p:cNvSpPr txBox="1"/>
          <p:nvPr/>
        </p:nvSpPr>
        <p:spPr>
          <a:xfrm>
            <a:off x="4932360" y="6021360"/>
            <a:ext cx="316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номарева Е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290520"/>
            <a:ext cx="8569080" cy="6378480"/>
          </a:xfrm>
          <a:prstGeom prst="rect">
            <a:avLst/>
          </a:prstGeom>
          <a:ln w="2556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"/>
          <p:cNvSpPr txBox="1"/>
          <p:nvPr/>
        </p:nvSpPr>
        <p:spPr>
          <a:xfrm>
            <a:off x="468360" y="6021360"/>
            <a:ext cx="224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расов Г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2232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7" name=""/>
          <p:cNvSpPr txBox="1"/>
          <p:nvPr/>
        </p:nvSpPr>
        <p:spPr>
          <a:xfrm>
            <a:off x="611280" y="6093000"/>
            <a:ext cx="2581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ксикова 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8569080" cy="6335640"/>
          </a:xfrm>
          <a:prstGeom prst="rect">
            <a:avLst/>
          </a:prstGeom>
          <a:ln w="2232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9" name=""/>
          <p:cNvSpPr txBox="1"/>
          <p:nvPr/>
        </p:nvSpPr>
        <p:spPr>
          <a:xfrm>
            <a:off x="1332000" y="5950080"/>
            <a:ext cx="2200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рюков 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8496000" cy="6408720"/>
          </a:xfrm>
          <a:prstGeom prst="rect">
            <a:avLst/>
          </a:prstGeom>
          <a:ln w="2232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"/>
          <p:cNvSpPr txBox="1"/>
          <p:nvPr/>
        </p:nvSpPr>
        <p:spPr>
          <a:xfrm>
            <a:off x="6732720" y="549360"/>
            <a:ext cx="1809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сина 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7854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«Последнее уничтожение на Бородинском поле»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.Н Гли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786 – 188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29000" y="1916280"/>
            <a:ext cx="5464080" cy="4276440"/>
          </a:xfrm>
          <a:prstGeom prst="rect">
            <a:avLst/>
          </a:prstGeom>
          <a:ln w="28440">
            <a:solidFill>
              <a:srgbClr val="ff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"/>
          <p:cNvSpPr/>
          <p:nvPr/>
        </p:nvSpPr>
        <p:spPr>
          <a:xfrm>
            <a:off x="5438520" y="623556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Батарея Рае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«Судьба человека»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92000" y="1412640"/>
            <a:ext cx="381636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.А. Шолохов (1905 – 198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6299" b="8268"/>
          <a:stretch/>
        </p:blipFill>
        <p:spPr>
          <a:xfrm>
            <a:off x="250920" y="1125360"/>
            <a:ext cx="1461960" cy="1906920"/>
          </a:xfrm>
          <a:prstGeom prst="rect">
            <a:avLst/>
          </a:prstGeom>
          <a:ln w="1584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2016360" cy="2881080"/>
          </a:xfrm>
          <a:prstGeom prst="rect">
            <a:avLst/>
          </a:prstGeom>
          <a:ln w="1584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30560" y="2421000"/>
            <a:ext cx="5113440" cy="3887640"/>
          </a:xfrm>
          <a:prstGeom prst="rect">
            <a:avLst/>
          </a:prstGeom>
          <a:ln w="22320">
            <a:solidFill>
              <a:srgbClr val="ff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-243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«Памяти Вали»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5229000"/>
            <a:ext cx="3672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Анна Ахмат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(1889 – 196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952720" cy="3527280"/>
          </a:xfrm>
          <a:prstGeom prst="rect">
            <a:avLst/>
          </a:prstGeom>
          <a:ln w="25560">
            <a:solidFill>
              <a:srgbClr val="80008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4" name=""/>
          <p:cNvSpPr/>
          <p:nvPr/>
        </p:nvSpPr>
        <p:spPr>
          <a:xfrm>
            <a:off x="3348000" y="692280"/>
            <a:ext cx="4969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Щели в саду выры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горят ог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терские сир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оньки мо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 землей не дыши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 сверлит вис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возь бомбежку слыш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ский голо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учись кулачком – я откр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тебе открывала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теперь за высокой гор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пустыней, за ветром и зно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тебя не предам никог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оего я не слышала ст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леба ты у меня не прос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еси же мне ветку к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просто травинок зеле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ты прошлой весной принос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еси же мне горсточку чис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ей невской студеной в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 головки твоей золоти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кровавые смою сл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2:34:58Z</dcterms:created>
  <dc:creator>Customer</dc:creator>
  <dc:description/>
  <dc:language>en-US</dc:language>
  <cp:lastModifiedBy>Елена</cp:lastModifiedBy>
  <dcterms:modified xsi:type="dcterms:W3CDTF">2013-03-28T19:07:47Z</dcterms:modified>
  <cp:revision>4</cp:revision>
  <dc:subject/>
  <dc:title>«Вокруг  тебя – мир…»</dc:title>
</cp:coreProperties>
</file>