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23.png" ContentType="image/png"/>
  <Override PartName="/ppt/media/image13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29.wmf" ContentType="image/x-wmf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0.png" ContentType="image/png"/>
  <Override PartName="/ppt/media/image28.wmf" ContentType="image/x-wmf"/>
  <Override PartName="/ppt/media/image34.png" ContentType="image/png"/>
  <Override PartName="/ppt/media/image36.png" ContentType="image/png"/>
  <Override PartName="/ppt/media/image6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4.png" ContentType="image/png"/>
  <Override PartName="/ppt/media/image16.png" ContentType="image/png"/>
  <Override PartName="/ppt/media/image18.jpeg" ContentType="image/jpeg"/>
  <Override PartName="/ppt/media/image1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4B2-0278-43C4-8E74-A44BAA39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862-AFF0-4ABE-BBFA-256E33D1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4A82D-F929-4690-86C6-FDB55674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05895-91C8-4EAA-AB66-BF81ED4E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EFE51-8CC4-40B5-82C7-47051DC5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BDEAC-054A-4770-A3D9-AC1E7583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A1A21-2B55-40B6-8DC3-B8ABE1D3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70BDE-3B48-4BF5-A6AF-E2F16DCB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54994-93BF-4354-AC60-ACFBCB3B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3785E-9458-404B-A55C-9D67CEF7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C4618-8C6B-4408-93E9-2D1E6ABF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03E-359D-4DCF-8778-DF85A347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8F6-D672-4CB3-89DE-72761B43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0339-0741-4214-9071-F07B9E47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1D5A-05A6-4681-A0C9-C3E3E5AA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45E7-1273-4F57-A383-78F197CF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686C-1C80-4175-B487-C49B95A7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F920-C761-40D8-96A6-AE1AF5C8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B9E9-737F-44A9-8A47-764D7138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D34A-DA73-4FBC-896D-59FB1A62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A834-5C96-4CF5-8D34-C25DFC72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E2B9-7BB6-4455-9ED7-3E1C5089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4A33-AB87-4047-B530-35C4EA33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DC45-6C4F-4D62-A29C-B7F6C684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5D2B-F187-414D-9E5C-890E71F8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446D-F938-4217-B7C6-83778101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F166-9DB5-4352-A8FB-94A8B41D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82B08-673E-4BF7-A4D4-696E1A60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3E76D-94F0-4C3D-876E-3C4FAAA3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5C1C2-59F8-4BC8-92BC-1ED0D1B1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59CA-BDA4-4CC4-BFC1-67382289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10A-D1F0-44A8-B1B9-87838BF1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E51DE-42F8-4894-9973-14F302A9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4B4B8-F48B-482D-BCA3-59CEFB26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24B2-68BA-42A8-853C-AFED62E1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729CD-EFFA-46AF-8598-081BA54C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756A-ABF5-4290-8669-442FB0F5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396F-3D0F-472A-87C5-7121CB42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6C8A-C02F-41FF-9899-FBBE038F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74F90-2BFB-4845-A4FE-F277570F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7A327-5810-4852-B40C-469D78D8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AAD4C-6E5B-4518-8EBF-F26E47C1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9EB-EE37-418E-906F-2FE6BE47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B3CB6-B440-48F0-B9C4-9949A85B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F85CE-17A4-4D87-A822-4DE61AD6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BFF93-570A-4B37-9BCC-9C1B07DA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D90AC-908A-42C3-B847-4CE9667E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7815-2956-4723-BADA-81A577E8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8D3A-0A9C-4209-AF00-26555A95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03509-CF4C-44E8-A71B-4DFACB6A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AEFA1-F552-43C9-BDA8-72AD0510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31045-BB63-4359-85F2-0F507529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F0F99-E2F4-4D37-8131-9E4DE2B4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757-537E-4767-AB6B-3A2D8B97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1BB0A-EFF2-49B1-A4DB-EAA0C2D7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91004-2C06-4710-B04A-FD3EE725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577DC-E3A0-4F42-88EA-1144045C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82307-8D71-4EA4-B3B1-CBB9C7CE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22C21-928B-400F-A1B9-3D6CDEF2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C773B-68A4-4D1E-9F52-818357D7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F17EB-CB69-47FD-B438-778D11B4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285E1-E957-4B5A-8CA8-BA7EB059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E6F85-621F-4B73-9DE0-D78B330E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4310F-7F7C-4529-9CEB-34A466ED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BE6-3129-4C07-A1D2-B090EF99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EF6EA-88CE-4568-B854-9527A1F2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8A8C8-FF9E-4BF6-842C-9F3C7C06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DFAE4-ABE4-43E5-B47B-BC9C22EE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1ED29-C755-4ADD-AA73-140A45EF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4697C-84C9-49DC-9D04-F0B4AF65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0F5F3-16E9-4182-80B0-72CDD362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B5DEE-07B0-4AFE-8D47-179399EE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777EE-4708-4394-A4A5-06441AD1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72F71-7FF1-45D4-851B-AF550B58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FEE4D-3854-4F7E-8D12-36D7AFC6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69A9-D9BD-4A19-8C75-78C196B1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3396B-8010-4671-8D9C-88427A71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43C04-2973-491C-AB31-23695869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8D1A4-1A54-42E2-A578-EB659E96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FDD58-4B9B-4D03-AA9B-F407F863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A333F-FF49-4104-A471-416152EA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05159-7E87-4A4B-B460-A30ADF1D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670E4-E19F-426C-9417-F58B5E89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3588E-D05B-4807-A56C-2A6D0EE9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33EA2-1D55-4B6A-BDDA-48482C79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6DE44-C70D-4653-8C09-0A7E02CE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05A-C899-484C-8353-F8CBD893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A0B9F-A485-48BA-A412-7F2A5602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E1CC6-54C2-4918-8098-04E0329F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F9C9E-E04B-410F-80A5-E6333B26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6D564-6925-4748-8F9E-FCABE1F3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F6C9C-758F-4C9D-B702-57924B89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C38D4-61D6-4ECF-A8C9-A85A79D7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FA574-DF4C-4D17-A1E3-B36F346A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016E4-9922-4CE0-A2EF-8BAADC9A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CEBC6-58F8-448F-ACBA-EF8F1E1A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00F87-74E8-41BF-AEBF-CA98EE67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152D-D59C-42F9-AD1A-9FB28282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92188-91D0-4C3C-A0EE-909EF1E9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68DD5-B346-4A72-9B32-EBA3F36E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CBA2B-B369-4637-B6B8-7A6FACB7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182A0-928D-4C33-BDAB-5C58A955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AEAD5-D3C7-4A9C-A85B-62F5097E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6B592-E58B-4991-A504-4EF61EDA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0BFD1-36F7-4145-891B-9E0A1BDF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DCA85-EFF6-4106-8540-D5820B97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E5306-D38E-4448-88BB-B4A3B0AD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D20A0-EBB2-4927-87BD-08BE5C17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D215-01E1-448B-8D41-B5588A2B98F3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5588-FA57-46C6-B857-EF4845F9DEA1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C730-2487-47F7-893C-3C708BB4497C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2d1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c2d1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8832-EF9F-48A1-85E7-3EE50091A03E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0B96-FF85-4A3C-B19A-1D9F67D54C44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F4DA-E153-420B-916E-2E93C8B9AC4F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43A5-197B-45FB-A647-2B764E3E3824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A218-A439-4606-8E11-EE6909C7A7B0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ceb96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ceb96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7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7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967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3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45A3-D7CB-457D-AC2F-80D1D041281B}" type="slidenum">
              <a:rPr b="0" lang="ru-RU" sz="1200" spc="-1" strike="noStrike">
                <a:solidFill>
                  <a:srgbClr val="b5a3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00040" y="396720"/>
            <a:ext cx="7997760" cy="20116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85480" y="2642760"/>
            <a:ext cx="835164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осеешь поступок — пожнешь привычку,</a:t>
            </a:r>
            <a:endParaRPr b="0" lang="en-US" sz="2400" spc="-1" strike="noStrike">
              <a:solidFill>
                <a:srgbClr val="69676d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осеешь привычку — пожнешь характер, </a:t>
            </a:r>
            <a:endParaRPr b="0" lang="en-US" sz="2400" spc="-1" strike="noStrike">
              <a:solidFill>
                <a:srgbClr val="69676d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осеешь характер — пожнешь судьбу.</a:t>
            </a:r>
            <a:endParaRPr b="0" lang="en-US" sz="2400" spc="-1" strike="noStrike">
              <a:solidFill>
                <a:srgbClr val="69676d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Franklin Gothic 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4714920" y="4429080"/>
            <a:ext cx="300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Автор проек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Мельникова Валерия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еница 10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ординатор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Ткаченко И.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ОБ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976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J0344846"/>
          <p:cNvPicPr/>
          <p:nvPr/>
        </p:nvPicPr>
        <p:blipFill>
          <a:blip r:embed="rId2"/>
          <a:stretch/>
        </p:blipFill>
        <p:spPr>
          <a:xfrm>
            <a:off x="1714680" y="2000160"/>
            <a:ext cx="5214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3" descr=""/>
          <p:cNvPicPr/>
          <p:nvPr/>
        </p:nvPicPr>
        <p:blipFill>
          <a:blip r:embed="rId1"/>
          <a:stretch/>
        </p:blipFill>
        <p:spPr>
          <a:xfrm>
            <a:off x="420840" y="109440"/>
            <a:ext cx="8272440" cy="2237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J0344287"/>
          <p:cNvPicPr/>
          <p:nvPr/>
        </p:nvPicPr>
        <p:blipFill>
          <a:blip r:embed="rId2"/>
          <a:stretch/>
        </p:blipFill>
        <p:spPr>
          <a:xfrm>
            <a:off x="2428920" y="1919160"/>
            <a:ext cx="4714920" cy="33451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450720" y="420840"/>
            <a:ext cx="8309160" cy="1719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J0344884"/>
          <p:cNvPicPr/>
          <p:nvPr/>
        </p:nvPicPr>
        <p:blipFill>
          <a:blip r:embed="rId2"/>
          <a:stretch/>
        </p:blipFill>
        <p:spPr>
          <a:xfrm>
            <a:off x="785880" y="2143080"/>
            <a:ext cx="3429000" cy="17859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0" descr="J0344881"/>
          <p:cNvPicPr/>
          <p:nvPr/>
        </p:nvPicPr>
        <p:blipFill>
          <a:blip r:embed="rId3"/>
          <a:stretch/>
        </p:blipFill>
        <p:spPr>
          <a:xfrm>
            <a:off x="5000760" y="1857240"/>
            <a:ext cx="3714480" cy="22734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" descr="J0344879"/>
          <p:cNvPicPr/>
          <p:nvPr/>
        </p:nvPicPr>
        <p:blipFill>
          <a:blip r:embed="rId4"/>
          <a:stretch/>
        </p:blipFill>
        <p:spPr>
          <a:xfrm>
            <a:off x="5214960" y="4214880"/>
            <a:ext cx="3286080" cy="2411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J0344886"/>
          <p:cNvPicPr/>
          <p:nvPr/>
        </p:nvPicPr>
        <p:blipFill>
          <a:blip r:embed="rId5"/>
          <a:stretch/>
        </p:blipFill>
        <p:spPr>
          <a:xfrm>
            <a:off x="1000080" y="4143240"/>
            <a:ext cx="321480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33" name="Содержимое 3" descr="16813.jpg"/>
          <p:cNvPicPr/>
          <p:nvPr/>
        </p:nvPicPr>
        <p:blipFill>
          <a:blip r:embed="rId2"/>
          <a:stretch/>
        </p:blipFill>
        <p:spPr>
          <a:xfrm>
            <a:off x="1386000" y="1554120"/>
            <a:ext cx="652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8240760" cy="1303200"/>
          </a:xfrm>
          <a:prstGeom prst="rect">
            <a:avLst/>
          </a:prstGeom>
          <a:ln w="0">
            <a:noFill/>
          </a:ln>
        </p:spPr>
      </p:pic>
      <p:pic>
        <p:nvPicPr>
          <p:cNvPr id="435" name="Содержимое 3" descr="po_snegu_5267.jpg"/>
          <p:cNvPicPr/>
          <p:nvPr/>
        </p:nvPicPr>
        <p:blipFill>
          <a:blip r:embed="rId2"/>
          <a:stretch/>
        </p:blipFill>
        <p:spPr>
          <a:xfrm>
            <a:off x="755640" y="1700280"/>
            <a:ext cx="74883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37" name="Содержимое 3" descr="0_153a1_b25f74db_XL.gif"/>
          <p:cNvPicPr/>
          <p:nvPr/>
        </p:nvPicPr>
        <p:blipFill>
          <a:blip r:embed="rId2"/>
          <a:stretch/>
        </p:blipFill>
        <p:spPr>
          <a:xfrm>
            <a:off x="2386080" y="1554120"/>
            <a:ext cx="452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3" descr=""/>
          <p:cNvPicPr/>
          <p:nvPr/>
        </p:nvPicPr>
        <p:blipFill>
          <a:blip r:embed="rId1"/>
          <a:stretch/>
        </p:blipFill>
        <p:spPr>
          <a:xfrm>
            <a:off x="566640" y="-6480"/>
            <a:ext cx="8467920" cy="67176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ы учимся в спортивной школе:</a:t>
            </a:r>
            <a:endParaRPr b="0" lang="en-US" sz="1400" spc="-1" strike="noStrike">
              <a:solidFill>
                <a:srgbClr val="69676d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9676d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6bb1c9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видите исследования помогает ли вам школа жить в таком режиме, который благоприятно действует на состояние вашего здоровья?</a:t>
            </a:r>
            <a:endParaRPr b="0" lang="en-US" sz="1400" spc="-1" strike="noStrike">
              <a:solidFill>
                <a:srgbClr val="69676d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6bb1c9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ведите опрос и заполните таблицу нормативов основных режимных моментов ребятами нашего класса.</a:t>
            </a:r>
            <a:endParaRPr b="0" lang="en-US" sz="1400" spc="-1" strike="noStrike">
              <a:solidFill>
                <a:srgbClr val="69676d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6bb1c9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вывод: соблюдают ли ученики нашей школы режим дня?</a:t>
            </a:r>
            <a:endParaRPr b="0" lang="en-US" sz="1400" spc="-1" strike="noStrike">
              <a:solidFill>
                <a:srgbClr val="69676d"/>
              </a:solidFill>
              <a:latin typeface="Franklin Gothic Book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3786120" y="642960"/>
          <a:ext cx="5111640" cy="5232240"/>
        </p:xfrm>
        <a:graphic>
          <a:graphicData uri="http://schemas.openxmlformats.org/drawingml/2006/table">
            <a:tbl>
              <a:tblPr/>
              <a:tblGrid>
                <a:gridCol w="1857600"/>
                <a:gridCol w="1550880"/>
                <a:gridCol w="1703160"/>
              </a:tblGrid>
              <a:tr h="916920"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Элементы реж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ыполнение учениками 10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8632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еб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5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632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готовление ур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632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ул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 часа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6292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ениро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-2,5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6256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-8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8439120" cy="503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1.   Умывайтесь утром и вечером, используйте средства личной гигиены.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2.   Чистите зубы не менее 3 минут. Ваша зубная щетка не должна быть слишком мягкой.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3.   Всегда мойте руки перед едой, после прогулки и туалета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4.   Имейте всегда чистый носовой платок или одноразовые салфетки.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5.   Для еды пользуйтесь только своей посудой, не берите грязных тарелок, ложек, чашек.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6.   Для питья воды используйте одноразовые стаканчики. Не оставляйте использованные стаканчики, выбрасывайте их в мусорное ведро.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7.   Следите за чистотой своей одежды, обуви.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8.   Не ходите в одной и той же обуви на улице, в школе и дома. Дома носите мягкую домашнюю обувь, для спортивных занятий используйте спортивную обувь. Для занятий в компьютерном классе используйте одноразовые бахилы.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9.   Помогайте учителю и дежурным в поддержании порядка в классе, помогайте родным в домашней уборке.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10.            </a:t>
            </a:r>
            <a:r>
              <a:rPr b="1" lang="ru-RU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Соблюдайте режим дня!</a:t>
            </a: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c9c2d1"/>
              </a:solidFill>
              <a:latin typeface="Franklin Gothic 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9c2d1"/>
              </a:solidFill>
              <a:latin typeface="Franklin Gothic Medium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571680" y="571680"/>
            <a:ext cx="828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ПРАВИЛА </a:t>
            </a:r>
            <a:br>
              <a:rPr sz="3200"/>
            </a:br>
            <a:r>
              <a:rPr b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ЛИЧНОЙ ГИГИЕНЫ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530280" y="2704680"/>
            <a:ext cx="7772400" cy="393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езные привычки – хорошее подспорье в любом начинании. </a:t>
            </a:r>
            <a:endParaRPr b="0" lang="en-US" sz="24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ы твёрдо знает, что лучше уметь делать зарядку, чем курить, но не всегда вспоминаем, что наша психика и наш характер тоже имеют хорошие и плохие привычки, которые нужно корректировать. Если следить не только за здоровьем, но и за своими эмоциями и мыслями, полезные привычки быстро приведут к намеченной цели.</a:t>
            </a:r>
            <a:endParaRPr b="0" lang="en-US" sz="2400" spc="-1" strike="noStrike">
              <a:solidFill>
                <a:srgbClr val="c9c2d1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9c2d1"/>
              </a:solidFill>
              <a:latin typeface="Franklin Gothic Book"/>
            </a:endParaRPr>
          </a:p>
        </p:txBody>
      </p:sp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523800" y="701640"/>
            <a:ext cx="7785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28760" y="2785680"/>
            <a:ext cx="7772400" cy="23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 вредных привычках сказано много, поэтому кажется, что мы знаем о них всё. Но о полезных привычках почему-то часто молчат. А ведь они могут помочь нам справиться со многими проблемами, избежать трудностей и постоянно развиваться.</a:t>
            </a:r>
            <a:endParaRPr b="0" lang="en-US" sz="2600" spc="-1" strike="noStrike">
              <a:solidFill>
                <a:srgbClr val="c9c2d1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9c2d1"/>
              </a:solidFill>
              <a:latin typeface="Franklin Gothic Book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706320" y="407880"/>
            <a:ext cx="77853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4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8240760" cy="1212840"/>
          </a:xfrm>
          <a:prstGeom prst="rect">
            <a:avLst/>
          </a:prstGeom>
          <a:ln w="0">
            <a:noFill/>
          </a:ln>
        </p:spPr>
      </p:pic>
      <p:pic>
        <p:nvPicPr>
          <p:cNvPr id="405" name="Содержимое 7" descr="page.jpg"/>
          <p:cNvPicPr/>
          <p:nvPr/>
        </p:nvPicPr>
        <p:blipFill>
          <a:blip r:embed="rId2"/>
          <a:stretch/>
        </p:blipFill>
        <p:spPr>
          <a:xfrm>
            <a:off x="324000" y="1700280"/>
            <a:ext cx="4025880" cy="4537080"/>
          </a:xfrm>
          <a:prstGeom prst="rect">
            <a:avLst/>
          </a:prstGeom>
          <a:ln w="0">
            <a:noFill/>
          </a:ln>
        </p:spPr>
      </p:pic>
      <p:pic>
        <p:nvPicPr>
          <p:cNvPr id="406" name="Содержимое 8" descr="paged.jpg"/>
          <p:cNvPicPr/>
          <p:nvPr/>
        </p:nvPicPr>
        <p:blipFill>
          <a:blip r:embed="rId3"/>
          <a:stretch/>
        </p:blipFill>
        <p:spPr>
          <a:xfrm>
            <a:off x="4356000" y="1700280"/>
            <a:ext cx="42166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4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Содержимое 7" descr="8.gif"/>
          <p:cNvPicPr/>
          <p:nvPr/>
        </p:nvPicPr>
        <p:blipFill>
          <a:blip r:embed="rId2"/>
          <a:stretch/>
        </p:blipFill>
        <p:spPr>
          <a:xfrm>
            <a:off x="324000" y="2205000"/>
            <a:ext cx="4084560" cy="388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70c0"/>
                </a:solidFill>
                <a:latin typeface="Arial"/>
                <a:ea typeface="Arial"/>
              </a:rPr>
              <a:t>Не все знают, для чего это нужно делать регулярно</a:t>
            </a:r>
            <a:r>
              <a:rPr b="0" lang="ru-RU" sz="3500" spc="-1" strike="noStrike">
                <a:solidFill>
                  <a:srgbClr val="c4e0e9"/>
                </a:solidFill>
                <a:latin typeface="Franklin Gothic Book"/>
              </a:rPr>
              <a:t>:</a:t>
            </a:r>
            <a:endParaRPr b="0" lang="en-US" sz="35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76d"/>
                </a:solidFill>
                <a:latin typeface="Arial"/>
                <a:ea typeface="Arial"/>
              </a:rPr>
              <a:t>Чтобы избежать неприятного запаха изо рта, т. к. удаляется зубной налет, появляется чувство комфорта.</a:t>
            </a:r>
            <a:endParaRPr b="0" lang="en-US" sz="26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76d"/>
                </a:solidFill>
                <a:latin typeface="Arial"/>
                <a:ea typeface="Arial"/>
              </a:rPr>
              <a:t>Снизить, а по возможности избежать заболеваний зубов и десен.</a:t>
            </a:r>
            <a:endParaRPr b="0" lang="en-US" sz="26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3" descr=""/>
          <p:cNvPicPr/>
          <p:nvPr/>
        </p:nvPicPr>
        <p:blipFill>
          <a:blip r:embed="rId1"/>
          <a:stretch/>
        </p:blipFill>
        <p:spPr>
          <a:xfrm>
            <a:off x="298440" y="133200"/>
            <a:ext cx="8699400" cy="2043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чему нужно мыть руки?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аболевания от грязных рук.</a:t>
            </a: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12" name="Содержимое 6" descr="mite-ruk.jpg"/>
          <p:cNvPicPr/>
          <p:nvPr/>
        </p:nvPicPr>
        <p:blipFill>
          <a:blip r:embed="rId2"/>
          <a:stretch/>
        </p:blipFill>
        <p:spPr>
          <a:xfrm>
            <a:off x="4714920" y="2000160"/>
            <a:ext cx="3809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5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выше закатать рукава;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ставить руки под струю воды и намочить их;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зять мыло в руки и намылить их до появления пены;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тереть руку об руку;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мыть большим количеством воды пену;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ь то, насколько качественно вымыты руки;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макнуть сухим и чистым полотенцем;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жать руки к щекам тыльной стороной для проверки сухости ладоней.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ногие дети знают об этих правилах, но часть пунктов все же упускают из вида. Такие процессы, как - намыливание, вытирание рук осуществляется детьми без особой тщательности, наспех.</a:t>
            </a: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7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98440" y="212760"/>
            <a:ext cx="8699400" cy="154944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4" descr=""/>
          <p:cNvPicPr/>
          <p:nvPr/>
        </p:nvPicPr>
        <p:blipFill>
          <a:blip r:embed="rId2"/>
          <a:stretch/>
        </p:blipFill>
        <p:spPr>
          <a:xfrm>
            <a:off x="533520" y="1619280"/>
            <a:ext cx="82296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и вопроса, которые ежедневно задают тысячи людей?</a:t>
            </a:r>
            <a:endParaRPr b="0" lang="en-US" sz="28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с утра сил совсем нет и настроение разбитое?</a:t>
            </a:r>
            <a:endParaRPr b="0" lang="en-US" sz="24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ремени на зарядку не хватает?</a:t>
            </a:r>
            <a:endParaRPr b="0" lang="en-US" sz="2400" spc="-1" strike="noStrike">
              <a:solidFill>
                <a:srgbClr val="69676d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6bb1c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тренние упражнения вредны для здоровья?</a:t>
            </a:r>
            <a:endParaRPr b="0" lang="en-US" sz="2400" spc="-1" strike="noStrike">
              <a:solidFill>
                <a:srgbClr val="69676d"/>
              </a:solidFill>
              <a:latin typeface="Franklin Gothic Book"/>
            </a:endParaRPr>
          </a:p>
        </p:txBody>
      </p:sp>
      <p:pic>
        <p:nvPicPr>
          <p:cNvPr id="419" name="Содержимое 4" descr="_600_600_90_1456727205659430503.jpg"/>
          <p:cNvPicPr/>
          <p:nvPr/>
        </p:nvPicPr>
        <p:blipFill>
          <a:blip r:embed="rId2"/>
          <a:stretch/>
        </p:blipFill>
        <p:spPr>
          <a:xfrm>
            <a:off x="5241960" y="1600200"/>
            <a:ext cx="3155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944640" y="749160"/>
            <a:ext cx="8047080" cy="1901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J0344848"/>
          <p:cNvPicPr/>
          <p:nvPr/>
        </p:nvPicPr>
        <p:blipFill>
          <a:blip r:embed="rId2"/>
          <a:stretch/>
        </p:blipFill>
        <p:spPr>
          <a:xfrm>
            <a:off x="3214800" y="2571840"/>
            <a:ext cx="30178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9:52:59Z</dcterms:created>
  <dc:creator>Admin</dc:creator>
  <dc:description/>
  <dc:language>en-US</dc:language>
  <cp:lastModifiedBy>Admin</cp:lastModifiedBy>
  <dcterms:modified xsi:type="dcterms:W3CDTF">2013-03-28T05:49:36Z</dcterms:modified>
  <cp:revision>31</cp:revision>
  <dc:subject/>
  <dc:title>Полезные привычки</dc:title>
</cp:coreProperties>
</file>