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23.png" ContentType="image/png"/>
  <Override PartName="/ppt/media/image13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29.wmf" ContentType="image/x-wmf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media/image18.jpeg" ContentType="image/jpeg"/>
  <Override PartName="/ppt/media/image1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010-47B9-4655-B4B1-3A875B02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E72-BD2D-4976-A566-A32AEDD7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9D75E-85DD-448F-B0AE-C596064E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E1089-D40D-44E9-9ADC-525B2EA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0A614-7A95-4FD4-9DF3-373A403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810A-D0A3-46E2-83C5-26B8794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C6AC-29E1-4219-BC3B-3DB4F1EC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E17E1-CD90-43F8-BC1D-EC400643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50895-FEED-48D7-A763-B6A7005F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190D3-4E6B-40BB-B8E9-ACB9D151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CAF5A-31FB-4952-A57B-645D81EF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D8E-F76F-42D6-824D-E707B427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BED-39BC-4DC2-B686-C3C9A32C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0F0D-66F2-40B8-8F51-09353A20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6CA3-C361-4C01-A6A3-271B8BF7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F2FD-AF32-4269-B54E-6CB5E73D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EE55-2D6E-46A4-9B87-922A15B8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69B0-765F-4E96-BB72-E96A48D0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994F-23B4-4F88-9298-AC9F43E6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BE3B-15A5-489B-9326-B8421C9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321-FEFB-4FC8-B0F2-5E27BE8A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99B-2D8C-40E6-8A34-2950488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E14A-AB60-4C58-BAD5-5A6693C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F0A2-77FD-472A-80EC-4E723E1A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8F46-1E1F-4403-BFE2-5B28F571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D598-16B9-47EB-B96D-2087EC89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4399-CC1D-4BF0-8E31-E0F4B637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6CB7-6FB0-478B-9495-0D8690D4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7E2C-9672-4E92-9748-B7E1A6D6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23D2-CB33-45B0-B163-95A5662A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CA5A-A03D-435C-8CD1-9EDE4B8B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B59-0787-4A40-88ED-7DC9AB52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910B-12E1-4387-8DB2-60B4F2A7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59AC-6C4C-4B1B-80AE-73B2849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EA4A-72DC-4CEA-87FA-4D533D0B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69EB-8032-4C88-B3C8-C4E5BF7C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5C82D-284C-417B-8A0C-AE30CBF5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24FC-7A79-43C4-B216-764ED840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0116-E81F-49B0-8199-9D07CD0A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F524-EEF6-4E38-8A61-6690EF53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9C07-B766-48A5-98ED-BFA75919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735D-E596-443B-99BF-7B643D4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8EC-FDA0-4FE1-903E-F8F5FA6F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BC461-ABB9-4FE0-BA32-8B79D33B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D7EA-0155-4863-B4EF-33050B90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7109-00DA-4136-8503-CE74507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23FC-191D-455A-9C03-38CEE72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93A5-E8A5-4942-BF97-0042589A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DBF1-E539-4AAE-BAA8-27BF8AD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CCBE-2681-424F-8F5F-33EC6F2B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400C4-4A03-4838-8ED5-D40A23B3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93CB-5FDF-4864-8E05-A7DEEAA6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FB63-F3D6-43A1-9F9F-3BC3845B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BFE-D2DD-441C-84E9-3DB57E99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62BE5-0599-4B1B-92D3-FD9AAC55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07F8-6EAF-4F42-A8BF-E2FC34BA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063BA-0D9B-4DF4-A61C-4B5A0D29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5786C-D700-4C5C-966C-9FCBE7FB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07BF-BDF7-4408-8F43-1606881F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2CD1-6F52-46D2-8451-2498C43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1ED07-3E0F-4E41-B918-2CD8684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5DDF-1AAF-4740-9454-CEB4CAF2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1800F-E80B-4C5E-B87C-8CC15382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4B73-2DC9-449C-8A1B-B83FCD0E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8BB-BFD1-4738-AB42-EEECE186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D2A0C-CA6A-4A06-8A2D-C65AF3D9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61408-3EC3-4F68-8B35-E827DD2B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85A9-3BF9-48F6-8208-9C6BABD4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84F74-9CBB-4E7B-8E46-876CAAC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3FBFF-81B8-4D4D-8826-9FC1AE8D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B9CC7-D339-4E5E-AEA6-4CD21BAD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D2F7-5195-4A3B-8ED0-748256B5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71D6C-6D7E-4802-8B82-865D0261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B818-D07E-4101-B3D6-C281656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D4D64-5A38-4DA2-95E3-F056D85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E3E-2D8A-4766-8AB9-010D3DF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7D499-440B-4B75-8200-76D01F9C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BAF01-7ABC-4C3C-BFAB-C95DB795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1746B-EA87-4DA2-93D1-3E72CAAE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1F265-FF66-4B1B-9D1B-80D703D3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56DE0-1A78-43B3-B329-84AFC22D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A0BA-0BA9-4A59-854D-551E1A1F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E62E2-FDF2-4A0F-8C13-57E2E15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9CE4F-8076-4E22-BDC6-D3352182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0DA38-D0F4-4E9B-B92F-2D1BD9AC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69D21-E833-4FA4-825B-B127CED4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4EF-5960-4680-B0D5-D8F575F1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EB953-5EBD-4B8C-B0F1-BA0872B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3E2A8-6704-4D4B-AC57-8349DA1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5D5F-7107-4478-AA41-0E93E9C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53EF3-28AF-42A4-A421-DFDED2B2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2BC15-BF23-46C8-9688-E2FA7761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F2C4A-C1BA-4209-822F-D1ABB2EB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632C5-2C4E-4700-8319-EF550142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64615-2F24-41B5-B262-B756562D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4D0EC-4981-4C4C-8605-F18F5F58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F1B83-B658-4A78-8396-F0AA3D9B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A67-9D9F-473C-B5FF-7F56E1F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15ED-B93A-4B7A-911B-0207B09B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674B-A9B4-43E0-9A0C-42622B8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4CEC2-CDAC-4D0B-8691-C2A6CA5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FD791-2495-4661-89A9-4BFF6CB4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A4A03-3A8D-4E7C-B5F2-166D4FC6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E415A-E47A-4B68-9F91-8BEB5D6E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1C1A-76DE-46B7-A17B-DDE33368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BBF66-6A64-489E-B55B-74935C57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EF4E4-89F1-46F3-BF46-E03347FA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D566F-AC14-46CB-B8F9-83390BDF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BA0-6E2B-4ABD-987F-4CEA9F3734BD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E18-55FF-4958-B413-E8298C920E74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1CDA-C5F6-497F-BE31-9CC76CB8F46D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A0B2-4D2C-4D5F-A16A-BABEE605307C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C9CE-A3E5-46BF-92B2-28B6FB16D889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7364-136F-44F7-BC2E-B6DA0451776C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88CC-0E78-4D85-A5E9-290CB6137D13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3D2E-86FF-41AC-9580-D23ECE3A0A37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17C-6E60-4D63-A3EF-EAD235D66BEF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00040" y="396720"/>
            <a:ext cx="7997760" cy="2011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85480" y="2642760"/>
            <a:ext cx="83516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осеешь поступок — пожнешь привычку,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осеешь привычку — пожнешь характер, 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осеешь характер — пожнешь судьбу.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4714920" y="442908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Автор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Мельникова Валерия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ница 10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ординатор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Ткаченко И.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ОБ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976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J0344846"/>
          <p:cNvPicPr/>
          <p:nvPr/>
        </p:nvPicPr>
        <p:blipFill>
          <a:blip r:embed="rId2"/>
          <a:stretch/>
        </p:blipFill>
        <p:spPr>
          <a:xfrm>
            <a:off x="1714680" y="2000160"/>
            <a:ext cx="5214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3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272440" cy="2237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J0344287"/>
          <p:cNvPicPr/>
          <p:nvPr/>
        </p:nvPicPr>
        <p:blipFill>
          <a:blip r:embed="rId2"/>
          <a:stretch/>
        </p:blipFill>
        <p:spPr>
          <a:xfrm>
            <a:off x="2428920" y="1919160"/>
            <a:ext cx="4714920" cy="3345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309160" cy="1719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J0344884"/>
          <p:cNvPicPr/>
          <p:nvPr/>
        </p:nvPicPr>
        <p:blipFill>
          <a:blip r:embed="rId2"/>
          <a:stretch/>
        </p:blipFill>
        <p:spPr>
          <a:xfrm>
            <a:off x="785880" y="2143080"/>
            <a:ext cx="3429000" cy="1785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J0344881"/>
          <p:cNvPicPr/>
          <p:nvPr/>
        </p:nvPicPr>
        <p:blipFill>
          <a:blip r:embed="rId3"/>
          <a:stretch/>
        </p:blipFill>
        <p:spPr>
          <a:xfrm>
            <a:off x="5000760" y="1857240"/>
            <a:ext cx="3714480" cy="2273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J0344879"/>
          <p:cNvPicPr/>
          <p:nvPr/>
        </p:nvPicPr>
        <p:blipFill>
          <a:blip r:embed="rId4"/>
          <a:stretch/>
        </p:blipFill>
        <p:spPr>
          <a:xfrm>
            <a:off x="5214960" y="4214880"/>
            <a:ext cx="3286080" cy="241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J0344886"/>
          <p:cNvPicPr/>
          <p:nvPr/>
        </p:nvPicPr>
        <p:blipFill>
          <a:blip r:embed="rId5"/>
          <a:stretch/>
        </p:blipFill>
        <p:spPr>
          <a:xfrm>
            <a:off x="1000080" y="4143240"/>
            <a:ext cx="32148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Содержимое 3" descr="16813.jpg"/>
          <p:cNvPicPr/>
          <p:nvPr/>
        </p:nvPicPr>
        <p:blipFill>
          <a:blip r:embed="rId2"/>
          <a:stretch/>
        </p:blipFill>
        <p:spPr>
          <a:xfrm>
            <a:off x="1386000" y="1554120"/>
            <a:ext cx="652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240760" cy="1303200"/>
          </a:xfrm>
          <a:prstGeom prst="rect">
            <a:avLst/>
          </a:prstGeom>
          <a:ln w="0">
            <a:noFill/>
          </a:ln>
        </p:spPr>
      </p:pic>
      <p:pic>
        <p:nvPicPr>
          <p:cNvPr id="435" name="Содержимое 3" descr="po_snegu_5267.jpg"/>
          <p:cNvPicPr/>
          <p:nvPr/>
        </p:nvPicPr>
        <p:blipFill>
          <a:blip r:embed="rId2"/>
          <a:stretch/>
        </p:blipFill>
        <p:spPr>
          <a:xfrm>
            <a:off x="755640" y="1700280"/>
            <a:ext cx="74883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Содержимое 3" descr="0_153a1_b25f74db_XL.gif"/>
          <p:cNvPicPr/>
          <p:nvPr/>
        </p:nvPicPr>
        <p:blipFill>
          <a:blip r:embed="rId2"/>
          <a:stretch/>
        </p:blipFill>
        <p:spPr>
          <a:xfrm>
            <a:off x="2386080" y="155412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3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467920" cy="6717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ы учимся в спортивной школе:</a:t>
            </a: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bb1c9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видите исследования помогает ли вам школа жить в таком режиме, который благоприятно действует на состояние вашего здоровья?</a:t>
            </a: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bb1c9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ведите опрос и заполните таблицу нормативов основных режимных моментов ребятами нашего класса.</a:t>
            </a: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bb1c9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вывод: соблюдают ли ученики нашей школы режим дня?</a:t>
            </a: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786120" y="642960"/>
          <a:ext cx="5111640" cy="5232240"/>
        </p:xfrm>
        <a:graphic>
          <a:graphicData uri="http://schemas.openxmlformats.org/drawingml/2006/table">
            <a:tbl>
              <a:tblPr/>
              <a:tblGrid>
                <a:gridCol w="1857600"/>
                <a:gridCol w="1550880"/>
                <a:gridCol w="1703160"/>
              </a:tblGrid>
              <a:tr h="916920"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Элементы реж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полнение учениками 10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632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5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632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готовление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632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у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 часа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6292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енир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2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6256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8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8439120" cy="50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1.   Умывайтесь утром и вечером, используйте средства личной гигиены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2.   Чистите зубы не менее 3 минут. Ваша зубная щетка не должна быть слишком мягкой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3.   Всегда мойте руки перед едой, после прогулки и туалета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4.   Имейте всегда чистый носовой платок или одноразовые салфетки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5.   Для еды пользуйтесь только своей посудой, не берите грязных тарелок, ложек, чашек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6.   Для питья воды используйте одноразовые стаканчики. Не оставляйте использованные стаканчики, выбрасывайте их в мусорное ведро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7.   Следите за чистотой своей одежды, обуви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8.   Не ходите в одной и той же обуви на улице, в школе и дома. Дома носите мягкую домашнюю обувь, для спортивных занятий используйте спортивную обувь. Для занятий в компьютерном классе используйте одноразовые бахилы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9.   Помогайте учителю и дежурным в поддержании порядка в классе, помогайте родным в домашней уборке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10.            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Соблюдайте режим дня!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571680" y="57168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АВИЛА 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ЛИЧНОЙ ГИГИЕН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93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езные привычки – хорошее подспорье в любом начинании. </a:t>
            </a:r>
            <a:endParaRPr b="0" lang="en-US" sz="24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 твёрдо знает, что лучше уметь делать зарядку, чем курить, но не всегда вспоминаем, что наша психика и наш характер тоже имеют хорошие и плохие привычки, которые нужно корректировать. Если следить не только за здоровьем, но и за своими эмоциями и мыслями, полезные привычки быстро приведут к намеченной цели.</a:t>
            </a:r>
            <a:endParaRPr b="0" lang="en-US" sz="24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9c2d1"/>
              </a:solidFill>
              <a:latin typeface="Franklin Gothic Book"/>
            </a:endParaRPr>
          </a:p>
        </p:txBody>
      </p:sp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523800" y="701640"/>
            <a:ext cx="7785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28760" y="278568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 вредных привычках сказано много, поэтому кажется, что мы знаем о них всё. Но о полезных привычках почему-то часто молчат. А ведь они могут помочь нам справиться со многими проблемами, избежать трудностей и постоянно развиваться.</a:t>
            </a:r>
            <a:endParaRPr b="0" lang="en-US" sz="2600" spc="-1" strike="noStrike">
              <a:solidFill>
                <a:srgbClr val="c9c2d1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9c2d1"/>
              </a:solidFill>
              <a:latin typeface="Franklin Gothic Book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706320" y="407880"/>
            <a:ext cx="7785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4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240760" cy="121284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7" descr="page.jpg"/>
          <p:cNvPicPr/>
          <p:nvPr/>
        </p:nvPicPr>
        <p:blipFill>
          <a:blip r:embed="rId2"/>
          <a:stretch/>
        </p:blipFill>
        <p:spPr>
          <a:xfrm>
            <a:off x="324000" y="1700280"/>
            <a:ext cx="4025880" cy="453708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8" descr="paged.jpg"/>
          <p:cNvPicPr/>
          <p:nvPr/>
        </p:nvPicPr>
        <p:blipFill>
          <a:blip r:embed="rId3"/>
          <a:stretch/>
        </p:blipFill>
        <p:spPr>
          <a:xfrm>
            <a:off x="4356000" y="1700280"/>
            <a:ext cx="42166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7" descr="8.gif"/>
          <p:cNvPicPr/>
          <p:nvPr/>
        </p:nvPicPr>
        <p:blipFill>
          <a:blip r:embed="rId2"/>
          <a:stretch/>
        </p:blipFill>
        <p:spPr>
          <a:xfrm>
            <a:off x="324000" y="2205000"/>
            <a:ext cx="4084560" cy="388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Arial"/>
                <a:ea typeface="Arial"/>
              </a:rPr>
              <a:t>Не все знают, для чего это нужно делать регулярно</a:t>
            </a:r>
            <a:r>
              <a:rPr b="0" lang="ru-RU" sz="3500" spc="-1" strike="noStrike">
                <a:solidFill>
                  <a:srgbClr val="c4e0e9"/>
                </a:solidFill>
                <a:latin typeface="Franklin Gothic Book"/>
              </a:rPr>
              <a:t>:</a:t>
            </a:r>
            <a:endParaRPr b="0" lang="en-US" sz="35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76d"/>
                </a:solidFill>
                <a:latin typeface="Arial"/>
                <a:ea typeface="Arial"/>
              </a:rPr>
              <a:t>Чтобы избежать неприятного запаха изо рта, т. к. удаляется зубной налет, появляется чувство комфорта.</a:t>
            </a:r>
            <a:endParaRPr b="0" lang="en-US" sz="26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76d"/>
                </a:solidFill>
                <a:latin typeface="Arial"/>
                <a:ea typeface="Arial"/>
              </a:rPr>
              <a:t>Снизить, а по возможности избежать заболеваний зубов и десен.</a:t>
            </a:r>
            <a:endParaRPr b="0" lang="en-US" sz="26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298440" y="133200"/>
            <a:ext cx="8699400" cy="2043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чему нужно мыть руки?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болевания от грязных рук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12" name="Содержимое 6" descr="mite-ruk.jpg"/>
          <p:cNvPicPr/>
          <p:nvPr/>
        </p:nvPicPr>
        <p:blipFill>
          <a:blip r:embed="rId2"/>
          <a:stretch/>
        </p:blipFill>
        <p:spPr>
          <a:xfrm>
            <a:off x="4714920" y="2000160"/>
            <a:ext cx="3809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5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выше закатать рукава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ставить руки под струю воды и намочить их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зять мыло в руки и намылить их до появления пены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тереть руку об руку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мыть большим количеством воды пену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ь то, насколько качественно вымыты руки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макнуть сухим и чистым полотенцем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жать руки к щекам тыльной стороной для проверки сухости ладоней.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ногие дети знают об этих правилах, но часть пунктов все же упускают из вида. Такие процессы, как - намыливание, вытирание рук осуществляется детьми без особой тщательности, наспех.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8699400" cy="15494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"/>
          <p:cNvPicPr/>
          <p:nvPr/>
        </p:nvPicPr>
        <p:blipFill>
          <a:blip r:embed="rId2"/>
          <a:stretch/>
        </p:blipFill>
        <p:spPr>
          <a:xfrm>
            <a:off x="533520" y="161928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и вопроса, которые ежедневно задают тысячи людей?</a:t>
            </a: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с утра сил совсем нет и настроение разбитое?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емени на зарядку не хватает?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ренние упражнения вредны для здоровья?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19" name="Содержимое 4" descr="_600_600_90_1456727205659430503.jpg"/>
          <p:cNvPicPr/>
          <p:nvPr/>
        </p:nvPicPr>
        <p:blipFill>
          <a:blip r:embed="rId2"/>
          <a:stretch/>
        </p:blipFill>
        <p:spPr>
          <a:xfrm>
            <a:off x="5241960" y="1600200"/>
            <a:ext cx="3155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944640" y="749160"/>
            <a:ext cx="8047080" cy="1901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J0344848"/>
          <p:cNvPicPr/>
          <p:nvPr/>
        </p:nvPicPr>
        <p:blipFill>
          <a:blip r:embed="rId2"/>
          <a:stretch/>
        </p:blipFill>
        <p:spPr>
          <a:xfrm>
            <a:off x="3214800" y="2571840"/>
            <a:ext cx="30178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52:59Z</dcterms:created>
  <dc:creator>Admin</dc:creator>
  <dc:description/>
  <dc:language>en-US</dc:language>
  <cp:lastModifiedBy>Admin</cp:lastModifiedBy>
  <dcterms:modified xsi:type="dcterms:W3CDTF">2013-03-28T05:49:36Z</dcterms:modified>
  <cp:revision>31</cp:revision>
  <dc:subject/>
  <dc:title>Полезные привычки</dc:title>
</cp:coreProperties>
</file>