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7846-0D19-4549-9FBC-38684CAD88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4EBC-AE1D-486B-870D-0DAF011A23E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AFDE-8E32-461C-8DB4-1E9C4AF8D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3B2A-BF8E-47D2-B178-2F9C1C60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580A-A59B-4B15-8034-250E93AB3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615E-7AED-4E6B-BF65-0706F4A98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4355-87AD-4762-9648-A6A204F61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1B30-619C-4889-BB6E-DD72BB41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F06B-E74B-4D5F-ACE3-069349E2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10E5-DE0C-4F85-B954-C8113060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467F-86AA-496F-A5CC-72741290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8772-857F-44B7-A927-80814187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2358-D33C-407D-A005-8992187E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1EFA-A2C5-4BC4-AFE5-52C23DD7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F504-7608-4C8B-BD59-88CE1D03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48BB-FA41-460A-AD02-B33C1D7F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BABF-5394-4AC8-B83C-8002F077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57DC-0FFE-4A71-A744-1CBE926AE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C4EA-8C90-49C3-B1E8-4007EA9D6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77655-F47D-433E-8014-45CDCBDE3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39081-244A-440E-9639-A9BD4931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BF161-35BB-4825-9C59-6D5E4758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D701D-DF33-47B2-A5C2-0B787718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A3600-159A-4D0A-9183-83D92D56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9790-E18A-4EE8-ACF0-CD6B18F2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4D22F-4420-46EF-939E-1F8041D8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74957-1116-4055-B2F2-C08873EB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2F4D3-0005-47BA-AE88-8FA345DA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FDAAE-612B-49B5-B9E1-150B9C19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71064-858D-4F53-AF47-575DA7E4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C60A0-C0DB-43D7-9151-E00269E4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6AF88-FEE0-4593-B8D1-DF3C122EF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978A1-6DB6-49AE-8A61-E42152D22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F362D-603A-43C1-9372-E3EF2225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4DAA2-4B90-4F22-B6D2-8EF4152A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5ECF-D746-4727-8C75-02F832B6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E817E-3A0B-4F52-ACD9-8014540D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AAB63-77FF-43FC-8CE3-3CA4B035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915B4-6B2A-4B12-AC47-6600364E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B9BE3-681C-4AD3-94E6-E055BA0B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960A8-FC5A-43FB-8523-2FA329BC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6C4EA-00D1-4CE0-89FA-86804490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D9FBD-BBF8-4CA7-AF7A-25B217AC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0C03A-AD6B-498C-BD7D-16395ED12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F298C-1775-4BC1-B4FD-0791AAF2A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83CFB-F899-4045-974D-BFD07E473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4ADF-8197-4EAB-9AB9-17CBD280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810E3-B74D-4373-A894-ED98376D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AE59A-6A04-472E-8F26-266726A2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F701F-EC10-43AF-ACF7-36083902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2F64D-5DC9-4462-A29C-A686C4F6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F1AFB-1C27-4889-8B25-4451643D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B45CE-D35A-4146-927B-86D52D2C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0239A-F446-4EDE-B965-96269AEC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1B695-E809-4D52-9460-5B7704C2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CD5ED-0FE9-497B-B284-BE2794A1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300BB-26CE-4BD4-8F11-102DA1B10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E240-8290-496A-8186-142A2EE1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BBE9C-766F-42DC-A7FB-B5E0B31A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5ED81-3854-4255-8B61-E008B685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23826-9342-40C7-97C7-51308BE7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79F66-A0EC-46A5-86EB-B87B970C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C3B85-8328-4D06-83B2-BB5324E0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6067D-E607-4768-91CE-8CA26225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70559-8F1B-48CE-8BFA-E12A738E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A78ED-BBAB-4570-926B-068D37F9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30224-8F8A-4D5C-B8AC-2F1513CD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50A5E-B277-451F-BE90-7C8E7C1D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AE76-44DE-40B9-909C-E05D5F18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F473A-355B-411A-AC93-68DC59E5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8DE59-82CA-4EF3-BBC1-C2A682793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72A6C-BEAC-416E-8BE9-77BDE5B03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CEBDB-6F52-4CDE-809B-3D7B3B0A3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A68E2-E714-4850-8B1F-E352FAD5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EF311-87B5-4054-8CBB-8FA3E23F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33B7F-AD5A-48F5-9A8B-8C07EE9B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2C44D-50A5-432B-9704-8ACCA4E1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B56CA-CAC6-47B7-BAD9-1A0EB05F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46AD3-D06C-471D-999F-2BDB425B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374C-C174-4483-B458-A896F822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7951F-4D0B-4E32-8692-8921E63B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2FCEE-8B9A-4966-B10D-D54CB7C5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7B741-8E10-47FE-9C39-3C6A1D67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89DFD-B58D-4CB6-B20D-ED7BFA958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1D8A2-068F-4DAF-9BA9-8D9A7CA32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17B7-37A8-4558-9331-2ACD288E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2CC6-69B2-498A-B8DF-C64AA5AFF205}" type="slidenum">
              <a:rPr b="0" lang="ru-RU" sz="1200" spc="-1" strike="noStrike">
                <a:solidFill>
                  <a:srgbClr val="d6ec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B3A5-D396-4C8B-AC8B-490D33761F62}" type="slidenum">
              <a:rPr b="0" lang="ru-RU" sz="1200" spc="-1" strike="noStrike">
                <a:solidFill>
                  <a:srgbClr val="d6ec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2F16-3BDE-4BDA-A9AD-FD32C6E54F4C}" type="slidenum">
              <a:rPr b="0" lang="ru-RU" sz="1200" spc="-1" strike="noStrike">
                <a:solidFill>
                  <a:srgbClr val="d6ec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48C5-BE67-4F34-97A6-19390E3411F5}" type="slidenum">
              <a:rPr b="0" lang="ru-RU" sz="1200" spc="-1" strike="noStrike">
                <a:solidFill>
                  <a:srgbClr val="d6ec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1F4E-B73A-4D7F-9C3A-BA7D84441149}" type="slidenum">
              <a:rPr b="0" lang="ru-RU" sz="1200" spc="-1" strike="noStrike">
                <a:solidFill>
                  <a:srgbClr val="d6ec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8D9F-D063-4649-8316-25CBC04CEA96}" type="slidenum">
              <a:rPr b="0" lang="ru-RU" sz="1200" spc="-1" strike="noStrike">
                <a:solidFill>
                  <a:srgbClr val="d6ec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3760" y="12175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520" y="12826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3760" y="12823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6760" y="137016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101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6760" y="143496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8640" y="14731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400" y="15382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8640" y="15379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48F0-C913-4A22-8A43-D2601714433F}" type="slidenum">
              <a:rPr b="0" lang="ru-RU" sz="1200" spc="-1" strike="noStrike">
                <a:solidFill>
                  <a:srgbClr val="d6ec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egnum.ru/showpicture/?id=909752&amp;pic=1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0" lang="ru-RU" sz="7200" spc="-1" strike="noStrike">
                <a:solidFill>
                  <a:srgbClr val="c1eeff"/>
                </a:solidFill>
                <a:latin typeface="Calibri"/>
              </a:rPr>
              <a:t>К 150-летию отмены крепостного права в России.</a:t>
            </a:r>
            <a:endParaRPr b="0" lang="en-US" sz="7200" spc="-1" strike="noStrike">
              <a:solidFill>
                <a:srgbClr val="c1ee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Содержимое 3" descr="кр.пр.-3 (2).bmp"/>
          <p:cNvPicPr/>
          <p:nvPr/>
        </p:nvPicPr>
        <p:blipFill>
          <a:blip r:embed="rId1"/>
          <a:stretch/>
        </p:blipFill>
        <p:spPr>
          <a:xfrm>
            <a:off x="1042920" y="1268280"/>
            <a:ext cx="3143160" cy="4537080"/>
          </a:xfrm>
          <a:prstGeom prst="rect">
            <a:avLst/>
          </a:prstGeom>
          <a:ln w="0">
            <a:noFill/>
          </a:ln>
        </p:spPr>
      </p:pic>
      <p:sp>
        <p:nvSpPr>
          <p:cNvPr id="395" name="Прямоугольник 4"/>
          <p:cNvSpPr/>
          <p:nvPr/>
        </p:nvSpPr>
        <p:spPr>
          <a:xfrm>
            <a:off x="4500720" y="1305000"/>
            <a:ext cx="3958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«Лучше отменить крепостное право 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Calibri"/>
              </a:rPr>
              <a:t>сверху,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нежеле его отменят 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Calibri"/>
              </a:rPr>
              <a:t>снизу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0" y="404280"/>
            <a:ext cx="4114800" cy="595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Calibri"/>
              </a:rPr>
              <a:t>           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1" i="1" lang="ru-RU" sz="2600" spc="-1" strike="noStrike">
                <a:solidFill>
                  <a:srgbClr val="ffffff"/>
                </a:solidFill>
                <a:latin typeface="Calibri"/>
              </a:rPr>
              <a:t>« Имя Александра </a:t>
            </a:r>
            <a:r>
              <a:rPr b="1" i="1" lang="en-US" sz="2600" spc="-1" strike="noStrike">
                <a:solidFill>
                  <a:srgbClr val="ffffff"/>
                </a:solidFill>
                <a:latin typeface="Calibri"/>
              </a:rPr>
              <a:t>II</a:t>
            </a:r>
            <a:r>
              <a:rPr b="1" i="1" lang="ru-RU" sz="2600" spc="-1" strike="noStrike">
                <a:solidFill>
                  <a:srgbClr val="ffffff"/>
                </a:solidFill>
                <a:latin typeface="Calibri"/>
              </a:rPr>
              <a:t> отныне принадлежит истории; если бы его царствование завтра закончилось, если б пал под ударами каких-нибудь крамольных олигархов, бунтующих защитников барщины и розг – все равно. Начало освобождения крестьян сделано им, грядущие поколения этого не забудут!»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Calibri"/>
              </a:rPr>
              <a:t>           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А.И.Герцен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7" name="Picture 2" descr="C:\Users\Евгений\Desktop\крепостное право\крепостное право.bmp"/>
          <p:cNvPicPr/>
          <p:nvPr/>
        </p:nvPicPr>
        <p:blipFill>
          <a:blip r:embed="rId1"/>
          <a:stretch/>
        </p:blipFill>
        <p:spPr>
          <a:xfrm>
            <a:off x="509760" y="404640"/>
            <a:ext cx="43495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b9de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06560" y="692280"/>
            <a:ext cx="8137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Государственные деятели, разрабатывавшие проект отмены крепостного права.</a:t>
            </a:r>
            <a:endParaRPr b="0" lang="en-US" sz="28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399" name="Содержимое 13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3889440" cy="504036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оугольник 14"/>
          <p:cNvSpPr/>
          <p:nvPr/>
        </p:nvSpPr>
        <p:spPr>
          <a:xfrm>
            <a:off x="5292720" y="1700280"/>
            <a:ext cx="3311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ed46c"/>
                </a:solidFill>
                <a:latin typeface="Calibri"/>
              </a:rPr>
              <a:t>Ростовцев Яков Иванович (1803 – 1860)–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едседатель Редакционн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омиссии. Его программа отмены крепостного права легла в основу </a:t>
            </a:r>
            <a:r>
              <a:rPr b="1" i="1" lang="ru-RU" sz="2800" spc="-1" strike="noStrike">
                <a:solidFill>
                  <a:srgbClr val="fed46c"/>
                </a:solidFill>
                <a:latin typeface="Calibri"/>
              </a:rPr>
              <a:t>Положений 19 феврал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d46c"/>
                </a:solidFill>
                <a:latin typeface="Calibri"/>
              </a:rPr>
              <a:t>Кавелин Константин Дмитриевич 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02" name="Содержимое 3" descr="Pk01001.bmp"/>
          <p:cNvPicPr/>
          <p:nvPr/>
        </p:nvPicPr>
        <p:blipFill>
          <a:blip r:embed="rId1"/>
          <a:stretch/>
        </p:blipFill>
        <p:spPr>
          <a:xfrm>
            <a:off x="1476360" y="1989000"/>
            <a:ext cx="3095640" cy="410400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оугольник 5"/>
          <p:cNvSpPr/>
          <p:nvPr/>
        </p:nvSpPr>
        <p:spPr>
          <a:xfrm>
            <a:off x="4932360" y="1990800"/>
            <a:ext cx="3675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nsolas"/>
              </a:rPr>
              <a:t>(1818 – 1885) российский историк и публицист, автор одного из первых проектов отмены крепостного права. Сторонник умеренных рефор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ed46c"/>
                </a:solidFill>
                <a:latin typeface="Calibri"/>
              </a:rPr>
              <a:t>Милютин Николай Алексеевич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643280" y="1784520"/>
            <a:ext cx="4043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1859 - 1861 –  годах товарищ министра внутренних дел, фактически руководил работой по подготовке крестьянской реформы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6" name="Picture 3" descr="C:\Users\Евгений\Desktop\милютин.jpg"/>
          <p:cNvPicPr/>
          <p:nvPr/>
        </p:nvPicPr>
        <p:blipFill>
          <a:blip r:embed="rId1"/>
          <a:stretch/>
        </p:blipFill>
        <p:spPr>
          <a:xfrm>
            <a:off x="755640" y="1341360"/>
            <a:ext cx="381636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1eeff"/>
                </a:solidFill>
                <a:latin typeface="Calibri"/>
              </a:rPr>
              <a:t>3.Подготовка реформы.</a:t>
            </a:r>
            <a:endParaRPr b="0" lang="en-US" sz="2000" spc="-1" strike="noStrike">
              <a:solidFill>
                <a:srgbClr val="c1eeff"/>
              </a:solidFill>
              <a:latin typeface="Calibri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914400" y="981000"/>
          <a:ext cx="7772400" cy="7010640"/>
        </p:xfrm>
        <a:graphic>
          <a:graphicData uri="http://schemas.openxmlformats.org/drawingml/2006/table">
            <a:tbl>
              <a:tblPr/>
              <a:tblGrid>
                <a:gridCol w="2505240"/>
                <a:gridCol w="5267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январ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5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b4453"/>
                          </a:solidFill>
                          <a:latin typeface="Calibri"/>
                        </a:rPr>
                        <a:t>Создание Секретной комиссии по крестьянскому вопрос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b80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ноября 185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39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крипт Назимову об учреждении губернских комитетов для подготовки проект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39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декабр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5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0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крипт губернатору Петербурга Игнатьеву об учреждении губернских комитетов для подготовки проект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0e4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январ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5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f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образование Секретного комитета в Главный комитет. Обсуждение проблемы стало носить открытый гласный характе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f6d8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февраля 185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8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здание Редакционных комиссий во главе с Ростовцевы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8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октября 18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спуск редакционных комиссий и передача проекта в Государственный совет для утверждени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9d9d9"/>
                </a:solidFill>
                <a:latin typeface="Calibri"/>
              </a:rPr>
              <a:t>Обсуждение проекта в Государственном совете</a:t>
            </a:r>
            <a:endParaRPr b="0" lang="en-US" sz="28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10" name="Picture 2" descr="C:\Users\Евгений\Desktop\госсовет.jpg"/>
          <p:cNvPicPr/>
          <p:nvPr/>
        </p:nvPicPr>
        <p:blipFill>
          <a:blip r:embed="rId1"/>
          <a:stretch/>
        </p:blipFill>
        <p:spPr>
          <a:xfrm>
            <a:off x="1116000" y="1413000"/>
            <a:ext cx="727236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157a"/>
                </a:solidFill>
                <a:latin typeface="Calibri"/>
              </a:rPr>
              <a:t>Царь – «Освободитель»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12" name="Picture 3" descr="C:\Users\Евгений\Desktop\крепостное право\крепостное право.bmp"/>
          <p:cNvPicPr/>
          <p:nvPr/>
        </p:nvPicPr>
        <p:blipFill>
          <a:blip r:embed="rId1"/>
          <a:stretch/>
        </p:blipFill>
        <p:spPr>
          <a:xfrm>
            <a:off x="2556000" y="1268280"/>
            <a:ext cx="446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alibri"/>
              </a:rPr>
              <a:t>Ответы на проблему.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914400" y="1341360"/>
            <a:ext cx="77724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ешение Александра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о проведении реформ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ривлечение к разработке проекта либеральной бюрократи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Широкое обсуждение проекта среди помещиков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 1858 года обсуждение проекта реформы велось на страницах периодической печат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alibri"/>
              </a:rPr>
              <a:t>Тема урока.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alibri"/>
              </a:rPr>
              <a:t>Накануне отмены крепостного права.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Заголовок 1" descr=""/>
          <p:cNvPicPr/>
          <p:nvPr/>
        </p:nvPicPr>
        <p:blipFill>
          <a:blip r:embed="rId1"/>
          <a:stretch/>
        </p:blipFill>
        <p:spPr>
          <a:xfrm>
            <a:off x="676440" y="-49320"/>
            <a:ext cx="7785000" cy="79848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932000" y="764640"/>
            <a:ext cx="3344760" cy="504036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4 ноября 2007 года на набережной Тамбова открыт памятник Тамбовскому мужику. Трехметровая скульптура землепашца, попирающего плугом пулеметную ленту и политические лозунги, обращена лицом к Покровскому собору. По замыслу автора, скульптора Виктора Острикова, для аграрной Тамбовской области "мужик" - это, прежде всего, труженик, хранитель веры отцов и дедов, стоящий над идеологией и политикой. Он должен стать символом трудолюбия и терпения русского крестьянства, сыгравшего большую роль в истории не только Тамбовщины, но и всей страны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0" name="Рисунок 3" descr="Памятник мужику в Тамбове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765000"/>
            <a:ext cx="37432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alibri"/>
              </a:rPr>
              <a:t>План урока.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. Причины и повод Великой реформы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2. Александр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I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и его решение крестьянского вопроса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3. Подготовка реформы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alibri"/>
              </a:rPr>
              <a:t>Проблема урока.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ed46c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marL="411120" indent="-342720" algn="ctr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ed46c"/>
                </a:solidFill>
                <a:latin typeface="Calibri"/>
              </a:rPr>
              <a:t>Почему период 1856 – 1861 годов называют «российской оттепелью»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C:\Users\Евгений\Desktop\крепостное право\причины.bmp"/>
          <p:cNvPicPr/>
          <p:nvPr/>
        </p:nvPicPr>
        <p:blipFill>
          <a:blip r:embed="rId1"/>
          <a:stretch/>
        </p:blipFill>
        <p:spPr>
          <a:xfrm>
            <a:off x="1403280" y="0"/>
            <a:ext cx="612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1eeff"/>
                </a:solidFill>
                <a:latin typeface="Calibri"/>
              </a:rPr>
              <a:t>Повод – </a:t>
            </a:r>
            <a:r>
              <a:rPr b="1" i="1" lang="ru-RU" sz="2400" spc="-1" strike="noStrike">
                <a:solidFill>
                  <a:srgbClr val="fed46c"/>
                </a:solidFill>
                <a:latin typeface="Calibri"/>
              </a:rPr>
              <a:t>поражение России в Крымской войне.</a:t>
            </a:r>
            <a:endParaRPr b="0" lang="en-US" sz="24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14400" y="1052280"/>
            <a:ext cx="77724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«Новый император не был ни либералом, ни сторонником коренных реформ. Более того, ему нравились порядки, установленные отцом.  Но все же, как военный человек, осознавший причины поражения России в Крымской войне, как государственный деятель, для которого престиж и величие державы были превыше всего, он встал на путь реформ.»                                         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Цитата учебника  стр.134            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8" name="Picture 2" descr="C:\Users\Евгений\Desktop\кр война.bmp"/>
          <p:cNvPicPr/>
          <p:nvPr/>
        </p:nvPicPr>
        <p:blipFill>
          <a:blip r:embed="rId1"/>
          <a:stretch/>
        </p:blipFill>
        <p:spPr>
          <a:xfrm>
            <a:off x="2124000" y="3402000"/>
            <a:ext cx="4896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1eeff"/>
                </a:solidFill>
                <a:latin typeface="Calibri"/>
              </a:rPr>
              <a:t>  </a:t>
            </a:r>
            <a:r>
              <a:rPr b="0" i="1" lang="ru-RU" sz="2400" spc="-1" strike="noStrike">
                <a:solidFill>
                  <a:srgbClr val="fed46c"/>
                </a:solidFill>
                <a:latin typeface="Calibri"/>
              </a:rPr>
              <a:t>Крепостное право было позором России, где людьми распоряжались и торговали как скотом…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Картина крепостного художника Григория Сороки.</a:t>
            </a:r>
            <a:endParaRPr b="0" lang="en-US" sz="24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390" name="Picture 2" descr="C:\Users\Евгений\Desktop\сорока.bmp"/>
          <p:cNvPicPr/>
          <p:nvPr/>
        </p:nvPicPr>
        <p:blipFill>
          <a:blip r:embed="rId1"/>
          <a:stretch/>
        </p:blipFill>
        <p:spPr>
          <a:xfrm>
            <a:off x="1547640" y="2421000"/>
            <a:ext cx="6624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eeff"/>
                </a:solidFill>
                <a:latin typeface="Calibri"/>
              </a:rPr>
              <a:t>Статистика крестьянских волнений</a:t>
            </a:r>
            <a:endParaRPr b="0" lang="en-US" sz="28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392" name="Picture 2" descr="C:\Users\Евгений\Desktop\rвосстание крестьян.jpg"/>
          <p:cNvPicPr/>
          <p:nvPr/>
        </p:nvPicPr>
        <p:blipFill>
          <a:blip r:embed="rId1"/>
          <a:stretch/>
        </p:blipFill>
        <p:spPr>
          <a:xfrm>
            <a:off x="755640" y="2852640"/>
            <a:ext cx="5400720" cy="381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3" name=""/>
          <p:cNvGraphicFramePr/>
          <p:nvPr/>
        </p:nvGraphicFramePr>
        <p:xfrm>
          <a:off x="5724360" y="1397160"/>
          <a:ext cx="3095640" cy="3065400"/>
        </p:xfrm>
        <a:graphic>
          <a:graphicData uri="http://schemas.openxmlformats.org/drawingml/2006/table">
            <a:tbl>
              <a:tblPr/>
              <a:tblGrid>
                <a:gridCol w="1548000"/>
                <a:gridCol w="1547640"/>
              </a:tblGrid>
              <a:tr h="76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26 -18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0 - 18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5 - 18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41 - 18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07:23:47Z</dcterms:created>
  <dc:creator>Евгений</dc:creator>
  <dc:description/>
  <dc:language>en-US</dc:language>
  <cp:lastModifiedBy>Евгений</cp:lastModifiedBy>
  <dcterms:modified xsi:type="dcterms:W3CDTF">2011-02-28T14:35:45Z</dcterms:modified>
  <cp:revision>43</cp:revision>
  <dc:subject/>
  <dc:title>В Тамбове открыт памятник русскому мужику</dc:title>
</cp:coreProperties>
</file>