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4A0AD-8181-4A6C-B858-A8100987702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B183C-0890-42AA-9478-2CF01F1233A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E500-1D01-4884-A2C8-067FF2113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9F94-D685-443A-A642-43FFC929E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81D3-4C31-4FC1-9A78-FDDD211C4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0955-0145-41C0-9139-3B2BAE65A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15B10-B1D3-41A1-8CC3-C79B8D17A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597C7-8A79-4F19-9A24-7ED93005C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0D005-3434-4A7F-BB79-94417B2EC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71568-A0A4-4C77-A158-2070C0EF8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93792-1039-4D5E-8481-5B2318864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64F56-F7FD-482C-AD7F-BC365C3E3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01ACB-488B-4A73-A24F-E52E0609B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C726-DDDA-47AE-8541-CA45EF811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A47C3-9FCA-4436-B2CB-35D09AC85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5F127-1BBB-4430-BE5D-6B97C4EF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C8520-3EE6-412A-8C9C-AB4A4592F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896E2-FC98-47DF-89CC-0770C7287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46A06-F6E7-4EDD-9FFD-9F5A0CCF9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20E57-2BF1-462D-B9D0-32C0F8329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C8158-8758-49D6-BF7A-ED77955B6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6DED1-DC85-4AF5-9893-247D0AC30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C8B61-A411-49DB-B847-F6B22635F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7490D-FFC4-4656-B297-BAD16820E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A4B4-1FED-4139-9F85-8E94EC4B7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A9C86-17BD-45A1-9791-24E26C2F5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8F5CE-684E-428A-BD48-F2AC468AE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8E84D-9F5D-4428-8724-72459EA4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DB172-3A96-48E8-9217-44E81E808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7ABBD-6EB9-427E-A844-B5F2B92A5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B9E6E-A810-46EF-A661-BEEE2DC28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EA8D9-0F63-4C97-B176-1E0F7C638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8E7C4-F33E-443C-BC44-21D86A686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01059-FD1D-4E78-B48D-F853F5CFC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8F582-7ACA-4E3D-9282-350D9C20F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F717-37B3-4584-8412-952A5AD70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A96DA-200C-4AA1-B750-6EDEAFC97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497DD-7255-4856-B9D6-5F512B47F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6EA7C-08AD-4353-B4BA-500A7752F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75851-3C9B-44F0-AB40-83F07EA34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A10DF-3F99-46FD-8BD1-680357474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C360A-B6E0-45C6-AC9A-74FBE67D4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57EB6-38C6-410F-B1E8-9BA72E8D0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51CF4-1D23-4E6E-B2C0-00433C75B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62687-A65A-439D-B3A7-4151D8A44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2BABE9-91C1-499E-9F35-470F33AB9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2808-71C4-4549-B294-A3D75C6CB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BE0DBF-78D7-423E-85C3-2E8DD8073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537B5-2A6D-4807-98E2-02ABDEC39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1E04E-DC8D-49C9-9F0F-B84BE1F82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7BB717-ED91-4434-9609-E2F50ABC7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C48D18-580D-4F50-87D6-62EBCB6C7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50F17B-B187-401F-B6C1-21D5458B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CBF5F-5277-4A93-BE0B-CD60C1980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BEDE8C-4D0C-482E-9FD4-5B323609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71622-B62C-4031-993C-E3966ABF6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DAE6B-A934-4A35-89D6-27090E963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A445-11E5-4927-854E-BFC77C57E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B3D46-4CB3-4D71-A162-2C1CC88C7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3C1DCE-58B1-40EF-A5E5-BE42F7843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695B4A-568C-4616-A2CF-02B92770A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6434F8-5F69-4FA3-8477-2CCF59948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F6EC4B-62A2-4BD2-988B-41DD1BD21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4AB0A9-9E56-4E77-8153-E11090DFB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F9B3B7-1020-408A-BA85-10040FF48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06C431-3D08-499D-9DF1-DB2D2C2A9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4A7566-B1CA-45BE-99D5-D9CCA44C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BDE429-8BC3-4411-A8E8-D56154CB6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EC37-4C23-4859-89F2-63FB5E4D1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F22D81-CE8D-4C4C-819F-7B228B268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49A1CE-8F5F-4B0C-B2EE-0CF9CE09A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E69616-C38B-48B0-9136-ED96AFE96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05BF8A-4BE1-478E-947E-C3F6694A2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051CFF-A3FB-4A30-A88E-B26A7DA1A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51160F-2230-413C-89C0-09C453799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1D39E7-EFF0-4EA3-B185-41F28B886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5EC4A0-9017-4D63-B5B0-BBDCD06F2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C001CB-FE7C-4F5E-A78C-B40F96830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1F593B-B12A-477D-A0A6-0847803AD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F840-C0A9-44F6-86A9-F0770F13D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9CFFDF-9A83-40A1-81BD-11CB91B1F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BF5149-D619-43AB-813A-12E48DB2C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8CC4EC-6E91-4705-B703-F977ABE9C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CC99FE-1FD8-4E51-9681-EAB193ACA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685F04-D834-43FC-A2A7-EA6AEE96D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34A1-1EE3-4D08-AB62-2D6B9ECCA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41C39-DBD9-4CF3-9FA2-E06D88BC289A}" type="slidenum">
              <a:rPr b="0" lang="ru-RU" sz="1200" spc="-1" strike="noStrike">
                <a:solidFill>
                  <a:srgbClr val="d6ec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D9C3D-5BCE-452E-BE70-ADF9C49361EE}" type="slidenum">
              <a:rPr b="0" lang="ru-RU" sz="1200" spc="-1" strike="noStrike">
                <a:solidFill>
                  <a:srgbClr val="d6ec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8915C-F90B-46C9-AD0D-BBE5CBCDE5DA}" type="slidenum">
              <a:rPr b="0" lang="ru-RU" sz="1200" spc="-1" strike="noStrike">
                <a:solidFill>
                  <a:srgbClr val="d6ec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C70C2-EBA6-4BA9-AAB8-65EC1C1671AA}" type="slidenum">
              <a:rPr b="0" lang="ru-RU" sz="1200" spc="-1" strike="noStrike">
                <a:solidFill>
                  <a:srgbClr val="d6ec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28571-A440-4343-B84D-FCAD6D63EE8D}" type="slidenum">
              <a:rPr b="0" lang="ru-RU" sz="1200" spc="-1" strike="noStrike">
                <a:solidFill>
                  <a:srgbClr val="d6ec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C2E1C-BD3E-484A-AE35-17F9869D13E5}" type="slidenum">
              <a:rPr b="0" lang="ru-RU" sz="1200" spc="-1" strike="noStrike">
                <a:solidFill>
                  <a:srgbClr val="d6ec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520" y="1217520"/>
            <a:ext cx="128520" cy="131400"/>
            <a:chOff x="8516520" y="1217520"/>
            <a:chExt cx="128520" cy="13140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3760" y="121752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520" y="1282680"/>
              <a:ext cx="1008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3760" y="128232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520" y="1370160"/>
            <a:ext cx="128520" cy="131400"/>
            <a:chOff x="8669520" y="1370160"/>
            <a:chExt cx="128520" cy="13140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6760" y="137016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520" y="1435320"/>
              <a:ext cx="10116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6760" y="143496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400" y="1473120"/>
            <a:ext cx="128520" cy="131400"/>
            <a:chOff x="8321400" y="1473120"/>
            <a:chExt cx="128520" cy="13140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78640" y="147312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400" y="1538280"/>
              <a:ext cx="1008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78640" y="153792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17CBB-4DFA-476E-BCC7-0D52933BAF53}" type="slidenum">
              <a:rPr b="0" lang="ru-RU" sz="1200" spc="-1" strike="noStrike">
                <a:solidFill>
                  <a:srgbClr val="d6ec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regnum.ru/showpicture/?id=909752&amp;pic=1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r>
              <a:rPr b="0" lang="ru-RU" sz="7200" spc="-1" strike="noStrike">
                <a:solidFill>
                  <a:srgbClr val="c1eeff"/>
                </a:solidFill>
                <a:latin typeface="Calibri"/>
              </a:rPr>
              <a:t>К 150-летию отмены крепостного права в России.</a:t>
            </a:r>
            <a:endParaRPr b="0" lang="en-US" sz="7200" spc="-1" strike="noStrike">
              <a:solidFill>
                <a:srgbClr val="c1ee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Содержимое 3" descr="кр.пр.-3 (2).bmp"/>
          <p:cNvPicPr/>
          <p:nvPr/>
        </p:nvPicPr>
        <p:blipFill>
          <a:blip r:embed="rId1"/>
          <a:stretch/>
        </p:blipFill>
        <p:spPr>
          <a:xfrm>
            <a:off x="1042920" y="1268280"/>
            <a:ext cx="3143160" cy="4537080"/>
          </a:xfrm>
          <a:prstGeom prst="rect">
            <a:avLst/>
          </a:prstGeom>
          <a:ln w="0">
            <a:noFill/>
          </a:ln>
        </p:spPr>
      </p:pic>
      <p:sp>
        <p:nvSpPr>
          <p:cNvPr id="395" name="Прямоугольник 4"/>
          <p:cNvSpPr/>
          <p:nvPr/>
        </p:nvSpPr>
        <p:spPr>
          <a:xfrm>
            <a:off x="4500720" y="1305000"/>
            <a:ext cx="39589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«Лучше отменить крепостное право </a:t>
            </a:r>
            <a:r>
              <a:rPr b="0" lang="ru-RU" sz="4000" spc="-1" strike="noStrike" u="sng">
                <a:solidFill>
                  <a:srgbClr val="ffffff"/>
                </a:solidFill>
                <a:uFillTx/>
                <a:latin typeface="Calibri"/>
              </a:rPr>
              <a:t>сверху,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нежеле его отменят </a:t>
            </a:r>
            <a:r>
              <a:rPr b="0" lang="ru-RU" sz="4000" spc="-1" strike="noStrike" u="sng">
                <a:solidFill>
                  <a:srgbClr val="ffffff"/>
                </a:solidFill>
                <a:uFillTx/>
                <a:latin typeface="Calibri"/>
              </a:rPr>
              <a:t>снизу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0" y="404280"/>
            <a:ext cx="4114800" cy="595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Calibri"/>
              </a:rPr>
              <a:t>           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Calibri"/>
              </a:rPr>
              <a:t>              </a:t>
            </a:r>
            <a:r>
              <a:rPr b="1" i="1" lang="ru-RU" sz="2600" spc="-1" strike="noStrike">
                <a:solidFill>
                  <a:srgbClr val="ffffff"/>
                </a:solidFill>
                <a:latin typeface="Calibri"/>
              </a:rPr>
              <a:t>« Имя Александра </a:t>
            </a:r>
            <a:r>
              <a:rPr b="1" i="1" lang="en-US" sz="2600" spc="-1" strike="noStrike">
                <a:solidFill>
                  <a:srgbClr val="ffffff"/>
                </a:solidFill>
                <a:latin typeface="Calibri"/>
              </a:rPr>
              <a:t>II</a:t>
            </a:r>
            <a:r>
              <a:rPr b="1" i="1" lang="ru-RU" sz="2600" spc="-1" strike="noStrike">
                <a:solidFill>
                  <a:srgbClr val="ffffff"/>
                </a:solidFill>
                <a:latin typeface="Calibri"/>
              </a:rPr>
              <a:t> отныне принадлежит истории; если бы его царствование завтра закончилось, если б пал под ударами каких-нибудь крамольных олигархов, бунтующих защитников барщины и розг – все равно. Начало освобождения крестьян сделано им, грядущие поколения этого не забудут!»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Calibri"/>
              </a:rPr>
              <a:t>                                        </a:t>
            </a: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Calibri"/>
              </a:rPr>
              <a:t>А.И.Герцен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97" name="Picture 2" descr="C:\Users\Евгений\Desktop\крепостное право\крепостное право.bmp"/>
          <p:cNvPicPr/>
          <p:nvPr/>
        </p:nvPicPr>
        <p:blipFill>
          <a:blip r:embed="rId1"/>
          <a:stretch/>
        </p:blipFill>
        <p:spPr>
          <a:xfrm>
            <a:off x="509760" y="404640"/>
            <a:ext cx="434952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bb9de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06560" y="692280"/>
            <a:ext cx="8137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Государственные деятели, разрабатывавшие проект отмены крепостного права.</a:t>
            </a:r>
            <a:endParaRPr b="0" lang="en-US" sz="2800" spc="-1" strike="noStrike">
              <a:solidFill>
                <a:srgbClr val="c1eeff"/>
              </a:solidFill>
              <a:latin typeface="Calibri"/>
            </a:endParaRPr>
          </a:p>
        </p:txBody>
      </p:sp>
      <p:pic>
        <p:nvPicPr>
          <p:cNvPr id="399" name="Содержимое 13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3889440" cy="5040360"/>
          </a:xfrm>
          <a:prstGeom prst="rect">
            <a:avLst/>
          </a:prstGeom>
          <a:ln w="0">
            <a:noFill/>
          </a:ln>
        </p:spPr>
      </p:pic>
      <p:sp>
        <p:nvSpPr>
          <p:cNvPr id="400" name="Прямоугольник 14"/>
          <p:cNvSpPr/>
          <p:nvPr/>
        </p:nvSpPr>
        <p:spPr>
          <a:xfrm>
            <a:off x="5292720" y="1700280"/>
            <a:ext cx="3311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ed46c"/>
                </a:solidFill>
                <a:latin typeface="Calibri"/>
              </a:rPr>
              <a:t>Ростовцев Яков Иванович (1803 – 1860)–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редседатель Редакционн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комиссии. Его программа отмены крепостного права легла в основу </a:t>
            </a:r>
            <a:r>
              <a:rPr b="1" i="1" lang="ru-RU" sz="2800" spc="-1" strike="noStrike">
                <a:solidFill>
                  <a:srgbClr val="fed46c"/>
                </a:solidFill>
                <a:latin typeface="Calibri"/>
              </a:rPr>
              <a:t>Положений 19 феврал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ed46c"/>
                </a:solidFill>
                <a:latin typeface="Calibri"/>
              </a:rPr>
              <a:t>Кавелин Константин Дмитриевич </a:t>
            </a: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pic>
        <p:nvPicPr>
          <p:cNvPr id="402" name="Содержимое 3" descr="Pk01001.bmp"/>
          <p:cNvPicPr/>
          <p:nvPr/>
        </p:nvPicPr>
        <p:blipFill>
          <a:blip r:embed="rId1"/>
          <a:stretch/>
        </p:blipFill>
        <p:spPr>
          <a:xfrm>
            <a:off x="1476360" y="1989000"/>
            <a:ext cx="3095640" cy="4104000"/>
          </a:xfrm>
          <a:prstGeom prst="rect">
            <a:avLst/>
          </a:prstGeom>
          <a:ln w="0">
            <a:noFill/>
          </a:ln>
        </p:spPr>
      </p:pic>
      <p:sp>
        <p:nvSpPr>
          <p:cNvPr id="403" name="Прямоугольник 5"/>
          <p:cNvSpPr/>
          <p:nvPr/>
        </p:nvSpPr>
        <p:spPr>
          <a:xfrm>
            <a:off x="4932360" y="1990800"/>
            <a:ext cx="36752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onsolas"/>
              </a:rPr>
              <a:t>(1818 – 1885) российский историк и публицист, автор одного из первых проектов отмены крепостного права. Сторонник умеренных рефор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ed46c"/>
                </a:solidFill>
                <a:latin typeface="Calibri"/>
              </a:rPr>
              <a:t>Милютин Николай Алексеевич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4643280" y="1784520"/>
            <a:ext cx="4043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     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 1859 - 1861 –  годах товарищ министра внутренних дел, фактически руководил работой по подготовке крестьянской реформы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06" name="Picture 3" descr="C:\Users\Евгений\Desktop\милютин.jpg"/>
          <p:cNvPicPr/>
          <p:nvPr/>
        </p:nvPicPr>
        <p:blipFill>
          <a:blip r:embed="rId1"/>
          <a:stretch/>
        </p:blipFill>
        <p:spPr>
          <a:xfrm>
            <a:off x="755640" y="1341360"/>
            <a:ext cx="381636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24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1eeff"/>
                </a:solidFill>
                <a:latin typeface="Calibri"/>
              </a:rPr>
              <a:t>3.Подготовка реформы.</a:t>
            </a:r>
            <a:endParaRPr b="0" lang="en-US" sz="2000" spc="-1" strike="noStrike">
              <a:solidFill>
                <a:srgbClr val="c1eeff"/>
              </a:solidFill>
              <a:latin typeface="Calibri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914400" y="981000"/>
          <a:ext cx="7772400" cy="7010640"/>
        </p:xfrm>
        <a:graphic>
          <a:graphicData uri="http://schemas.openxmlformats.org/drawingml/2006/table">
            <a:tbl>
              <a:tblPr/>
              <a:tblGrid>
                <a:gridCol w="2505240"/>
                <a:gridCol w="52671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января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5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b80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b4453"/>
                          </a:solidFill>
                          <a:latin typeface="Calibri"/>
                        </a:rPr>
                        <a:t>Создание Секретной комиссии по крестьянскому вопросу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b80a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 ноября 185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39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скрипт Назимову об учреждении губернских комитетов для подготовки проект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39d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декабр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5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0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скрипт губернатору Петербурга Игнатьеву об учреждении губернских комитетов для подготовки проект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0e4"/>
                    </a:solidFill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январ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5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f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образование Секретного комитета в Главный комитет. Обсуждение проблемы стало носить открытый гласный характе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f6d8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 февраля 185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e8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здание Редакционных комиссий во главе с Ростовцевы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e8f4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октября 186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спуск редакционных комиссий и передача проекта в Государственный совет для утверждения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9d9d9"/>
                </a:solidFill>
                <a:latin typeface="Calibri"/>
              </a:rPr>
              <a:t>Обсуждение проекта в Государственном совете</a:t>
            </a:r>
            <a:endParaRPr b="0" lang="en-US" sz="2800" spc="-1" strike="noStrike">
              <a:solidFill>
                <a:srgbClr val="c1eeff"/>
              </a:solidFill>
              <a:latin typeface="Calibri"/>
            </a:endParaRPr>
          </a:p>
        </p:txBody>
      </p:sp>
      <p:pic>
        <p:nvPicPr>
          <p:cNvPr id="410" name="Picture 2" descr="C:\Users\Евгений\Desktop\госсовет.jpg"/>
          <p:cNvPicPr/>
          <p:nvPr/>
        </p:nvPicPr>
        <p:blipFill>
          <a:blip r:embed="rId1"/>
          <a:stretch/>
        </p:blipFill>
        <p:spPr>
          <a:xfrm>
            <a:off x="1116000" y="1413000"/>
            <a:ext cx="7272360" cy="48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157a"/>
                </a:solidFill>
                <a:latin typeface="Calibri"/>
              </a:rPr>
              <a:t>Царь – «Освободитель»</a:t>
            </a: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pic>
        <p:nvPicPr>
          <p:cNvPr id="412" name="Picture 3" descr="C:\Users\Евгений\Desktop\крепостное право\крепостное право.bmp"/>
          <p:cNvPicPr/>
          <p:nvPr/>
        </p:nvPicPr>
        <p:blipFill>
          <a:blip r:embed="rId1"/>
          <a:stretch/>
        </p:blipFill>
        <p:spPr>
          <a:xfrm>
            <a:off x="2556000" y="1268280"/>
            <a:ext cx="44640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alibri"/>
              </a:rPr>
              <a:t>Ответы на проблему.</a:t>
            </a: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914400" y="1341360"/>
            <a:ext cx="77724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Решение Александра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I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о проведении реформ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ривлечение к разработке проекта либеральной бюрократии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Широкое обсуждение проекта среди помещиков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С 1858 года обсуждение проекта реформы велось на страницах периодической печати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alibri"/>
              </a:rPr>
              <a:t>Тема урока.</a:t>
            </a: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ctr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Calibri"/>
              </a:rPr>
              <a:t>Накануне отмены крепостного права.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Заголовок 1" descr=""/>
          <p:cNvPicPr/>
          <p:nvPr/>
        </p:nvPicPr>
        <p:blipFill>
          <a:blip r:embed="rId1"/>
          <a:stretch/>
        </p:blipFill>
        <p:spPr>
          <a:xfrm>
            <a:off x="676440" y="-49320"/>
            <a:ext cx="7785000" cy="79848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932000" y="764640"/>
            <a:ext cx="3344760" cy="504036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4 ноября 2007 года на набережной Тамбова открыт памятник Тамбовскому мужику. Трехметровая скульптура землепашца, попирающего плугом пулеметную ленту и политические лозунги, обращена лицом к Покровскому собору. По замыслу автора, скульптора Виктора Острикова, для аграрной Тамбовской области "мужик" - это, прежде всего, труженик, хранитель веры отцов и дедов, стоящий над идеологией и политикой. Он должен стать символом трудолюбия и терпения русского крестьянства, сыгравшего большую роль в истории не только Тамбовщины, но и всей страны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80" name="Рисунок 3" descr="Памятник мужику в Тамбове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00000" y="765000"/>
            <a:ext cx="374328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alibri"/>
              </a:rPr>
              <a:t>План урока.</a:t>
            </a: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1. Причины и повод Великой реформы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2. Александр 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I</a:t>
            </a: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 и его решение крестьянского вопроса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3. Подготовка реформы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alibri"/>
              </a:rPr>
              <a:t>Проблема урока.</a:t>
            </a: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ed46c"/>
                </a:solidFill>
                <a:latin typeface="Calibri"/>
              </a:rPr>
              <a:t>?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  <a:p>
            <a:pPr marL="411120" indent="-342720" algn="ctr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ed46c"/>
                </a:solidFill>
                <a:latin typeface="Calibri"/>
              </a:rPr>
              <a:t>Почему период 1856 – 1861 годов называют «российской оттепелью»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2" descr="C:\Users\Евгений\Desktop\крепостное право\причины.bmp"/>
          <p:cNvPicPr/>
          <p:nvPr/>
        </p:nvPicPr>
        <p:blipFill>
          <a:blip r:embed="rId1"/>
          <a:stretch/>
        </p:blipFill>
        <p:spPr>
          <a:xfrm>
            <a:off x="1403280" y="0"/>
            <a:ext cx="612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1eeff"/>
                </a:solidFill>
                <a:latin typeface="Calibri"/>
              </a:rPr>
              <a:t>Повод – </a:t>
            </a:r>
            <a:r>
              <a:rPr b="1" i="1" lang="ru-RU" sz="2400" spc="-1" strike="noStrike">
                <a:solidFill>
                  <a:srgbClr val="fed46c"/>
                </a:solidFill>
                <a:latin typeface="Calibri"/>
              </a:rPr>
              <a:t>поражение России в Крымской войне.</a:t>
            </a:r>
            <a:endParaRPr b="0" lang="en-US" sz="24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914400" y="1052280"/>
            <a:ext cx="7772400" cy="53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«Новый император не был ни либералом, ни сторонником коренных реформ. Более того, ему нравились порядки, установленные отцом.  Но все же, как военный человек, осознавший причины поражения России в Крымской войне, как государственный деятель, для которого престиж и величие державы были превыше всего, он встал на путь реформ.»                                                                            </a:t>
            </a: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Цитата учебника  стр.134                        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88" name="Picture 2" descr="C:\Users\Евгений\Desktop\кр война.bmp"/>
          <p:cNvPicPr/>
          <p:nvPr/>
        </p:nvPicPr>
        <p:blipFill>
          <a:blip r:embed="rId1"/>
          <a:stretch/>
        </p:blipFill>
        <p:spPr>
          <a:xfrm>
            <a:off x="2124000" y="3402000"/>
            <a:ext cx="4896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0000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1eeff"/>
                </a:solidFill>
                <a:latin typeface="Calibri"/>
              </a:rPr>
              <a:t>  </a:t>
            </a:r>
            <a:r>
              <a:rPr b="0" i="1" lang="ru-RU" sz="2400" spc="-1" strike="noStrike">
                <a:solidFill>
                  <a:srgbClr val="fed46c"/>
                </a:solidFill>
                <a:latin typeface="Calibri"/>
              </a:rPr>
              <a:t>Крепостное право было позором России, где людьми распоряжались и торговали как скотом…</a:t>
            </a:r>
            <a:br>
              <a:rPr sz="2400"/>
            </a:b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Картина крепостного художника Григория Сороки.</a:t>
            </a:r>
            <a:endParaRPr b="0" lang="en-US" sz="2400" spc="-1" strike="noStrike">
              <a:solidFill>
                <a:srgbClr val="c1eeff"/>
              </a:solidFill>
              <a:latin typeface="Calibri"/>
            </a:endParaRPr>
          </a:p>
        </p:txBody>
      </p:sp>
      <p:pic>
        <p:nvPicPr>
          <p:cNvPr id="390" name="Picture 2" descr="C:\Users\Евгений\Desktop\сорока.bmp"/>
          <p:cNvPicPr/>
          <p:nvPr/>
        </p:nvPicPr>
        <p:blipFill>
          <a:blip r:embed="rId1"/>
          <a:stretch/>
        </p:blipFill>
        <p:spPr>
          <a:xfrm>
            <a:off x="1547640" y="2421000"/>
            <a:ext cx="6624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1eeff"/>
                </a:solidFill>
                <a:latin typeface="Calibri"/>
              </a:rPr>
              <a:t>Статистика крестьянских волнений</a:t>
            </a:r>
            <a:endParaRPr b="0" lang="en-US" sz="2800" spc="-1" strike="noStrike">
              <a:solidFill>
                <a:srgbClr val="c1eeff"/>
              </a:solidFill>
              <a:latin typeface="Calibri"/>
            </a:endParaRPr>
          </a:p>
        </p:txBody>
      </p:sp>
      <p:pic>
        <p:nvPicPr>
          <p:cNvPr id="392" name="Picture 2" descr="C:\Users\Евгений\Desktop\rвосстание крестьян.jpg"/>
          <p:cNvPicPr/>
          <p:nvPr/>
        </p:nvPicPr>
        <p:blipFill>
          <a:blip r:embed="rId1"/>
          <a:stretch/>
        </p:blipFill>
        <p:spPr>
          <a:xfrm>
            <a:off x="755640" y="2852640"/>
            <a:ext cx="5400720" cy="3810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3" name=""/>
          <p:cNvGraphicFramePr/>
          <p:nvPr/>
        </p:nvGraphicFramePr>
        <p:xfrm>
          <a:off x="5724360" y="1397160"/>
          <a:ext cx="3095640" cy="3065400"/>
        </p:xfrm>
        <a:graphic>
          <a:graphicData uri="http://schemas.openxmlformats.org/drawingml/2006/table">
            <a:tbl>
              <a:tblPr/>
              <a:tblGrid>
                <a:gridCol w="1548000"/>
                <a:gridCol w="1547640"/>
              </a:tblGrid>
              <a:tr h="76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26 -182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30 - 183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76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35 - 18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41 - 18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07:23:47Z</dcterms:created>
  <dc:creator>Евгений</dc:creator>
  <dc:description/>
  <dc:language>en-US</dc:language>
  <cp:lastModifiedBy>Евгений</cp:lastModifiedBy>
  <dcterms:modified xsi:type="dcterms:W3CDTF">2011-02-28T14:35:45Z</dcterms:modified>
  <cp:revision>43</cp:revision>
  <dc:subject/>
  <dc:title>В Тамбове открыт памятник русскому мужику</dc:title>
</cp:coreProperties>
</file>