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6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13.jpeg" ContentType="image/jpeg"/>
  <Override PartName="/ppt/media/image5.png" ContentType="image/png"/>
  <Override PartName="/ppt/media/image3.gif" ContentType="image/gif"/>
  <Override PartName="/ppt/media/image11.wmf" ContentType="image/x-wmf"/>
  <Override PartName="/ppt/media/image1.jpeg" ContentType="image/jpeg"/>
  <Override PartName="/ppt/media/image7.png" ContentType="image/png"/>
  <Override PartName="/ppt/media/image4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B1A-24D9-4FCD-96FC-A0FAFD31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1CC-145D-4597-935C-B09C9F46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62D-DDA8-4701-9BAB-8AE5DEB1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F7F-BE60-45AD-B1BC-23A05056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EA3-9488-4650-92D6-4CF3ACC2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D4D-DB62-4943-8B29-389D29EE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392-C0A4-40F7-9EBD-364E401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C57-E47E-4B9C-8DEC-0D51DD34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64C-7BFE-4AF4-9083-8C671A4D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E3D-68EE-4B2F-A021-C80FB7A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AF9-23BC-4BC0-94E6-20D3599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B6B-7B74-4901-8B02-57C19143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ADD7-C697-43EF-970A-7DFD828246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500120" y="2286000"/>
            <a:ext cx="66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ое декабр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7429680" y="21420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4"/>
          <a:stretch/>
        </p:blipFill>
        <p:spPr>
          <a:xfrm>
            <a:off x="428760" y="492912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5"/>
          <a:stretch/>
        </p:blipFill>
        <p:spPr>
          <a:xfrm>
            <a:off x="7429680" y="5000760"/>
            <a:ext cx="1520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17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318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1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322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5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326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29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76" dur="5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2132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18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«Исключ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3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76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377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0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381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4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385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88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AutoShape 23"/>
          <p:cNvSpPr/>
          <p:nvPr/>
        </p:nvSpPr>
        <p:spPr>
          <a:xfrm>
            <a:off x="395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7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0" descr="Unbenannt-Scannen-01"/>
          <p:cNvPicPr/>
          <p:nvPr/>
        </p:nvPicPr>
        <p:blipFill>
          <a:blip r:embed="rId4"/>
          <a:stretch/>
        </p:blipFill>
        <p:spPr>
          <a:xfrm>
            <a:off x="642960" y="1500120"/>
            <a:ext cx="1984320" cy="2000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1" descr="Unbenannt-Scannen-02"/>
          <p:cNvPicPr/>
          <p:nvPr/>
        </p:nvPicPr>
        <p:blipFill>
          <a:blip r:embed="rId5"/>
          <a:stretch/>
        </p:blipFill>
        <p:spPr>
          <a:xfrm>
            <a:off x="2928960" y="1500120"/>
            <a:ext cx="1785960" cy="1803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2" descr="урок"/>
          <p:cNvPicPr/>
          <p:nvPr/>
        </p:nvPicPr>
        <p:blipFill>
          <a:blip r:embed="rId6"/>
          <a:stretch/>
        </p:blipFill>
        <p:spPr>
          <a:xfrm>
            <a:off x="5143680" y="1500120"/>
            <a:ext cx="1820520" cy="18576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1"/>
          <p:cNvSpPr/>
          <p:nvPr/>
        </p:nvSpPr>
        <p:spPr>
          <a:xfrm>
            <a:off x="4581720" y="3429000"/>
            <a:ext cx="386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ад, 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ёр, крыж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ни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, 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се, обж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, 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ни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апю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, ж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ей, чащ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х, ч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рный, трущ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85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132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132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32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132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8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99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00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3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04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7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408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11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28" dur="5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2132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456" name="Picture 4" descr="J0145223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5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458" name="Group 6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59" name="Oval 7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Oval 8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Rectangle 9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rinda"/>
                  </a:rPr>
                  <a:t>капюшон, шок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rinda"/>
                  </a:rPr>
                  <a:t>шомпол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2" name="Group 10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63" name="Oval 11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4" name="Oval 12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5" name="Rectangle 13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крыжовник,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орох,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ов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6" name="Group 14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467" name="Oval 15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6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9" name="Rectangle 17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жёлудь,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ёпот, шёлк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70" name="Picture 18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Picture 19" descr="AG00158_"/>
          <p:cNvPicPr/>
          <p:nvPr/>
        </p:nvPicPr>
        <p:blipFill>
          <a:blip r:embed="rId4"/>
          <a:stretch/>
        </p:blipFill>
        <p:spPr>
          <a:xfrm>
            <a:off x="2484360" y="2060640"/>
            <a:ext cx="1106640" cy="1800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1" descr="AG00158_"/>
          <p:cNvPicPr/>
          <p:nvPr/>
        </p:nvPicPr>
        <p:blipFill>
          <a:blip r:embed="rId5"/>
          <a:stretch/>
        </p:blipFill>
        <p:spPr>
          <a:xfrm>
            <a:off x="684360" y="404640"/>
            <a:ext cx="930240" cy="1513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2" descr="AG00158_"/>
          <p:cNvPicPr/>
          <p:nvPr/>
        </p:nvPicPr>
        <p:blipFill>
          <a:blip r:embed="rId6"/>
          <a:stretch/>
        </p:blipFill>
        <p:spPr>
          <a:xfrm>
            <a:off x="4788000" y="2565360"/>
            <a:ext cx="1195200" cy="1944720"/>
          </a:xfrm>
          <a:prstGeom prst="rect">
            <a:avLst/>
          </a:prstGeom>
          <a:ln w="0">
            <a:noFill/>
          </a:ln>
        </p:spPr>
      </p:pic>
      <p:sp>
        <p:nvSpPr>
          <p:cNvPr id="474" name="WordArt 27"/>
          <p:cNvSpPr txBox="1"/>
          <p:nvPr/>
        </p:nvSpPr>
        <p:spPr>
          <a:xfrm>
            <a:off x="1692360" y="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Отдыха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5" name="Picture 28" descr="AG00160_"/>
          <p:cNvPicPr/>
          <p:nvPr/>
        </p:nvPicPr>
        <p:blipFill>
          <a:blip r:embed="rId7"/>
          <a:stretch/>
        </p:blipFill>
        <p:spPr>
          <a:xfrm>
            <a:off x="1547640" y="981000"/>
            <a:ext cx="476280" cy="486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9" descr=""/>
          <p:cNvPicPr/>
          <p:nvPr/>
        </p:nvPicPr>
        <p:blipFill>
          <a:blip r:embed="rId8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37" dur="5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034E-006 C 0.00712 -0.00208 0.01407 -0.00463 0.02118 -0.00717 C 0.06893 -0.00555 0.06337 -0.00486 0.09462 -1.23034E-006 C 0.10313 0.003 0.11042 0.00856 0.11858 0.01249 C 0.12344 0.01873 0.13229 0.03376 0.13455 0.04255 C 0.1375 0.05411 0.13837 0.0666 0.14132 0.07817 C 0.14254 0.0895 0.14445 0.09713 0.14931 0.10661 C 0.15139 0.1154 0.15504 0.12488 0.1599 0.13136 C 0.16077 0.13483 0.16181 0.1383 0.16268 0.142 C 0.16302 0.14385 0.16337 0.14547 0.16389 0.14732 C 0.16476 0.15078 0.16667 0.15795 0.16667 0.15795 C 0.16702 0.16744 0.16684 0.17692 0.16788 0.1864 C 0.16841 0.19195 0.17118 0.19681 0.17188 0.20236 C 0.1724 0.20652 0.17188 0.21115 0.17327 0.21485 C 0.17466 0.21831 0.17882 0.21808 0.18125 0.22016 C 0.18941 0.21646 0.19427 0.21531 0.20122 0.20953 C 0.20886 0.20328 0.21111 0.19149 0.21997 0.1864 C 0.22622 0.18293 0.23334 0.18247 0.23993 0.18108 C 0.25139 0.17854 0.26337 0.17622 0.27466 0.17229 C 0.28143 0.16651 0.28941 0.16697 0.29723 0.16512 C 0.30434 0.16674 0.31129 0.16905 0.31858 0.17044 C 0.32327 0.17299 0.32622 0.17437 0.33056 0.17761 C 0.33195 0.17877 0.33334 0.17969 0.33455 0.18108 C 0.33559 0.18224 0.33611 0.18386 0.33733 0.18478 C 0.33941 0.1864 0.34184 0.18663 0.34393 0.18825 C 0.35782 0.19843 0.3467 0.19334 0.35591 0.19704 C 0.36111 0.20189 0.36823 0.20259 0.37327 0.20768 C 0.375 0.20953 0.37657 0.21207 0.37865 0.21323 C 0.38264 0.21554 0.39011 0.21693 0.39462 0.21855 C 0.39775 0.22687 0.39792 0.2308 0.40521 0.22733 C 0.41111 0.23103 0.41268 0.23589 0.41858 0.23982 C 0.42049 0.24907 0.42344 0.25786 0.42657 0.26642 C 0.42743 0.26526 0.43056 0.26295 0.42934 0.26295 C 0.42778 0.26295 0.42587 0.26434 0.42535 0.26642 C 0.42396 0.27174 0.42726 0.27428 0.42934 0.27706 C 0.43056 0.28561 0.42969 0.29001 0.43594 0.29301 C 0.43646 0.29718 0.43507 0.3025 0.43733 0.3055 C 0.43993 0.30897 0.44254 0.2951 0.44254 0.29486 C 0.44479 0.29533 0.44775 0.29417 0.44931 0.29648 C 0.45104 0.29926 0.45052 0.30365 0.45052 0.30735 C 0.45052 0.32863 0.45157 0.35014 0.44931 0.37118 C 0.44913 0.37234 0.44028 0.38737 0.43854 0.39084 C 0.43507 0.39801 0.43334 0.40749 0.42795 0.41212 C 0.42379 0.41559 0.42327 0.41559 0.41997 0.4209 C 0.41615 0.42692 0.41077 0.43732 0.40521 0.44056 C 0.40104 0.44288 0.39618 0.44195 0.39202 0.44403 C 0.38229 0.44889 0.37431 0.4512 0.36389 0.45282 C 0.33264 0.46392 0.35695 0.45606 0.27726 0.45282 C 0.26632 0.45236 0.25955 0.44126 0.25052 0.43524 C 0.2467 0.4327 0.24254 0.43154 0.23854 0.42969 C 0.22413 0.42299 0.21372 0.40795 0.19861 0.4031 C 0.16875 0.39338 0.10851 0.39824 0.09202 0.39778 C 0.08577 0.39639 0.08073 0.39338 0.07466 0.39084 C 0.06354 0.38043 0.0507 0.36794 0.04254 0.35337 C 0.03663 0.34274 0.03299 0.32863 0.02934 0.31614 C 0.03038 0.27544 0.02205 0.22387 0.05868 0.21138 C 0.06389 0.20652 0.06615 0.19935 0.07066 0.19357 C 0.07084 0.19311 0.07483 0.18293 0.07466 0.18108 C 0.07396 0.16975 0.06875 0.15217 0.06129 0.1457 C 0.05486 0.13251 0.04688 0.13182 0.03594 0.12789 C 0.02657 0.12442 0.01667 0.11401 0.0066 0.11355 C -0.0276 0.1117 -0.0618 0.11008 -0.096 0.10823 C -0.11527 0.10245 -0.11562 0.09135 -0.13073 0.07817 C -0.13333 0.07077 -0.13646 0.06683 -0.1401 0.06036 C -0.14097 0.05666 -0.14323 0.05342 -0.14409 0.04972 C -0.14548 0.04325 -0.14566 0.03654 -0.1467 0.03006 C -0.14774 0.02428 -0.14948 0.01249 -0.14948 0.01249 C -0.14861 -0.0081 -0.15104 -0.01758 -0.14271 -0.03192 C -0.13941 -0.0444 -0.13021 -0.04672 -0.12274 -0.05319 C -0.11927 -0.06082 -0.1158 -0.06453 -0.10937 -0.06753 C -0.10625 -0.07054 -0.10277 -0.07262 -0.1 -0.07632 C -0.09791 -0.0791 -0.0967 -0.08256 -0.09479 -0.08534 C -0.09288 -0.09274 -0.08958 -0.09528 -0.08402 -0.0976 C -0.08003 -0.10315 -0.07604 -0.10477 -0.07066 -0.10662 C -0.02916 -0.14894 -0.06632 -0.11332 0.07188 -0.11008 C 0.08802 -0.10962 0.11997 -0.10315 0.11997 -0.10315 C 0.12848 -0.09852 0.13698 -0.09598 0.14532 -0.09066 C 0.14948 -0.08511 0.15295 -0.08071 0.15868 -0.07817 C 0.16094 -0.06869 0.15886 -0.07447 0.16667 -0.06406 C 0.17292 -0.05574 0.17761 -0.04579 0.18386 -0.03724 C 0.18698 -0.03284 0.19271 -0.03469 0.19723 -0.03377 C 0.20469 -0.03238 0.21129 -0.03099 0.21858 -0.02845 C 0.24827 -0.03307 0.23473 -0.02798 0.24931 -0.04255 C 0.25313 -0.05296 0.25573 -0.0636 0.25868 -0.0747 C 0.25973 -0.08742 0.26146 -0.09922 0.26268 -0.11194 C 0.26198 -0.05851 0.26754 -0.000230000000000001 0.24931 0.04972 C 0.24792 0.06221 0.24584 0.07979 0.23854 0.08881 C 0.23542 0.09921 0.23143 0.10453 0.22657 0.11355 C 0.22379 0.11887 0.2224 0.12696 0.21997 0.13136 C 0.21806 0.13483 0.21545 0.13737 0.2132 0.14038 C 0.21007 0.14454 0.20782 0.14986 0.20521 0.15448 C 0.2033 0.15795 0.20174 0.16165 0.2 0.16512 C 0.19913 0.16697 0.19723 0.17044 0.19723 0.17044 C 0.19601 0.17576 0.19323 0.1864 0.19323 0.1864 C 0.19375 0.19357 0.1915 0.20189 0.19462 0.20768 C 0.19636 0.21068 0.19792 0.20143 0.2 0.19889 C 0.20122 0.1975 0.20278 0.19681 0.204 0.19542 C 0.20643 0.19264 0.20834 0.18941 0.21059 0.1864 C 0.21684 0.17807 0.22292 0.16975 0.22934 0.16165 C 0.23264 0.15772 0.23646 0.15448 0.23993 0.15102 C 0.24132 0.14963 0.24393 0.14732 0.24393 0.14732 C 0.24705 0.13529 0.26354 0.12812 0.27188 0.12442 C 0.27726 0.11725 0.27153 0.12373 0.27986 0.11887 C 0.28716 0.11471 0.29358 0.10754 0.30122 0.10476 C 0.31146 0.09574 0.32257 0.10014 0.33455 0.10129 C 0.33768 0.10245 0.34098 0.10314 0.34393 0.10476 C 0.3467 0.10615 0.34913 0.10869 0.35191 0.11008 C 0.36042 0.11424 0.36997 0.11448 0.37865 0.11887 C 0.38716 0.12303 0.38351 0.12118 0.39063 0.12789 C 0.39323 0.13043 0.39861 0.13506 0.39861 0.13506 C 0.40261 0.14315 0.40504 0.1457 0.41198 0.14917 C 0.41598 0.15726 0.42101 0.16443 0.42535 0.17229 C 0.42674 0.17461 0.42934 0.17946 0.42934 0.17946 C 0.43108 0.18709 0.43403 0.19288 0.43594 0.20074 C 0.43646 0.21485 0.43733 0.22918 0.43733 0.24329 C 0.43733 0.25578 0.43403 0.26827 0.43594 0.28053 C 0.43663 0.28469 0.43889 0.27266 0.44132 0.26989 C 0.44584 0.26503 0.45591 0.26017 0.46129 0.25578 C 0.46632 0.25162 0.46788 0.24722 0.47327 0.24514 C 0.47952 0.23843 0.48507 0.23543 0.49202 0.2308 C 0.49775 0.22687 0.50174 0.22109 0.50799 0.21855 C 0.51216 0.21253 0.51667 0.20837 0.52257 0.20606 C 0.52657 0.20074 0.53299 0.19773 0.53854 0.19542 C 0.54254 0.19172 0.54601 0.19033 0.55052 0.18825 C 0.58663 0.18894 0.62275 0.18732 0.65868 0.1901 C 0.66181 0.19033 0.66372 0.19565 0.66667 0.19704 C 0.67882 0.20259 0.68108 0.21161 0.69462 0.21485 C 0.69948 0.21878 0.70365 0.22317 0.7092 0.22548 C 0.71493 0.22502 0.72084 0.22525 0.72657 0.22387 C 0.73056 0.22294 0.73334 0.213 0.73594 0.20953 C 0.73768 0.20282 0.74098 0.19773 0.74393 0.19172 C 0.74809 0.1709 0.74219 0.19727 0.74792 0.17946 C 0.75174 0.16744 0.75348 0.1531 0.75591 0.14038 C 0.75538 0.12373 0.75573 0.10708 0.75452 0.09066 C 0.75417 0.08487 0.75087 0.08002 0.74931 0.07447 C 0.7474 0.0673 0.74549 0.05828 0.74254 0.05157 C 0.73559 0.03608 0.71962 0.02382 0.7066 0.01942 C 0.69827 0.01226 0.68837 0.00879 0.67865 0.00717 C 0.66788 -0.00023 0.64896 -0.00162 0.63733 -0.00185 C 0.58837 -0.00278 0.53959 -0.00301 0.49063 -0.00347 C 0.48264 -0.01411 0.49462 0.00046 0.48264 -0.00879 C 0.46962 -0.01897 0.48629 -0.01133 0.47466 -0.01596 C 0.46979 -0.02243 0.46511 -0.02798 0.46129 -0.03562 C 0.46354 -0.04695 0.47848 -0.06013 0.48785 -0.06036 C 0.55104 -0.06152 0.61407 -0.06152 0.67726 -0.06221 C 0.68386 -0.06638 0.68577 -0.06776 0.69063 -0.0747 C 0.69358 -0.0791 0.7 -0.08696 0.7 -0.08696 C 0.70452 -0.11355 0.69861 -0.12512 0.68125 -0.13321 C 0.66476 -0.13252 0.64844 -0.13252 0.63195 -0.13136 C 0.61563 -0.13044 0.59167 -0.11725 0.57466 -0.11194 C 0.55729 -0.10662 0.54236 -0.10592 0.52396 -0.10477 C 0.51476 -0.10245 0.50643 -0.09783 0.49723 -0.09598 C 0.4875 -0.09158 0.49202 -0.0932 0.48386 -0.09066 C 0.44306 -0.09135 0.4099 -0.06823 0.38525 -0.10315 C 0.3816 -0.11702 0.37136 -0.11332 0.36268 -0.11194 C 0.35834 -0.10638 0.35764 -0.09829 0.3533 -0.09228 C 0.35104 -0.06638 0.34584 -0.03307 0.36129 -0.01249 C 0.3665 0.00162 0.37344 0.01202 0.38525 0.01596 C 0.39375 0.02359 0.40122 0.03029 0.41059 0.03561 C 0.41563 0.04232 0.42136 0.04856 0.42795 0.05157 C 0.43386 0.05943 0.44045 0.0636 0.44532 0.07285 C 0.44809 0.09667 0.45122 0.11794 0.46129 0.13853 C 0.46493 0.16212 0.45938 0.13483 0.46667 0.15263 C 0.46841 0.15703 0.46875 0.16258 0.47066 0.16697 C 0.47865 0.18594 0.49011 0.20189 0.49861 0.22016 C 0.51129 0.24769 0.52379 0.27659 0.53854 0.30203 C 0.54184 0.30758 0.54983 0.33372 0.55191 0.33557 C 0.5599 0.34227 0.57813 0.3432 0.58525 0.34459 C 0.63698 0.35476 0.68924 0.3543 0.74132 0.35522 C 0.74653 0.35985 0.74775 0.36101 0.74931 0.36933 C 0.75157 0.40217 0.76858 0.48774 0.72934 0.48843 C 0.62223 0.49029 0.51511 0.49075 0.40799 0.4919 C 0.39809 0.49352 0.38837 0.49468 0.37865 0.49722 C 0.37327 0.49861 0.36268 0.50092 0.36268 0.50092 C 0.30591 0.49907 0.27205 0.50509 0.22535 0.48843 C 0.21563 0.48034 0.22778 0.48959 0.21459 0.48312 C 0.20348 0.4778 0.19254 0.46924 0.18125 0.46531 C 0.17292 0.45791 0.16163 0.45421 0.15191 0.45282 C 0.13629 0.43732 0.10868 0.44218 0.08924 0.43871 C 0.07934 0.43501 0.07014 0.43316 0.0599 0.43154 C 0.05295 0.42831 0.04827 0.42553 0.04132 0.4209 C 0.03733 0.41813 0.03247 0.41975 0.02795 0.41905 C 0.01268 0.40564 -0.00521 0.40379 -0.02274 0.39778 C -0.03333 0.38853 -0.04566 0.38691 -0.05746 0.38182 C -0.06198 0.37581 -0.06389 0.37234 -0.06545 0.36401 C -0.06632 0.26942 -0.0533 0.26341 -0.07343 0.21323 C -0.07448 0.20698 -0.07517 0.20028 -0.07882 0.19542 C -0.08316 0.18964 -0.08281 0.19357 -0.08802 0.18825 C -0.09791 0.17831 -0.08906 0.18293 -0.09739 0.17946 C -0.10902 0.16859 -0.10937 0.16512 -0.12413 0.16165 C -0.12951 0.15795 -0.13333 0.15287 -0.13871 0.14917 C -0.14514 0.14477 -0.15173 0.14177 -0.15868 0.13853 C -0.16284 0.13043 -0.1717 0.12442 -0.17743 0.11725 C -0.17916 0.10869 -0.18212 0.10083 -0.18402 0.09227 C -0.18368 0.05967 -0.18368 0.02729 -0.18281 -0.00532 C -0.18246 -0.02035 -0.1743 -0.04186 -0.17066 -0.05689 C -0.16788 -0.06823 -0.16632 -0.08187 -0.16007 -0.09066 C -0.15712 -0.10477 -0.15989 -0.10014 -0.15468 -0.10662 C -0.15173 -0.12442 -0.1559 -0.10592 -0.15069 -0.11725 C -0.14843 -0.12234 -0.14948 -0.13021 -0.1467 -0.13506 C -0.14097 -0.14478 -0.13402 -0.15102 -0.12534 -0.15449 C -0.11771 -0.15379 -0.10937 -0.15611 -0.10277 -0.15102 C -0.09218 -0.14269 -0.09114 -0.13899 -0.07882 -0.13506 C -0.06493 -0.1228 -0.04392 -0.12442 -0.02812 -0.12442 E">
                                      <p:cBhvr>
                                        <p:cTn id="244" dur="5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132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0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481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82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3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5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86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9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490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9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57" dur="5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132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18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«РАЗЛИЧ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500040" y="1499760"/>
            <a:ext cx="80438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лово с корнем ЖЁГ – ЖОГ является существительным – пишем 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лаголом – пишем Ё .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540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541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2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3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Жёлудь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чёрт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щёлка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4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545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7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Дешёвый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чёрный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8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549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0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1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Пчёлка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щёчка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52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AutoShape 23"/>
          <p:cNvSpPr/>
          <p:nvPr/>
        </p:nvSpPr>
        <p:spPr>
          <a:xfrm>
            <a:off x="395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Picture 37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1"/>
          <p:cNvSpPr/>
          <p:nvPr/>
        </p:nvSpPr>
        <p:spPr>
          <a:xfrm>
            <a:off x="4518360" y="3071880"/>
            <a:ext cx="407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ступник ночью дом подж…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, совершив такой подж…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и лицо себе обж…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ак, получив большой ож…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был наказан за подж…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66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132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9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560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4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565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8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569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72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79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132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071360" y="3785760"/>
            <a:ext cx="749916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WordArt 4"/>
          <p:cNvSpPr txBox="1"/>
          <p:nvPr/>
        </p:nvSpPr>
        <p:spPr>
          <a:xfrm>
            <a:off x="1835280" y="333360"/>
            <a:ext cx="56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Закрепля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179280" y="13597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61128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3492360" y="595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10"/>
          <p:cNvSpPr/>
          <p:nvPr/>
        </p:nvSpPr>
        <p:spPr>
          <a:xfrm>
            <a:off x="349236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1"/>
          <p:cNvSpPr/>
          <p:nvPr/>
        </p:nvSpPr>
        <p:spPr>
          <a:xfrm>
            <a:off x="205092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2"/>
          <p:cNvSpPr/>
          <p:nvPr/>
        </p:nvSpPr>
        <p:spPr>
          <a:xfrm>
            <a:off x="2411280" y="5950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2771640" y="5950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>
            <a:off x="305928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>
            <a:off x="5508720" y="59500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>
            <a:off x="5508720" y="6021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>
            <a:off x="442764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478800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>
            <a:off x="507672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928800" y="1571760"/>
          <a:ext cx="7500960" cy="471492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  <a:gridCol w="833400"/>
                <a:gridCol w="833400"/>
                <a:gridCol w="833400"/>
                <a:gridCol w="833400"/>
                <a:gridCol w="833760"/>
                <a:gridCol w="833400"/>
              </a:tblGrid>
              <a:tr h="94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94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94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19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Домашнее задание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3" name="Group 5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634" name="Group 6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635" name="Oval 7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Oval 8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Rectangle 9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38" name="Group 10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639" name="Oval 11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Oval 12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Rectangle 13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2" name="Group 14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643" name="Oval 15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Oval 16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Rectangle 17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                                       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Большое вам спасибо за уро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!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         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46" name="Picture 18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Picture 20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8" name="TextBox 18"/>
          <p:cNvSpPr/>
          <p:nvPr/>
        </p:nvSpPr>
        <p:spPr>
          <a:xfrm>
            <a:off x="428760" y="1857240"/>
            <a:ext cx="700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раграф 32 (правил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Придумать сказку о словах иностранцах и проиллюстри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оими рисунк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Составить словарный диктан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изученную орфограмму (20 сл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09 0.00254 L 0.96649 -0.00787 E">
                                      <p:cBhvr>
                                        <p:cTn id="288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132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357120" y="526248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4"/>
          <a:stretch/>
        </p:blipFill>
        <p:spPr>
          <a:xfrm>
            <a:off x="7429680" y="21420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5"/>
          <a:stretch/>
        </p:blipFill>
        <p:spPr>
          <a:xfrm>
            <a:off x="7286760" y="4929120"/>
            <a:ext cx="1520640" cy="1595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251000" y="2286000"/>
            <a:ext cx="68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Ж, Ш, Ч, Щ – шипящие соглас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928800" y="307188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Ж, Ш – всегда твёрд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289880" y="3929040"/>
            <a:ext cx="43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Ч, Щ – всегда мяг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2214720"/>
            <a:ext cx="8429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Буквы о - ё после шипящих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       в корнях слов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3"/>
          <a:stretch/>
        </p:blipFill>
        <p:spPr>
          <a:xfrm>
            <a:off x="7429680" y="28584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4"/>
          <a:stretch/>
        </p:blipFill>
        <p:spPr>
          <a:xfrm>
            <a:off x="428760" y="492912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5"/>
          <a:stretch/>
        </p:blipFill>
        <p:spPr>
          <a:xfrm>
            <a:off x="7429680" y="5000760"/>
            <a:ext cx="1520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666699"/>
                </a:solidFill>
                <a:latin typeface="Arial Black"/>
              </a:rPr>
              <a:t>Буквы о - ё после шипящих</a:t>
            </a:r>
            <a:br>
              <a:rPr sz="3600"/>
            </a:br>
            <a:r>
              <a:rPr b="1" lang="en-US" sz="3600" spc="-1" strike="noStrike">
                <a:solidFill>
                  <a:srgbClr val="666699"/>
                </a:solidFill>
                <a:latin typeface="Arial Black"/>
              </a:rPr>
              <a:t> в корнях слов.</a:t>
            </a:r>
            <a:r>
              <a:rPr b="0" lang="en-US" sz="3600" spc="-1" strike="noStrike">
                <a:solidFill>
                  <a:srgbClr val="666699"/>
                </a:solidFill>
                <a:latin typeface="Arial Black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107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108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112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116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ёрстка, 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ёпот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19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8" descr="AG00162_"/>
          <p:cNvPicPr/>
          <p:nvPr/>
        </p:nvPicPr>
        <p:blipFill>
          <a:blip r:embed="rId3"/>
          <a:stretch/>
        </p:blipFill>
        <p:spPr>
          <a:xfrm>
            <a:off x="7934400" y="0"/>
            <a:ext cx="1209600" cy="124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AG00001_"/>
          <p:cNvPicPr/>
          <p:nvPr/>
        </p:nvPicPr>
        <p:blipFill>
          <a:blip r:embed="rId5"/>
          <a:stretch/>
        </p:blipFill>
        <p:spPr>
          <a:xfrm>
            <a:off x="1332000" y="55897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AG00001_"/>
          <p:cNvPicPr/>
          <p:nvPr/>
        </p:nvPicPr>
        <p:blipFill>
          <a:blip r:embed="rId6"/>
          <a:stretch/>
        </p:blipFill>
        <p:spPr>
          <a:xfrm>
            <a:off x="0" y="57913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AG00001_"/>
          <p:cNvPicPr/>
          <p:nvPr/>
        </p:nvPicPr>
        <p:blipFill>
          <a:blip r:embed="rId7"/>
          <a:stretch/>
        </p:blipFill>
        <p:spPr>
          <a:xfrm>
            <a:off x="2556000" y="57913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AG00001_"/>
          <p:cNvPicPr/>
          <p:nvPr/>
        </p:nvPicPr>
        <p:blipFill>
          <a:blip r:embed="rId8"/>
          <a:stretch/>
        </p:blipFill>
        <p:spPr>
          <a:xfrm>
            <a:off x="179280" y="393372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3" descr=""/>
          <p:cNvPicPr/>
          <p:nvPr/>
        </p:nvPicPr>
        <p:blipFill>
          <a:blip r:embed="rId9"/>
          <a:stretch/>
        </p:blipFill>
        <p:spPr>
          <a:xfrm>
            <a:off x="7358040" y="5000760"/>
            <a:ext cx="152100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6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357120" y="33577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Кукушка кукушонку купила капюшон...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8" descr="дом_2"/>
          <p:cNvPicPr/>
          <p:nvPr/>
        </p:nvPicPr>
        <p:blipFill>
          <a:blip r:embed="rId2"/>
          <a:stretch/>
        </p:blipFill>
        <p:spPr>
          <a:xfrm>
            <a:off x="285840" y="88920"/>
            <a:ext cx="88581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«Кукушка кукушонку купила капюшон...»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133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134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7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138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1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142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45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1"/>
          <p:cNvSpPr/>
          <p:nvPr/>
        </p:nvSpPr>
        <p:spPr>
          <a:xfrm>
            <a:off x="2286000" y="324576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«Кукушка кукушонку купила капюшон...»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5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 L 0.61406 0 E">
                                      <p:cBhvr>
                                        <p:cTn id="5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35816 0.5 E">
                                      <p:cBhvr>
                                        <p:cTn id="5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13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4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24000" y="2421000"/>
            <a:ext cx="2160360" cy="302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79280" y="1773360"/>
            <a:ext cx="1871640" cy="13683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55640" y="3789360"/>
            <a:ext cx="503280" cy="1440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826920" y="436572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9"/>
          <p:cNvSpPr/>
          <p:nvPr/>
        </p:nvSpPr>
        <p:spPr>
          <a:xfrm rot="19986000">
            <a:off x="1850760" y="3497400"/>
            <a:ext cx="698400" cy="771480"/>
          </a:xfrm>
          <a:prstGeom prst="parallelogram">
            <a:avLst>
              <a:gd name="adj" fmla="val 586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12400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11"/>
          <p:cNvSpPr/>
          <p:nvPr/>
        </p:nvSpPr>
        <p:spPr>
          <a:xfrm flipV="1">
            <a:off x="1403280" y="3141360"/>
            <a:ext cx="36734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12"/>
          <p:cNvSpPr/>
          <p:nvPr/>
        </p:nvSpPr>
        <p:spPr>
          <a:xfrm flipH="1">
            <a:off x="2627280" y="3141720"/>
            <a:ext cx="24494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1835280" y="638172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2340000" y="595008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700360" y="5516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3059280" y="52293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349236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19"/>
          <p:cNvSpPr/>
          <p:nvPr/>
        </p:nvSpPr>
        <p:spPr>
          <a:xfrm>
            <a:off x="370836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20"/>
          <p:cNvSpPr/>
          <p:nvPr/>
        </p:nvSpPr>
        <p:spPr>
          <a:xfrm>
            <a:off x="3708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3851280" y="4365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140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428472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4356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6"/>
          <p:cNvSpPr/>
          <p:nvPr/>
        </p:nvSpPr>
        <p:spPr>
          <a:xfrm>
            <a:off x="4427640" y="378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450072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457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4643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30"/>
          <p:cNvSpPr/>
          <p:nvPr/>
        </p:nvSpPr>
        <p:spPr>
          <a:xfrm flipV="1">
            <a:off x="1258920" y="3212640"/>
            <a:ext cx="3744720" cy="364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31"/>
          <p:cNvSpPr/>
          <p:nvPr/>
        </p:nvSpPr>
        <p:spPr>
          <a:xfrm flipH="1">
            <a:off x="2771280" y="3141720"/>
            <a:ext cx="230508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2700360" y="342900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33"/>
          <p:cNvSpPr/>
          <p:nvPr/>
        </p:nvSpPr>
        <p:spPr>
          <a:xfrm>
            <a:off x="0" y="0"/>
            <a:ext cx="1257480" cy="1257480"/>
          </a:xfrm>
          <a:custGeom>
            <a:avLst/>
            <a:gdLst>
              <a:gd name="textAreaLeft" fmla="*/ 426600 w 1257480"/>
              <a:gd name="textAreaRight" fmla="*/ 830880 w 1257480"/>
              <a:gd name="textAreaTop" fmla="*/ 426600 h 1257480"/>
              <a:gd name="textAreaBottom" fmla="*/ 83088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2484360" y="1500120"/>
            <a:ext cx="665964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чёлка, шёлковый, шорты, щёчка, шоу, анчоус, Чёлка, шёпот, шорох, крыжовник, жокей, бечёв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3000240" y="2571840"/>
            <a:ext cx="5572440" cy="2676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Шоу – представл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Анчоус – мелкая морская рыб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Жокей – наезд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ечёвка – тонкая верёв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ечева – прочная, толстая верёвка, кан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ечевая тяга (в старину) – передвижение судна бечевой, которую тянули по берегу люди или лошад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6"/>
          <p:cNvSpPr/>
          <p:nvPr/>
        </p:nvSpPr>
        <p:spPr>
          <a:xfrm>
            <a:off x="2714760" y="5572080"/>
            <a:ext cx="612144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омпол – стержень для чистки и смазки канала ствола в ручном огнестрельном оруж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WordArt 37"/>
          <p:cNvSpPr txBox="1"/>
          <p:nvPr/>
        </p:nvSpPr>
        <p:spPr>
          <a:xfrm>
            <a:off x="2195640" y="260280"/>
            <a:ext cx="51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ОБЪЯСНЯ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9" descr="J0076204"/>
          <p:cNvPicPr/>
          <p:nvPr/>
        </p:nvPicPr>
        <p:blipFill>
          <a:blip r:embed="rId2"/>
          <a:stretch/>
        </p:blipFill>
        <p:spPr>
          <a:xfrm>
            <a:off x="7334280" y="260280"/>
            <a:ext cx="1809720" cy="1095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2" descr="AG00041_"/>
          <p:cNvPicPr/>
          <p:nvPr/>
        </p:nvPicPr>
        <p:blipFill>
          <a:blip r:embed="rId3"/>
          <a:stretch/>
        </p:blipFill>
        <p:spPr>
          <a:xfrm>
            <a:off x="324000" y="4292640"/>
            <a:ext cx="34272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230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231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235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8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239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2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92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132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18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«ПОЧИТ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3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р. 287, стр. 9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289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290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Жёлудь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чёрт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щёлка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294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Дешёвый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чёрный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7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298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Пчёлка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щёчка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01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Picture 19" descr="AG00428_"/>
          <p:cNvPicPr/>
          <p:nvPr/>
        </p:nvPicPr>
        <p:blipFill>
          <a:blip r:embed="rId3"/>
          <a:stretch/>
        </p:blipFill>
        <p:spPr>
          <a:xfrm>
            <a:off x="571680" y="1428840"/>
            <a:ext cx="2571480" cy="2044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1"/>
          <p:cNvSpPr/>
          <p:nvPr/>
        </p:nvSpPr>
        <p:spPr>
          <a:xfrm>
            <a:off x="2700360" y="400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684360" y="39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3"/>
          <p:cNvSpPr/>
          <p:nvPr/>
        </p:nvSpPr>
        <p:spPr>
          <a:xfrm>
            <a:off x="395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3635280" y="5300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5"/>
          <p:cNvSpPr/>
          <p:nvPr/>
        </p:nvSpPr>
        <p:spPr>
          <a:xfrm>
            <a:off x="4859280" y="21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766764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27"/>
          <p:cNvSpPr/>
          <p:nvPr/>
        </p:nvSpPr>
        <p:spPr>
          <a:xfrm>
            <a:off x="4140360" y="378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8"/>
          <p:cNvSpPr/>
          <p:nvPr/>
        </p:nvSpPr>
        <p:spPr>
          <a:xfrm>
            <a:off x="6516720" y="407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36" descr="SO01380_"/>
          <p:cNvPicPr/>
          <p:nvPr/>
        </p:nvPicPr>
        <p:blipFill>
          <a:blip r:embed="rId4"/>
          <a:stretch/>
        </p:blipFill>
        <p:spPr>
          <a:xfrm>
            <a:off x="7122960" y="2276640"/>
            <a:ext cx="2197080" cy="271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7" descr=""/>
          <p:cNvPicPr/>
          <p:nvPr/>
        </p:nvPicPr>
        <p:blipFill>
          <a:blip r:embed="rId5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01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132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7:32Z</dcterms:created>
  <dc:creator>Алексей</dc:creator>
  <dc:description/>
  <dc:language>en-US</dc:language>
  <cp:lastModifiedBy>Лариса А. Адоевская</cp:lastModifiedBy>
  <dcterms:modified xsi:type="dcterms:W3CDTF">2009-12-08T18:43:06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