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420E56-421D-4A20-B4AA-E07EEEACA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7ED7E-66CD-4D99-B28A-B4F1DCFB9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8E3E6E-91B1-4109-B367-16AD02882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B967A2-D8B4-411B-AC42-87174FB6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2BBB4D-89FA-4657-BE00-57C41D04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B9D95A-DFB3-4476-9CA2-7D4F669B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B2BAF1-57A2-4C7B-AE90-DE027918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9BBC1C-B9A5-44D3-9A8A-4353F2BC6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507E6E-5E08-4E05-92B5-7141D3191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197EB3-E74B-416E-A5BE-340EDE024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E9C2D9-9578-4381-994E-65C6542CE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A596FD-DC17-4F79-A62E-44E2844BA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B82A72-5E44-411E-A1CF-C5FE5D881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47DE65-5B7E-4F84-8BD0-B197DFCDB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CC80BC-E32B-4E38-993E-B16FFAA27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5A0393-2C2F-4C5E-8B83-A2F9C17E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E31500-540D-4DD2-8C8A-C795713A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3B26E6-1520-4AD0-81D5-25E59309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C6B9BE-8A92-4A5D-9BFA-15FDCFED4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E4339C-FA15-42A8-9B09-5FB0075D6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6B8197-93A0-4041-9C29-83532446B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4C1DC3-0D94-4B6C-A948-7BB30EA2E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F3C428-098E-4B4E-B75B-5F6B268D0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9DD00B-C16F-4C5A-8B52-1E73A6920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A2B21E-1EBA-40A7-A980-01216EFD1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3A3093-A765-4D60-937D-C14232D73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B02A38-1DA8-4F29-8B22-A719AE482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399BB3-4D16-4F39-9C6A-FF80DB66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D055D1-E6F1-461E-8D31-179F1FFF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CE8318-41AB-464F-86A9-4573B0E4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A853-5143-412B-ABCF-DFCFC27B1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234910-B3D7-47E9-BE33-6FED3E554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0E167E-751A-4468-A145-C593A7EC4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680B26-4E6B-4932-818C-7116ECFF1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E90F52-E071-4442-8B09-0B3255922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998800-FBA6-4036-816B-C8FB3FA4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7175BC-36A0-4FB4-92CE-4BA05485C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101AE4-700B-4AC4-96AB-CF951E78B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28B385-2D17-4B29-BD9C-7D01B2029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1E1AB8-6273-4609-9404-456C1A9B1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3E01E8-DA4C-44A0-9B64-B126DEFB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BEA9-0552-409D-A0BC-1B91B0346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DDA412-FB10-48F8-A4B6-2A800E80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3AF93F-55F6-4756-8C97-B9539071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995155-B6A4-4394-9B6F-CE52B89BA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EC14D0-CA3F-4FB4-912B-C23FA3DCF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D46A4F-14FF-42B4-88E7-BF0142BE1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537F-6262-4FDC-BCC4-5D3B050C5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ECDF-AF83-4EF6-9DE8-B0C46A322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A7AE-B7B8-47C5-BE8F-6E8B53B9B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F316-3D72-470A-8B33-9FE3585A6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ED88-B98D-48A3-A9CF-32B731D6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1447-5E10-42B3-A378-FB924C59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12C9-FD89-4E47-ABB3-0508A47F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E1D8-10DD-4018-B067-0CACC94B2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BBC3-19B8-418C-866D-BE5ADBA7B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9129-D2D1-4761-AEC2-24EEA1F67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F5D92-DBE0-4E95-BE7E-E949EF189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31E4A-2348-42BE-B998-38025508E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E6E05-F4EA-4F4D-BEE2-82F5BAC37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2100E-70FE-458E-ADC3-16061D31C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3F61C-D788-41F4-A725-3AFA42019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34AF1-5120-4B42-A673-55F3E0A13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8769E-05BA-4497-9607-2E7CB3D6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F0B9F-FC79-44A6-B413-F516F82D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199FE-151B-45BE-BD89-0BB4B3E7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6F3F1-A58C-485F-ABC9-C2802E0C9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52FAD-607B-40C8-8B2B-E23757C44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64D45-3A3E-4E2D-A416-2DC69AA48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00226-0E59-4FDC-A54E-F7873C9DA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BC50D-8199-4BCA-BE81-815ABE6E8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55A9A-7AE3-4738-95A7-E3CD458CD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83ED4-6F34-47B0-B3C4-EDE62B6E7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0210E-A73C-4886-BC88-5B1330EEE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2C58C-7D80-4197-B624-A0677535F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73239-D78B-454F-A0D6-DF5FA7DC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A3C75-799B-4AC7-B308-588C3C9D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293E9-A880-4051-BAC7-0F50F659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5C03D-6418-4FEF-9582-62BD4882F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51029-7E5D-42CA-B058-65313F6EF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322BF-B6CA-4921-97BD-55A88A02E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7F4A9-7089-4816-887F-339856D7D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C0A16-6D62-4DCA-83B9-0E334FEDA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A2CB8-5AAF-4A80-B97A-980E3A819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1ED12-E14C-444D-8FF2-436AC2945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2CE81-8671-4E76-BDE4-5E1B9E8CC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8FA2D-C720-4365-9B49-6585CED29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BB4CD-9760-4C4C-A293-80D738F1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F02C0-C244-4ACB-8D5B-EA0024B8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02622-DB3C-4923-BC16-63FB0289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7072E-BB2F-4AD3-9453-C2F835E07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6D9E6-0088-4DDB-BE7E-92A67E490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215C0-3F5A-4572-A523-5013B3EFE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F74A8-89D6-4C79-803A-89A804E15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3F61D-F315-4C50-B5BB-C58ADEF87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74957-41BF-4C74-A32F-E7968D081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66BC2-FC1E-43C5-BE81-F7AB954CF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C3A72-BD8D-4419-AEFA-035CBC581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E40767-9C8B-4D9A-B6B6-7E16B0024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54882-4A19-4673-910F-47E7592D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9C19D-2DC2-42F9-B0C9-1D97DCDF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F8767-E616-4F05-91B0-058E8773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BE460-98F6-4C3B-8EFC-299A2B0C1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F2056-8ADB-430A-941E-A8B2BD72E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74FEF-F44C-4CBB-A764-EFABC4557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A8085-A8F0-47FE-A023-919839E5B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44175-E3C4-4D91-BF27-6A4639259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CAB30-5E9D-496B-ACF5-D8CE616C6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C316E3-6D36-4874-ABDC-BA23FDA88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DD8992-BA3A-4F4F-B1DF-1AB328335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23AB9-5C5F-4D0A-8CB1-1F89A0EE7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564A4B-1736-47DB-B8C0-D213DCB1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789403-DE84-4847-8041-E4B52F29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61387-94AC-42DE-83E2-3CE04421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BA4C0-C5BD-48A8-9D2D-76525F51C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87615C-3222-48D2-BE30-4F80ABC3D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8605C-387D-4709-AB93-1C477F277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BB9FB0-0F9F-466F-A917-80D91E384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64E7C-C6ED-41E9-850F-1DA70CE85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FE90E-D55F-4E96-90FD-EE1BFE6DE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7B65E-C956-4FC1-B79F-5E041F893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DE8D6C-6414-4971-BAF0-4B05E298A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2A70A-E834-4973-BA66-BF249B763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C20B0-7FC3-4F14-B969-AFD3DC55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F7E1E-E7FB-4493-BF4D-4235B34B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06DF4-5205-477B-850E-972687BA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97516-5BCB-4017-BAD6-E6C97958E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449AC-2F0C-4D1D-AAB5-79A90A6F9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20952D-ECB4-4160-B664-E8108D90C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BFBC89-69D2-43D2-8B03-C63B789F9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229506-FEE9-4DE4-BE56-8189786BE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6E3B85-FEC3-4924-B0F8-7AF81326F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ED725-CDC7-43E5-A96C-3DF74505C7FF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AEE82-6238-43A6-A288-E5BCBFA0B272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B538D-9B01-4CFB-A738-018A58847474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32891-613B-414E-A5DC-A9CC75B42CAF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FB262-A7FE-4C55-89EB-EEF93AB19CFA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8D09F-8C81-4BC0-8EE5-A04843EA785D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0B09A-C8B4-4ECC-8A73-FDFB8CE78E0D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D7C20-5B04-4918-B99C-D4F7CED79281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068E4-A1AF-42AC-8BB1-5FE88178D8EF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43DC2-C473-47F9-A041-BC36D7DF317F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5435B-45B1-4843-A769-C646FA72CBAC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Box 3"/>
          <p:cNvSpPr/>
          <p:nvPr/>
        </p:nvSpPr>
        <p:spPr>
          <a:xfrm>
            <a:off x="165960" y="68400"/>
            <a:ext cx="87973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1f497d"/>
                </a:solidFill>
                <a:latin typeface="Calibri"/>
              </a:rPr>
              <a:t>Олимпийские игр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1f497d"/>
                </a:solidFill>
                <a:latin typeface="Calibri"/>
              </a:rPr>
              <a:t>от Олимпи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1f497d"/>
                </a:solidFill>
                <a:latin typeface="Calibri"/>
              </a:rPr>
              <a:t>до Сочи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5"/>
          <p:cNvSpPr/>
          <p:nvPr/>
        </p:nvSpPr>
        <p:spPr>
          <a:xfrm>
            <a:off x="2627280" y="4330800"/>
            <a:ext cx="651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бота ученика 4 «В»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БОУ Наро-Фоминская сош №6 СУИО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нтипенкова Владимира Николаевич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уководитель: Мельникова Н.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1"/>
          <p:cNvSpPr/>
          <p:nvPr/>
        </p:nvSpPr>
        <p:spPr>
          <a:xfrm>
            <a:off x="5286240" y="398880"/>
            <a:ext cx="36435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 тех по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жд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четыре го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 планете пробега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лимпийский  огон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2" descr="H:\олимпиада картинки\Olimp_ogon_.jpg"/>
          <p:cNvPicPr/>
          <p:nvPr/>
        </p:nvPicPr>
        <p:blipFill>
          <a:blip r:embed="rId2"/>
          <a:stretch/>
        </p:blipFill>
        <p:spPr>
          <a:xfrm>
            <a:off x="285840" y="428760"/>
            <a:ext cx="4645080" cy="3571920"/>
          </a:xfrm>
          <a:prstGeom prst="rect">
            <a:avLst/>
          </a:prstGeom>
          <a:ln w="0">
            <a:noFill/>
          </a:ln>
        </p:spPr>
      </p:pic>
      <p:sp>
        <p:nvSpPr>
          <p:cNvPr id="493" name="Прямоугольник 6"/>
          <p:cNvSpPr/>
          <p:nvPr/>
        </p:nvSpPr>
        <p:spPr>
          <a:xfrm>
            <a:off x="357120" y="4143240"/>
            <a:ext cx="857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О, СПОРТ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Ы - МИР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Прямоугольник 2"/>
          <p:cNvSpPr/>
          <p:nvPr/>
        </p:nvSpPr>
        <p:spPr>
          <a:xfrm>
            <a:off x="0" y="3571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вый русский олимпийский чемпион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иколай Панин-Коломенки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1" descr="H:\олимпиада картинки\панин 1 чемпион.jpg"/>
          <p:cNvPicPr/>
          <p:nvPr/>
        </p:nvPicPr>
        <p:blipFill>
          <a:blip r:embed="rId2"/>
          <a:stretch/>
        </p:blipFill>
        <p:spPr>
          <a:xfrm>
            <a:off x="285840" y="1434960"/>
            <a:ext cx="3929040" cy="46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250920" y="-92520"/>
            <a:ext cx="7464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гры XXII Олимпиа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Моск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(19 июля 1980 - 3 августа 198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3" descr=""/>
          <p:cNvPicPr/>
          <p:nvPr/>
        </p:nvPicPr>
        <p:blipFill>
          <a:blip r:embed="rId2"/>
          <a:stretch/>
        </p:blipFill>
        <p:spPr>
          <a:xfrm>
            <a:off x="5435640" y="1268280"/>
            <a:ext cx="30970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Прямоугольник 1"/>
          <p:cNvSpPr/>
          <p:nvPr/>
        </p:nvSpPr>
        <p:spPr>
          <a:xfrm>
            <a:off x="5148360" y="1071720"/>
            <a:ext cx="3852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вторяя античный церемониа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голову чемпиона возлага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авровый вено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ручали  медал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иплом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ливковую ветв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1" descr="H:\олимпиада картинки\лавровый венок.jpg"/>
          <p:cNvPicPr/>
          <p:nvPr/>
        </p:nvPicPr>
        <p:blipFill>
          <a:blip r:embed="rId2"/>
          <a:stretch/>
        </p:blipFill>
        <p:spPr>
          <a:xfrm>
            <a:off x="160200" y="476280"/>
            <a:ext cx="46436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3"/>
          <p:cNvSpPr/>
          <p:nvPr/>
        </p:nvSpPr>
        <p:spPr>
          <a:xfrm>
            <a:off x="0" y="49845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Талисманы Зимней Олимпиады 2014 го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Леопард, Белый Мишка  и Зай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4" descr="H:\олимпиада картинки\сочи.jpg"/>
          <p:cNvPicPr/>
          <p:nvPr/>
        </p:nvPicPr>
        <p:blipFill>
          <a:blip r:embed="rId2"/>
          <a:stretch/>
        </p:blipFill>
        <p:spPr>
          <a:xfrm>
            <a:off x="9360" y="1103400"/>
            <a:ext cx="2714760" cy="2890800"/>
          </a:xfrm>
          <a:prstGeom prst="rect">
            <a:avLst/>
          </a:prstGeom>
          <a:ln w="0">
            <a:noFill/>
          </a:ln>
        </p:spPr>
      </p:pic>
      <p:sp>
        <p:nvSpPr>
          <p:cNvPr id="502" name="TextBox 1"/>
          <p:cNvSpPr/>
          <p:nvPr/>
        </p:nvSpPr>
        <p:spPr>
          <a:xfrm>
            <a:off x="2604960" y="1103400"/>
            <a:ext cx="527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XXII Зимняя Олимпиа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. СО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 - 23 февраля 2014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1"/>
          <p:cNvSpPr/>
          <p:nvPr/>
        </p:nvSpPr>
        <p:spPr>
          <a:xfrm>
            <a:off x="0" y="981000"/>
            <a:ext cx="914400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ОПРОС «Твоё отношение к спорт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21 опрашиваем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нимаются спортом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5 человек ;   нет- 6 челове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время, отводимое на занятия спорт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только уроки физ-ры в школе- 5 челове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посещение спортсекций- 12 челове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ежедневные тренировки- 4 челове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отношение к спортивным занятия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полезны для здоровья- 10 челове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необходимость для физического развития-8 челове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не считают необходимостью-3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6% опрашиваемых понимает значение занятий спорт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1"/>
          <p:cNvSpPr/>
          <p:nvPr/>
        </p:nvSpPr>
        <p:spPr>
          <a:xfrm>
            <a:off x="4094280" y="559080"/>
            <a:ext cx="5072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орт помогает вести     правильный образ жизни, укрепляет здоровье и дух. Занимаясь спортом, мы приобретаем друз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2" descr="C:\Documents and Settings\admin.IBM\Рабочий стол\201003100\IMG_1221_1.jpg"/>
          <p:cNvPicPr/>
          <p:nvPr/>
        </p:nvPicPr>
        <p:blipFill>
          <a:blip r:embed="rId2"/>
          <a:stretch/>
        </p:blipFill>
        <p:spPr>
          <a:xfrm>
            <a:off x="250920" y="668160"/>
            <a:ext cx="3457440" cy="547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C:\Documents and Settings\admin.IBM\Рабочий стол\201003100\IMG_1221_1.jpg"/>
          <p:cNvPicPr/>
          <p:nvPr/>
        </p:nvPicPr>
        <p:blipFill>
          <a:blip r:embed="rId2"/>
          <a:stretch/>
        </p:blipFill>
        <p:spPr>
          <a:xfrm>
            <a:off x="250920" y="668160"/>
            <a:ext cx="3457440" cy="5475600"/>
          </a:xfrm>
          <a:prstGeom prst="rect">
            <a:avLst/>
          </a:prstGeom>
          <a:ln w="0">
            <a:noFill/>
          </a:ln>
        </p:spPr>
      </p:pic>
      <p:sp>
        <p:nvSpPr>
          <p:cNvPr id="507" name="TextBox 1"/>
          <p:cNvSpPr/>
          <p:nvPr/>
        </p:nvSpPr>
        <p:spPr>
          <a:xfrm>
            <a:off x="3851280" y="668160"/>
            <a:ext cx="511344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КОМПЛЕКС  УПРАЖН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для будущих чемпио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1. Полёт в Со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2. Приём гост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3. Олимпийский ого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4. Олимпийские коль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5. Турист с рюкза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6. Медвежья си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7. Заяц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8. Бег леопар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9. Прощ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7772400" cy="54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ОЛИМПИЙСКАЯ КЛЯТВА :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 «Вести честно спортивную борьбу на        благо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СПОРТА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и своей родины»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08000" y="0"/>
            <a:ext cx="777240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Девиз 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«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Быстрее, выше, сильнее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!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Прямоугольник 4"/>
          <p:cNvSpPr/>
          <p:nvPr/>
        </p:nvSpPr>
        <p:spPr>
          <a:xfrm>
            <a:off x="755640" y="2828880"/>
            <a:ext cx="7777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Цель моей рабо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узнать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 об истории и философии Олимпийского движения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б олимпийских ценност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1"/>
          <p:cNvSpPr/>
          <p:nvPr/>
        </p:nvSpPr>
        <p:spPr>
          <a:xfrm>
            <a:off x="214200" y="-654120"/>
            <a:ext cx="8572680" cy="84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Задачи исследования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сбор  материала по заданной тем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анализ и обобщение изученных   данны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разработка комплекса упражн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будущих чемпио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Методы исслед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учение литературы и отбор материа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 интересующей тем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 startAt="2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сультация специалиста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я физкультур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Олимпийские игры Древней Гре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932360" y="1150560"/>
            <a:ext cx="392904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ервые достоверные исторические данные о проведении Олимпийских игр относятся                  к 776 г. до н.э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3" descr=""/>
          <p:cNvPicPr/>
          <p:nvPr/>
        </p:nvPicPr>
        <p:blipFill>
          <a:blip r:embed="rId1"/>
          <a:stretch/>
        </p:blipFill>
        <p:spPr>
          <a:xfrm>
            <a:off x="152280" y="1147680"/>
            <a:ext cx="4572000" cy="4496040"/>
          </a:xfrm>
          <a:prstGeom prst="rect">
            <a:avLst/>
          </a:prstGeom>
          <a:ln w="0">
            <a:noFill/>
          </a:ln>
        </p:spPr>
      </p:pic>
      <p:sp>
        <p:nvSpPr>
          <p:cNvPr id="476" name="TextBox 4"/>
          <p:cNvSpPr/>
          <p:nvPr/>
        </p:nvSpPr>
        <p:spPr>
          <a:xfrm>
            <a:off x="955800" y="595008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Вход на стади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в Олимп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3" descr=""/>
          <p:cNvPicPr/>
          <p:nvPr/>
        </p:nvPicPr>
        <p:blipFill>
          <a:blip r:embed="rId2"/>
          <a:stretch/>
        </p:blipFill>
        <p:spPr>
          <a:xfrm>
            <a:off x="214200" y="1143000"/>
            <a:ext cx="4572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9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9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1"/>
          <p:cNvSpPr/>
          <p:nvPr/>
        </p:nvSpPr>
        <p:spPr>
          <a:xfrm>
            <a:off x="3571920" y="286200"/>
            <a:ext cx="5572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дной легенде рождение Олимпийских игр связа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именем ГЕРАК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2" descr="H:\олимпиада картинки\пелопс1.jpg"/>
          <p:cNvPicPr/>
          <p:nvPr/>
        </p:nvPicPr>
        <p:blipFill>
          <a:blip r:embed="rId1"/>
          <a:stretch/>
        </p:blipFill>
        <p:spPr>
          <a:xfrm>
            <a:off x="96840" y="503280"/>
            <a:ext cx="3322800" cy="414972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3" descr="H:\олимпиада картинки\геракл.jpg"/>
          <p:cNvPicPr/>
          <p:nvPr/>
        </p:nvPicPr>
        <p:blipFill>
          <a:blip r:embed="rId2"/>
          <a:stretch/>
        </p:blipFill>
        <p:spPr>
          <a:xfrm>
            <a:off x="6156360" y="1662120"/>
            <a:ext cx="2790720" cy="4070520"/>
          </a:xfrm>
          <a:prstGeom prst="rect">
            <a:avLst/>
          </a:prstGeom>
          <a:ln w="0">
            <a:noFill/>
          </a:ln>
        </p:spPr>
      </p:pic>
      <p:sp>
        <p:nvSpPr>
          <p:cNvPr id="481" name="Прямоугольник 7"/>
          <p:cNvSpPr/>
          <p:nvPr/>
        </p:nvSpPr>
        <p:spPr>
          <a:xfrm>
            <a:off x="0" y="0"/>
            <a:ext cx="88581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Прямоугольник 2"/>
          <p:cNvSpPr/>
          <p:nvPr/>
        </p:nvSpPr>
        <p:spPr>
          <a:xfrm>
            <a:off x="96840" y="4653000"/>
            <a:ext cx="5699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ругой- с именем ПЕЛОПСА, который не побоялся лишиться жизни  и сразился с сами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арем Писы -  Энома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0" y="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«Нужно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чтобы ты основал Игры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угодные богам!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 txBox="1"/>
          <p:nvPr/>
        </p:nvSpPr>
        <p:spPr>
          <a:xfrm>
            <a:off x="4788000" y="188640"/>
            <a:ext cx="4176720" cy="63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импионик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бедителей Игр) венчал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раме Зевс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ивковой ветвью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занной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лотым нож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вященной рощ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5" name="Picture 1" descr="H:\олимпиада картинки\оливковая ветвь.jpg"/>
          <p:cNvPicPr/>
          <p:nvPr/>
        </p:nvPicPr>
        <p:blipFill>
          <a:blip r:embed="rId1"/>
          <a:stretch/>
        </p:blipFill>
        <p:spPr>
          <a:xfrm>
            <a:off x="468360" y="466560"/>
            <a:ext cx="417492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395280" y="115560"/>
            <a:ext cx="8462880" cy="61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394 г. римский император Феодосий 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претил проведение Олимпиа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7" name="Picture 1" descr="H:\олимпиада картинки\Feodosii I Velikii.jpg"/>
          <p:cNvPicPr/>
          <p:nvPr/>
        </p:nvPicPr>
        <p:blipFill>
          <a:blip r:embed="rId1"/>
          <a:stretch/>
        </p:blipFill>
        <p:spPr>
          <a:xfrm>
            <a:off x="5508720" y="1557360"/>
            <a:ext cx="3527280" cy="50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Прямоугольник 1"/>
          <p:cNvSpPr/>
          <p:nvPr/>
        </p:nvSpPr>
        <p:spPr>
          <a:xfrm>
            <a:off x="3929040" y="1206360"/>
            <a:ext cx="5214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конце 19 века французский общественный деяте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ьер де Кубертен предложил возродить Олимпийские иг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Рисунок 3" descr="Пьер де Кубертен.Фото: http://tmn.fio.ru"/>
          <p:cNvPicPr/>
          <p:nvPr/>
        </p:nvPicPr>
        <p:blipFill>
          <a:blip r:embed="rId2"/>
          <a:stretch/>
        </p:blipFill>
        <p:spPr>
          <a:xfrm>
            <a:off x="214200" y="1065240"/>
            <a:ext cx="3429000" cy="4572000"/>
          </a:xfrm>
          <a:prstGeom prst="rect">
            <a:avLst/>
          </a:prstGeom>
          <a:ln w="0">
            <a:noFill/>
          </a:ln>
        </p:spPr>
      </p:pic>
      <p:sp>
        <p:nvSpPr>
          <p:cNvPr id="490" name="Прямоугольник 3"/>
          <p:cNvSpPr/>
          <p:nvPr/>
        </p:nvSpPr>
        <p:spPr>
          <a:xfrm>
            <a:off x="737280" y="357120"/>
            <a:ext cx="718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озрождение Олимпийских иг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2-04-22T07:00:28Z</dcterms:modified>
  <cp:revision>82</cp:revision>
  <dc:subject/>
  <dc:title>Слайд 1</dc:title>
</cp:coreProperties>
</file>