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48BE9-13CF-4B86-AFB7-4DE3E84D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C76A2-92A1-4892-B30A-477A5FAF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2D855-EB56-4154-93CC-36FA98AD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CF640-A9C0-4281-B8F1-B316ACE3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BD78E-BE27-46F9-9379-EC777D40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841DF-F161-4B1D-9046-7DFF8DBA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32B1D-D761-4DF5-BD20-726D7B6A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A403C-546B-4A4C-B118-CF7719E4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3D586-581B-45DA-A9C6-F13E72CFF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E3EC8-848C-4321-98E3-B9631ED6D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892C7E-8D32-4649-A478-2BC3F812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7B585-D1B2-4413-965D-030DB2C1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9CE19-6CC8-4A2D-984C-D38BEC99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C4848-0E74-46D4-8FE3-59668832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328E7-DEBC-48BF-817E-E2D069DC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4549D-87B6-42E0-A6EB-F98EC033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67597-F9E4-430D-828C-70EC7345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14D1E-27CF-4A58-B0C5-77043037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8B590-0C03-4435-A68D-13C7CF06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A28EE-11DA-4D2E-A48E-99F4F4D01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9A81AC-F526-432C-A472-869F9B676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74093-DF19-48F1-BC7A-6F11E2546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72D12-C62F-45EB-8190-9FBC66A6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EE13F-4928-4F84-9D36-2DDDF771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7D6323-5C2A-477C-80EC-6299F4B0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5330E2-590A-45D0-BC31-7B7C4AED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B753B6-3B6D-4B80-ACAD-4B3AF97A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9DB848-3CD5-483F-BFE5-43DA9238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6D1A9C-EE52-4130-AA65-BDA3DF0B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FD292-60C1-4FCD-AD79-7EDBA6F8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9C41-CB7E-4BB7-91AD-0D4F5B81F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18D71D-23B4-4AC3-8981-E50EAC80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91F33B-BF10-4B0D-86A0-6AE2D8CC6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A4D84-F6FD-41AD-8CDA-A2B19708F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66A3A-539F-490C-B6D1-A42C24F6E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7D7F2-9E78-4137-8BD9-8DCFB6B4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FF083-5510-4635-AEEB-E67F2C2E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03BEB-0125-40E4-85C4-AAC8B6FD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95D0A-208D-4088-979D-D74FCB31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3961E-50B5-47BA-B8C9-9EC9A671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F7DDD-1760-4B11-A1E8-5CAAE5FE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F0E6-4EB8-4DFF-9DF1-3EFD50D2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1AECD-A1FC-4C99-AFD8-CAAFF335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DB94C-2F57-4EF1-AB6B-2A2F116F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ADB38-68D1-40A5-A0A6-757FFA0E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12426-C7A7-4BAE-900E-B932221C2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12B20-31DD-4C23-ACF8-590BB18EE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B8DE-48F5-462F-8690-39074B52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0B9A-139D-46B8-B043-D36E5E47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3481-9DEA-43E1-9D97-F9C2A867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DAF2-F122-4A65-B6DF-3022D985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90E9-1827-405F-AABF-A7D7B6E7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152C-FDEA-4A17-B19B-2C258035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B709-5378-4595-8FA7-2A1AFC3B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E366-2D8C-4C88-9A56-DD085204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514A-D7BA-4785-A66D-F7A214C5C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2B42-B5D8-4D1D-A277-4389748B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206C-D13F-4745-9C63-EFB508637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A982-48BB-400B-9313-7D2825B3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AD57-C8B0-495A-B8E2-08B2554F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F6CD-2A19-4F72-B0AD-B838A705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B40F-8F02-42CE-8D34-C115C6F5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8B40-FC86-4A44-880D-57688335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CB71-E0B7-4D1E-9ADE-77D36C69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7AE0-E059-4A37-82F1-015641B5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B58E-71E3-4A25-B9B6-C6F89F51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42A5-5DAC-4E15-90F3-6122E7B7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0CA6-1EC6-4FB2-8B66-D069694D0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25EB-AC11-4EC6-98FE-4BC61A48C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BDB03-E8F2-40AA-A090-DC51C1758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73C1F-5B5E-4B85-BD5B-E0112220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B1BC7-A1E6-45F8-847C-C4BBBC0A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258B6-0AF0-42F4-AF14-17975202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DB4F0-8C97-44C9-B221-476AFA9E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D4FE2-B7B4-473A-82D6-75D2A2A8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4CA41-8981-4346-80DF-56B969D3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CA525-0892-4F67-9905-AE807AED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39692-4C51-4F2D-A7B1-F76CFFBC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68207-4AD7-4018-8931-6BBABD4F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20512-2362-4FA8-9B9D-B86712584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35592-7198-41D0-9A88-A0188AD1E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D4272-0A76-42FC-9E85-29A9E82E8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8398D-E671-4F6F-A2C0-331E97B5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05D99-43C7-4CB9-9283-4FE672E3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C98F9-D0B6-4940-8243-E0AB8A90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1B9D2-C6EC-4022-8B47-98CA3BE6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82EC1-B0BB-491B-A703-4955F922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C092F-C338-4002-9E95-879BB8FE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35678-21BE-4AA2-A239-51727298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7C31D-3B00-4E75-B5A2-9BA0CEE5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8861A-E804-4EFD-AF08-2A8EC529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1A36F-F436-49C1-A973-305067665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BF14E-FDDA-4634-A583-10376E950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90934-F430-40F3-968F-B79986FD8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B7186-D0FE-4901-AE76-36E0BD47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CB670-2753-464C-B6FB-7F0511D8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404E7-26C3-4703-A9CC-B002AF56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2170A-8E21-46D5-B7FF-419BBBF2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78BD0-A97F-42A6-B16E-AE512C01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960AC-4E6C-4521-824E-4D7DA4CA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151C8-DC10-4186-9ACE-5856A9CF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912A5-5C16-44D8-ACA9-CF373C0C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076DF-CBA2-459C-8760-8D323E0D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B2199-73E8-4A4E-A9D4-2139D8988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86871-25AC-459B-A259-D9562F10F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4E165-9491-49A1-9F34-E95163844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7BD0A-4429-4264-B661-E3939B79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FA826-F3D1-4187-A309-D3FF60C4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32EF9-CC0A-47C4-9168-511B2299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DE6FC-CE2C-4994-9465-051C71B7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FEF61-80FF-431D-BF07-BAF1E5F7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190A7-E636-46EF-B75A-0FCC524B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9C29C-ED70-4447-8481-2ABD7C1C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728E9-F651-4307-9D0D-D4671F2C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37053-56DF-4582-816C-1558C9EF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C2724-68E3-4071-9595-2D91AB12A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F6F37-3F68-4160-9AD7-B2F3F9DE8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81574-BEDD-42AA-B70F-DAB63D86E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DD4E6-6FFF-4314-8DF1-37361BF4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4EAB0-1E31-494D-A3EB-1858DBFC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98FEF-DC4A-45B2-91FC-507B06B6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8C7B3-5CD5-4040-962F-2F113DD7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61702-3014-4E7A-B97E-CD178569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0ACE8-2B80-4433-83B5-7294E629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A4EB5-9798-4272-9501-00E76338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9DE33-DB34-4D31-AEAD-E7A0D035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3A49E-8353-4301-910D-D3EF715F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19300-64F5-4AD8-B35A-9280AED93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2E238-F75F-45A6-B46B-17F8D112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0A4FA-A55D-4050-B9A0-8BFF3F652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41AE7-EF8E-4B55-9ED2-A2331EED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337ED-9C28-48F6-A779-D7FCB604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F9D3-E5D2-48B8-AAB1-100534BD886D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FB4D-25B9-49D4-92C6-13729BED527C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0DDE-0F37-48BB-8BA9-D2A8AC18779B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3BC3-FE83-4827-93F6-EB64B266DDA8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AF03-663F-4745-9117-5741C068864C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9F5B-3A04-4057-BBA0-9BFC0569F753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60D5-0EFF-4201-96B3-9A1FD1ADC2F7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D685-32C4-46EE-A550-450A618F273E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1840-087D-4600-8BCD-F3232C60283B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CF4C-3994-455A-9B22-9A63249DB3BB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B565-2583-4C89-9E29-B18B9AD87AC3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Box 3"/>
          <p:cNvSpPr/>
          <p:nvPr/>
        </p:nvSpPr>
        <p:spPr>
          <a:xfrm>
            <a:off x="165960" y="68400"/>
            <a:ext cx="8797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1f497d"/>
                </a:solidFill>
                <a:latin typeface="Calibri"/>
              </a:rPr>
              <a:t>Олимпийские игр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1f497d"/>
                </a:solidFill>
                <a:latin typeface="Calibri"/>
              </a:rPr>
              <a:t>от Олимпи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1f497d"/>
                </a:solidFill>
                <a:latin typeface="Calibri"/>
              </a:rPr>
              <a:t>до Сочи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5"/>
          <p:cNvSpPr/>
          <p:nvPr/>
        </p:nvSpPr>
        <p:spPr>
          <a:xfrm>
            <a:off x="2627280" y="4330800"/>
            <a:ext cx="651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бота ученика 4 «В»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БОУ Наро-Фоминская сош №6 СУИО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нтипенкова Владимира Николаеви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уководитель: Мельникова Н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"/>
          <p:cNvSpPr/>
          <p:nvPr/>
        </p:nvSpPr>
        <p:spPr>
          <a:xfrm>
            <a:off x="5286240" y="398880"/>
            <a:ext cx="3643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 тех по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жд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четыре г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планете пробег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лимпийский  огон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2" descr="H:\олимпиада картинки\Olimp_ogon_.jpg"/>
          <p:cNvPicPr/>
          <p:nvPr/>
        </p:nvPicPr>
        <p:blipFill>
          <a:blip r:embed="rId2"/>
          <a:stretch/>
        </p:blipFill>
        <p:spPr>
          <a:xfrm>
            <a:off x="285840" y="428760"/>
            <a:ext cx="4645080" cy="3571920"/>
          </a:xfrm>
          <a:prstGeom prst="rect">
            <a:avLst/>
          </a:prstGeom>
          <a:ln w="0">
            <a:noFill/>
          </a:ln>
        </p:spPr>
      </p:pic>
      <p:sp>
        <p:nvSpPr>
          <p:cNvPr id="493" name="Прямоугольник 6"/>
          <p:cNvSpPr/>
          <p:nvPr/>
        </p:nvSpPr>
        <p:spPr>
          <a:xfrm>
            <a:off x="357120" y="4143240"/>
            <a:ext cx="857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О, СПОРТ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Ы - МИР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Прямоугольник 2"/>
          <p:cNvSpPr/>
          <p:nvPr/>
        </p:nvSpPr>
        <p:spPr>
          <a:xfrm>
            <a:off x="0" y="3571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ый русский олимпийский чемпион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иколай Панин-Коломенки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" descr="H:\олимпиада картинки\панин 1 чемпион.jpg"/>
          <p:cNvPicPr/>
          <p:nvPr/>
        </p:nvPicPr>
        <p:blipFill>
          <a:blip r:embed="rId2"/>
          <a:stretch/>
        </p:blipFill>
        <p:spPr>
          <a:xfrm>
            <a:off x="285840" y="1434960"/>
            <a:ext cx="3929040" cy="46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250920" y="-92520"/>
            <a:ext cx="746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гры XXII Олимпиа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ск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19 июля 1980 - 3 августа 198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3" descr=""/>
          <p:cNvPicPr/>
          <p:nvPr/>
        </p:nvPicPr>
        <p:blipFill>
          <a:blip r:embed="rId2"/>
          <a:stretch/>
        </p:blipFill>
        <p:spPr>
          <a:xfrm>
            <a:off x="5435640" y="1268280"/>
            <a:ext cx="3097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Прямоугольник 1"/>
          <p:cNvSpPr/>
          <p:nvPr/>
        </p:nvSpPr>
        <p:spPr>
          <a:xfrm>
            <a:off x="5148360" y="1071720"/>
            <a:ext cx="3852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вторяя античный церемони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голову чемпиона возлага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авровый вено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ручали  медал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плом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ливковую ветв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1" descr="H:\олимпиада картинки\лавровый венок.jpg"/>
          <p:cNvPicPr/>
          <p:nvPr/>
        </p:nvPicPr>
        <p:blipFill>
          <a:blip r:embed="rId2"/>
          <a:stretch/>
        </p:blipFill>
        <p:spPr>
          <a:xfrm>
            <a:off x="160200" y="476280"/>
            <a:ext cx="46436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0" y="49845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Талисманы Зимней Олимпиады 2014 г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Леопард, Белый Мишка  и Зай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4" descr="H:\олимпиада картинки\сочи.jpg"/>
          <p:cNvPicPr/>
          <p:nvPr/>
        </p:nvPicPr>
        <p:blipFill>
          <a:blip r:embed="rId2"/>
          <a:stretch/>
        </p:blipFill>
        <p:spPr>
          <a:xfrm>
            <a:off x="9360" y="1103400"/>
            <a:ext cx="2714760" cy="2890800"/>
          </a:xfrm>
          <a:prstGeom prst="rect">
            <a:avLst/>
          </a:prstGeom>
          <a:ln w="0">
            <a:noFill/>
          </a:ln>
        </p:spPr>
      </p:pic>
      <p:sp>
        <p:nvSpPr>
          <p:cNvPr id="502" name="TextBox 1"/>
          <p:cNvSpPr/>
          <p:nvPr/>
        </p:nvSpPr>
        <p:spPr>
          <a:xfrm>
            <a:off x="2604960" y="1103400"/>
            <a:ext cx="527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XXII Зимняя Олимпи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. СО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 - 23 февраля 2014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1"/>
          <p:cNvSpPr/>
          <p:nvPr/>
        </p:nvSpPr>
        <p:spPr>
          <a:xfrm>
            <a:off x="0" y="981000"/>
            <a:ext cx="91440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ПРОС «Твоё отношение к спорт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21 опрашиваем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имаются спортом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5 человек ;   нет- 6 челове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время, отводимое на занятия спорт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только уроки физ-ры в школе- 5 челове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посещение спортсекций- 12 челове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ежедневные тренировки- 4 челове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отношение к спортивным занятия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полезны для здоровья- 10 челове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необходимость для физического развития-8 челове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не считают необходимостью-3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6% опрашиваемых понимает значение занятий спор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1"/>
          <p:cNvSpPr/>
          <p:nvPr/>
        </p:nvSpPr>
        <p:spPr>
          <a:xfrm>
            <a:off x="4094280" y="559080"/>
            <a:ext cx="5072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орт помогает вести     правильный образ жизни, укрепляет здоровье и дух. Занимаясь спортом, мы приобретаем друз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2" descr="C:\Documents and Settings\admin.IBM\Рабочий стол\201003100\IMG_1221_1.jpg"/>
          <p:cNvPicPr/>
          <p:nvPr/>
        </p:nvPicPr>
        <p:blipFill>
          <a:blip r:embed="rId2"/>
          <a:stretch/>
        </p:blipFill>
        <p:spPr>
          <a:xfrm>
            <a:off x="250920" y="668160"/>
            <a:ext cx="3457440" cy="54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C:\Documents and Settings\admin.IBM\Рабочий стол\201003100\IMG_1221_1.jpg"/>
          <p:cNvPicPr/>
          <p:nvPr/>
        </p:nvPicPr>
        <p:blipFill>
          <a:blip r:embed="rId2"/>
          <a:stretch/>
        </p:blipFill>
        <p:spPr>
          <a:xfrm>
            <a:off x="250920" y="668160"/>
            <a:ext cx="3457440" cy="5475600"/>
          </a:xfrm>
          <a:prstGeom prst="rect">
            <a:avLst/>
          </a:prstGeom>
          <a:ln w="0">
            <a:noFill/>
          </a:ln>
        </p:spPr>
      </p:pic>
      <p:sp>
        <p:nvSpPr>
          <p:cNvPr id="507" name="TextBox 1"/>
          <p:cNvSpPr/>
          <p:nvPr/>
        </p:nvSpPr>
        <p:spPr>
          <a:xfrm>
            <a:off x="3851280" y="668160"/>
            <a:ext cx="511344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КОМПЛЕКС  УПРАЖ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для будущих чемпи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. Полёт в Со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. Приём гос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3. Олимпийский ого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4. Олимпийские коль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5. Турист с рюкза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6. Медвежья си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7. Заяц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8. Бег леопар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9. Прощ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777240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ЛИМПИЙСКАЯ КЛЯТВА :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 «Вести честно спортивную борьбу на        благо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СПОРТА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и своей родины»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8000" y="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Девиз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«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Быстрее, выше, сильнее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!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Прямоугольник 4"/>
          <p:cNvSpPr/>
          <p:nvPr/>
        </p:nvSpPr>
        <p:spPr>
          <a:xfrm>
            <a:off x="755640" y="2828880"/>
            <a:ext cx="777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Цель моей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узнать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об истории и философии Олимпийского движения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 олимпийских ценнос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1"/>
          <p:cNvSpPr/>
          <p:nvPr/>
        </p:nvSpPr>
        <p:spPr>
          <a:xfrm>
            <a:off x="214200" y="-654120"/>
            <a:ext cx="8572680" cy="84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Задачи исследования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сбор  материала по заданной тем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анализ и обобщение изученных   дан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разработка комплекса упражн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будущих чемпио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етоды исслед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ение литературы и отбор матери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 интересующей т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 startAt="2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сультация специалист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я физкульту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Олимпийские игры Древней Гре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932360" y="1150560"/>
            <a:ext cx="39290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рвые достоверные исторические данные о проведении Олимпийских игр относятся                  к 776 г. до н.э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3" descr=""/>
          <p:cNvPicPr/>
          <p:nvPr/>
        </p:nvPicPr>
        <p:blipFill>
          <a:blip r:embed="rId1"/>
          <a:stretch/>
        </p:blipFill>
        <p:spPr>
          <a:xfrm>
            <a:off x="152280" y="1147680"/>
            <a:ext cx="4572000" cy="4496040"/>
          </a:xfrm>
          <a:prstGeom prst="rect">
            <a:avLst/>
          </a:prstGeom>
          <a:ln w="0">
            <a:noFill/>
          </a:ln>
        </p:spPr>
      </p:pic>
      <p:sp>
        <p:nvSpPr>
          <p:cNvPr id="476" name="TextBox 4"/>
          <p:cNvSpPr/>
          <p:nvPr/>
        </p:nvSpPr>
        <p:spPr>
          <a:xfrm>
            <a:off x="955800" y="595008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ход на стади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 Олимп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3" descr=""/>
          <p:cNvPicPr/>
          <p:nvPr/>
        </p:nvPicPr>
        <p:blipFill>
          <a:blip r:embed="rId2"/>
          <a:stretch/>
        </p:blipFill>
        <p:spPr>
          <a:xfrm>
            <a:off x="214200" y="1143000"/>
            <a:ext cx="4572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9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1"/>
          <p:cNvSpPr/>
          <p:nvPr/>
        </p:nvSpPr>
        <p:spPr>
          <a:xfrm>
            <a:off x="3571920" y="286200"/>
            <a:ext cx="5572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дной легенде рождение Олимпийских игр связа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именем ГЕРАК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2" descr="H:\олимпиада картинки\пелопс1.jpg"/>
          <p:cNvPicPr/>
          <p:nvPr/>
        </p:nvPicPr>
        <p:blipFill>
          <a:blip r:embed="rId1"/>
          <a:stretch/>
        </p:blipFill>
        <p:spPr>
          <a:xfrm>
            <a:off x="96840" y="503280"/>
            <a:ext cx="3322800" cy="41497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3" descr="H:\олимпиада картинки\геракл.jpg"/>
          <p:cNvPicPr/>
          <p:nvPr/>
        </p:nvPicPr>
        <p:blipFill>
          <a:blip r:embed="rId2"/>
          <a:stretch/>
        </p:blipFill>
        <p:spPr>
          <a:xfrm>
            <a:off x="6156360" y="1662120"/>
            <a:ext cx="2790720" cy="4070520"/>
          </a:xfrm>
          <a:prstGeom prst="rect">
            <a:avLst/>
          </a:prstGeom>
          <a:ln w="0">
            <a:noFill/>
          </a:ln>
        </p:spPr>
      </p:pic>
      <p:sp>
        <p:nvSpPr>
          <p:cNvPr id="481" name="Прямоугольник 7"/>
          <p:cNvSpPr/>
          <p:nvPr/>
        </p:nvSpPr>
        <p:spPr>
          <a:xfrm>
            <a:off x="0" y="0"/>
            <a:ext cx="88581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оугольник 2"/>
          <p:cNvSpPr/>
          <p:nvPr/>
        </p:nvSpPr>
        <p:spPr>
          <a:xfrm>
            <a:off x="96840" y="4653000"/>
            <a:ext cx="5699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ругой- с именем ПЕЛОПСА, который не побоялся лишиться жизни  и сразился с сам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арем Писы -  Энома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0" y="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«Нужно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чтобы ты основал Игр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угодные богам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4788000" y="188640"/>
            <a:ext cx="4176720" cy="63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мпион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бедителей Игр) венчал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раме Зев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вковой ветвью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занно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ым нож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ященной рощ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5" name="Picture 1" descr="H:\олимпиада картинки\оливковая ветвь.jpg"/>
          <p:cNvPicPr/>
          <p:nvPr/>
        </p:nvPicPr>
        <p:blipFill>
          <a:blip r:embed="rId1"/>
          <a:stretch/>
        </p:blipFill>
        <p:spPr>
          <a:xfrm>
            <a:off x="468360" y="466560"/>
            <a:ext cx="41749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395280" y="115560"/>
            <a:ext cx="8462880" cy="61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394 г. римский император Феодосий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ретил проведение Олимпиа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7" name="Picture 1" descr="H:\олимпиада картинки\Feodosii I Velikii.jpg"/>
          <p:cNvPicPr/>
          <p:nvPr/>
        </p:nvPicPr>
        <p:blipFill>
          <a:blip r:embed="rId1"/>
          <a:stretch/>
        </p:blipFill>
        <p:spPr>
          <a:xfrm>
            <a:off x="5508720" y="1557360"/>
            <a:ext cx="352728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Прямоугольник 1"/>
          <p:cNvSpPr/>
          <p:nvPr/>
        </p:nvSpPr>
        <p:spPr>
          <a:xfrm>
            <a:off x="3929040" y="1206360"/>
            <a:ext cx="5214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онце 19 века французский общественный деят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ьер де Кубертен предложил возродить Олимпийские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Рисунок 3" descr="Пьер де Кубертен.Фото: http://tmn.fio.ru"/>
          <p:cNvPicPr/>
          <p:nvPr/>
        </p:nvPicPr>
        <p:blipFill>
          <a:blip r:embed="rId2"/>
          <a:stretch/>
        </p:blipFill>
        <p:spPr>
          <a:xfrm>
            <a:off x="214200" y="106524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490" name="Прямоугольник 3"/>
          <p:cNvSpPr/>
          <p:nvPr/>
        </p:nvSpPr>
        <p:spPr>
          <a:xfrm>
            <a:off x="737280" y="357120"/>
            <a:ext cx="718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зрождение Олимпийских иг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2-04-22T07:00:28Z</dcterms:modified>
  <cp:revision>82</cp:revision>
  <dc:subject/>
  <dc:title>Слайд 1</dc:title>
</cp:coreProperties>
</file>