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jpeg" ContentType="image/jpe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D6A-A540-4A02-BFD7-82C9878B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F50-707D-4E27-96B3-9094B17B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497-B135-4B5C-899E-CA736AFC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1A3-EB47-43E1-AFD4-803E69F7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835-0592-4454-8187-894D237C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8C5-8BFB-4763-A373-B4AA206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0AC-E35A-476F-A6F9-E3AC62E5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A226-4A87-4362-B4F2-3B65BFF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B51-456B-4A55-A1DC-B2AE4E69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619F-F423-40C7-826B-8AC9791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FA53-1661-4F92-9EDA-0B50BB1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071-84B0-48EB-9514-74C5D26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62C6-30FF-4EB0-B976-0105439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6A0-456B-4CE5-B9DD-B641F0A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4AF-F2E5-4739-8EBC-601CB2B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70B0-EEE9-43CD-A24E-3DEA18E6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6035-1D42-4CFF-91D2-D5B7A658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E3D-A936-4B68-9A79-174A249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69F-AF99-4BF3-90B3-C467B570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C8F-94EE-4261-95A9-8002958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235-2E10-4EEE-A286-F3CF267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E6D-0FA3-46A6-8AB0-E7C87B0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D88-9632-4B33-BA85-739C687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1E6-F38A-47AB-B10B-09AB951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1000" cy="9142200"/>
            <a:chOff x="-207000" y="0"/>
            <a:chExt cx="215100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5640" cy="162576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400"/>
              <a:ext cx="1965240" cy="3925440"/>
              <a:chOff x="-21240" y="3578400"/>
              <a:chExt cx="1965240" cy="39254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0280" y="3643920"/>
                <a:ext cx="731520" cy="1340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480" y="5086800"/>
                <a:ext cx="198720" cy="411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51160" y="5572080"/>
                <a:ext cx="1392840" cy="1931760"/>
                <a:chOff x="551160" y="5572080"/>
                <a:chExt cx="1392840" cy="1931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5880" y="5610600"/>
                  <a:ext cx="631440" cy="9111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45200" y="6689520"/>
                  <a:ext cx="146160" cy="3740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19720" y="7340400"/>
                  <a:ext cx="265680" cy="63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19880"/>
              <a:ext cx="673920" cy="826920"/>
              <a:chOff x="313200" y="8219880"/>
              <a:chExt cx="673920" cy="82692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1880" y="8275320"/>
                <a:ext cx="262440" cy="189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51800" y="8731080"/>
                <a:ext cx="448920" cy="15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4600" y="8620200"/>
                <a:ext cx="469440" cy="79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3680" y="2432520"/>
                <a:ext cx="275760" cy="223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6600" y="2954160"/>
                <a:ext cx="471960" cy="185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59400" y="2955960"/>
                <a:ext cx="493200" cy="94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78480" cy="907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0400" cy="442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4440" cy="2707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180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240"/>
              <a:ext cx="409680" cy="518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8720" cy="2433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4800"/>
              <a:ext cx="174960" cy="338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3440" cy="2052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6240" y="986400"/>
              <a:ext cx="85320" cy="86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DFA5-C5C1-47AF-9C4D-033F7AB6E9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240" y="0"/>
            <a:ext cx="6987600" cy="9143280"/>
            <a:chOff x="-48240" y="0"/>
            <a:chExt cx="698760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2520" y="304920"/>
              <a:ext cx="3156840" cy="7855920"/>
              <a:chOff x="3782520" y="304920"/>
              <a:chExt cx="3156840" cy="785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3680" y="479160"/>
                <a:ext cx="1586520" cy="3142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6080" y="2635920"/>
                <a:ext cx="679680" cy="11235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2280" y="3447000"/>
                <a:ext cx="329400" cy="526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5000" y="909000"/>
                <a:ext cx="291600" cy="7340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240" y="3522600"/>
                <a:ext cx="122760" cy="442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84800" y="1655280"/>
                <a:ext cx="142560" cy="190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498200" y="3861720"/>
                <a:ext cx="392400" cy="435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5200" y="4141800"/>
              <a:ext cx="384120" cy="13737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8320" cy="3242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3280" cy="9712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8120" y="6042960"/>
              <a:ext cx="421200" cy="9817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400" y="6305040"/>
              <a:ext cx="103320" cy="57960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6600" y="6927480"/>
              <a:ext cx="1318680" cy="221580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64680" y="1551960"/>
              <a:ext cx="964440" cy="1334160"/>
              <a:chOff x="3064680" y="1551960"/>
              <a:chExt cx="964440" cy="1334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32800" y="1647360"/>
                <a:ext cx="380880" cy="2840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14960" y="2288880"/>
                <a:ext cx="651960" cy="235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73960" y="2516040"/>
                <a:ext cx="681480" cy="11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92560" y="493200"/>
              <a:ext cx="732960" cy="905760"/>
              <a:chOff x="4192560" y="493200"/>
              <a:chExt cx="732960" cy="905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12800" y="1102320"/>
                <a:ext cx="238320" cy="27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68080" y="687960"/>
                <a:ext cx="407880" cy="225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80280" y="654840"/>
                <a:ext cx="426600" cy="1148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77080" y="7047000"/>
              <a:ext cx="1083600" cy="929160"/>
              <a:chOff x="577080" y="7047000"/>
              <a:chExt cx="1083600" cy="929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69080" y="7459920"/>
                <a:ext cx="188280" cy="399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39600" y="7579800"/>
                <a:ext cx="322200" cy="332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93280" y="7132680"/>
                <a:ext cx="336960" cy="169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82520" y="699120"/>
              <a:ext cx="1487160" cy="1468080"/>
              <a:chOff x="182520" y="699120"/>
              <a:chExt cx="1487160" cy="14680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60280" y="1674720"/>
                <a:ext cx="473760" cy="397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34600" y="971640"/>
                <a:ext cx="811440" cy="3304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7560" y="1415880"/>
                <a:ext cx="847800" cy="167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56600" y="5011200"/>
              <a:ext cx="903240" cy="2008080"/>
              <a:chOff x="5556600" y="5011200"/>
              <a:chExt cx="903240" cy="20080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32920" y="6290640"/>
                <a:ext cx="266400" cy="707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42880" y="5974920"/>
                <a:ext cx="456120" cy="587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03040" y="5060880"/>
                <a:ext cx="477000" cy="299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8640" y="3960"/>
              <a:ext cx="1026000" cy="1875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8240" y="215640"/>
              <a:ext cx="810360" cy="12549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720" y="1815120"/>
              <a:ext cx="392400" cy="587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6720" y="1708920"/>
              <a:ext cx="146520" cy="4932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8000" y="0"/>
              <a:ext cx="147600" cy="2559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6240" y="2619360"/>
              <a:ext cx="467640" cy="48682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238-2CE1-472D-9C22-E4AD083D8BAC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0280" y="1042920"/>
            <a:ext cx="5829480" cy="1960560"/>
          </a:xfrm>
          <a:prstGeom prst="rect">
            <a:avLst/>
          </a:prstGeom>
          <a:noFill/>
          <a:ln w="0">
            <a:noFill/>
          </a:ln>
          <a:effectLst>
            <a:outerShdw dist="117181" dir="13761632" blurRad="0" rotWithShape="0">
              <a:srgbClr val="33cc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Franklin Gothic Heavy"/>
              </a:rPr>
              <a:t>Педагогический календарь</a:t>
            </a:r>
            <a:r>
              <a:rPr b="1" lang="ru-RU" sz="5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268280" y="3637080"/>
            <a:ext cx="4711680" cy="302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"Развивающие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1844640" y="4140360"/>
            <a:ext cx="3313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транички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52280" y="8027640"/>
            <a:ext cx="48006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Издательство «Птичкина групп»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г. Удомля 2009.г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Verdana"/>
              </a:rPr>
              <a:t>Апрель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280" y="5725800"/>
            <a:ext cx="617220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УЗЫКАЛЬНЫЙ УГОЛОК – необходимо оборудовать в группе  с целью создания условий для накопления детьми музыкальных впечатлений, развития музыкального мышления, памяти, речи. Оборудование музыкального уголка способствует проявлению  способностей детей в разных  видах музыкальной деятельности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Рядом с музыкальным уголком можно разместить  зону театрализованной деятельности в которой можно разместить различные виды театров и внести атрибуты для самостоятельной театрализованной деятельности детей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0" name="Picture 8" descr="Изображение 296"/>
          <p:cNvPicPr/>
          <p:nvPr/>
        </p:nvPicPr>
        <p:blipFill>
          <a:blip r:embed="rId1"/>
          <a:stretch/>
        </p:blipFill>
        <p:spPr>
          <a:xfrm>
            <a:off x="650880" y="1144440"/>
            <a:ext cx="2273400" cy="1987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Изображение 308"/>
          <p:cNvPicPr/>
          <p:nvPr/>
        </p:nvPicPr>
        <p:blipFill>
          <a:blip r:embed="rId2"/>
          <a:stretch/>
        </p:blipFill>
        <p:spPr>
          <a:xfrm>
            <a:off x="3284640" y="1150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Изображение 297"/>
          <p:cNvPicPr/>
          <p:nvPr/>
        </p:nvPicPr>
        <p:blipFill>
          <a:blip r:embed="rId3"/>
          <a:stretch/>
        </p:blipFill>
        <p:spPr>
          <a:xfrm>
            <a:off x="476280" y="3421080"/>
            <a:ext cx="2496960" cy="1873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Изображение 278"/>
          <p:cNvPicPr/>
          <p:nvPr/>
        </p:nvPicPr>
        <p:blipFill>
          <a:blip r:embed="rId4"/>
          <a:stretch/>
        </p:blipFill>
        <p:spPr>
          <a:xfrm>
            <a:off x="3357720" y="3421080"/>
            <a:ext cx="26366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ай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4280" y="5942160"/>
            <a:ext cx="6172200" cy="29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ДИДАКТИЧЕСКИЕ ПОСОБИЯ  в группе необходимы  потому что  содержательная основа познания окружающего мира ребенком младшего дошкольного возраста включает в  себя предметы, объекты и явления, относящиеся к разным сферам: миру человека, миру природы. Он постигает качества и свойства предметов, получает и закрепляет  первичные представления   о функциональных возможностях предметов.. Дидактические пособия в первой младшей группе в основном полифункциональные т.е. при их использовании можно  одновременно решать задачи по развитию речи, сенсорному развитию , а  также по развитию представлений детей. об окружающем их мире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6" name="Picture 7" descr="Изображение 318"/>
          <p:cNvPicPr/>
          <p:nvPr/>
        </p:nvPicPr>
        <p:blipFill>
          <a:blip r:embed="rId1"/>
          <a:stretch/>
        </p:blipFill>
        <p:spPr>
          <a:xfrm>
            <a:off x="260280" y="1403280"/>
            <a:ext cx="3009960" cy="15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Изображение 317"/>
          <p:cNvPicPr/>
          <p:nvPr/>
        </p:nvPicPr>
        <p:blipFill>
          <a:blip r:embed="rId2"/>
          <a:stretch/>
        </p:blipFill>
        <p:spPr>
          <a:xfrm>
            <a:off x="3429000" y="1403280"/>
            <a:ext cx="3009960" cy="1513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Изображение 315"/>
          <p:cNvPicPr/>
          <p:nvPr/>
        </p:nvPicPr>
        <p:blipFill>
          <a:blip r:embed="rId3"/>
          <a:stretch/>
        </p:blipFill>
        <p:spPr>
          <a:xfrm>
            <a:off x="0" y="3143160"/>
            <a:ext cx="2952720" cy="232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Изображение 264"/>
          <p:cNvPicPr/>
          <p:nvPr/>
        </p:nvPicPr>
        <p:blipFill>
          <a:blip r:embed="rId4"/>
          <a:stretch/>
        </p:blipFill>
        <p:spPr>
          <a:xfrm>
            <a:off x="3789360" y="3059280"/>
            <a:ext cx="266400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360" y="468360"/>
            <a:ext cx="5829120" cy="813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Маленький ребенок по своей природе исследователь. На третьем году жизни продолжается освоение ребенком окружающего мира. Предметная деятельность становится ведущей и определяет основные изменения в жизнедеятельности ребенка. В процессе познания ближайшего окружения внимание ребенка привлекают самые разнообразные предметы окружающего мира.  Задача взрослого помочь ребенку разобраться в интересном мире познания, создать условия для развития ребенка. Одним из  таких условий может стать предметно - развивающая среда вокруг ребенка.  Вашему вниманию мы предлагаем педагогический календарь на страницах которого в течении 9 учебных месяцев  мы будем рассказывать о предметно – развивающей среде в 1 младшей группе. </a:t>
            </a:r>
            <a:br>
              <a:rPr sz="2200"/>
            </a:b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1920" y="137880"/>
            <a:ext cx="618336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Сентябрь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9000" y="6011640"/>
            <a:ext cx="58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ЗОНА ДВИГАТЕЛЬНОЙ АКТИВНОСТИ включает в себя оборудование для формирования  навыков детей, для охраны и укрепления здоровья дошкольников, для их физического развития. В этой зоне сконцентрировано оборудование для развития навыков ходьбы, бега, прыжков, ползанья, метания, катания, равновесия. Также в этой зоне находятся атрибуты и пособия для организации подвижных игр, и кроме этого оборудование для закаливания детей.   Ребенку  с  высокой двигательной активностью знакомитьс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с окружающим миром проще и интереснее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4" name="Picture 13" descr="Изображение 303"/>
          <p:cNvPicPr/>
          <p:nvPr/>
        </p:nvPicPr>
        <p:blipFill>
          <a:blip r:embed="rId1"/>
          <a:stretch/>
        </p:blipFill>
        <p:spPr>
          <a:xfrm>
            <a:off x="692280" y="1573200"/>
            <a:ext cx="2520720" cy="1892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Изображение 302"/>
          <p:cNvPicPr/>
          <p:nvPr/>
        </p:nvPicPr>
        <p:blipFill>
          <a:blip r:embed="rId2"/>
          <a:stretch/>
        </p:blipFill>
        <p:spPr>
          <a:xfrm>
            <a:off x="4076640" y="1655640"/>
            <a:ext cx="2389320" cy="179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Изображение 300"/>
          <p:cNvPicPr/>
          <p:nvPr/>
        </p:nvPicPr>
        <p:blipFill>
          <a:blip r:embed="rId3"/>
          <a:stretch/>
        </p:blipFill>
        <p:spPr>
          <a:xfrm>
            <a:off x="692280" y="3754440"/>
            <a:ext cx="2520720" cy="186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Изображение 263"/>
          <p:cNvPicPr/>
          <p:nvPr/>
        </p:nvPicPr>
        <p:blipFill>
          <a:blip r:embed="rId4"/>
          <a:stretch/>
        </p:blipFill>
        <p:spPr>
          <a:xfrm>
            <a:off x="4076640" y="3754440"/>
            <a:ext cx="2376720" cy="182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Изображение 303"/>
          <p:cNvPicPr/>
          <p:nvPr/>
        </p:nvPicPr>
        <p:blipFill>
          <a:blip r:embed="rId5"/>
          <a:stretch/>
        </p:blipFill>
        <p:spPr>
          <a:xfrm>
            <a:off x="692280" y="153828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Изображение 302"/>
          <p:cNvPicPr/>
          <p:nvPr/>
        </p:nvPicPr>
        <p:blipFill>
          <a:blip r:embed="rId6"/>
          <a:stretch/>
        </p:blipFill>
        <p:spPr>
          <a:xfrm>
            <a:off x="4076640" y="1619280"/>
            <a:ext cx="2389320" cy="179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j0299763"/>
          <p:cNvPicPr/>
          <p:nvPr/>
        </p:nvPicPr>
        <p:blipFill>
          <a:blip r:embed="rId7"/>
          <a:stretch/>
        </p:blipFill>
        <p:spPr>
          <a:xfrm>
            <a:off x="4724280" y="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Октябрь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5941800"/>
            <a:ext cx="6172200" cy="27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СЮЖЕТНО - РОЛЕВАЯ ИГРА – универсальный способ жизнедеятельности ребенка. В сюжетно – ролевых играх ребенок пытается воспроизводить те действия взрослых , которые он наблюдает в своей повседневной жизни. Игра одно из важных средств познания  окружающего мира . Игра является важным условием социального развития детей. Игра благоприятствует физическому развитию детей, стимулируя их двигательную активность. Для своевременного развития игры в группе необходимо создавать условия:  оборудовать игровую зону детской мебелью, внести в игровую зону различные ролевые атрибуты, в том числе атрибуты копии и заместители, которые помогут ребенку использовать накопленный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опыт   в  в мир игры.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82760" y="3780000"/>
            <a:ext cx="25160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645000" y="3780000"/>
            <a:ext cx="25160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27120" y="3708360"/>
            <a:ext cx="25160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789360" y="3708360"/>
            <a:ext cx="25160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15" descr="Изображение 293"/>
          <p:cNvPicPr/>
          <p:nvPr/>
        </p:nvPicPr>
        <p:blipFill>
          <a:blip r:embed="rId1"/>
          <a:stretch/>
        </p:blipFill>
        <p:spPr>
          <a:xfrm>
            <a:off x="482760" y="1550880"/>
            <a:ext cx="2516040" cy="188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Изображение 291"/>
          <p:cNvPicPr/>
          <p:nvPr/>
        </p:nvPicPr>
        <p:blipFill>
          <a:blip r:embed="rId2"/>
          <a:stretch/>
        </p:blipFill>
        <p:spPr>
          <a:xfrm>
            <a:off x="3645000" y="1550880"/>
            <a:ext cx="2516040" cy="188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Изображение 285"/>
          <p:cNvPicPr/>
          <p:nvPr/>
        </p:nvPicPr>
        <p:blipFill>
          <a:blip r:embed="rId3"/>
          <a:stretch/>
        </p:blipFill>
        <p:spPr>
          <a:xfrm>
            <a:off x="476280" y="3564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Изображение 284"/>
          <p:cNvPicPr/>
          <p:nvPr/>
        </p:nvPicPr>
        <p:blipFill>
          <a:blip r:embed="rId4"/>
          <a:stretch/>
        </p:blipFill>
        <p:spPr>
          <a:xfrm>
            <a:off x="3573360" y="3564000"/>
            <a:ext cx="25196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Verdana"/>
              </a:rPr>
              <a:t>Ноябрь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75920" y="5435640"/>
            <a:ext cx="61722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ЗОНА СЕНСОРНОГО РАЗВИТИЯ 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Гармонизация движений тела, мелкой моторики рук способствуют формированию правильного произношения, помогает избавиться от монотонности речи, нормализовать ее темп, снижает психологическое напряжение. Развитие процессов восприятия, ощущения у детей значительно обогащает мышление. Процесс ознакомления ребенка с сенсорными эталонами происходит постепенно  в соответствии с закономерностями раннего детства. Важным условием способствующим сенсорному развитию  является специально организованная развивающая среда   которая включает в себя: дидактический стол, пирамидки, различной цветовой гаммы, различной формы и разнообразной фактуры, шнуровки, разнообразные вкладыши, дидактически игры и т. д.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3" name="Picture 7" descr="Изображение 274"/>
          <p:cNvPicPr/>
          <p:nvPr/>
        </p:nvPicPr>
        <p:blipFill>
          <a:blip r:embed="rId1"/>
          <a:stretch/>
        </p:blipFill>
        <p:spPr>
          <a:xfrm>
            <a:off x="596880" y="1187280"/>
            <a:ext cx="2400480" cy="180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Изображение 256"/>
          <p:cNvPicPr/>
          <p:nvPr/>
        </p:nvPicPr>
        <p:blipFill>
          <a:blip r:embed="rId2"/>
          <a:stretch/>
        </p:blipFill>
        <p:spPr>
          <a:xfrm>
            <a:off x="3573360" y="1187280"/>
            <a:ext cx="2338560" cy="175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Изображение 255"/>
          <p:cNvPicPr/>
          <p:nvPr/>
        </p:nvPicPr>
        <p:blipFill>
          <a:blip r:embed="rId3"/>
          <a:stretch/>
        </p:blipFill>
        <p:spPr>
          <a:xfrm>
            <a:off x="549360" y="3205080"/>
            <a:ext cx="2421000" cy="181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Изображение 254"/>
          <p:cNvPicPr/>
          <p:nvPr/>
        </p:nvPicPr>
        <p:blipFill>
          <a:blip r:embed="rId4"/>
          <a:stretch/>
        </p:blipFill>
        <p:spPr>
          <a:xfrm>
            <a:off x="3573360" y="327492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Декабрь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5226120"/>
            <a:ext cx="61722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ЗОНА ДИДАКТИЧЕСКИХ ИГР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Дидактические игры в младшем возрасте должны наряду с другими играми обеспечивать бодрое, радостное настроение, содействовать жизни детей в коллективе сверстников – приучать детей играть рядом. Дидактические игры направляют внимание детей на окружающие предметы, учат замечать, видеть,  анализировать. В ходе дидактических игр  дети учатся слышать слово, правильно соотносить  его с действиями  и предметами, а также развивать активный словарь детей .  Многие дидактические игры в младшем возрасте  сопровождаются движениями, что способствует развитию координации . В развивающей среде целесообразно разместить  дидактические игры по развитию речи, ознакомлению с окружающим миром,  и для развития сенсорных представлений.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9" name="Picture 8" descr="Изображение 289"/>
          <p:cNvPicPr/>
          <p:nvPr/>
        </p:nvPicPr>
        <p:blipFill>
          <a:blip r:embed="rId1"/>
          <a:stretch/>
        </p:blipFill>
        <p:spPr>
          <a:xfrm>
            <a:off x="674640" y="118728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Изображение 290"/>
          <p:cNvPicPr/>
          <p:nvPr/>
        </p:nvPicPr>
        <p:blipFill>
          <a:blip r:embed="rId2"/>
          <a:stretch/>
        </p:blipFill>
        <p:spPr>
          <a:xfrm>
            <a:off x="3500280" y="1187280"/>
            <a:ext cx="2544840" cy="162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Изображение 276"/>
          <p:cNvPicPr/>
          <p:nvPr/>
        </p:nvPicPr>
        <p:blipFill>
          <a:blip r:embed="rId3"/>
          <a:stretch/>
        </p:blipFill>
        <p:spPr>
          <a:xfrm>
            <a:off x="620640" y="313200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Изображение 277"/>
          <p:cNvPicPr/>
          <p:nvPr/>
        </p:nvPicPr>
        <p:blipFill>
          <a:blip r:embed="rId4"/>
          <a:stretch/>
        </p:blipFill>
        <p:spPr>
          <a:xfrm>
            <a:off x="3573360" y="3205080"/>
            <a:ext cx="2592360" cy="1736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j0304933"/>
          <p:cNvPicPr/>
          <p:nvPr/>
        </p:nvPicPr>
        <p:blipFill>
          <a:blip r:embed="rId5"/>
          <a:stretch/>
        </p:blipFill>
        <p:spPr>
          <a:xfrm>
            <a:off x="189000" y="7669080"/>
            <a:ext cx="1341360" cy="12286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3"/>
          <p:cNvGrpSpPr/>
          <p:nvPr/>
        </p:nvGrpSpPr>
        <p:grpSpPr>
          <a:xfrm>
            <a:off x="4970520" y="0"/>
            <a:ext cx="1887480" cy="1176120"/>
            <a:chOff x="4970520" y="0"/>
            <a:chExt cx="1887480" cy="1176120"/>
          </a:xfrm>
        </p:grpSpPr>
        <p:sp>
          <p:nvSpPr>
            <p:cNvPr id="205" name="Puzzle3"/>
            <p:cNvSpPr/>
            <p:nvPr/>
          </p:nvSpPr>
          <p:spPr>
            <a:xfrm>
              <a:off x="5889600" y="0"/>
              <a:ext cx="741960" cy="625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6" name="Puzzle2"/>
            <p:cNvSpPr/>
            <p:nvPr/>
          </p:nvSpPr>
          <p:spPr>
            <a:xfrm>
              <a:off x="5673960" y="455400"/>
              <a:ext cx="1184040" cy="5695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7" name="Puzzle4"/>
            <p:cNvSpPr/>
            <p:nvPr/>
          </p:nvSpPr>
          <p:spPr>
            <a:xfrm>
              <a:off x="5215320" y="448200"/>
              <a:ext cx="713880" cy="7279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8" name="Puzzle1"/>
            <p:cNvSpPr/>
            <p:nvPr/>
          </p:nvSpPr>
          <p:spPr>
            <a:xfrm>
              <a:off x="4970520" y="189000"/>
              <a:ext cx="1198800" cy="4338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Январь</a:t>
            </a: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5179680"/>
            <a:ext cx="6172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ССЛЕДОВАТЕЛЬСКАЯ ЗОНА  организуется в группе с целью формирования познавательных эмоций и развития любознательности. В 1 младшей группе экспериментирование ведется в основном в играх занятиях , которые содержат как исследовательский так и игровой компоненты и осуществляют постепенный  переход от игр – забав  к учебно – познавательной деятельности – они  бесценны для развития такого замечательного качества как  наблюдательность 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1" name="Picture 7" descr="Изображение 265"/>
          <p:cNvPicPr/>
          <p:nvPr/>
        </p:nvPicPr>
        <p:blipFill>
          <a:blip r:embed="rId1"/>
          <a:stretch/>
        </p:blipFill>
        <p:spPr>
          <a:xfrm>
            <a:off x="765000" y="1258920"/>
            <a:ext cx="237672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Изображение 266"/>
          <p:cNvPicPr/>
          <p:nvPr/>
        </p:nvPicPr>
        <p:blipFill>
          <a:blip r:embed="rId2"/>
          <a:stretch/>
        </p:blipFill>
        <p:spPr>
          <a:xfrm>
            <a:off x="3500280" y="1258920"/>
            <a:ext cx="237672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Изображение 279"/>
          <p:cNvPicPr/>
          <p:nvPr/>
        </p:nvPicPr>
        <p:blipFill>
          <a:blip r:embed="rId3"/>
          <a:stretch/>
        </p:blipFill>
        <p:spPr>
          <a:xfrm>
            <a:off x="692280" y="2989440"/>
            <a:ext cx="2447640" cy="18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Изображение 281"/>
          <p:cNvPicPr/>
          <p:nvPr/>
        </p:nvPicPr>
        <p:blipFill>
          <a:blip r:embed="rId4"/>
          <a:stretch/>
        </p:blipFill>
        <p:spPr>
          <a:xfrm>
            <a:off x="3500280" y="3132000"/>
            <a:ext cx="2352960" cy="176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j0299171"/>
          <p:cNvPicPr/>
          <p:nvPr/>
        </p:nvPicPr>
        <p:blipFill>
          <a:blip r:embed="rId5"/>
          <a:stretch/>
        </p:blipFill>
        <p:spPr>
          <a:xfrm>
            <a:off x="5118120" y="7380360"/>
            <a:ext cx="13050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52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Verdana"/>
              </a:rPr>
              <a:t>Февраль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33000" y="5725800"/>
            <a:ext cx="617220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УГОЛОК УЕДИНЕНИЯ в группе организуется по ряду причин. Во первых ребенку необходимо  свое личное пространство, где он может остаться наедине со своими мыслями, отдохнуть и с новыми силами познавать  окружающий его мир. В Уголке уединения могут быть размещены фотоальбомы  с фотографиями членов семьи ребенка, также в уголке уединения могут быть книги, содержание которых будет определено возрастом детей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8" name="Picture 8" descr="Изображение 294"/>
          <p:cNvPicPr/>
          <p:nvPr/>
        </p:nvPicPr>
        <p:blipFill>
          <a:blip r:embed="rId1"/>
          <a:stretch/>
        </p:blipFill>
        <p:spPr>
          <a:xfrm>
            <a:off x="1125360" y="900000"/>
            <a:ext cx="223236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Изображение 295"/>
          <p:cNvPicPr/>
          <p:nvPr/>
        </p:nvPicPr>
        <p:blipFill>
          <a:blip r:embed="rId2"/>
          <a:stretch/>
        </p:blipFill>
        <p:spPr>
          <a:xfrm>
            <a:off x="4149720" y="900000"/>
            <a:ext cx="2227320" cy="167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Изображение 259"/>
          <p:cNvPicPr/>
          <p:nvPr/>
        </p:nvPicPr>
        <p:blipFill>
          <a:blip r:embed="rId3"/>
          <a:stretch/>
        </p:blipFill>
        <p:spPr>
          <a:xfrm>
            <a:off x="1089000" y="277344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Изображение 260"/>
          <p:cNvPicPr/>
          <p:nvPr/>
        </p:nvPicPr>
        <p:blipFill>
          <a:blip r:embed="rId4"/>
          <a:stretch/>
        </p:blipFill>
        <p:spPr>
          <a:xfrm>
            <a:off x="3716280" y="30592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AG00135_"/>
          <p:cNvPicPr/>
          <p:nvPr/>
        </p:nvPicPr>
        <p:blipFill>
          <a:blip r:embed="rId5"/>
          <a:stretch/>
        </p:blipFill>
        <p:spPr>
          <a:xfrm>
            <a:off x="3035160" y="4437000"/>
            <a:ext cx="78588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52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Verdana"/>
              </a:rPr>
              <a:t>Март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5179680"/>
            <a:ext cx="6172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ЗОНА ИЗОБРАЗИТЕЛЬНОЙ ДЕЯТЕЛЬНОСТИ в раннем возрасте является одним из центров эмоционального благополучия ребенка в группе, развитие его художественных способностей и интересов. В изобразительной деятельности необходимо разместить различные  изобразительные материалы  , разнообразные средства изображения, с целью формирования у малышей представления об их выразительных возможностях. Кроме этого в зоне изобразительной деятельности необходимо размещать  материалы и оборудование для аппликации и лепки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5" name="Picture 7" descr="Изображение 287"/>
          <p:cNvPicPr/>
          <p:nvPr/>
        </p:nvPicPr>
        <p:blipFill>
          <a:blip r:embed="rId1"/>
          <a:stretch/>
        </p:blipFill>
        <p:spPr>
          <a:xfrm>
            <a:off x="333360" y="1403280"/>
            <a:ext cx="3009960" cy="225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Изображение 288"/>
          <p:cNvPicPr/>
          <p:nvPr/>
        </p:nvPicPr>
        <p:blipFill>
          <a:blip r:embed="rId2"/>
          <a:stretch/>
        </p:blipFill>
        <p:spPr>
          <a:xfrm>
            <a:off x="3505320" y="2470320"/>
            <a:ext cx="3009960" cy="2222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j0216516"/>
          <p:cNvPicPr/>
          <p:nvPr/>
        </p:nvPicPr>
        <p:blipFill>
          <a:blip r:embed="rId3"/>
          <a:stretch/>
        </p:blipFill>
        <p:spPr>
          <a:xfrm>
            <a:off x="4834080" y="538200"/>
            <a:ext cx="15732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6:33:42Z</dcterms:created>
  <dc:creator>User</dc:creator>
  <dc:description/>
  <dc:language>en-US</dc:language>
  <cp:lastModifiedBy>Анастасия</cp:lastModifiedBy>
  <dcterms:modified xsi:type="dcterms:W3CDTF">2013-01-24T18:54:00Z</dcterms:modified>
  <cp:revision>16</cp:revision>
  <dc:subject/>
  <dc:title>Слайд 1</dc:title>
</cp:coreProperties>
</file>