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940-FC7E-4C35-8292-05B0B586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47E-4215-4B4D-847B-59935967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302-56ED-4A58-9F31-987ED108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F7A-BFE4-4BBA-A588-6F203ADB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862-DE5C-4D4E-82A5-1AFDBD9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E00-91D0-4B32-AB22-35F44BEB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EAC-3450-4F91-9F5C-170DF53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BD5-F39E-4CCF-89AC-9B6788E8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9DA-8AB9-4183-9420-88EA3ED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2BC-2B75-45AC-A0CD-B80F9A09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6F2-9D73-4BB3-8BF6-39254A6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47D-2904-48DB-9C75-9450BCE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1596-E281-413E-9C23-54D8C0598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 rot="21279600">
            <a:off x="4932360" y="2852640"/>
            <a:ext cx="1141560" cy="69876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  <a:ea typeface="Arial"/>
              </a:rPr>
              <a:t>Начать т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1125360"/>
            <a:ext cx="302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Раздел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ак устроен ми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1341360"/>
            <a:ext cx="28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Те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рирод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nt"/>
          <p:cNvSpPr/>
          <p:nvPr/>
        </p:nvSpPr>
        <p:spPr>
          <a:xfrm>
            <a:off x="7956720" y="5516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36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Верно: 1</a:t>
            </a:r>
            <a:br>
              <a:rPr sz="4400"/>
            </a:b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Ошибки: 4</a:t>
            </a:r>
            <a:br>
              <a:rPr sz="4400"/>
            </a:b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Отметка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280" y="52149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fa22"/>
                </a:solidFill>
                <a:latin typeface="Arial"/>
                <a:ea typeface="Arial"/>
              </a:rPr>
              <a:t>Время: 0 мин. 8 се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1908000" y="40464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6ede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nt"/>
          <p:cNvSpPr/>
          <p:nvPr/>
        </p:nvSpPr>
        <p:spPr>
          <a:xfrm>
            <a:off x="7885080" y="-674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nt"/>
          <p:cNvSpPr/>
          <p:nvPr/>
        </p:nvSpPr>
        <p:spPr>
          <a:xfrm>
            <a:off x="-541440" y="-60336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nt"/>
          <p:cNvSpPr/>
          <p:nvPr/>
        </p:nvSpPr>
        <p:spPr>
          <a:xfrm>
            <a:off x="-684360" y="5445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9"/>
          <p:cNvSpPr/>
          <p:nvPr/>
        </p:nvSpPr>
        <p:spPr>
          <a:xfrm>
            <a:off x="1116000" y="522936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20"/>
          <p:cNvSpPr/>
          <p:nvPr/>
        </p:nvSpPr>
        <p:spPr>
          <a:xfrm>
            <a:off x="5435640" y="53006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4"/>
          <p:cNvSpPr/>
          <p:nvPr/>
        </p:nvSpPr>
        <p:spPr>
          <a:xfrm>
            <a:off x="324000" y="2133720"/>
            <a:ext cx="691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пожаров и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195640" y="4076640"/>
            <a:ext cx="669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строительства городов, дорог, возделывания п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4"/>
          <p:cNvSpPr/>
          <p:nvPr/>
        </p:nvSpPr>
        <p:spPr>
          <a:xfrm>
            <a:off x="1042920" y="3141720"/>
            <a:ext cx="6769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изменения климата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-за чего на Земле становится меньше ле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9"/>
          <p:cNvSpPr/>
          <p:nvPr/>
        </p:nvSpPr>
        <p:spPr>
          <a:xfrm>
            <a:off x="97164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0"/>
          <p:cNvSpPr/>
          <p:nvPr/>
        </p:nvSpPr>
        <p:spPr>
          <a:xfrm>
            <a:off x="5435640" y="501336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4"/>
          <p:cNvSpPr/>
          <p:nvPr/>
        </p:nvSpPr>
        <p:spPr>
          <a:xfrm>
            <a:off x="900000" y="3573360"/>
            <a:ext cx="295128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Arial"/>
              </a:rPr>
              <a:t>Прозра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3276720" y="2349360"/>
            <a:ext cx="28080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Ч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4"/>
          <p:cNvSpPr/>
          <p:nvPr/>
        </p:nvSpPr>
        <p:spPr>
          <a:xfrm>
            <a:off x="5580000" y="3645000"/>
            <a:ext cx="280836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Бесц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кой воздух и какая вода необходимы для жизни растений, животных 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9"/>
          <p:cNvSpPr/>
          <p:nvPr/>
        </p:nvSpPr>
        <p:spPr>
          <a:xfrm>
            <a:off x="111600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0"/>
          <p:cNvSpPr/>
          <p:nvPr/>
        </p:nvSpPr>
        <p:spPr>
          <a:xfrm>
            <a:off x="5508720" y="50846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4"/>
          <p:cNvSpPr/>
          <p:nvPr/>
        </p:nvSpPr>
        <p:spPr>
          <a:xfrm>
            <a:off x="250920" y="2060640"/>
            <a:ext cx="6192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От использования воды в бы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2232000" y="4005360"/>
            <a:ext cx="6732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т слива сточных вод заводов и фабрик, нечистот с фе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1835280" y="2997360"/>
            <a:ext cx="5545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От использования воды в 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чего загрязняется вода в реках и озе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9"/>
          <p:cNvSpPr/>
          <p:nvPr/>
        </p:nvSpPr>
        <p:spPr>
          <a:xfrm>
            <a:off x="111600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0"/>
          <p:cNvSpPr/>
          <p:nvPr/>
        </p:nvSpPr>
        <p:spPr>
          <a:xfrm>
            <a:off x="5364000" y="5013360"/>
            <a:ext cx="300060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2771640" y="3789360"/>
            <a:ext cx="6121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Создают фермы, пасеки и птицефаб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250920" y="2133720"/>
            <a:ext cx="6480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оздают ботанические сады, запов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4"/>
          <p:cNvSpPr/>
          <p:nvPr/>
        </p:nvSpPr>
        <p:spPr>
          <a:xfrm>
            <a:off x="1258920" y="2924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Создают бульвары и скв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то люди делают для спасения живой прир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9"/>
          <p:cNvSpPr/>
          <p:nvPr/>
        </p:nvSpPr>
        <p:spPr>
          <a:xfrm>
            <a:off x="97164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0"/>
          <p:cNvSpPr/>
          <p:nvPr/>
        </p:nvSpPr>
        <p:spPr>
          <a:xfrm>
            <a:off x="5292720" y="4941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250920" y="2060640"/>
            <a:ext cx="6697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  <a:ea typeface="Arial"/>
              </a:rPr>
              <a:t>Заповедники – это участки земли, где выращивают редкие растения со всего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1692360" y="2997360"/>
            <a:ext cx="6337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Заповедники – это участки земли, где всякая природа неприкоснове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4"/>
          <p:cNvSpPr/>
          <p:nvPr/>
        </p:nvSpPr>
        <p:spPr>
          <a:xfrm>
            <a:off x="2627280" y="3933720"/>
            <a:ext cx="6264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Заповедники – это участки земли, где обитает большое разнообразие зверей, птиц и насеко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то такое заповед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ЛМ</cp:lastModifiedBy>
  <dcterms:modified xsi:type="dcterms:W3CDTF">2008-09-18T19:00:42Z</dcterms:modified>
  <cp:revision>746</cp:revision>
  <dc:subject/>
  <dc:title>Слайд 1</dc:title>
</cp:coreProperties>
</file>