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B65B-CE15-4FD1-AE63-CF6511CA9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F4CE-BBF5-4B11-80EB-6E2C7F6A0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0107-CEA3-45BD-B991-E9CA2B3D3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D982-E4B2-4DC4-B59A-BEDB3C0A6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B29B-FC4B-4860-8ABD-E205772A3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4149-ECDC-479A-AF66-F7CCA321A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06C5-165D-4B56-847E-36DA5390D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592E-7E2B-499C-9D82-38C772EFB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B77D-6E3E-44AC-8A29-EFEE30209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C3AD-E839-43A7-B2D1-0DA579E74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C2A8-961A-4781-B01B-377DA1CAC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1BBB-FF87-4986-9146-74E32A254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96f4"/>
            </a:gs>
            <a:gs pos="100000">
              <a:srgbClr val="92ca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3A1C7-5E16-46E1-BC89-C64F627383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Скругленный прямоугольник 7"/>
          <p:cNvSpPr/>
          <p:nvPr/>
        </p:nvSpPr>
        <p:spPr>
          <a:xfrm rot="21279600">
            <a:off x="4932360" y="2852640"/>
            <a:ext cx="1141560" cy="698760"/>
          </a:xfrm>
          <a:prstGeom prst="roundRect">
            <a:avLst>
              <a:gd name="adj" fmla="val 50000"/>
            </a:avLst>
          </a:prstGeom>
          <a:blipFill rotWithShape="0">
            <a:blip r:embed="rId2">
              <a:alphaModFix amt="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504d"/>
                </a:solidFill>
                <a:latin typeface="Arial"/>
                <a:ea typeface="Arial"/>
              </a:rPr>
              <a:t>Начать тес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187280" y="1125360"/>
            <a:ext cx="302436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42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latin typeface="Arial"/>
              </a:rPr>
              <a:t>Раздел 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latin typeface="Arial"/>
              </a:rPr>
              <a:t>Как устроен ми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84720" y="1341360"/>
            <a:ext cx="2880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Тем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Природа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опас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96f4"/>
            </a:gs>
            <a:gs pos="100000">
              <a:srgbClr val="92ca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nt"/>
          <p:cNvSpPr/>
          <p:nvPr/>
        </p:nvSpPr>
        <p:spPr>
          <a:xfrm>
            <a:off x="7956720" y="5516640"/>
            <a:ext cx="1809720" cy="180972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183672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a72"/>
                </a:solidFill>
                <a:latin typeface="Arial"/>
                <a:ea typeface="Arial"/>
              </a:rPr>
              <a:t>Верно: 1</a:t>
            </a:r>
            <a:br>
              <a:rPr sz="4400"/>
            </a:br>
            <a:r>
              <a:rPr b="0" lang="en-US" sz="4400" spc="-1" strike="noStrike">
                <a:solidFill>
                  <a:srgbClr val="009a72"/>
                </a:solidFill>
                <a:latin typeface="Arial"/>
                <a:ea typeface="Arial"/>
              </a:rPr>
              <a:t>Ошибки: 4</a:t>
            </a:r>
            <a:br>
              <a:rPr sz="4400"/>
            </a:br>
            <a:r>
              <a:rPr b="0" lang="en-US" sz="4400" spc="-1" strike="noStrike">
                <a:solidFill>
                  <a:srgbClr val="009a72"/>
                </a:solidFill>
                <a:latin typeface="Arial"/>
                <a:ea typeface="Arial"/>
              </a:rPr>
              <a:t>Отметка: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71280" y="5214960"/>
            <a:ext cx="590076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fa22"/>
                </a:solidFill>
                <a:latin typeface="Arial"/>
                <a:ea typeface="Arial"/>
              </a:rPr>
              <a:t>Время: 0 мин. 8 сек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Содержимое 2"/>
          <p:cNvSpPr/>
          <p:nvPr/>
        </p:nvSpPr>
        <p:spPr>
          <a:xfrm>
            <a:off x="1908000" y="404640"/>
            <a:ext cx="5857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66ede"/>
                </a:solidFill>
                <a:latin typeface="Arial"/>
                <a:ea typeface="Arial"/>
              </a:rPr>
              <a:t>Результат те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Скругленный прямоугольник 4"/>
          <p:cNvSpPr/>
          <p:nvPr/>
        </p:nvSpPr>
        <p:spPr>
          <a:xfrm>
            <a:off x="6500880" y="55720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ещ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кругленный прямоугольник 5" hidden="1"/>
          <p:cNvSpPr/>
          <p:nvPr/>
        </p:nvSpPr>
        <p:spPr>
          <a:xfrm>
            <a:off x="6500880" y="46432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a5002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исправ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nt"/>
          <p:cNvSpPr/>
          <p:nvPr/>
        </p:nvSpPr>
        <p:spPr>
          <a:xfrm>
            <a:off x="7885080" y="-674640"/>
            <a:ext cx="1809720" cy="180972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nt"/>
          <p:cNvSpPr/>
          <p:nvPr/>
        </p:nvSpPr>
        <p:spPr>
          <a:xfrm>
            <a:off x="-541440" y="-603360"/>
            <a:ext cx="1809720" cy="180972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nt"/>
          <p:cNvSpPr/>
          <p:nvPr/>
        </p:nvSpPr>
        <p:spPr>
          <a:xfrm>
            <a:off x="-684360" y="5445000"/>
            <a:ext cx="1809720" cy="180972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96f4"/>
            </a:gs>
            <a:gs pos="100000">
              <a:srgbClr val="92ca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-1692360" y="5165640"/>
            <a:ext cx="11484000" cy="3382920"/>
          </a:xfrm>
          <a:prstGeom prst="cloudCallout">
            <a:avLst>
              <a:gd name="adj1" fmla="val -27425"/>
              <a:gd name="adj2" fmla="val 35078"/>
            </a:avLst>
          </a:prstGeom>
          <a:solidFill>
            <a:srgbClr val="339966"/>
          </a:solidFill>
          <a:ln w="127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Arial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кругленный прямоугольник 19"/>
          <p:cNvSpPr/>
          <p:nvPr/>
        </p:nvSpPr>
        <p:spPr>
          <a:xfrm>
            <a:off x="1116000" y="5229360"/>
            <a:ext cx="2643120" cy="64296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Arial"/>
                <a:ea typeface="Arial"/>
              </a:rPr>
              <a:t>исправ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Скругленный прямоугольник 20"/>
          <p:cNvSpPr/>
          <p:nvPr/>
        </p:nvSpPr>
        <p:spPr>
          <a:xfrm>
            <a:off x="5435640" y="5300640"/>
            <a:ext cx="3000240" cy="642960"/>
          </a:xfrm>
          <a:prstGeom prst="roundRect">
            <a:avLst>
              <a:gd name="adj" fmla="val 16667"/>
            </a:avLst>
          </a:prstGeom>
          <a:solidFill>
            <a:srgbClr val="ff99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  <a:ea typeface="Arial"/>
              </a:rPr>
              <a:t>ответ гот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Скругленный прямоугольник 14"/>
          <p:cNvSpPr/>
          <p:nvPr/>
        </p:nvSpPr>
        <p:spPr>
          <a:xfrm>
            <a:off x="324000" y="2133720"/>
            <a:ext cx="691200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31680">
            <a:solidFill>
              <a:srgbClr val="00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  <a:ea typeface="Arial"/>
              </a:rPr>
              <a:t>Из-за пожаров и стихийных бедств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кругленный прямоугольник 3"/>
          <p:cNvSpPr/>
          <p:nvPr/>
        </p:nvSpPr>
        <p:spPr>
          <a:xfrm>
            <a:off x="2195640" y="4076640"/>
            <a:ext cx="669600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31680">
            <a:solidFill>
              <a:srgbClr val="00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  <a:ea typeface="Arial"/>
              </a:rPr>
              <a:t>Из-за строительства городов, дорог, возделывания по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кругленный прямоугольник 14"/>
          <p:cNvSpPr/>
          <p:nvPr/>
        </p:nvSpPr>
        <p:spPr>
          <a:xfrm>
            <a:off x="1042920" y="3141720"/>
            <a:ext cx="6769080" cy="71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31680">
            <a:solidFill>
              <a:srgbClr val="00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  <a:ea typeface="Arial"/>
              </a:rPr>
              <a:t>Из-за изменения климата на Зем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Cloud"/>
          <p:cNvSpPr/>
          <p:nvPr/>
        </p:nvSpPr>
        <p:spPr>
          <a:xfrm>
            <a:off x="755640" y="0"/>
            <a:ext cx="6408720" cy="1838160"/>
          </a:xfrm>
          <a:prstGeom prst="pie">
            <a:avLst/>
          </a:prstGeom>
          <a:solidFill>
            <a:srgbClr val="ccffff"/>
          </a:solidFill>
          <a:ln w="9360">
            <a:solidFill>
              <a:srgbClr val="0033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Из-за чего на Земле становится меньше лес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ce4fe"/>
                                      </p:to>
                                    </p:animClr>
                                    <p:set>
                                      <p:cBhvr>
                                        <p:cTn id="1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96f4"/>
            </a:gs>
            <a:gs pos="100000">
              <a:srgbClr val="92ca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-1692360" y="5165640"/>
            <a:ext cx="11484000" cy="3382920"/>
          </a:xfrm>
          <a:prstGeom prst="cloudCallout">
            <a:avLst>
              <a:gd name="adj1" fmla="val -27425"/>
              <a:gd name="adj2" fmla="val 35078"/>
            </a:avLst>
          </a:prstGeom>
          <a:solidFill>
            <a:srgbClr val="339966"/>
          </a:solidFill>
          <a:ln w="127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кругленный прямоугольник 19"/>
          <p:cNvSpPr/>
          <p:nvPr/>
        </p:nvSpPr>
        <p:spPr>
          <a:xfrm>
            <a:off x="971640" y="5084640"/>
            <a:ext cx="2643120" cy="64296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Arial"/>
                <a:ea typeface="Arial"/>
              </a:rPr>
              <a:t>исправ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кругленный прямоугольник 20"/>
          <p:cNvSpPr/>
          <p:nvPr/>
        </p:nvSpPr>
        <p:spPr>
          <a:xfrm>
            <a:off x="5435640" y="5013360"/>
            <a:ext cx="3000240" cy="642960"/>
          </a:xfrm>
          <a:prstGeom prst="roundRect">
            <a:avLst>
              <a:gd name="adj" fmla="val 16667"/>
            </a:avLst>
          </a:prstGeom>
          <a:solidFill>
            <a:srgbClr val="ff99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  <a:ea typeface="Arial"/>
              </a:rPr>
              <a:t>ответ гот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кругленный прямоугольник 14"/>
          <p:cNvSpPr/>
          <p:nvPr/>
        </p:nvSpPr>
        <p:spPr>
          <a:xfrm>
            <a:off x="900000" y="3573360"/>
            <a:ext cx="295128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31680">
            <a:solidFill>
              <a:srgbClr val="60fa2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80"/>
                </a:solidFill>
                <a:latin typeface="Arial"/>
                <a:ea typeface="Arial"/>
              </a:rPr>
              <a:t>Прозрач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кругленный прямоугольник 3"/>
          <p:cNvSpPr/>
          <p:nvPr/>
        </p:nvSpPr>
        <p:spPr>
          <a:xfrm>
            <a:off x="3276720" y="2349360"/>
            <a:ext cx="2808000" cy="93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31680">
            <a:solidFill>
              <a:srgbClr val="60fa2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80"/>
                </a:solidFill>
                <a:latin typeface="Arial"/>
              </a:rPr>
              <a:t>Чист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Скругленный прямоугольник 14"/>
          <p:cNvSpPr/>
          <p:nvPr/>
        </p:nvSpPr>
        <p:spPr>
          <a:xfrm>
            <a:off x="5580000" y="3645000"/>
            <a:ext cx="2808360" cy="1009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31680">
            <a:solidFill>
              <a:srgbClr val="60fa2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Бесцвет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Cloud"/>
          <p:cNvSpPr/>
          <p:nvPr/>
        </p:nvSpPr>
        <p:spPr>
          <a:xfrm>
            <a:off x="755640" y="0"/>
            <a:ext cx="6408720" cy="1838160"/>
          </a:xfrm>
          <a:prstGeom prst="pie">
            <a:avLst/>
          </a:prstGeom>
          <a:solidFill>
            <a:srgbClr val="ccffff"/>
          </a:solidFill>
          <a:ln w="9360">
            <a:solidFill>
              <a:srgbClr val="0033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Какой воздух и какая вода необходимы для жизни растений, животных и челове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ce4fe"/>
                                      </p:to>
                                    </p:animClr>
                                    <p:set>
                                      <p:cBhvr>
                                        <p:cTn id="4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5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96f4"/>
            </a:gs>
            <a:gs pos="100000">
              <a:srgbClr val="92ca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-1692360" y="5165640"/>
            <a:ext cx="11484000" cy="3382920"/>
          </a:xfrm>
          <a:prstGeom prst="cloudCallout">
            <a:avLst>
              <a:gd name="adj1" fmla="val -27425"/>
              <a:gd name="adj2" fmla="val 35078"/>
            </a:avLst>
          </a:prstGeom>
          <a:solidFill>
            <a:srgbClr val="339966"/>
          </a:solidFill>
          <a:ln w="127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Arial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кругленный прямоугольник 19"/>
          <p:cNvSpPr/>
          <p:nvPr/>
        </p:nvSpPr>
        <p:spPr>
          <a:xfrm>
            <a:off x="1116000" y="5084640"/>
            <a:ext cx="2643120" cy="64296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Arial"/>
                <a:ea typeface="Arial"/>
              </a:rPr>
              <a:t>исправ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кругленный прямоугольник 20"/>
          <p:cNvSpPr/>
          <p:nvPr/>
        </p:nvSpPr>
        <p:spPr>
          <a:xfrm>
            <a:off x="5508720" y="5084640"/>
            <a:ext cx="3000240" cy="642960"/>
          </a:xfrm>
          <a:prstGeom prst="roundRect">
            <a:avLst>
              <a:gd name="adj" fmla="val 16667"/>
            </a:avLst>
          </a:prstGeom>
          <a:solidFill>
            <a:srgbClr val="ff99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  <a:ea typeface="Arial"/>
              </a:rPr>
              <a:t>ответ гот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Скругленный прямоугольник 14"/>
          <p:cNvSpPr/>
          <p:nvPr/>
        </p:nvSpPr>
        <p:spPr>
          <a:xfrm>
            <a:off x="250920" y="2060640"/>
            <a:ext cx="6192720" cy="71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31680">
            <a:solidFill>
              <a:srgbClr val="60fa2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Arial"/>
                <a:ea typeface="Arial"/>
              </a:rPr>
              <a:t>От использования воды в бы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Скругленный прямоугольник 3"/>
          <p:cNvSpPr/>
          <p:nvPr/>
        </p:nvSpPr>
        <p:spPr>
          <a:xfrm>
            <a:off x="2232000" y="4005360"/>
            <a:ext cx="6732720" cy="71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31680">
            <a:solidFill>
              <a:srgbClr val="60fa2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От слива сточных вод заводов и фабрик, нечистот с фер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кругленный прямоугольник 14"/>
          <p:cNvSpPr/>
          <p:nvPr/>
        </p:nvSpPr>
        <p:spPr>
          <a:xfrm>
            <a:off x="1835280" y="2997360"/>
            <a:ext cx="554508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31680">
            <a:solidFill>
              <a:srgbClr val="60fa2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От использования воды в производст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Cloud"/>
          <p:cNvSpPr/>
          <p:nvPr/>
        </p:nvSpPr>
        <p:spPr>
          <a:xfrm>
            <a:off x="755640" y="0"/>
            <a:ext cx="6408720" cy="1838160"/>
          </a:xfrm>
          <a:prstGeom prst="pie">
            <a:avLst/>
          </a:prstGeom>
          <a:solidFill>
            <a:srgbClr val="ccffff"/>
          </a:solidFill>
          <a:ln w="9360">
            <a:solidFill>
              <a:srgbClr val="0033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Отчего загрязняется вода в реках и озера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5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ce4fe"/>
                                      </p:to>
                                    </p:animClr>
                                    <p:set>
                                      <p:cBhvr>
                                        <p:cTn id="6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7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96f4"/>
            </a:gs>
            <a:gs pos="100000">
              <a:srgbClr val="92ca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-1692360" y="5165640"/>
            <a:ext cx="11484000" cy="3382920"/>
          </a:xfrm>
          <a:prstGeom prst="cloudCallout">
            <a:avLst>
              <a:gd name="adj1" fmla="val -27425"/>
              <a:gd name="adj2" fmla="val 35078"/>
            </a:avLst>
          </a:prstGeom>
          <a:solidFill>
            <a:srgbClr val="339966"/>
          </a:solidFill>
          <a:ln w="127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Arial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Скругленный прямоугольник 19"/>
          <p:cNvSpPr/>
          <p:nvPr/>
        </p:nvSpPr>
        <p:spPr>
          <a:xfrm>
            <a:off x="1116000" y="5084640"/>
            <a:ext cx="2643120" cy="64296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Arial"/>
                <a:ea typeface="Arial"/>
              </a:rPr>
              <a:t>исправ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Скругленный прямоугольник 20"/>
          <p:cNvSpPr/>
          <p:nvPr/>
        </p:nvSpPr>
        <p:spPr>
          <a:xfrm>
            <a:off x="5364000" y="5013360"/>
            <a:ext cx="3000600" cy="642960"/>
          </a:xfrm>
          <a:prstGeom prst="roundRect">
            <a:avLst>
              <a:gd name="adj" fmla="val 16667"/>
            </a:avLst>
          </a:prstGeom>
          <a:solidFill>
            <a:srgbClr val="ff99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  <a:ea typeface="Arial"/>
              </a:rPr>
              <a:t>ответ гот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Скругленный прямоугольник 14"/>
          <p:cNvSpPr/>
          <p:nvPr/>
        </p:nvSpPr>
        <p:spPr>
          <a:xfrm>
            <a:off x="2771640" y="3789360"/>
            <a:ext cx="612144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31680">
            <a:solidFill>
              <a:srgbClr val="60fa2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Arial"/>
                <a:ea typeface="Arial"/>
              </a:rPr>
              <a:t>Создают фермы, пасеки и птицефабр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кругленный прямоугольник 3"/>
          <p:cNvSpPr/>
          <p:nvPr/>
        </p:nvSpPr>
        <p:spPr>
          <a:xfrm>
            <a:off x="250920" y="2133720"/>
            <a:ext cx="648000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31680">
            <a:solidFill>
              <a:srgbClr val="60fa2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Создают ботанические сады, заповед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кругленный прямоугольник 14"/>
          <p:cNvSpPr/>
          <p:nvPr/>
        </p:nvSpPr>
        <p:spPr>
          <a:xfrm>
            <a:off x="1258920" y="2924280"/>
            <a:ext cx="6624720" cy="71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31680">
            <a:solidFill>
              <a:srgbClr val="60fa2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Создают бульвары и скве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Cloud"/>
          <p:cNvSpPr/>
          <p:nvPr/>
        </p:nvSpPr>
        <p:spPr>
          <a:xfrm>
            <a:off x="755640" y="0"/>
            <a:ext cx="6408720" cy="1838160"/>
          </a:xfrm>
          <a:prstGeom prst="pie">
            <a:avLst/>
          </a:prstGeom>
          <a:solidFill>
            <a:srgbClr val="ccffff"/>
          </a:solidFill>
          <a:ln w="9360">
            <a:solidFill>
              <a:srgbClr val="0033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Что люди делают для спасения живой природ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8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ce4fe"/>
                                      </p:to>
                                    </p:animClr>
                                    <p:set>
                                      <p:cBhvr>
                                        <p:cTn id="9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94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0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96f4"/>
            </a:gs>
            <a:gs pos="100000">
              <a:srgbClr val="92ca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-1692360" y="5165640"/>
            <a:ext cx="11484000" cy="3382920"/>
          </a:xfrm>
          <a:prstGeom prst="cloudCallout">
            <a:avLst>
              <a:gd name="adj1" fmla="val -27425"/>
              <a:gd name="adj2" fmla="val 35078"/>
            </a:avLst>
          </a:prstGeom>
          <a:solidFill>
            <a:srgbClr val="339966"/>
          </a:solidFill>
          <a:ln w="127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Arial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Скругленный прямоугольник 19"/>
          <p:cNvSpPr/>
          <p:nvPr/>
        </p:nvSpPr>
        <p:spPr>
          <a:xfrm>
            <a:off x="971640" y="5084640"/>
            <a:ext cx="2643120" cy="64296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Arial"/>
                <a:ea typeface="Arial"/>
              </a:rPr>
              <a:t>исправ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кругленный прямоугольник 20"/>
          <p:cNvSpPr/>
          <p:nvPr/>
        </p:nvSpPr>
        <p:spPr>
          <a:xfrm>
            <a:off x="5292720" y="4941720"/>
            <a:ext cx="3000240" cy="642960"/>
          </a:xfrm>
          <a:prstGeom prst="roundRect">
            <a:avLst>
              <a:gd name="adj" fmla="val 16667"/>
            </a:avLst>
          </a:prstGeom>
          <a:solidFill>
            <a:srgbClr val="ff99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  <a:ea typeface="Arial"/>
              </a:rPr>
              <a:t>ответ гот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кругленный прямоугольник 14"/>
          <p:cNvSpPr/>
          <p:nvPr/>
        </p:nvSpPr>
        <p:spPr>
          <a:xfrm>
            <a:off x="250920" y="2060640"/>
            <a:ext cx="669744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31680">
            <a:solidFill>
              <a:srgbClr val="60fa2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80"/>
                </a:solidFill>
                <a:latin typeface="Arial"/>
                <a:ea typeface="Arial"/>
              </a:rPr>
              <a:t>Заповедники – это участки земли, где выращивают редкие растения со всего ми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Скругленный прямоугольник 3"/>
          <p:cNvSpPr/>
          <p:nvPr/>
        </p:nvSpPr>
        <p:spPr>
          <a:xfrm>
            <a:off x="1692360" y="2997360"/>
            <a:ext cx="6337080" cy="71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31680">
            <a:solidFill>
              <a:srgbClr val="60fa2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80"/>
                </a:solidFill>
                <a:latin typeface="Arial"/>
              </a:rPr>
              <a:t>Заповедники – это участки земли, где всякая природа неприкосновен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Скругленный прямоугольник 14"/>
          <p:cNvSpPr/>
          <p:nvPr/>
        </p:nvSpPr>
        <p:spPr>
          <a:xfrm>
            <a:off x="2627280" y="3933720"/>
            <a:ext cx="626436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31680">
            <a:solidFill>
              <a:srgbClr val="60fa2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80"/>
                </a:solidFill>
                <a:latin typeface="Arial"/>
              </a:rPr>
              <a:t>Заповедники – это участки земли, где обитает большое разнообразие зверей, птиц и насеком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Cloud"/>
          <p:cNvSpPr/>
          <p:nvPr/>
        </p:nvSpPr>
        <p:spPr>
          <a:xfrm>
            <a:off x="755640" y="0"/>
            <a:ext cx="6408720" cy="1838160"/>
          </a:xfrm>
          <a:prstGeom prst="pie">
            <a:avLst/>
          </a:prstGeom>
          <a:solidFill>
            <a:srgbClr val="ccffff"/>
          </a:solidFill>
          <a:ln w="9360">
            <a:solidFill>
              <a:srgbClr val="0033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Что такое заповедни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0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ce4fe"/>
                                      </p:to>
                                    </p:animClr>
                                    <p:set>
                                      <p:cBhvr>
                                        <p:cTn id="11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19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2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3:09:51Z</dcterms:created>
  <dc:creator>ind</dc:creator>
  <dc:description/>
  <dc:language>en-US</dc:language>
  <cp:lastModifiedBy>ЛМ</cp:lastModifiedBy>
  <dcterms:modified xsi:type="dcterms:W3CDTF">2008-09-18T19:00:42Z</dcterms:modified>
  <cp:revision>746</cp:revision>
  <dc:subject/>
  <dc:title>Слайд 1</dc:title>
</cp:coreProperties>
</file>