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716-473C-4160-B334-615084BB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7DA-0406-4D58-9504-8E4F347F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6D8-BF0C-4640-A150-FE461D0F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917-C818-47C6-8742-6EE982D3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BFC8-4CCB-4A36-99BC-282A4321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F291-9E35-4F60-B790-FB21A929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844F-2C32-4A54-AB53-0F0982A0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A9F3-9FD3-4DEB-85ED-A06853E1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BAB8-3341-4A92-B2DB-2BB8B96E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0675-612D-4894-A771-CD177529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FA72-68AB-4E9F-8632-D3F2FE94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7A3-08B2-4330-87F1-40294C72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8C19-014A-49A0-ABAD-EDDE6ED6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74F6-7EEE-4B91-B7F8-F1C9346C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2309-0F59-4B0D-823E-E1516A88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F583-2B9A-4727-9F2D-152264AA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2BEB-A354-43A1-B314-69AAABCF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DAF25-B5E6-4590-8CD1-C3A7BEE7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D507C-02BE-461A-AF10-E053E5A8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F4AF2-DB1C-48B9-8215-0E484E87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BE615-5B67-472C-8421-078031F8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4D35A-1AA1-4E2C-802C-7155E552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BA0-F324-4417-8348-4CD043FF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09D96-F77E-4C9D-B13F-09F81FA0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0EF41-D59E-4641-81E7-7EE6AA3E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E1EE4-C2D7-444F-B349-E7F874B3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67D6D-974E-48C2-B7C0-13221A45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570D4-C33B-4C24-910E-BCBEF945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9224B-5ECA-41B7-A7E1-F2853003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0B690-B3B4-427F-AB66-809C3199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AF953-AA07-46EB-B73A-82E5F820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C48D4-EF3B-429E-B898-81E50ECE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B2DD6-A987-4543-968A-B6DF1EF7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E7F-CA11-43D8-B6CC-2FCF744A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74E29-BDC2-471A-B3F0-AA6E3A5F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C9F69-C583-4302-9664-B03D9BC0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2F83E-768F-4D54-B800-2053051F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C1F0-B3E6-4F95-A0CA-19F0FEE6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B5797-0D61-456F-91EA-C1B5CAC0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B27ED-0E56-4EEA-9B50-3DCDF14A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36CEF-C8AD-45C0-A3EC-2F87A9DA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9575C-75A3-4A1B-AF02-F24BD14D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B2ED8-357F-4E46-A006-869DED80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82F5E-C564-4BA4-9667-6C95BCBF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964-FA9F-45AB-9D38-FF6BF09E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28956-5907-499D-9D86-B3114F26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443A3-D736-4C85-8069-89C35636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7D31E-736C-4A42-8D18-6A97FB41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516F1-6B2E-42D9-BF6E-A969BDCA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42CA8-435A-466C-99ED-9E382052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C817D-29AD-465A-9DE8-DB89789F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07DE5-36D9-4755-918E-676A2B82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2F440-D3B0-4509-B151-429C1402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01E5B-B83F-4955-8792-870CD80B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6F7F3-A153-4B4C-8118-BE64D784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83E-0C46-4097-BDE1-0FFA9936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A116B-396C-4B6F-BB99-37F055B8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8035F-7E66-4A14-BA05-4F304AF1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B977D-F84A-4B97-8DCF-0A9A8DD3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AD771-A42C-430B-88E6-4A4B588B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D6F9F-92EF-4BA4-A7B7-E61ED8E1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A903B-6C38-48B5-9DF4-64309F2A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92A6D-2650-4CCF-BB98-579CE69F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4B56F-B56E-4A8D-A57D-EDFE0707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4E93E-5AC0-4555-B695-805E3DE2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76CF2-07E9-4F35-8905-66913CCA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4D51-B7CB-4BC8-A60F-CA77D8F8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30AFB-2269-4F99-A4B7-F2E7C236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1E5B6-2328-49A4-9EE6-DCD1BC22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E2122-3CA6-4144-8D0C-CDCE4BD7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A18F5-B537-440E-9358-BE4605AB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761D3-D83C-48E9-8D1F-0D4594D4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1ABEA-8F69-49A9-8A55-95A5F485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9CFB3-859C-4C8E-89DC-FB5EC69B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2AEDF-1E12-4E18-B62D-57EF93AE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976CD-8061-4760-9D29-B72F7FA2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0B301-DFDB-4E4D-87E9-811B7F04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CA2A-F3F5-4C00-BF2D-D3AAE686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4CFB2-09D7-46F6-B0BE-A6DF6CF5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74132-F770-48A6-9B2A-25A8291D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13BFF-32B5-41C9-8DC4-102DCA47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E8254-2523-49A9-AB4F-245C6426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92F99-6FEF-4626-8A1D-D320B8F9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DBC-5862-4965-911C-24D46C9E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C419-4D94-4C30-850E-D60D74A06F2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9DE2-25D4-46AD-8036-2BF1351EAFE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24C6-8A2D-44BF-8737-F05CE80DEE0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BD83-01FD-41D3-9277-7D11717073B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F176-BE87-4A58-B536-DD104E31119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F734-6600-4B96-A64E-BF32FD0702E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7646-E9B4-44CA-A03F-68188186826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ектная деятельность на уроках английского языка по личностно- ориентированной технолог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06668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ndara"/>
              </a:rPr>
              <a:t>Тарасюк И. В. Учитель английского языка МБОУ СОШ № 96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чальная школа – отдельные проекты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сновная школа – годовой общий проект (журналы (печатный, электронный)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ерия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 Spotligh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УМК серии «</a:t>
            </a: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POTLIGHT</a:t>
            </a: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»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для начальной и основной школ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8" name="Picture 13" descr="FP3"/>
          <p:cNvPicPr/>
          <p:nvPr/>
        </p:nvPicPr>
        <p:blipFill>
          <a:blip r:embed="rId1"/>
          <a:stretch/>
        </p:blipFill>
        <p:spPr>
          <a:xfrm>
            <a:off x="0" y="0"/>
            <a:ext cx="1116000" cy="1004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2" descr="http://nashol.com/images/stories/knigi/280_small_copy.jpg"/>
          <p:cNvPicPr/>
          <p:nvPr/>
        </p:nvPicPr>
        <p:blipFill>
          <a:blip r:embed="rId2"/>
          <a:stretch/>
        </p:blipFill>
        <p:spPr>
          <a:xfrm>
            <a:off x="914400" y="1787400"/>
            <a:ext cx="1981080" cy="2783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4" descr="http://www.cvartplus.ru/components/com_virtuemart/shop_image/product/Spotlight._______50f1331451d13.jpg"/>
          <p:cNvPicPr/>
          <p:nvPr/>
        </p:nvPicPr>
        <p:blipFill>
          <a:blip r:embed="rId3"/>
          <a:stretch/>
        </p:blipFill>
        <p:spPr>
          <a:xfrm>
            <a:off x="42840" y="3813120"/>
            <a:ext cx="1946160" cy="2739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6" descr="http://gdzon.ru/img/Spotlight_7-English_in_focus_Vaulina_YE.jpg"/>
          <p:cNvPicPr/>
          <p:nvPr/>
        </p:nvPicPr>
        <p:blipFill>
          <a:blip r:embed="rId4"/>
          <a:stretch/>
        </p:blipFill>
        <p:spPr>
          <a:xfrm>
            <a:off x="2666880" y="3747960"/>
            <a:ext cx="2283120" cy="2857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8" descr="http://www.britania-ufa.ru/files/image/art/a611.jpg"/>
          <p:cNvPicPr/>
          <p:nvPr/>
        </p:nvPicPr>
        <p:blipFill>
          <a:blip r:embed="rId5"/>
          <a:stretch/>
        </p:blipFill>
        <p:spPr>
          <a:xfrm>
            <a:off x="3962520" y="2244600"/>
            <a:ext cx="2206440" cy="3124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0" descr="http://cv01.twirpx.net/0253/0253465.jpg"/>
          <p:cNvPicPr/>
          <p:nvPr/>
        </p:nvPicPr>
        <p:blipFill>
          <a:blip r:embed="rId6"/>
          <a:stretch/>
        </p:blipFill>
        <p:spPr>
          <a:xfrm>
            <a:off x="6781680" y="3807000"/>
            <a:ext cx="2105280" cy="305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2" descr="http://www.200knig.ru/Pic3/Spotlight5.jpg"/>
          <p:cNvPicPr/>
          <p:nvPr/>
        </p:nvPicPr>
        <p:blipFill>
          <a:blip r:embed="rId7"/>
          <a:stretch/>
        </p:blipFill>
        <p:spPr>
          <a:xfrm>
            <a:off x="5943600" y="1787400"/>
            <a:ext cx="21636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Термин «технология» в переводе с греческого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означает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«наука об искусстве, мастерстве»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 «</a:t>
            </a: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techne 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– «искусство», «мастерство»;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«</a:t>
            </a: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logos – 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«слово», «учение»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Педагогическая технолог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Образовательная технолог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Технология обучен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онятие «технология» в педагогик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к дидактическая концепция, часть педагогической наук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к педагогическая систем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к педагогический процесс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к процедура, алгоритм деятельности учителя и учащих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едагогическая технолог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Это упорядоченная совокупность действий, операций и процедур, инструментально обеспечивающих достижение прогнозируемого результата в изменяющихся условиях образовательного процесс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едагогическая технолог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овместная деятельность учителя и учащихся, направленная на поиск решения возникшей проблемы, проблемной ситуации и реализацию полученных результатов в конкретном продукт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Метод проектов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«от души выполняемый замысел»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Социокультурные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культуроведческие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социальные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социолингвистические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Ролево-игровые (имитационно-деловые, имитационно-социальные, воображаемые (реальные) путешествия, и т.д.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Международные телекоммуникационные проекты (организация совместных проектов на основе сотрудничества уч-ся  разных школ, городов и стран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Группы проекто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28-1"/>
          <p:cNvPicPr/>
          <p:nvPr/>
        </p:nvPicPr>
        <p:blipFill>
          <a:blip r:embed="rId1"/>
          <a:stretch/>
        </p:blipFill>
        <p:spPr>
          <a:xfrm>
            <a:off x="1981080" y="190440"/>
            <a:ext cx="5410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ша</dc:creator>
  <dc:description/>
  <dc:language>en-US</dc:language>
  <cp:lastModifiedBy>Носенко</cp:lastModifiedBy>
  <dcterms:modified xsi:type="dcterms:W3CDTF">2013-03-28T10:28:03Z</dcterms:modified>
  <cp:revision>1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