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057-16C4-4F4C-9775-410E0E2E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F47-BE16-42DA-AA5C-FEF0A8A0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548-7BDD-4AF8-8775-7C79DEF1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D55-FEEF-4729-BF8E-0DF944D6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6505-5021-4479-B38D-6DEE32E6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7B02-037F-4937-8CC5-017A7BBB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86CF-A42B-4BED-8950-0C1E7781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E0E6-7767-466C-A363-F50C18E1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B490-C492-4DDB-9929-F12DD8F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491A-6846-4995-BFAA-E05FDE9C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CC93-F220-422D-877F-AAB9AF2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B8D-7FE3-4437-AB81-AD634A0C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EB28-CA1F-46EA-9F4A-73047AA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E075-C524-4E1D-9C6B-14565093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5F20-350B-4FC9-BE04-75CAA5EE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6BAB-8789-4459-9E2B-8BAE2766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F4D9-2C14-43D2-A7C1-AB4E4C9F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0A4F-521A-4B44-800C-F0C85F14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0681D-CA85-4ED9-B00F-6639BD5B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7FEC-E9C2-407F-94D6-D88E55A2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AEE1-85D6-42CE-A122-D346F28F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3B33-4D21-42B1-9C61-59F720DB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B85-4CEC-4C49-81DB-5B170919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E368-11BE-45B3-A8B9-80090D28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3F34-C98D-42C0-A730-9F335FED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98CC-026C-4518-95A8-DE855C8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ABCD-E96B-497F-9A9F-23467D72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0A02-E7B2-499B-8040-3B0C50AF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3F49-E60D-41E6-8500-D596F8AA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4AFD-18E3-491E-87C0-9D10CA85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9AE15-9F76-4016-A79B-69EEF0C0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FE369-2E71-46DD-B4D6-4D9DE29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D9F5-0534-4B63-AE9A-EAC2F440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8BA-2B1C-44BA-A96C-C6E60022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2229-79F9-4F5B-B99F-1F71BBBC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1D4B-A0F0-431E-B8B3-6F6C03CB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C254-6125-4F38-BADE-52627755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D9A68-C5CA-4376-8458-7F25E7EC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62DD-57C3-41D0-B72C-874A6A14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D63FE-C76F-4A8A-AF73-C72676D2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5F4C-DF65-4A91-AE75-B1CD142B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6CCA9-066C-47E4-8222-C2CC1EC0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26783-438F-451D-B212-7DD75E8C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FD1D-3A60-4B37-B9D9-AD468AD5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62D-FA49-480C-9C56-E78E8981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4F5CD-8916-42AD-BA4C-A928CD43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27722-BC8B-480C-ADC6-668FE690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C422B-8C5E-4BC1-9C82-FE5919B2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EFAFC-5CAE-4394-8EF0-5300CB3F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D4EE6-52C9-49AA-9221-BF5814BF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5C9F3-9C24-4827-81C6-E233424B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82CCA-3CED-4CBF-9111-ADB5078A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8A597-1782-4B94-9E92-06AFC49B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D9FEF-FABF-43D7-85C1-EF167C3C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0BED3-DBE8-4031-889D-94200DB7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109-581B-418F-9227-D137AA27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79438-2DFA-4EF1-920A-047CD0A7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3C5B8-5B17-47A6-AD36-730EFBEE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53CE2-8081-46BE-B8EA-64EE2660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846EA-A8E9-4086-BA88-74A1D7E3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B7512-6421-4130-8610-B319C66B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E11D-64D5-464C-B345-134C6846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2947F-9063-47EE-AED9-F10EE0AA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1B77B-C1E5-4A62-9086-04D67C04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83839-F5B7-4CD2-9D65-C6B9DA23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90BDF-E8E3-4D7C-8FE6-B5AFC1E1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355-B259-4E5A-9CCC-CB7C1FE6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96379-DE3E-431A-AF4D-11725A79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1E820-48FB-4C9B-AC63-B195BACF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ADBCE-666D-4197-90B2-0A9F66FD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236B7-8990-46B3-87EA-F188BBBA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9B3CD-6162-40A6-8045-1F3CE3B2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7F5E2-B050-4C2E-9F12-1EA80224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5AEEA-BEE3-4939-8704-6702F6B7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A64CE-ACDF-415B-812E-D0BDF757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D288F-86EB-456B-9B1C-43AA0E11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8A9B7-E26B-43C0-A1EB-C1EE1F6E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F38-806C-49E9-AF37-9B5B7E9A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DBE3C-9B83-4DCC-BB79-C093F4AF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DEEA0-ACA3-4E29-9A63-21370C71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ED704-062F-4CFB-87AE-12C5E112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4FD6E-BDA6-45E9-94D8-76ED21F7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015C1-1740-4B4F-9BD0-814E3136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6AD-61BF-42A8-A6FF-0A966FBF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D6E2-137D-4B6A-AC84-4CB13A76A82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EC64-3157-4889-8E34-5C8DA608154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BC85-8655-4A63-9CF5-937C9ED699C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6F6B-0201-4037-A144-F680163A5C8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FCB6-553B-4040-A475-F85D25B76D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7C12-F552-46A7-906A-9B1BE2B9400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83C5-F3CF-4F66-809A-1F4BD798633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ектная деятельность на уроках английского языка по личностно- ориентированной технолог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06668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ndara"/>
              </a:rPr>
              <a:t>Тарасюк И. В. Учитель английского языка МБОУ СОШ № 96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чальная школа – отдельные проекты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сновная школа – годовой общий проект (журналы (печатный, электронный)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ерия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Spotligh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УМК серии «</a:t>
            </a: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POTLIGHT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»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для начальной и основной школ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8" name="Picture 13" descr="FP3"/>
          <p:cNvPicPr/>
          <p:nvPr/>
        </p:nvPicPr>
        <p:blipFill>
          <a:blip r:embed="rId1"/>
          <a:stretch/>
        </p:blipFill>
        <p:spPr>
          <a:xfrm>
            <a:off x="0" y="0"/>
            <a:ext cx="1116000" cy="1004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http://nashol.com/images/stories/knigi/280_small_copy.jpg"/>
          <p:cNvPicPr/>
          <p:nvPr/>
        </p:nvPicPr>
        <p:blipFill>
          <a:blip r:embed="rId2"/>
          <a:stretch/>
        </p:blipFill>
        <p:spPr>
          <a:xfrm>
            <a:off x="914400" y="1787400"/>
            <a:ext cx="1981080" cy="2783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http://www.cvartplus.ru/components/com_virtuemart/shop_image/product/Spotlight._______50f1331451d13.jpg"/>
          <p:cNvPicPr/>
          <p:nvPr/>
        </p:nvPicPr>
        <p:blipFill>
          <a:blip r:embed="rId3"/>
          <a:stretch/>
        </p:blipFill>
        <p:spPr>
          <a:xfrm>
            <a:off x="42840" y="3813120"/>
            <a:ext cx="1946160" cy="2739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6" descr="http://gdzon.ru/img/Spotlight_7-English_in_focus_Vaulina_YE.jpg"/>
          <p:cNvPicPr/>
          <p:nvPr/>
        </p:nvPicPr>
        <p:blipFill>
          <a:blip r:embed="rId4"/>
          <a:stretch/>
        </p:blipFill>
        <p:spPr>
          <a:xfrm>
            <a:off x="2666880" y="3747960"/>
            <a:ext cx="2283120" cy="2857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8" descr="http://www.britania-ufa.ru/files/image/art/a611.jpg"/>
          <p:cNvPicPr/>
          <p:nvPr/>
        </p:nvPicPr>
        <p:blipFill>
          <a:blip r:embed="rId5"/>
          <a:stretch/>
        </p:blipFill>
        <p:spPr>
          <a:xfrm>
            <a:off x="3962520" y="2244600"/>
            <a:ext cx="2206440" cy="3124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0" descr="http://cv01.twirpx.net/0253/0253465.jpg"/>
          <p:cNvPicPr/>
          <p:nvPr/>
        </p:nvPicPr>
        <p:blipFill>
          <a:blip r:embed="rId6"/>
          <a:stretch/>
        </p:blipFill>
        <p:spPr>
          <a:xfrm>
            <a:off x="6781680" y="3807000"/>
            <a:ext cx="2105280" cy="305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2" descr="http://www.200knig.ru/Pic3/Spotlight5.jpg"/>
          <p:cNvPicPr/>
          <p:nvPr/>
        </p:nvPicPr>
        <p:blipFill>
          <a:blip r:embed="rId7"/>
          <a:stretch/>
        </p:blipFill>
        <p:spPr>
          <a:xfrm>
            <a:off x="5943600" y="1787400"/>
            <a:ext cx="21636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Термин «технология» в переводе с греческого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означает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«наука об искусстве, мастерстве»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«</a:t>
            </a: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techne 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– «искусство», «мастерство»;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«</a:t>
            </a: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logos – 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«слово», «учение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едагогическая технолог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Образовательная технолог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Технология обучения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онятие «технология» в педагогик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дидактическая концепция, часть педагогической нау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педагогическая систем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педагогический процесс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процедура, алгоритм деятельности учителя и учащих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едагогическая технолог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Это упорядоченная совокупность действий, операций и процедур, инструментально обеспечивающих достижение прогнозируемого результата в изменяющихся условиях образовательного процесс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едагогическая технолог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вместная деятельность учителя и учащихся, направленная на поиск решения возникшей проблемы, проблемной ситуации и реализацию полученных результатов в конкретном продукт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Метод проектов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«от души выполняемый замысел»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оциокультурные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культуроведческие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оциальные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социолингвистические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Ролево-игровые (имитационно-деловые, имитационно-социальные, воображаемые (реальные) путешествия, и т.д.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Международные телекоммуникационные проекты (организация совместных проектов на основе сотрудничества уч-ся  разных школ, городов и стран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Группы проекто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28-1"/>
          <p:cNvPicPr/>
          <p:nvPr/>
        </p:nvPicPr>
        <p:blipFill>
          <a:blip r:embed="rId1"/>
          <a:stretch/>
        </p:blipFill>
        <p:spPr>
          <a:xfrm>
            <a:off x="1981080" y="190440"/>
            <a:ext cx="5410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ша</dc:creator>
  <dc:description/>
  <dc:language>en-US</dc:language>
  <cp:lastModifiedBy>Носенко</cp:lastModifiedBy>
  <dcterms:modified xsi:type="dcterms:W3CDTF">2013-03-28T10:28:03Z</dcterms:modified>
  <cp:revision>1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