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299-6EE2-4354-B862-F3D96FB6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F57-FD28-4026-B770-31C4E295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B26-F230-4D4E-A0F3-D08401E8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061-C082-40DC-8D59-5247B9C0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8A30-8CC3-464B-9E80-72149A7D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0051-0ED6-4AA8-B8C8-4BC816D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8FD7-2970-45FF-BE67-3AF9A673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4A3A-4635-46F3-9190-CA843470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F152-6420-41C7-98D9-BE50B76B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4E8E-04AC-40B4-8C27-7F7FFEB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3055-65F1-4E62-98F0-A6247A74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99A-5C51-437B-B165-B26EDD6D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DDD5-2EF2-47E7-A6D1-1B71DCC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3D9A-5967-4D37-937A-6872E8A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E53F-CF95-461B-A51D-14787F19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23B8-FF51-46BE-978A-1C4654C8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AE26-7A09-413C-B029-21D1D374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65D-A19A-490E-B590-2B319765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079-6990-4ECC-84F7-B98C1982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915-202A-4CE7-96AA-17BDA1AF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502-B78E-4997-A9E2-AEEE0D04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1DA-6E76-4FB2-A074-FA962CC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A82-19B9-4910-B99C-17F5E86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26F-339F-4BF4-AB1A-4325F59B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66B-143A-4878-961B-D9523E2868F3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E95D-9E13-4C00-9310-969387FE56C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6C42-C28F-416C-A098-3139996B7CF3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8986-FBD3-4D53-BC2B-43CDF3D36BC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071680" y="3714480"/>
            <a:ext cx="40719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у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9б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БОУ гимназии №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чева Анастас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: Лайс Л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367B-575D-4982-A1D0-66E12D2E06D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4" descr="86252235_2749438_cosmetics.jpg"/>
          <p:cNvPicPr/>
          <p:nvPr/>
        </p:nvPicPr>
        <p:blipFill>
          <a:blip r:embed="rId3"/>
          <a:stretch/>
        </p:blipFill>
        <p:spPr>
          <a:xfrm>
            <a:off x="500040" y="2214720"/>
            <a:ext cx="4786200" cy="4138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62000" y="21528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ентация по курсу «Основ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осовершенствован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ос на услуги визажистов постоянно растет. Особенно высок в летний сезон — период свадеб и в праздничные д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7CD0-230B-4A49-AFF9-C9440BCA48B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5" descr="gal_vizaj_04.jpg"/>
          <p:cNvPicPr/>
          <p:nvPr/>
        </p:nvPicPr>
        <p:blipFill>
          <a:blip r:embed="rId1"/>
          <a:stretch/>
        </p:blipFill>
        <p:spPr>
          <a:xfrm>
            <a:off x="2071800" y="3714840"/>
            <a:ext cx="50720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2" descr=""/>
          <p:cNvPicPr/>
          <p:nvPr/>
        </p:nvPicPr>
        <p:blipFill>
          <a:blip r:embed="rId1"/>
          <a:stretch/>
        </p:blipFill>
        <p:spPr>
          <a:xfrm>
            <a:off x="450720" y="1182600"/>
            <a:ext cx="6772320" cy="495000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8E44-FF10-413E-AAA6-AA2C8898D9E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4" descr="17100945.jpg"/>
          <p:cNvPicPr/>
          <p:nvPr/>
        </p:nvPicPr>
        <p:blipFill>
          <a:blip r:embed="rId2"/>
          <a:stretch/>
        </p:blipFill>
        <p:spPr>
          <a:xfrm>
            <a:off x="1714680" y="2857680"/>
            <a:ext cx="6180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6"/>
          <p:cNvSpPr/>
          <p:nvPr/>
        </p:nvSpPr>
        <p:spPr>
          <a:xfrm>
            <a:off x="357120" y="0"/>
            <a:ext cx="8786880" cy="642924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Номер слайда 8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169-77CB-4378-9CC7-BE23ED91F4F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5" descr="x_731ba334.jpg"/>
          <p:cNvPicPr/>
          <p:nvPr/>
        </p:nvPicPr>
        <p:blipFill>
          <a:blip r:embed="rId1"/>
          <a:stretch/>
        </p:blipFill>
        <p:spPr>
          <a:xfrm>
            <a:off x="785880" y="785880"/>
            <a:ext cx="76708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а визажиста заключается в том, чтобы создать определенный образ для человека,  скрыть недостатки. Работая, учитывать природные данные клиента, знать о том, что нужно подчеркнуть  с помощью макияжа, а что скрыт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016-E5AE-4626-90D2-6693059720F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4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Работают они  в салонах красоты, парикмахерских. Специалисты также приезжают по приглашению на показы м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5B5B-F730-48AC-8DF0-6C20F3ED94B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5" descr="1301165512_kosmetik.jpg"/>
          <p:cNvPicPr/>
          <p:nvPr/>
        </p:nvPicPr>
        <p:blipFill>
          <a:blip r:embed="rId1"/>
          <a:stretch/>
        </p:blipFill>
        <p:spPr>
          <a:xfrm>
            <a:off x="928800" y="3571920"/>
            <a:ext cx="7358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изажист должен уметь чувствовать настроение клиента, понимать его желания, высказать свое мнение, не навязывая его и не обижая чело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ужно уметь общаться, располагать к себе собесед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294B-E563-406C-9FE4-3F6F9F53A9E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5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400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ворческое воображ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ное мышл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чную координацию движен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бель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куратность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рп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фессия не рекомендуется людям, страдающим заболеваниями опорно-двигательного аппарата, а также имеющим аллергические реа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A249-1D4E-40D6-9E4B-9FF219F67B4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Прямоугольник 6" descr=""/>
          <p:cNvPicPr/>
          <p:nvPr/>
        </p:nvPicPr>
        <p:blipFill>
          <a:blip r:embed="rId7"/>
          <a:stretch/>
        </p:blipFill>
        <p:spPr>
          <a:xfrm>
            <a:off x="420840" y="334800"/>
            <a:ext cx="8089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сметикой пользуются с давних времен. Краска для подведения глаз была найдена в египетских захоронениях, относящихся к 3000 году до нашей эры. Римские дамы использовали окрашенную пудру и бронзовые ложки с длинными ручками для извлечения и смешивания косметических средств. Долгое время употребление декоративной косметики считалось безнравственным: посвященная этикету книга, написанная в начале века, утверждает, что восточный обычай подкрашивать губы допускается лишь на сцене. К счастью, за последнее время мнение изменилось, и абсолютно все женщины могут свободно пользоваться декоративной космети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BEE9-E87A-44C1-A293-69707522596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868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в овладеть профессией визажиста, изучите все предложения вашего города. Специальность можно получить в профессиональных колледжах, а также на курсах. Составьте список всех учебных заведений, уточните условия приема, длительность программы и стоимость обуч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крупных городах возможностей для обучения больше, а самые престижные школы визажистов расположены в столице. Поэтому если вы приняли твердое решение стать «художником по лицу», но живете в небольшом городе, обдумайте возможности переезда — хотя бы на время учеб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F8DA-8021-4539-844E-10E1B75FE86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592B-491C-4A29-B23E-67790511FF3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785880" y="428760"/>
            <a:ext cx="7929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версального курса, окончив который вы станете востребованным специалистом, не существует. Высшее образование в области визажистов тоже получить не удастся. Вам придется самостоятельно выстраивать свою образовательную программу. Количество и качество дипломов существенно повлияет на перспективы вашего будущего трудоустрой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получения первого диплома вы можете попробовать устроиться на работу или продолжать обучение. Подберите краткосрочные курсы по интересующему вас направлению. Ориентируйтесь на престиж образовательного учреждения и имя преподавателя. Соберите информацию по выбранной школе в интернете, на профессиональных форумах и сайтах. Можете оценить уровень преподавания лично, придя на курсы в качестве мод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шая ступень российского визажиста – получение сертификата зарубежной школы. Некоторые российские академии могут организовать для своих студентов обучение и мастер-классы в Париже, Милане или других европейских городах. Вы можете найти школы визажистов и самостоятельно. Учтите, что для иностранцев преподавание обычно ведется на английском язык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3:10:26Z</dcterms:created>
  <dc:creator>addvisor</dc:creator>
  <dc:description/>
  <dc:language>en-US</dc:language>
  <cp:lastModifiedBy>1</cp:lastModifiedBy>
  <dcterms:modified xsi:type="dcterms:W3CDTF">2013-03-28T12:58:46Z</dcterms:modified>
  <cp:revision>19</cp:revision>
  <dc:subject/>
  <dc:title>визажист</dc:title>
</cp:coreProperties>
</file>