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B353-90EF-48B7-9053-B302E86D4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EB38-7154-4A2C-91D3-35D958C8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3B16-1303-462E-A2C4-65858EF70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4429-E5C0-44A4-B82C-BE7D8A4C6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BDF83-4594-495A-B13A-472155B92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BBC4-CB65-446C-A457-74DA6F90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21D3-6F5C-44E8-819D-CF882843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FA83-65CD-4A94-91C6-CA6D0BB2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2C99-DC35-4045-B0F8-8FB9D646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CF8F-FE83-46E9-A319-FE5E5E82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625F-17F5-452E-A7D5-D45DB37B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4877-5DEC-4408-BDD3-5628E226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F4CA4-98B5-4991-8704-E0C8CEB8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54A6-B539-451D-9D5E-F0CD6429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53AF-C87D-4567-9095-CB76296F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B344-A5D7-4205-A0FB-8D5A83B1A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2A7B-36FD-4956-9623-E6837990E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1C97-72CB-434B-9C9D-04239C80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38EA-E837-446F-A660-77277F13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B440-41BB-4CDF-BBE7-317D4911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7C2F-ED9B-4042-8817-612124FF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1C24-B48B-4D0D-9B6E-5D779044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983F-113F-4CFB-98BE-EFA051CF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DD0A-7CC7-439B-BF50-C466A042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1D6E-4F25-4EC9-81A5-AE2B9F8A7678}" type="datetime">
              <a:rPr b="0" lang="ru-RU" sz="1200" spc="-1" strike="noStrike">
                <a:solidFill>
                  <a:srgbClr val="bcbcbc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9068-AEEC-4BC1-84E3-AF7D1CD7A90E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F632-2AFE-49C6-AA45-1028ACD4E976}" type="datetime">
              <a:rPr b="0" lang="ru-RU" sz="1200" spc="-1" strike="noStrike">
                <a:solidFill>
                  <a:srgbClr val="bcbcbc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FE79-F001-4652-B052-3364EFD78A96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5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5071680" y="3714480"/>
            <a:ext cx="40719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боту выполнил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еница 9б клас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БОУ гимназии №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рачева Анастас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итель: Лайс Л.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BFF0-7057-4FF5-8668-0A9A35C1B26C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1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Рисунок 4" descr="86252235_2749438_cosmetics.jpg"/>
          <p:cNvPicPr/>
          <p:nvPr/>
        </p:nvPicPr>
        <p:blipFill>
          <a:blip r:embed="rId3"/>
          <a:stretch/>
        </p:blipFill>
        <p:spPr>
          <a:xfrm>
            <a:off x="500040" y="2214720"/>
            <a:ext cx="4786200" cy="4138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62000" y="2152800"/>
            <a:ext cx="36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езентация по курсу «Основ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амосовершенствования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4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solidFill>
            <a:srgbClr val="000000"/>
          </a:solidFill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2876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прос на услуги визажистов постоянно растет. Особенно высок в летний сезон — период свадеб и в праздничные дн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398A-6D96-4EE8-BD1E-ADDE89215493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Рисунок 5" descr="gal_vizaj_04.jpg"/>
          <p:cNvPicPr/>
          <p:nvPr/>
        </p:nvPicPr>
        <p:blipFill>
          <a:blip r:embed="rId1"/>
          <a:stretch/>
        </p:blipFill>
        <p:spPr>
          <a:xfrm>
            <a:off x="2071800" y="3714840"/>
            <a:ext cx="507204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Содержимое 2" descr=""/>
          <p:cNvPicPr/>
          <p:nvPr/>
        </p:nvPicPr>
        <p:blipFill>
          <a:blip r:embed="rId1"/>
          <a:stretch/>
        </p:blipFill>
        <p:spPr>
          <a:xfrm>
            <a:off x="450720" y="1182600"/>
            <a:ext cx="6772320" cy="4950000"/>
          </a:xfrm>
          <a:prstGeom prst="rect">
            <a:avLst/>
          </a:prstGeom>
          <a:ln w="0">
            <a:noFill/>
          </a:ln>
        </p:spPr>
      </p:pic>
      <p:sp>
        <p:nvSpPr>
          <p:cNvPr id="118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5654-9865-4ECD-88DC-9C57CB44F4FB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Рисунок 4" descr="17100945.jpg"/>
          <p:cNvPicPr/>
          <p:nvPr/>
        </p:nvPicPr>
        <p:blipFill>
          <a:blip r:embed="rId2"/>
          <a:stretch/>
        </p:blipFill>
        <p:spPr>
          <a:xfrm>
            <a:off x="1714680" y="2857680"/>
            <a:ext cx="61801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6"/>
          <p:cNvSpPr/>
          <p:nvPr/>
        </p:nvSpPr>
        <p:spPr>
          <a:xfrm>
            <a:off x="357120" y="0"/>
            <a:ext cx="8786880" cy="6429240"/>
          </a:xfrm>
          <a:prstGeom prst="rect">
            <a:avLst/>
          </a:prstGeom>
          <a:solidFill>
            <a:srgbClr val="000000"/>
          </a:solidFill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п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Номер слайда 8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382F-99D9-4EA7-9E97-F9AC9E817B56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Рисунок 5" descr="x_731ba334.jpg"/>
          <p:cNvPicPr/>
          <p:nvPr/>
        </p:nvPicPr>
        <p:blipFill>
          <a:blip r:embed="rId1"/>
          <a:stretch/>
        </p:blipFill>
        <p:spPr>
          <a:xfrm>
            <a:off x="785880" y="785880"/>
            <a:ext cx="76708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4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solidFill>
            <a:srgbClr val="000000"/>
          </a:solidFill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дача визажиста заключается в том, чтобы создать определенный образ для человека,  скрыть недостатки. Работая, учитывать природные данные клиента, знать о том, что нужно подчеркнуть  с помощью макияжа, а что скрыть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49AD-E2AA-43FD-8DCF-6E6CABBB72F6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4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solidFill>
            <a:srgbClr val="000000"/>
          </a:solidFill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Работают они  в салонах красоты, парикмахерских. Специалисты также приезжают по приглашению на показы мо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ED2A-2935-41E3-A112-E516866127E2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Рисунок 5" descr="1301165512_kosmetik.jpg"/>
          <p:cNvPicPr/>
          <p:nvPr/>
        </p:nvPicPr>
        <p:blipFill>
          <a:blip r:embed="rId1"/>
          <a:stretch/>
        </p:blipFill>
        <p:spPr>
          <a:xfrm>
            <a:off x="928800" y="3571920"/>
            <a:ext cx="735804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4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solidFill>
            <a:srgbClr val="000000"/>
          </a:solidFill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Визажист должен уметь чувствовать настроение клиента, понимать его желания, высказать свое мнение, не навязывая его и не обижая челове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Нужно уметь общаться, располагать к себе собеседни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7DC6-B0D5-4728-976F-990AC650994E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5"/>
          <p:cNvSpPr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solidFill>
            <a:srgbClr val="000000"/>
          </a:solidFill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40096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ворческое воображение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разное мышление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очную координацию движени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ммуникабельность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ккуратность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рпени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фессия не рекомендуется людям, страдающим заболеваниями опорно-двигательного аппарата, а также имеющим аллергические реакц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1FEB-C3BF-49C3-9FF1-AF591172C9E5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Прямоугольник 6" descr=""/>
          <p:cNvPicPr/>
          <p:nvPr/>
        </p:nvPicPr>
        <p:blipFill>
          <a:blip r:embed="rId7"/>
          <a:stretch/>
        </p:blipFill>
        <p:spPr>
          <a:xfrm>
            <a:off x="420840" y="334800"/>
            <a:ext cx="808992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28760" y="14997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14440" indent="-38628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сметикой пользуются с давних времен. Краска для подведения глаз была найдена в египетских захоронениях, относящихся к 3000 году до нашей эры. Римские дамы использовали окрашенную пудру и бронзовые ложки с длинными ручками для извлечения и смешивания косметических средств. Долгое время употребление декоративной косметики считалось безнравственным: посвященная этикету книга, написанная в начале века, утверждает, что восточный обычай подкрашивать губы допускается лишь на сцене. К счастью, за последнее время мнение изменилось, и абсолютно все женщины могут свободно пользоваться декоративной косметик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9C30-77F5-451F-8863-337769560C87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8680" cy="1158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шив овладеть профессией визажиста, изучите все предложения вашего города. Специальность можно получить в профессиональных колледжах, а также на курсах. Составьте список всех учебных заведений, уточните условия приема, длительность программы и стоимость обучения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крупных городах возможностей для обучения больше, а самые престижные школы визажистов расположены в столице. Поэтому если вы приняли твердое решение стать «художником по лицу», но живете в небольшом городе, обдумайте возможности переезда — хотя бы на время учебы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8E54-6977-4BB6-824E-331B4197DC3F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1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F703-3EA0-4922-9C1F-750E42C9C2A4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2"/>
          <p:cNvSpPr/>
          <p:nvPr/>
        </p:nvSpPr>
        <p:spPr>
          <a:xfrm>
            <a:off x="785880" y="428760"/>
            <a:ext cx="7929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ниверсального курса, окончив который вы станете востребованным специалистом, не существует. Высшее образование в области визажистов тоже получить не удастся. Вам придется самостоятельно выстраивать свою образовательную программу. Количество и качество дипломов существенно повлияет на перспективы вашего будущего трудоустройст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ле получения первого диплома вы можете попробовать устроиться на работу или продолжать обучение. Подберите краткосрочные курсы по интересующему вас направлению. Ориентируйтесь на престиж образовательного учреждения и имя преподавателя. Соберите информацию по выбранной школе в интернете, на профессиональных форумах и сайтах. Можете оценить уровень преподавания лично, придя на курсы в качестве модел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сшая ступень российского визажиста – получение сертификата зарубежной школы. Некоторые российские академии могут организовать для своих студентов обучение и мастер-классы в Париже, Милане или других европейских городах. Вы можете найти школы визажистов и самостоятельно. Учтите, что для иностранцев преподавание обычно ведется на английском язык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1T13:10:26Z</dcterms:created>
  <dc:creator>addvisor</dc:creator>
  <dc:description/>
  <dc:language>en-US</dc:language>
  <cp:lastModifiedBy>1</cp:lastModifiedBy>
  <dcterms:modified xsi:type="dcterms:W3CDTF">2013-03-28T12:58:46Z</dcterms:modified>
  <cp:revision>19</cp:revision>
  <dc:subject/>
  <dc:title>визажист</dc:title>
</cp:coreProperties>
</file>