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1C9-8F2E-4150-95D5-33233F64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09C-0EB3-47F7-80B8-D18E07A4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4C2-D705-4FEB-B2D5-1A04CCD2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9CA-64B8-457A-8D35-2AD074E6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FCD-AAE0-4818-873A-F5DB0114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2AD-2B7A-41D8-8BA9-77C250D6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8E8-196E-456B-B46D-0C34DF3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146-AF44-48B0-8B2B-D161448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7DF-FF20-49F3-AF15-83FDC35B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690-3DB8-4EED-8458-64E85CF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232-0537-4E81-B8D2-4D53A48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80B-AC92-47F8-9022-2137D1E1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18A0-9224-4853-90CD-A06FD12B5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22400" y="1114560"/>
            <a:ext cx="509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58920" y="620640"/>
            <a:ext cx="61214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0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Rounded MT Bold"/>
              </a:rPr>
              <a:t>«</a:t>
            </a:r>
            <a:r>
              <a:rPr b="1" i="1" lang="ru-RU" sz="3200" spc="-1" strike="noStrike">
                <a:solidFill>
                  <a:srgbClr val="a50021"/>
                </a:solidFill>
                <a:latin typeface="Arial Rounded MT Bold"/>
              </a:rPr>
              <a:t>Помощь семьи в профессиональной ориентации ребе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47640" y="404640"/>
            <a:ext cx="405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692280"/>
            <a:ext cx="871380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Rounded MT Bold"/>
              </a:rPr>
              <a:t>Памятка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стать группой поддержки своему ребен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ять шагов психологической поддержки взрослеющего ребе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Найти «золотую середину» между инициативой ребенка и вашим активным участием. Различайте, что он уже может, а чему еще только уч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Выясните, чем руководствуется ребенок, не стремится ли он к взаимоисключающим цел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Помогите ребенку реализовать пока еще скрытые способности, распознать тот потенциал, который может раскрыться поз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Помогите ребенку соотнести профессиональные намерения с минусами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Помогите ребенку сделать свой выбор более конкретным – пусть он вместе с вами попробует построить план своей карь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68360" y="620640"/>
            <a:ext cx="8280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ва пути выбора профе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«проб и ошибок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ловек ищет вслепую, пробуя себя в разных сферах, пока не поймет то, что будет приносить ему средства, чтобы достойно существовать, и удовлетворение от процесса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68360" y="4005360"/>
            <a:ext cx="80643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сознанного выбор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о изучить прежде всего самого себя, все то, что делает каждого из нас единственным и неповторимым – свои интересы и склонности, особенности мышления, памяти, внимания, особенности 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332000" y="765000"/>
            <a:ext cx="720072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Три главных требования, которым должна удовлетворять выбранная професс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-первых, чтобы профессия была интер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-вторых, чтобы можно было найти работу по специ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-третьих, чтобы профессия соответствовала    возможностям данн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258920" y="765000"/>
            <a:ext cx="712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Rounded MT Bold"/>
              </a:rPr>
              <a:t>Современные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Знаете ли вы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Лог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Марк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Веб- 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Фандрайз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PR</a:t>
            </a: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 - аг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765000"/>
            <a:ext cx="79218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есятка востребованных професси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Разработчик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Финансовый сов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Специалист по персон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 Рыночный анали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. Компьютерный анали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. Оценщик недвиж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. Преподаватель в частном учебном за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. Врач (стоматолог, терапев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. Фармаце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. 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26920" y="836640"/>
            <a:ext cx="80661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 Rounded MT Bold"/>
              </a:rPr>
              <a:t>Готовность к выбору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Результаты анкетирования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Неготовност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Низкая готовность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Средняя готовность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Высокая готовнос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692360" y="1125360"/>
            <a:ext cx="69120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Rounded MT Bold"/>
              </a:rPr>
              <a:t>Формула выбора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Rounded MT Bold"/>
              </a:rPr>
              <a:t>ХОЧУ + МОГУ + 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5280" y="907920"/>
            <a:ext cx="792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ОЧУ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МОГУ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и:              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хочу знать</a:t>
            </a:r>
            <a:r>
              <a:rPr b="0" i="1" lang="ru-RU" sz="18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общие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склон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специальные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Востреб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(хочу сделать)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тех или иных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е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новых профес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89000"/>
          <a:ext cx="9180360" cy="66690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338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ХОЧ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О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предмет интерес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учебы. Могу ли улучш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джер, маркет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читаю дополнительн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рационально распределять учебное и свободное врем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программн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смотрю телепередач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назвать особенности моего темперамента,  памяти, вним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ли успешных  люд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определить свое отношение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 ли творческие, исследовательские рабо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особенности своего физического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 ли в олимпиад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особенности своей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мац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ю, как я буду работать в будуще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определить уровень своего кругозо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6:18:22Z</dcterms:created>
  <dc:creator>*</dc:creator>
  <dc:description/>
  <dc:language>en-US</dc:language>
  <cp:lastModifiedBy>Admin</cp:lastModifiedBy>
  <dcterms:modified xsi:type="dcterms:W3CDTF">2013-03-28T12:46:39Z</dcterms:modified>
  <cp:revision>8</cp:revision>
  <dc:subject/>
  <dc:title>Слайд 1</dc:title>
</cp:coreProperties>
</file>