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A41-1836-40DF-90C7-2D8A4D28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8E4-0208-4059-953C-945ACC4E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B5F-36B0-402F-90DD-26212DDD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AC0-DFBE-466A-88E4-17104F38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52F-6614-49D7-A54E-57BBF1F0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9B1-ED9A-448B-9D86-1BAEF79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C74-1654-435A-B0E7-08A711BA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147-2647-4EE7-A95F-7DEF223F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47C-E12E-4E52-9499-2D49EC96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61C-73D6-40EB-A3A6-070F4E5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92B-AFC5-4909-99EC-6CD20DB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663-CEA6-4F22-BA80-39DA8D8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15F-CF5E-4E3E-843E-2ECF77C6D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22400" y="1114560"/>
            <a:ext cx="509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58920" y="620640"/>
            <a:ext cx="61214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ьское собр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0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Rounded MT Bold"/>
              </a:rPr>
              <a:t>«</a:t>
            </a:r>
            <a:r>
              <a:rPr b="1" i="1" lang="ru-RU" sz="3200" spc="-1" strike="noStrike">
                <a:solidFill>
                  <a:srgbClr val="a50021"/>
                </a:solidFill>
                <a:latin typeface="Arial Rounded MT Bold"/>
              </a:rPr>
              <a:t>Помощь семьи в профессиональной ориентации ребе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547640" y="404640"/>
            <a:ext cx="405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692280"/>
            <a:ext cx="871380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Rounded MT Bold"/>
              </a:rPr>
              <a:t>Памятка родите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 стать группой поддержки своему ребен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ять шагов психологической поддержки взрослеющего ребе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Найти «золотую середину» между инициативой ребенка и вашим активным участием. Различайте, что он уже может, а чему еще только уч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Выясните, чем руководствуется ребенок, не стремится ли он к взаимоисключающим цел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Помогите ребенку реализовать пока еще скрытые способности, распознать тот потенциал, который может раскрыться поз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Помогите ребенку соотнести профессиональные намерения с минусами проф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Помогите ребенку сделать свой выбор более конкретным – пусть он вместе с вами попробует построить план своей карь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68360" y="620640"/>
            <a:ext cx="8280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Два пути выбора професс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«проб и ошибок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ловек ищет вслепую, пробуя себя в разных сферах, пока не поймет то, что будет приносить ему средства, чтобы достойно существовать, и удовлетворение от процесса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68360" y="4005360"/>
            <a:ext cx="806436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сознанного выбор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о изучить прежде всего самого себя, все то, что делает каждого из нас единственным и неповторимым – свои интересы и склонности, особенности мышления, памяти, внимания, особенности нер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332000" y="765000"/>
            <a:ext cx="720072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Три главных требования, которым должна удовлетворять выбранная професс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-первых, чтобы профессия была интере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-вторых, чтобы можно было найти работу по специ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-третьих, чтобы профессия соответствовала    возможностям данн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258920" y="765000"/>
            <a:ext cx="7129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Rounded MT Bold"/>
              </a:rPr>
              <a:t>Современные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Знаете ли вы 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Лог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Марке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Веб- 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Фандрайз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PR</a:t>
            </a:r>
            <a:r>
              <a:rPr b="1" i="1" lang="ru-RU" sz="2400" spc="-1" strike="noStrike">
                <a:solidFill>
                  <a:srgbClr val="000000"/>
                </a:solidFill>
                <a:latin typeface="Arial Rounded MT Bold"/>
              </a:rPr>
              <a:t> - аг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826920" y="765000"/>
            <a:ext cx="79218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есятка востребованных професси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Разработчик программного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Финансовый сов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Специалист по персон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. Рыночный анали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. Компьютерный анали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6. Оценщик недвиж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. Преподаватель в частном учебном заве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8. Врач (стоматолог, терапев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. Фармацев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. 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26920" y="836640"/>
            <a:ext cx="80661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 Rounded MT Bold"/>
              </a:rPr>
              <a:t>Готовность к выбору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Результаты анкетирования учащих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Неготовност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Низкая готовность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Средняя готовность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Высокая готовност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692360" y="1125360"/>
            <a:ext cx="69120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Arial Rounded MT Bold"/>
              </a:rPr>
              <a:t>Формула выбора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Rounded MT Bold"/>
              </a:rPr>
              <a:t>ХОЧУ + МОГУ + НА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95280" y="907920"/>
            <a:ext cx="792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ОЧУ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  МОГУ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и:              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хочу знать</a:t>
            </a:r>
            <a:r>
              <a:rPr b="0" i="1" lang="ru-RU" sz="18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общие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Rounded MT Bold"/>
              </a:rPr>
              <a:t>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склон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специальные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Востреб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(хочу сделать)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тех или иных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фес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Ори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в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Rounded MT Bold"/>
              </a:rPr>
              <a:t>новых профес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89000"/>
          <a:ext cx="9180360" cy="66690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338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ХОЧ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О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НА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предмет интересе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учебы. Могу ли улучши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джер, маркет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читаю дополнительн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ли рационально распределять учебное и свободное врем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программное 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смотрю телепередач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назвать особенности моего темперамента,  памяти, вним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ли успешных  людей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определить свое отношение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 ли творческие, исследовательские работ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особенности своего физического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ю ли в олимпиада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ю особенности своей ре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маце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ю, как я буду работать в будуще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 определить уровень своего кругозо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6:18:22Z</dcterms:created>
  <dc:creator>*</dc:creator>
  <dc:description/>
  <dc:language>en-US</dc:language>
  <cp:lastModifiedBy>Admin</cp:lastModifiedBy>
  <dcterms:modified xsi:type="dcterms:W3CDTF">2013-03-28T12:46:39Z</dcterms:modified>
  <cp:revision>8</cp:revision>
  <dc:subject/>
  <dc:title>Слайд 1</dc:title>
</cp:coreProperties>
</file>